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jpeg" ContentType="image/jpeg"/>
  <Override PartName="/ppt/media/image8.png" ContentType="image/pn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7518-B026-4FCF-A54C-C41308CB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2A25-BF1A-4783-8795-2446A91F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2170-167B-43B8-A9D2-413B3160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039B-4AF7-4AB6-9D0D-0511B83E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C4F3-4A04-4FE6-86D9-15B04E0A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12CD-4FB0-486B-9AAF-E45F9C08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DD89-98A3-400A-B5B3-D49D52B5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8E3E-4FAD-4F95-9CF6-7264A267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263D-5BB5-4F82-B477-CC3187A8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14D4-7FAF-48E2-800D-6568C34A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ADD4-C66E-46A6-8E58-712E3E16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A28A-0A8F-4156-A866-EF792666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6B6D-478F-480E-9B17-EE9D8E8C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0E80-F586-4DDF-828C-EDB2FFBC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CC2D-C8A7-4895-981A-9FE6B487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5B6D-4E02-4560-8DF9-F0DBDE0C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1E30-66F5-4101-BF19-79902931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B6D12-37D2-4095-AC73-9DDB2761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FBC6-6717-43A8-A52D-45A4FB2B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6B10-F58F-47B7-9B16-A2CB2E71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16E7-9EDC-4A11-8AB3-5C60CCBD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2083-00DB-473D-9208-D8E858EB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E5FA-69F9-4893-B32A-13AF3426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80B9-6F62-4550-9588-C831E9DC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6C66-DCFE-418C-9237-06E835CA1C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E81B-D3BA-423D-9665-0FA360B5D0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352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5219640" cy="64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f a teacher was able to bridge the gap between him and a student then the teaching process would be so easy to achieve.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3645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36766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32000" y="188640"/>
            <a:ext cx="6012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f you want to be a teacher you cannot become a good one,   you must be born one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536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ve for children, an ability to communicate with them, understand and teach them – these are the most important qualities of a perfect teach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90880" cy="3086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2492280"/>
            <a:ext cx="37800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82600"/>
            <a:ext cx="856908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63640" y="1504800"/>
            <a:ext cx="5616720" cy="5353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You cannot become a teacher you must be born one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402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dicating your entire life to teaching is a conscious decision. You cannot enter the teaching profession by chance and then decide to be a teacher. You need to have it in you to be an excellent teacher.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32360" y="549360"/>
            <a:ext cx="4211640" cy="60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996920"/>
            <a:ext cx="7704000" cy="4861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 firmly believe that a family background in terms of upbringing decides the entire course of your life.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43196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ood teachers are good at explaining things, have a sense of humour, they must be organized in their professional and teaching duties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338720" y="549360"/>
            <a:ext cx="4805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345744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y are good managers of time as they need to use this resource wisely to be successful.  Furthermore, if you do not love people you cannot be named a real teacher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620640"/>
            <a:ext cx="52927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5690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t comes as no surprise that teaching is not only a matter of methodology but a perfect understanding between a teacher and a student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3213000"/>
            <a:ext cx="6985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3:08:49Z</dcterms:created>
  <dc:creator>Bill Gates</dc:creator>
  <dc:description/>
  <dc:language>en-US</dc:language>
  <cp:lastModifiedBy>Bill Gates</cp:lastModifiedBy>
  <dcterms:modified xsi:type="dcterms:W3CDTF">2010-04-20T04:15:07Z</dcterms:modified>
  <cp:revision>3</cp:revision>
  <dc:subject/>
  <dc:title>Слайд 1</dc:title>
</cp:coreProperties>
</file>