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gif" ContentType="image/gif"/>
  <Override PartName="/ppt/media/image1.gif" ContentType="image/gi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11.gif" ContentType="image/gif"/>
  <Override PartName="/ppt/media/image7.jpeg" ContentType="image/jpeg"/>
  <Override PartName="/ppt/media/image8.png" ContentType="image/pn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FFF08-9E6B-4DE7-B5CB-EDE1982B6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37400-958D-4FD4-B73F-7EA82FC9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A69D4-33D4-476D-B1F8-BE90B0F0E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BEFE5-B12B-4B10-AEFB-1DB06E6C9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83F2-0387-40F1-ADA6-17CF9903E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C4A7-304A-438D-9CB1-633105B1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35AA-4A05-48EE-84CE-54D51AA4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4D44-4AB2-4139-9EE6-005E9495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4C40-12D2-4196-85DC-74CE43F2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9384-D8A4-467B-B671-76E26D77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57E7-A355-4EB0-B03A-F2181D68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9516E-2FA2-4706-A316-56A1DD70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C35C-0A99-4E68-B4A4-B951423F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DB5F-E4C5-4084-8A37-399086BB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2EC1-4D01-4F4A-B0D9-58332661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DA3D-9BFF-4D30-A3C2-80AC0584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C4C9-3772-4544-A562-70EF6D6BF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5FFF7-D19D-46AA-8BD4-7A235682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D5DE1-4E00-4AAB-BA0B-58508C28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B4CE0-5F42-458A-A7BC-0E0ABBAC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67DB3-CB2B-4FE1-BE76-5B78A0E3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4EA44-BC94-4DAE-8254-68FB40E3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599EF-3F46-459A-B808-443A67E4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E0A86-23F9-468E-951C-FF65DCDB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BA0C-852B-4BD0-B471-189F930DDAC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37A9-AD18-4FD5-AB99-950E72EEA50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352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24000" y="274320"/>
            <a:ext cx="5219640" cy="64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f a teacher was able to bridge the gap between him and a student then the teaching process would be so easy to achieve.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35280" cy="3645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2997360"/>
            <a:ext cx="367668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32000" y="188640"/>
            <a:ext cx="6012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f you want to be a teacher you cannot become a good one,   you must be born one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3212640"/>
            <a:ext cx="536400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Love for children, an ability to communicate with them, understand and teach them – these are the most important qualities of a perfect teach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90880" cy="3086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364000" y="2492280"/>
            <a:ext cx="378000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282600"/>
            <a:ext cx="8569080" cy="63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63640" y="1504800"/>
            <a:ext cx="5616720" cy="53532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You cannot become a teacher you must be born one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40208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Dedicating your entire life to teaching is a conscious decision. You cannot enter the teaching profession by chance and then decide to be a teacher. You need to have it in you to be an excellent teacher.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932360" y="549360"/>
            <a:ext cx="4211640" cy="60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55640" y="1996920"/>
            <a:ext cx="7704000" cy="48610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90360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 firmly believe that a family background in terms of upbringing decides the entire course of your life.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7640" y="274320"/>
            <a:ext cx="43196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Good teachers are good at explaining things, have a sense of humour, they must be organized in their professional and teaching duties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338720" y="549360"/>
            <a:ext cx="48052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345744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They are good managers of time as they need to use this resource wisely to be successful.  Furthermore, if you do not love people you cannot be named a real teacher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51280" y="620640"/>
            <a:ext cx="529272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56908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32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t comes as no surprise that teaching is not only a matter of methodology but a perfect understanding between a teacher and a student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16000" y="3213000"/>
            <a:ext cx="69850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03:08:49Z</dcterms:created>
  <dc:creator>Bill Gates</dc:creator>
  <dc:description/>
  <dc:language>en-US</dc:language>
  <cp:lastModifiedBy>Bill Gates</cp:lastModifiedBy>
  <dcterms:modified xsi:type="dcterms:W3CDTF">2010-04-20T04:15:07Z</dcterms:modified>
  <cp:revision>3</cp:revision>
  <dc:subject/>
  <dc:title>Слайд 1</dc:title>
</cp:coreProperties>
</file>