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F992-63F0-4584-81A4-60EE5D0B7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764C-DAD9-4193-A506-BED33770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80A5-8A35-45FF-B85F-BF217B4CA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AD2B-6D3B-4F41-9751-09309D1D6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02677-26A0-47B7-BD1D-222C1BFB5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71A2-E20B-4B07-94A9-FF0CF1B4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9390-61F9-4422-B73C-10791692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5572-E5BC-481B-80E7-A121BCD9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308F-A4A3-4756-AE38-95E70C9E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FDF4-FE1A-4FDF-BFC2-C9C36BA2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D553-93D4-443A-A3DD-980602ED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FC50-B5FD-4C2E-948A-6BBBED23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D3B7-CEA9-44FA-8E1A-CF056D81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2AAB1-206F-4B6E-88A0-0C21912B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6527-3069-4FEE-BDD4-C6A81BCD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3CA4-03D3-4BBB-AECD-A4527A7DF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6ADF-962B-4D04-A326-887BC1110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D452-3807-4048-A8AC-73B3B237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31A7-C699-40C6-B7BA-4CA249C2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D9FC-9BF7-4368-812A-698EBB06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83BA-1E78-4F7E-9ADC-2F33D7F3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A9DA-107E-44F8-A853-CBD811C8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9BC1-A978-4CF0-AE6C-55CA5BD4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11DD-C310-4A25-B983-E5B0DF2F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4710-3AB5-4C5C-AEDA-747E195EE33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C0C9-CCAD-479E-A365-656FE7F91BD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auto.oboz.ua/stat/im/2007/11/16/img473d8b7470a24_1195215732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auto.oboz.ua/stat/im/2007/11/16/img473d8f46d28a8_1195216710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auto.oboz.ua/stat/im/2007/11/16/img473d871c0e897_1195214620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084720" y="692280"/>
            <a:ext cx="305928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6600"/>
                </a:solidFill>
                <a:latin typeface="Verdana"/>
              </a:rPr>
              <a:t>Ежегодно на дорогах России погибает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0-35 тысяч человек,</a:t>
            </a:r>
            <a:r>
              <a:rPr b="1" lang="en-US" sz="2100" spc="-1" strike="noStrike">
                <a:solidFill>
                  <a:srgbClr val="ff6600"/>
                </a:solidFill>
                <a:latin typeface="Verdana"/>
              </a:rPr>
              <a:t> четверть миллиона россиян на дороге настигают травмы, нередко делая людей инвалидами на всю жизнь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Рисунок 3" descr="http://auto.oboz.ua/image.php?file=2007/11/16/img473d8b7470a24_1195215732.jpg&amp;w=560&amp;h=56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404640"/>
            <a:ext cx="5905440" cy="554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10920" y="4653000"/>
            <a:ext cx="7956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6600"/>
                </a:solidFill>
                <a:latin typeface="Verdana"/>
              </a:rPr>
              <a:t>За 10 месяцев текущего года в дорожно-транспортных происшествиях на дорогах Кубани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погибли 903 человека</a:t>
            </a:r>
            <a:r>
              <a:rPr b="1" lang="en-US" sz="2100" spc="-1" strike="noStrike">
                <a:solidFill>
                  <a:srgbClr val="ff6600"/>
                </a:solidFill>
                <a:latin typeface="Verdana"/>
              </a:rPr>
              <a:t> и 6820 получили ранения различной степени тяжести. Каждое десятое ДТП в крае происходит с участием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</a:rPr>
              <a:t>дете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Рисунок 6" descr="http://auto.oboz.ua/image.php?file=2007/11/16/img473d8f46d28a8_1195216710.jpg&amp;w=560&amp;h=56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63440"/>
            <a:ext cx="8569080" cy="4345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9640" y="5445000"/>
            <a:ext cx="80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За каждой этой сухой цифрой стоит человеческая жизнь, горе, боль, невосполнимая утрат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Рисунок 4" descr="http://auto.oboz.ua/image.php?file=2007/11/16/img473d871c0e897_1195214620.jpg&amp;w=560&amp;h=56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198360"/>
            <a:ext cx="8424720" cy="5151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-360" y="333360"/>
            <a:ext cx="4427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Не рискуйте своей жизнью и жизнью ваших близких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Рисунок 5" descr="http://auto.oboz.ua/image.php?file=2007/11/16/img473d8c5345db9_1195215955.jpg&amp;w=560&amp;h=560"/>
          <p:cNvPicPr/>
          <p:nvPr/>
        </p:nvPicPr>
        <p:blipFill>
          <a:blip r:embed="rId2"/>
          <a:stretch/>
        </p:blipFill>
        <p:spPr>
          <a:xfrm>
            <a:off x="4657680" y="692280"/>
            <a:ext cx="4486320" cy="27432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http://auto.oboz.ua/image.php?file=2007/11/16/img473d9097f0626_1195217047.jpg&amp;w=560&amp;h=560"/>
          <p:cNvPicPr/>
          <p:nvPr/>
        </p:nvPicPr>
        <p:blipFill>
          <a:blip r:embed="rId3"/>
          <a:stretch/>
        </p:blipFill>
        <p:spPr>
          <a:xfrm>
            <a:off x="0" y="2852640"/>
            <a:ext cx="4500720" cy="23749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8" descr="http://auto.oboz.ua/image.php?file=2007/11/16/img473d943196725_1195217969.jpg&amp;w=560&amp;h=560"/>
          <p:cNvPicPr/>
          <p:nvPr/>
        </p:nvPicPr>
        <p:blipFill>
          <a:blip r:embed="rId4"/>
          <a:stretch/>
        </p:blipFill>
        <p:spPr>
          <a:xfrm>
            <a:off x="4657680" y="4114800"/>
            <a:ext cx="4486320" cy="2743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9:18:48Z</dcterms:created>
  <dc:creator>X-Man</dc:creator>
  <dc:description/>
  <dc:language>en-US</dc:language>
  <cp:lastModifiedBy>Admin</cp:lastModifiedBy>
  <dcterms:modified xsi:type="dcterms:W3CDTF">2009-08-31T20:28:55Z</dcterms:modified>
  <cp:revision>4</cp:revision>
  <dc:subject/>
  <dc:title>16 ноября - Всемирный день памяти жертв ДТ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