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242-F281-4675-8CBD-556045B7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2B7-16F2-44C0-A11E-43754FA8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B97-38E8-44B5-A2EF-CF9B11AD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975-E9C2-4EDF-9454-8407A963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F912-424E-4B63-BE3C-15344A8B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FDA4-AA2F-452D-BA44-C388ECCB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ECC4-072E-458D-9AA6-896E9193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AC69-265E-4B44-99D7-EBF45367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E65D-51B5-48AD-BBCF-5A09D548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A24B-3411-438C-8581-B7A3C93A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8267-6292-48DF-AB76-D32F3166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432-3566-448E-A4DB-23693235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F0A5-FAA9-4314-AE1C-370A858E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7F3B-D0FD-4942-A935-8DF0B996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8052-658E-423C-9C08-E6C75C4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1490-5843-4B39-A4FC-6D01306B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CD19-4C98-4964-8DB4-2C7A29C2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D70-E168-4319-B6D3-FCE5A97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FFB-323A-42D6-A04F-278946D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08C-A1D9-498A-8696-4A5B449E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D17-B678-47CC-994B-1DB46CD4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1B0-47C4-4CDA-AD13-7B04805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30C-E899-4D89-A224-C4F4CC28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F29-5E7C-4C1D-9FB9-81756706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2F64-BE47-4A41-94C4-54F5317F2C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BA10-366B-48F2-8C5A-B4188FE0AC7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uto.oboz.ua/stat/im/2007/11/16/img473d8b7470a24_119521573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uto.oboz.ua/stat/im/2007/11/16/img473d8f46d28a8_119521671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uto.oboz.ua/stat/im/2007/11/16/img473d871c0e897_1195214620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84720" y="692280"/>
            <a:ext cx="30592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Ежегодно на дорогах России погибает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0-35 тысяч человек,</a:t>
            </a: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 четверть миллиона россиян на дороге настигают травмы, нередко делая людей инвалидами на всю жизнь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Рисунок 3" descr="http://auto.oboz.ua/image.php?file=2007/11/16/img473d8b7470a24_1195215732.jpg&amp;w=560&amp;h=5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5905440" cy="554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4653000"/>
            <a:ext cx="7956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За 10 месяцев текущего года в дорожно-транспортных происшествиях на дорогах Кубани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гибли 903 человека</a:t>
            </a:r>
            <a:r>
              <a:rPr b="1" lang="en-US" sz="2100" spc="-1" strike="noStrike">
                <a:solidFill>
                  <a:srgbClr val="ff6600"/>
                </a:solidFill>
                <a:latin typeface="Verdana"/>
              </a:rPr>
              <a:t> и 6820 получили ранения различной степени тяжести. Каждое десятое ДТП в крае происходит с участием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дет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Рисунок 6" descr="http://auto.oboz.ua/image.php?file=2007/11/16/img473d8f46d28a8_1195216710.jpg&amp;w=560&amp;h=5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63440"/>
            <a:ext cx="8569080" cy="434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544500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а каждой этой сухой цифрой стоит человеческая жизнь, горе, боль, невосполнимая утрат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Рисунок 4" descr="http://auto.oboz.ua/image.php?file=2007/11/16/img473d871c0e897_1195214620.jpg&amp;w=560&amp;h=56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98360"/>
            <a:ext cx="8424720" cy="5151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Не рискуйте своей жизнью и жизнью ваших близких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5" descr="http://auto.oboz.ua/image.php?file=2007/11/16/img473d8c5345db9_1195215955.jpg&amp;w=560&amp;h=560"/>
          <p:cNvPicPr/>
          <p:nvPr/>
        </p:nvPicPr>
        <p:blipFill>
          <a:blip r:embed="rId2"/>
          <a:stretch/>
        </p:blipFill>
        <p:spPr>
          <a:xfrm>
            <a:off x="4657680" y="692280"/>
            <a:ext cx="4486320" cy="2743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http://auto.oboz.ua/image.php?file=2007/11/16/img473d9097f0626_1195217047.jpg&amp;w=560&amp;h=560"/>
          <p:cNvPicPr/>
          <p:nvPr/>
        </p:nvPicPr>
        <p:blipFill>
          <a:blip r:embed="rId3"/>
          <a:stretch/>
        </p:blipFill>
        <p:spPr>
          <a:xfrm>
            <a:off x="0" y="2852640"/>
            <a:ext cx="4500720" cy="2374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http://auto.oboz.ua/image.php?file=2007/11/16/img473d943196725_1195217969.jpg&amp;w=560&amp;h=560"/>
          <p:cNvPicPr/>
          <p:nvPr/>
        </p:nvPicPr>
        <p:blipFill>
          <a:blip r:embed="rId4"/>
          <a:stretch/>
        </p:blipFill>
        <p:spPr>
          <a:xfrm>
            <a:off x="4657680" y="4114800"/>
            <a:ext cx="448632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9:18:48Z</dcterms:created>
  <dc:creator>X-Man</dc:creator>
  <dc:description/>
  <dc:language>en-US</dc:language>
  <cp:lastModifiedBy>Admin</cp:lastModifiedBy>
  <dcterms:modified xsi:type="dcterms:W3CDTF">2009-08-31T20:28:55Z</dcterms:modified>
  <cp:revision>4</cp:revision>
  <dc:subject/>
  <dc:title>16 ноября - Всемирный день памяти жертв ДТ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