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509-74A4-41FD-B198-7A4D0E92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E95-7170-450B-87EF-B6055AD6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457-1450-4007-B852-2F749E99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4C4-921B-4E35-B446-02BA60CA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ACCF-715B-416D-883C-DE87B416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481-6F1E-4A3A-AB74-0BD90D5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979-91EC-4C19-8DC0-745386EE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F66-D4BC-4E6C-BDFC-E61F7422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939-3DBC-44BF-887B-129CC42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0DA9-08F3-4D02-8F0E-2B2C0B4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009-0FC5-49E5-B659-3ADF766B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207-BA93-48A6-BCBF-D506708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BE64-178F-4D68-9801-CAD7840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ED14-7A57-464F-BCF8-38DF7805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74F-0734-4F49-A4CA-F9D07F48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0E2-2063-4AB2-9F63-B698B505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8FC0-5D1F-472C-82AD-AE26D9B4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52B4-44CE-4E3D-9729-4E74F61B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9BF8-46DA-409C-9955-DE25DC70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4715-2F12-4439-B21F-602290C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35B9-D083-4C74-A924-C422052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3FF0-72E1-496E-B907-3DB515A6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AD3-EA50-46EB-B690-425952FF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46A1-DD74-4770-92EE-A39E276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CD4B-92C4-43E7-9EBB-C66DE8A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1297-E980-42EA-831E-9ACFBCD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50D2-198A-4044-A5B5-1B43B48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277D-9AE1-4DE6-B5D8-CBD1657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538A-10D1-4A87-88E1-381300FD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0DFB-83A2-45A5-9A2E-B6B5A5B5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CCD0-1DBA-4F4B-854A-5BE5BE47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7A71-F371-405A-A5DF-7FAA83A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9CF7-4C0A-4ADA-A84A-7F7744B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2FD-4503-412D-BA6C-49C47DF0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5B06-6DBB-4F75-AF1C-6CE67E9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582A-8533-46FA-AA11-95200EBC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7750-1C6D-4B06-B28A-71D0165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A2C1-42CC-4252-A6AA-1A8E1E4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73AE-7405-4C7A-A504-7A8FDE6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3DC8-1FD0-4477-8EE0-6C37D43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1F76-2119-4152-BAAD-85E1C7A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3224-8633-47EE-98B4-949108E9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5DF4-1E6F-4B1A-A08B-621F4D62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C970-AEFD-4FE0-B197-54550B05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CD8-133A-4111-BD31-04C241D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7AE6-B6AD-4A2B-9089-450128B0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CD6F-428C-4361-A4CB-56DE7E3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CDDB-B63C-4ECD-B365-C23D910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BF28-597B-4C3F-95C1-96794C93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7D85-BB6E-4B1C-B64E-1EB7E9C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B114-05AE-4C35-A1DB-F8E5ED80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C409-F54F-4285-82FF-CD4B1CD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2E6D-3215-41F8-8F32-374D256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08A9-957A-4E05-A3AD-BFC81C5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CA11-DB22-4061-ADDE-63D61C04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149-C801-409B-B012-1561B0F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EFB8-CF9E-4181-A6D1-243317FF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DB95-4D06-4BD3-A222-958F4BE0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BAED-E78B-4D16-9F37-BBC90716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D2D9-5DFB-4BC9-813B-8F1B653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9476C-4792-42C6-8EAB-EB895A31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783C-9756-4415-AF59-CDFE5F9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11BC-8F11-40CB-A252-911AB253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F8147-2D91-4B6C-B94D-3E1A4760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A564-A740-4990-B192-371D12B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C4BA-6E66-422D-B471-4245125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B77-C068-4DB1-B2EB-EADCA1D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BB1F-53A7-4964-ADA4-2E43DEBB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4457-825E-458D-A3FB-C3C7865E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E073-D2C2-4765-BDF7-3F43B8FB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527-F753-4606-9EEB-A7A3F17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3D0-C762-4D44-91CB-40581D47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94E7-A2C5-4F6B-866F-F05CB5DC05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BA66-642D-4F13-BC01-C34DAD5790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28F-B2D8-4449-96CD-39FD28C17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1C78-E131-4892-9B06-CEBBDF36C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1C98-8747-47AB-96DB-B1BEBD76C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D67-4C77-41AF-BC59-6069335FF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Чтобы не было бед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2200320" cy="1513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390920" cy="3384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ррористический ак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емлетряс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аг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вод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68360" y="4869000"/>
            <a:ext cx="2808360" cy="1218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276720" y="4869000"/>
            <a:ext cx="2735280" cy="12189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6012000" y="4869000"/>
            <a:ext cx="266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Землетрясение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щутив колебания здания, услышав нарастающий гул и звон бьющегося стекла, не поддавайтесь панике, быстро покиньте поме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азавшись на улице, не стойте вблизи зданий, а перейдите на открытое простран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ы вынужденно остались в помещении, то встаньте в безопасном месте: у внутренней стены, в углу, во внутреннем стенном проёме или у несущей оп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озможно, спрячьтесь под стол, держитесь подальше от окон и тяжёлой мебели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Ураган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омещении: отойти от окон, погасить огонь, отключить электроэнергию. Включив радио ждать получение информации от МЧ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крытой местности укройтесь в канаве, яме, овраге. Лечь и плотно прижаться к зем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521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0:02:16Z</dcterms:created>
  <dc:creator>Admin</dc:creator>
  <dc:description/>
  <dc:language>en-US</dc:language>
  <cp:lastModifiedBy>Admin</cp:lastModifiedBy>
  <dcterms:modified xsi:type="dcterms:W3CDTF">2009-08-31T20:24:44Z</dcterms:modified>
  <cp:revision>2</cp:revision>
  <dc:subject/>
  <dc:title>Чтобы не было беды</dc:title>
</cp:coreProperties>
</file>