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94C6-26D3-476A-927A-C516FBDDD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9B0F-9487-4EE5-BBAA-FE880237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B302-07DA-46FC-B37D-3C8068AC1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4E39-5FC9-4765-8B6C-E9DDCE3B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24B5-4A0C-4617-A810-1C6ADEBA4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36CF-6E93-4020-860D-CD7B17FA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2745-337B-4037-BB77-80B6FCC9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D0FA-1D9E-4ED4-B08D-14FDB8B9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5EF2-7FFB-4687-8851-A520AC7B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7963-D320-4995-8A18-4C9FDF44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E96D-DF6A-4F9E-A5C8-9FA0EDE9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C951-F83A-43F6-9D68-B2B7A41F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A928-2D83-415E-9CDA-878D8896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566D-0A27-44BF-AA91-71418A28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1A48-B917-4860-B294-3DD38BD6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81DB-1862-4B04-821B-324824F0B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1D70-6DC6-4300-A5D8-C17688739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B3661-EB86-401E-AF20-D3CE284B7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DB320-F68F-4910-BECE-BA159E7C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A0B3E-8722-44C3-93E4-A1EB3A64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B9998-417D-4315-AFA1-567D16C3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CA25C-4B40-4B06-BDE8-76FABAD5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EBF9-5E05-4137-BBCF-48719C68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59878-2D38-4214-9AA2-BA26C3CA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1C2CC-E2BF-4B0D-BC43-A5A4CE1E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F884B-CFC0-44A9-BA0D-FAD493A7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1D10C-A3DA-4621-9208-C419C0D2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DBDE1-B6A4-401B-AF91-0DF593CE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7A268-3715-4EB2-BA81-5C5C17D02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727E0-62E4-4F2B-A753-1551FD563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2DB76-8B69-45F6-BA38-EB64B9C03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5B0F4-E080-467D-92ED-3EFA068B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3F66F-F087-4A14-9CB4-D0685A88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10E8-863C-456D-8FAB-3DB1BF81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29370-EFCC-492E-95AE-F8F0D3B2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40AF7-FB93-4755-95B0-7E1932A1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FD7D8-57D1-4E06-978E-A1A597F7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C9875-869F-406C-8AF7-56D0483C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65943-B0C3-4F6F-AD93-5BD1A8AD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51930-B246-445F-BF30-4CF9C52F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2CEE5-A1F9-4656-BEF8-C75C4844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E4A08-ABC6-4150-8BB2-0842CFEC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F0EFB-00A9-45DC-B955-7E6C07BF9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48172-F60C-4FB4-884B-7C1D9FFA4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572E-8118-4DB7-B5D4-40489BCD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18076-38C7-4B8C-9058-10350E7D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CB379-F8AB-437C-83E4-6BCD6C8C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118F7-AB95-4090-8587-C68DB527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D90DC-87B4-466D-8FF7-DC97AC4E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80AA5-4FAB-49A2-8F88-F6811714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081CF-D8B7-4465-AF4E-A3FC362D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E56DA-49DB-4A82-A59A-CC90410D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182B6-01DD-4B39-A644-D8AD55E8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6B168-639A-4EEE-8DF2-37FC1475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3F852-0FBC-4733-A36C-3405322FD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59D8-A010-47A6-AA25-0225BF85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B305F-A0D4-410B-BF80-0589D8665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DC46C-6EE7-4518-B4D8-AB08D5DF1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E6D7D-F323-4264-942F-86EB76E4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DF0AD-D444-4DFF-A464-71389B46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EE1B4-5A02-4E91-8FCB-FC423C39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AD620-0D6E-49CA-9EFB-CEB842C4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1B57E-8E50-4CF5-9E92-0407A051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C8D1F-F05D-4303-95C3-5763503F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A6AAF-BA77-4E09-A055-FB960FEA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4FEA2-BF08-4BCB-B955-A3DF82F0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384F-2A1C-4F54-BEC7-F0B41E95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ED571-AC60-4211-B9A7-557B8210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7D860-7778-45E0-B5B8-F8CDC1CFB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C093A-8835-4219-B5A1-FEA498E62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A622-CE81-4084-9B67-914156EF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D9F1-97E7-45C5-A216-017EB185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AFB4-FBF7-45D4-8BA9-591E6FDD602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02ED-507E-4AA9-9721-7DDAEA6912A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F048-D515-4C60-A110-78BDE271EF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BA95-16C7-49BD-9228-93C6BF4119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96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6681-8CD4-4C7E-B5DE-B2075A66DF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45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37C6-D6D2-4AD8-BD2A-73B0C28B68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Чтобы не было беды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116000" y="260280"/>
            <a:ext cx="2200320" cy="15130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4500720" y="1197000"/>
            <a:ext cx="4390920" cy="338436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еррористический ак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емлетряс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рага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водне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жар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468360" y="4869000"/>
            <a:ext cx="2808360" cy="12189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3276720" y="4869000"/>
            <a:ext cx="2735280" cy="12189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6"/>
          <a:stretch/>
        </p:blipFill>
        <p:spPr>
          <a:xfrm>
            <a:off x="6012000" y="4869000"/>
            <a:ext cx="266364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2627280" y="836640"/>
            <a:ext cx="4537080" cy="453708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Землетрясение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щутив колебания здания, услышав нарастающий гул и звон бьющегося стекла, не поддавайтесь панике, быстро покиньте помещ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казавшись на улице, не стойте вблизи зданий, а перейдите на открытое пространств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сли вы вынужденно остались в помещении, то встаньте в безопасном месте: у внутренней стены, в углу, во внутреннем стенном проёме или у несущей опор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сли возможно, спрячьтесь под стол, держитесь подальше от окон и тяжёлой мебели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Ураган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помещении: отойти от окон, погасить огонь, отключить электроэнергию. Включив радио ждать получение информации от МЧ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открытой местности укройтесь в канаве, яме, овраге. Лечь и плотно прижаться к земл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25210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20:02:16Z</dcterms:created>
  <dc:creator>Admin</dc:creator>
  <dc:description/>
  <dc:language>en-US</dc:language>
  <cp:lastModifiedBy>Admin</cp:lastModifiedBy>
  <dcterms:modified xsi:type="dcterms:W3CDTF">2009-08-31T20:24:44Z</dcterms:modified>
  <cp:revision>2</cp:revision>
  <dc:subject/>
  <dc:title>Чтобы не было беды</dc:title>
</cp:coreProperties>
</file>