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4.wmf" ContentType="image/x-wmf"/>
  <Override PartName="/ppt/media/image6.gif" ContentType="image/gif"/>
  <Override PartName="/ppt/media/image11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7.gif" ContentType="image/gif"/>
  <Override PartName="/ppt/media/image12.gif" ContentType="image/gif"/>
  <Override PartName="/ppt/media/image15.wmf" ContentType="image/x-wmf"/>
  <Override PartName="/ppt/media/image4.gif" ContentType="image/gif"/>
  <Override PartName="/ppt/media/image16.wmf" ContentType="image/x-wmf"/>
  <Override PartName="/ppt/media/image5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830E-4F8C-4C5C-AD54-E8B2DF68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6E0AB-94B8-4451-8E05-BBDDD84F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CB3F-59D1-43E4-B07E-C94124E8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4A750-9C5B-48BB-8878-D6148C19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8D1B-F4BB-4086-8F24-DC40C66A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1D61-695A-4FA4-93B8-A73892BD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F6EB-2568-4A42-83EB-5087F545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69D1-C725-42DC-A8C5-D7167191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D0C7-8DED-4F61-B036-9A93F2C5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1222-D3AB-4D3A-AD56-F9192E3B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090A-1B18-43F5-A253-BCB00097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5A79-8206-4188-9D27-8051A8BB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9DEB-F115-49DA-94E2-EC94DC17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E9F4-32F0-4FB3-A3B8-CE1E0457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1139-973D-4F5D-8DB0-8745CE91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7B11-13C4-487F-B551-389C76E8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DB38-5526-4F22-A06B-BD387E7B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0666-F1CA-4737-8611-19599526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648E9-F49E-48E4-A8F5-0BF45E24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5534-0C50-4015-80FE-3B3BF597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6E6AF-3638-4482-A5AC-63606C42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89F3-471C-4852-AEBF-5C77C3F7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FEE4-B7AD-4DD6-AF1F-0D9B7767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8375-7F92-427C-AD7A-0EBC338B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CD12-B95D-42B2-BB0A-258EE55295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5EBD-9343-4AA1-931B-5EF3EBE04E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7.gif"/><Relationship Id="rId19" Type="http://schemas.openxmlformats.org/officeDocument/2006/relationships/image" Target="../media/image8.gif"/><Relationship Id="rId20" Type="http://schemas.openxmlformats.org/officeDocument/2006/relationships/image" Target="../media/image9.gif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WordArt 5"/>
          <p:cNvSpPr txBox="1"/>
          <p:nvPr/>
        </p:nvSpPr>
        <p:spPr>
          <a:xfrm>
            <a:off x="324000" y="476280"/>
            <a:ext cx="8135640" cy="638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ы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дагогически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ребования к учащимс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У «Ялгинский лицей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5" name="Picture 6" descr="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35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ребования к внешнему виду учащихся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ащиеся обязаны приходить в школу в деловой одеж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рещается приход в школу в пестрой или спортивной одеж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увь у учащихся должна быть сменной и чист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торжественных случаях необходимо приходить нарядными в соответствии с праздни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язательное наличие спортивной одежды для уроков физкульт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4" descr="PE02082_"/>
          <p:cNvPicPr/>
          <p:nvPr/>
        </p:nvPicPr>
        <p:blipFill>
          <a:blip r:embed="rId6"/>
          <a:stretch/>
        </p:blipFill>
        <p:spPr>
          <a:xfrm>
            <a:off x="7878600" y="4797360"/>
            <a:ext cx="1265400" cy="2060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4358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ребования к учащимся по сохранению школьного имуще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учащиеся должны беречь школьное имущество, мебель, оборудование, бережно относиться к своим вещам и вещам товарищ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лучае порчи какого-либо имущества обязательно его возмещение или ремонт за средства  ро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щиеся обязаны сохранять зеленые насаждения вокруг школы и в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4" descr="j0229737"/>
          <p:cNvPicPr/>
          <p:nvPr/>
        </p:nvPicPr>
        <p:blipFill>
          <a:blip r:embed="rId4"/>
          <a:stretch/>
        </p:blipFill>
        <p:spPr>
          <a:xfrm>
            <a:off x="0" y="4724280"/>
            <a:ext cx="2084400" cy="2133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WordArt 4"/>
          <p:cNvSpPr txBox="1"/>
          <p:nvPr/>
        </p:nvSpPr>
        <p:spPr>
          <a:xfrm>
            <a:off x="1835280" y="1844640"/>
            <a:ext cx="5616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ощрен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 наказан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1419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ООЩРЕНИЯ: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лагодарность учител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лагодарность классного руководител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лагодарность завуч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лагодарность директо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исьменная благодарность директора, объявленная перед класс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исьменная благодарность директора, объявленная перед школ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града похвальной грамот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града серебряной или золотой медаль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50560" y="521640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оощрения и наказания вписываются в личное дело учащихся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рицание учител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рицание классного руководител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рицание завуч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пись замечания в дневн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казание встать у пар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говор перед класс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тавление после уроков для выполнения домашнего зад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зов на педагогический совет вместе с родител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говор в приказе по школ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нижение отметки за повед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ключение из школ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3347280" y="189000"/>
            <a:ext cx="28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КАЗ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WordArt 5"/>
          <p:cNvSpPr txBox="1"/>
          <p:nvPr/>
        </p:nvSpPr>
        <p:spPr>
          <a:xfrm>
            <a:off x="1116000" y="1557360"/>
            <a:ext cx="640872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а поведения 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резвычайны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туация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лучае пожа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звать пожарных по тел. 01, эвакуировать людей из горящего здан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ступить к тушению пожара подручными средствами (вода, плот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крывало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и эваку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йствовать организованно и спокойно; покидая место пожара, плот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рывать за собой двери; в задымленном помещении передвигать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иже к полу, придерживаться стен; дышать через мокрую тка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ПОЛЬЗОВАТЬСЯ ЛИФТАМИ! Спускаться по лестниц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нет возможности покинуть здание, подайте сигнал о помощи в окн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ройтесь в ванной, законопатьте щели двери мокрой тканью, поливай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ерь вод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Если горит одежда на человек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давайте ему бежать (пламя разгорается сильнее); погасите пламя водой (лучше газированной) или накиньте на горящего человека плотную ткань, оставив голову открытой; вызовите "Скорую помощь" 03; если нет средств тушения, то человеку лучше кататься по земле, сбивая плам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течка газ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кройте газ; проветрите помещение; вызовите газовую службу - 04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допускайте открытого огня (спички, зажигалк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 общественных мест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еатре, музее, торговом комплексе, на стадионе и т.п. не паникуйте; соблюдайте инструкции обслуживающего персонала, придерживайтесь плана эвакуации или найдите глазами табличку "ВЫХОД" или рисунок "в приоткрытую дверь убегает человек" и двигайтесь в этом направле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олп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зопасные места толпы: подальше от трибун, ящиков, витрин, оград. При возникновении паники, беспорядков: снять галстук, шарф, освободить руки, согнуть их в локтях, застегнуть все пуговицы, молнии, не хвататься за деревья, ограду и т.п. Главное - удержаться на ног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 случае пад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ернуться клубком на боку, защищая голову, резко подтянуть под себ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ги и подняться в сторону движения толпы. Не привлекать к себе вним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казываниями политических, религиозных и других симпат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приближаться к группам лиц, ведущих себя агрессивно, не реагиро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происходящ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Если вы взяты в заложни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опротивляйтесь; выберите безопасный уголок; если необходима медицинская помощь, говорите об этом спокойно и кратко, не нервируя бандитов; ничего не предпринимайте сами, без их раз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о врем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штурма по освобождению заложников: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жите на полу лицом вниз, голову закройте руками и не двигайтесь. Ни в коем случае не бегите навстречу сотрудникам спецслужб или от них, т.к. они могут принять вас за преступника. Держитесь подальше от проемов дверей и ок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076480" y="0"/>
            <a:ext cx="70675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бщая организация распорядка учебного дня в школе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0" y="157140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бные занятия в школе проводятся согласно расписан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ало занятий в 8.30. Начало утренней зарядки в 8.2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ход учащихся в школу до 8.1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лучае опоздания на урок ученик обязан написать объяснительную на имя классного руководителя или завуча шк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ем, ведущий урок, каждое опоздание фиксируется в дневни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нятия на каждом уроке начинаются и заканчиваются звонками. Перерывы установлены по расписан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упредительный звонок дается учащимся для подготовки к началу уро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щиеся обязаны быть вежливыми приветливыми, уважать традиции шк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щиеся обязаны посещать столовую строго по расписанию и соблюдать правила поведения в столов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6" descr=""/>
          <p:cNvPicPr/>
          <p:nvPr/>
        </p:nvPicPr>
        <p:blipFill>
          <a:blip r:embed="rId10"/>
          <a:stretch/>
        </p:blipFill>
        <p:spPr>
          <a:xfrm>
            <a:off x="0" y="0"/>
            <a:ext cx="1071720" cy="1104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зрыв в дом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льзя выходить на балконы; пользоваться лифтами; касаться включенных электроприборов. Не пользуйтесь спичками и зажигалками (могла произойти утечка газа).Выходить из жилища надо прижавшись спиной к стене, особенно если придется спускаться по лестнице. Надо пригнуться, закрыть голову руками. Оказавшись на улице, надо отойти от дома, при этом следить за карнизами и стенами, которые могут рухнуть. Смотреть под ноги, чтобы не наступить на битое стекло и провода, которые могут быть под напряж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8982000" y="5949720"/>
            <a:ext cx="32400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WordArt 4"/>
          <p:cNvSpPr txBox="1"/>
          <p:nvPr/>
        </p:nvSpPr>
        <p:spPr>
          <a:xfrm>
            <a:off x="1042920" y="907920"/>
            <a:ext cx="6480360" cy="547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рожног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виже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 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Для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его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еобходимо знать и соблюдать Правила дорожного движ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й из особенностей жизни в городе является интенсивное движение автомобилей, пешеходов. Только строгое соблюдение Правил дорожного движения защищает всех нас, водителей и пешеходов, от опасности на дороге - дорожно-транспортных происшествий. Правила дорожного движения - это Закон дорог и его необходимо соблюд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 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Восемь основных правил безопасности поведения на дороге для пешеходов: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когда не выбегайте на дорогу перед приближающимся автомобилем. Водитель не может сразу остановить маши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ходите на проезжую часть, только убедившись в отсутствии приближающегося транспорта и слева, и спра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чень опасен выход из-за стоящих у тротуара автомашин - они закрывают Вам обзор дороги. Сначала надо выглянуть на дорогу и оценить обстановку на ней и, только убедившись в безопасности, переходить её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 выходе из автобуса или троллейбуса не выбегайте из-за него на дорогу. Подождите, пока он отъедет и только потом, убедившись в отсутствии машин, переходите дорог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 выходе из автобуса пройдите на тротуар, дойдите до ближайшего пешеходного перехода и перейдите проезжую ча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выбегайте на дорогу вне зоны пешеходного перехода - в этом месте водитель не ожидает пешеходов и не сможет мгновенно остановить автомобил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асно играть в мяч и другие игры рядом с проезжей частью. Лучше это делать во дворе или на детской площад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льзя выезжать на проезжую часть на скейтбордах и роликовых коньк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ять основных правил для велосипедистов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льзя выезжать на проезжую часть на велосипедах детям до 14 л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тям старше 14 лет и знающим Правила дорожного движения можно ездить на велосипеде на расстоянии не более 1 метра от тротуа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льзя перевозить пассажиров на раме или багажник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льзя делать разворот и левый поворот на дороге с двусторонним движением и трамвайным полотном на середине проезжей ч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пешеходному переходу нужно двигаться только пешком, ведя велосипед за ру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785952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Ребята! Соблюдение этих правил несложно. Они помогут вам.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24000" y="286920"/>
            <a:ext cx="6913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иход учащихся в школу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входе в школу учащиеся обязательно здороваются надевают сменную обувь, раздеваются в раздевалке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оставлять в гардеробе ценные вещ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 раздевания все учащиеся приводят в порядок свой внешний вид и проходят по своим классам. Неряшливые ученики не могут быть допущены к заняти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оздание в школу считается с 8.20. Категорически запрещается приносить в школу вещи, не относящиеся к учебным принадлежност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4" descr="door1-3_s"/>
          <p:cNvPicPr/>
          <p:nvPr/>
        </p:nvPicPr>
        <p:blipFill>
          <a:blip r:embed="rId4"/>
          <a:stretch/>
        </p:blipFill>
        <p:spPr>
          <a:xfrm>
            <a:off x="8213760" y="5084640"/>
            <a:ext cx="930240" cy="1773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644480" y="0"/>
            <a:ext cx="74995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ребован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я к учащимся на уроке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0" y="1096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ащиеся обязаны посещать все уроки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ники входят в класс и приветствуют учител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ле второго звонка на урок, ученики обязаны быть готовы к началу уро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тель начинает урок только при абсолютном порядке в классе, при готовности учащихся к урок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столе не должно быть никаких лишних вещей, только все необходимое к урок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 ответе учащийся встает, держится свободно, прямо, отвечает громко, четко, не спеша. Ученик обязан выполнять на уроке все требования учител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метка за опрос ставится в журнал и дневни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 требованию учителя ученик обязан подать свой дневник для выставления отметки или записи замеч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тегорически запрещается учащимся нарушать дисциплину: грубить, сквернословить, подсказывать, перебивать отвечающего или учителя во время объяснения, поправлять ответы без разрешения учител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уроке запрещается жевать жевательную резинку, слушать плеер, разговаривать по сотовому телефон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 входе в класс директора или его заместителей и их выходе учащиеся обязаны прекратить работу и вст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прещается самовольно покидать класс во время уро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ле окончания урока учащиеся выходят из кабинета попрощавшись с учител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 время перемены дежурные по классу проводят необходимую уборку (моют доску, собирают мусор и пр.), проветривают помещ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машнее задание ученик обязан записывать в свой дневни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уроках физкультуры обязательно должна быть спортивная фор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вобожденные от физкультуры обязаны сидеть на уроке и овладевать теоретическим материал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7" descr=""/>
          <p:cNvPicPr/>
          <p:nvPr/>
        </p:nvPicPr>
        <p:blipFill>
          <a:blip r:embed="rId18"/>
          <a:stretch/>
        </p:blipFill>
        <p:spPr>
          <a:xfrm>
            <a:off x="0" y="0"/>
            <a:ext cx="1332000" cy="11318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"/>
          <p:cNvPicPr/>
          <p:nvPr/>
        </p:nvPicPr>
        <p:blipFill>
          <a:blip r:embed="rId19"/>
          <a:stretch/>
        </p:blipFill>
        <p:spPr>
          <a:xfrm>
            <a:off x="7956720" y="6032520"/>
            <a:ext cx="1187280" cy="825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" descr="11m3"/>
          <p:cNvPicPr/>
          <p:nvPr/>
        </p:nvPicPr>
        <p:blipFill>
          <a:blip r:embed="rId20"/>
          <a:stretch/>
        </p:blipFill>
        <p:spPr>
          <a:xfrm>
            <a:off x="8101080" y="476280"/>
            <a:ext cx="1042920" cy="893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5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5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5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ребования к учащимся на перемене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ащимся на перемене разрешается ходить спокойно, не бег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прещается на перемене крик, возня, беготня и др. действия, нарушающие общественный порядок или унижающие достоинство других уча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прещается курение в туалете или других помещениях школы, а также на прилегающей к школе террито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кто не должен оставаться в коридорах после предупредительного звонка на ур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прещается учащимся входить в учительскую или в другие помещения школы (лаборантские, медпункт и т.д.)без разрешения соответствующих работ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ждый учащийся с приходом в школу обязательно должен приветствовать всех учителей и сотрудников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14320" y="-360"/>
            <a:ext cx="5554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Уход учащихся из школы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78588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ход учащихся из школы происходит организованно, в сопровождении учителя, ведущего последний ур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щийся, получивший пальто, должен попрощаться с окружающими. Юноши головной убор одевают только при выходе из вестибю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таваться в школе можно только тем учащимся, которые занимаются в кружках, факультативах,  на дополнительных занятиях с учителем или по указанию классного руководи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рещается самовольный уход с уроков. Разрешается уходить только по разрешению классного руководителя на основании расписки от ро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пуски уроков считаются по уважительной причине только на основании медицинской справки или на основании приказа директора школы при проведении  каких-либо мероприят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ли учащемуся необходимо уйти домой раньше окончания занятий по причине недомогания, он обязан взять разрешение в медицинском кабинете; если по семейным обстоятельствам – у классного руководи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4" descr=""/>
          <p:cNvPicPr/>
          <p:nvPr/>
        </p:nvPicPr>
        <p:blipFill>
          <a:blip r:embed="rId7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5" descr=""/>
          <p:cNvPicPr/>
          <p:nvPr/>
        </p:nvPicPr>
        <p:blipFill>
          <a:blip r:embed="rId8"/>
          <a:stretch/>
        </p:blipFill>
        <p:spPr>
          <a:xfrm>
            <a:off x="7858080" y="55720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6" descr=""/>
          <p:cNvPicPr/>
          <p:nvPr/>
        </p:nvPicPr>
        <p:blipFill>
          <a:blip r:embed="rId9"/>
          <a:stretch/>
        </p:blipFill>
        <p:spPr>
          <a:xfrm>
            <a:off x="0" y="0"/>
            <a:ext cx="934920" cy="785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644480" y="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ребования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к уча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щимся по выполнению домашнего задания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ждый ученик ежедневно должен тратить на подготовку домашнего задания не менее 4 час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учащиеся в обязательном порядке должны аккуратно и полно записывать домашнее задание в дневниках с указанием числа, на которое задано зад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разрешается выполнение домашнего задания на переменах или списывание его у других учащих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ния, которые не выполнены дома, обязательно выполняются учеником после уроков, по непонятным вопросам подходят к учител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рещается выполнять домашнее задание на листочках (если это не предусмотрено учителем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которые виды работ творческого характера выполняется учеником в библиотеке, используя дополнительную литератур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подготовке домашнего задания, ученик обязан систематически  повторять правила, определения ,теоремы, формулы по пройденным темам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8"/>
          <a:stretch/>
        </p:blipFill>
        <p:spPr>
          <a:xfrm>
            <a:off x="0" y="0"/>
            <a:ext cx="1835280" cy="1619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81200" y="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ребования к учащимся по содержанию учебников, дневников, тетрадей, учебных принадлежностей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бники и книги, используемые на уроках, должны быть в облож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язательно в учебниках и книгах должны быть заклад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тради необходимо содержать в порядке, в защитных обложках. Наличие полей в тетради обязатель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тради ведутся с соблюдением правил орфографи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личие даты обязательно, обязательно записывается тема урока. Дата записывается на той же странице, с которой начинается изложение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равильно записанное должно быть аккуратно зачеркнуто. Запрещается стирать ошибки или использовать «замазку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невник должен быть в обложке, с заполненным расписанием и заданиями на дом. Дневники берутся для проверки один раз в неделю, наличие подписи родителей еженедельно обязатель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рещается разрисовывать тетради и дневники, делать в них записи личного содерж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гулярно дневник подавать учителю для выставления отме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4" descr="BD05629_"/>
          <p:cNvPicPr/>
          <p:nvPr/>
        </p:nvPicPr>
        <p:blipFill>
          <a:blip r:embed="rId10"/>
          <a:stretch/>
        </p:blipFill>
        <p:spPr>
          <a:xfrm>
            <a:off x="0" y="0"/>
            <a:ext cx="1116000" cy="861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76480" y="-360"/>
            <a:ext cx="7067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ребования к учащимся при проведении всевозможных мероприятий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ждый ученик ОБЯЗАН принять самое активное участие в подготовке запланированных мероприят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ащиеся не должны опаздывать к началу мероприят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ащиеся, не умеющие себя вести на мероприятии, удаляются с него, о чем обязательно докладывается родител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 время мероприятий запрещается пользоваться мобильными телефон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7:59:30Z</dcterms:created>
  <dc:creator>User</dc:creator>
  <dc:description/>
  <dc:language>en-US</dc:language>
  <cp:lastModifiedBy>User</cp:lastModifiedBy>
  <dcterms:modified xsi:type="dcterms:W3CDTF">2009-12-03T05:14:04Z</dcterms:modified>
  <cp:revision>8</cp:revision>
  <dc:subject/>
  <dc:title>Единые педагогические требования к учащимся</dc:title>
</cp:coreProperties>
</file>