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14.wmf" ContentType="image/x-wmf"/>
  <Override PartName="/ppt/media/image6.gif" ContentType="image/gif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7.gif" ContentType="image/gif"/>
  <Override PartName="/ppt/media/image12.gif" ContentType="image/gif"/>
  <Override PartName="/ppt/media/image15.wmf" ContentType="image/x-wmf"/>
  <Override PartName="/ppt/media/image4.gif" ContentType="image/gif"/>
  <Override PartName="/ppt/media/image16.wmf" ContentType="image/x-wmf"/>
  <Override PartName="/ppt/media/image5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D61E-0927-4E1F-9895-A39B77FE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1A79-817C-4B5C-959D-973F487F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E60AE-5344-434A-ADA7-C311DE96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8AFE-D9BC-40DE-8779-17708CBE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7607-A7DA-4208-BA07-82990E64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B98C-8115-413F-A568-285EBA16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7AD0-08A7-4BCD-9026-33F51B15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F38D-1AD3-49D9-88FF-30E9E054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6AF-2284-4F91-AED1-8481ABE0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62D3-78D8-4FE0-8EBE-8E26FF1A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A9A5-5D25-4174-AB20-D043A2BC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4C1D-0C1A-45CE-8867-7B57A90A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7EBC-70D6-4D3D-A3E0-ABB33FE1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4685-0F02-4945-894F-2BB9F89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95D-BE32-428C-8D19-DA0F819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66B1-F9E6-4EDC-81CF-B4272FC6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46F-54F1-411A-A7BB-8D38C4EE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694A-B543-4DA8-AC47-F23B68E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AB5D-5270-4CA5-ACCE-4A5D194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E481-DE3B-41A7-8869-58FAFF3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9AF2-5BCE-4C0B-83E0-F107027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E25C-48C5-4E6C-9009-75E3759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DDA3-2747-498F-A251-30ED214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12C8-BBC0-422C-928B-2538F6D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7CF-74F7-4F67-8E7F-70AFD2860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6D20-ED72-4F84-B05E-62804F9FC6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7.gif"/><Relationship Id="rId19" Type="http://schemas.openxmlformats.org/officeDocument/2006/relationships/image" Target="../media/image8.gif"/><Relationship Id="rId20" Type="http://schemas.openxmlformats.org/officeDocument/2006/relationships/image" Target="../media/image9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5"/>
          <p:cNvSpPr txBox="1"/>
          <p:nvPr/>
        </p:nvSpPr>
        <p:spPr>
          <a:xfrm>
            <a:off x="324000" y="476280"/>
            <a:ext cx="8135640" cy="638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ы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дагогически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бования к учащимс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Ялгинский лицей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Picture 6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5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внешнему виду учащихс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щиеся обязаны приходить в школу в деловой одеж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рещается приход в школу в пестрой или спортивной одеж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увь у учащихся должна быть сменной и чи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торжественных случаях необходимо приходить нарядными в соответствии с празд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язательное наличие спортивной одежды для уроков физкульту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PE02082_"/>
          <p:cNvPicPr/>
          <p:nvPr/>
        </p:nvPicPr>
        <p:blipFill>
          <a:blip r:embed="rId6"/>
          <a:stretch/>
        </p:blipFill>
        <p:spPr>
          <a:xfrm>
            <a:off x="7878600" y="4797360"/>
            <a:ext cx="1265400" cy="2060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435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о сохранению школьного имуще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учащиеся должны беречь школьное имущество, мебель, оборудование, бережно относиться к своим вещам и вещам товарищ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лучае порчи какого-либо имущества обязательно его возмещение или ремонт за средства 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сохранять зеленые насаждения вокруг школы и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j0229737"/>
          <p:cNvPicPr/>
          <p:nvPr/>
        </p:nvPicPr>
        <p:blipFill>
          <a:blip r:embed="rId4"/>
          <a:stretch/>
        </p:blipFill>
        <p:spPr>
          <a:xfrm>
            <a:off x="0" y="4724280"/>
            <a:ext cx="2084400" cy="2133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4"/>
          <p:cNvSpPr txBox="1"/>
          <p:nvPr/>
        </p:nvSpPr>
        <p:spPr>
          <a:xfrm>
            <a:off x="1835280" y="1844640"/>
            <a:ext cx="561636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ощре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 наказ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1419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ОЩРЕНИЯ: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учи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классного руководи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завуч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лагодарность директ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енная благодарность директора, объявленная перед клас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сьменная благодарность директора, объявленная перед школ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рада похвальной грамот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рада серебряной или золотой медаль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560" y="521640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оощрения и наказания вписываются в личное дело учащихся.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уч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классного руководи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рицание завуч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ись замечания в днев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казание встать у пар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говор перед класс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тавление после уроков для выполнения домашнего зад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зов на педагогический совет вместе с родител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говор в приказе по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ижение отметки за повед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ключение из шко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47280" y="18900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АКАЗА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5"/>
          <p:cNvSpPr txBox="1"/>
          <p:nvPr/>
        </p:nvSpPr>
        <p:spPr>
          <a:xfrm>
            <a:off x="1116000" y="1557360"/>
            <a:ext cx="6408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 поведения 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резвычайны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туация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лучае пожа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звать пожарных по тел. 01, эвакуировать людей из горящего зда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ступить к тушению пожара подручными средствами (вода, плот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ывало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и эваку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йствовать организованно и спокойно; покидая место пожара, пло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рывать за собой двери; в задымленном помещении передвиг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е к полу, придерживаться стен; дышать через мокрую ткан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ЛЬЗОВАТЬСЯ ЛИФТАМИ! Спускаться по лестниц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нет возможности покинуть здание, подайте сигнал о помощи в ок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ройтесь в ванной, законопатьте щели двери мокрой тканью, поливай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ерь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Если горит одежда на человек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авайте ему бежать (пламя разгорается сильнее); погасите пламя водой (лучше газированной) или накиньте на горящего человека плотную ткань, оставив голову открытой; вызовите "Скорую помощь" 03; если нет средств тушения, то человеку лучше кататься по земле, сбивая пла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течка га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кройте газ; проветрите помещение; вызовите газовую службу - 0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допускайте открытого огня (спички, зажигалк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общественных мест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атре, музее, торговом комплексе, на стадионе и т.п. не паникуйте; соблюдайте инструкции обслуживающего персонала, придерживайтесь плана эвакуации или найдите глазами табличку "ВЫХОД" или рисунок "в приоткрытую дверь убегает человек" и двигайтесь в этом направл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олп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е места толпы: подальше от трибун, ящиков, витрин, оград. При возникновении паники, беспорядков: снять галстук, шарф, освободить руки, согнуть их в локтях, застегнуть все пуговицы, молнии, не хвататься за деревья, ограду и т.п. Главное - удержаться на ног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случае пад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нуться клубком на боку, защищая голову, резко подтянуть под себ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ги и подняться в сторону движения толпы. Не привлекать к себе вним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казываниями политических, религиозных и других симпа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приближаться к группам лиц, ведущих себя агрессивно, не реаг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роисходящ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Если вы взяты в заложн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опротивляйтесь; выберите безопасный уголок; если необходима медицинская помощь, говорите об этом спокойно и кратко, не нервируя бандитов; ничего не предпринимайте сами, без их раз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о врем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штурма по освобождению заложников: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жите на полу лицом вниз, голову закройте руками и не двигайтесь. Ни в коем случае не бегите навстречу сотрудникам спецслужб или от них, т.к. они могут принять вас за преступника. Держитесь подальше от проемов дверей и ок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076480" y="0"/>
            <a:ext cx="70675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щая организация распорядка учебного дня в школ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57140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ые занятия в школе проводятся согласно распис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 занятий в 8.30. Начало утренней зарядки в 8.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ход учащихся в школу до 8.1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лучае опоздания на урок ученик обязан написать объяснительную на имя классного руководителя или завуча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ем, ведущий урок, каждое опоздание фиксируется в дневн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ятия на каждом уроке начинаются и заканчиваются звонками. Перерывы установлены по расписан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упредительный звонок дается учащимся для подготовки к началу уро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быть вежливыми приветливыми, уважать традиции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еся обязаны посещать столовую строго по расписанию и соблюдать правила поведения в стол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10"/>
          <a:stretch/>
        </p:blipFill>
        <p:spPr>
          <a:xfrm>
            <a:off x="0" y="0"/>
            <a:ext cx="1071720" cy="110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зрыв в дом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выходить на балконы; пользоваться лифтами; касаться включенных электроприборов. Не пользуйтесь спичками и зажигалками (могла произойти утечка газа).Выходить из жилища надо прижавшись спиной к стене, особенно если придется спускаться по лестнице. Надо пригнуться, закрыть голову руками. Оказавшись на улице, надо отойти от дома, при этом следить за карнизами и стенами, которые могут рухнуть. Смотреть под ноги, чтобы не наступить на битое стекло и провода, которые могут быть под напряж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8982000" y="5949720"/>
            <a:ext cx="32400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WordArt 4"/>
          <p:cNvSpPr txBox="1"/>
          <p:nvPr/>
        </p:nvSpPr>
        <p:spPr>
          <a:xfrm>
            <a:off x="1042920" y="907920"/>
            <a:ext cx="648036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рожн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виж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Для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чег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еобходимо знать и соблюдать Правила дорожного движ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ой из особенностей жизни в городе является интенсивное движение автомобилей, пешеходов. Только строгое соблюдение Правил дорожного движения защищает всех нас, водителей и пешеходов, от опасности на дороге - дорожно-транспортных происшествий. Правила дорожного движения - это Закон дорог и его необходимо соблюд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 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Восемь основных правил безопасности поведения на дороге для пешеходов: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гда не выбегайте на дорогу перед приближающимся автомобилем. Водитель не может сразу остановить маши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ходите на проезжую часть, только убедившись в отсутствии приближающегося транспорта и слева, и спр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чень опасен выход из-за стоящих у тротуара автомашин - они закрывают Вам обзор дороги. Сначала надо выглянуть на дорогу и оценить обстановку на ней и, только убедившись в безопасности, переходить её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ыходе из автобуса или троллейбуса не выбегайте из-за него на дорогу. Подождите, пока он отъедет и только потом, убедившись в отсутствии машин, переходите дорог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выходе из автобуса пройдите на тротуар, дойдите до ближайшего пешеходного перехода и перейдите проезжую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ыбегайте на дорогу вне зоны пешеходного перехода - в этом месте водитель не ожидает пешеходов и не сможет мгновенно остановить автомоби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асно играть в мяч и другие игры рядом с проезжей частью. Лучше это делать во дворе или на детской площад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выезжать на проезжую часть на скейтбордах и роликовых конь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ять основных правил для велосипедистов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выезжать на проезжую часть на велосипедах детям до 14 л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тям старше 14 лет и знающим Правила дорожного движения можно ездить на велосипеде на расстоянии не более 1 метра от тротуа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перевозить пассажиров на раме или багажник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зя делать разворот и левый поворот на дороге с двусторонним движением и трамвайным полотном на середине проезжей ч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пешеходному переходу нужно двигаться только пешком, ведя велосипед за ру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785952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ебята! Соблюдение этих правил несложно. Они помогут вам.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24000" y="286920"/>
            <a:ext cx="691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риход учащихся в школу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входе в школу учащиеся обязательно здороваются надевают сменную обувь, раздеваются в раздевалке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оставлять в гардеробе ценные вещ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 раздевания все учащиеся приводят в порядок свой внешний вид и проходят по своим классам. Неряшливые ученики не могут быть допущены к заняти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оздание в школу считается с 8.20. Категорически запрещается приносить в школу вещи, не относящиеся к учебным принадлежност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4" descr="door1-3_s"/>
          <p:cNvPicPr/>
          <p:nvPr/>
        </p:nvPicPr>
        <p:blipFill>
          <a:blip r:embed="rId4"/>
          <a:stretch/>
        </p:blipFill>
        <p:spPr>
          <a:xfrm>
            <a:off x="8213760" y="5084640"/>
            <a:ext cx="930240" cy="1773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644480" y="0"/>
            <a:ext cx="7499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я к учащимся на урок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1096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щиеся обязаны посещать все урок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ки входят в класс и приветствуют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ле второго звонка на урок, ученики обязаны быть готовы к началу уро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инает урок только при абсолютном порядке в классе, при готовности учащихся к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столе не должно быть никаких лишних вещей, только все необходимое к уро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ответе учащийся встает, держится свободно, прямо, отвечает громко, четко, не спеша. Ученик обязан выполнять на уроке все требования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метка за опрос ставится в журнал и дне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 требованию учителя ученик обязан подать свой дневник для выставления отметки или записи замеч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тегорически запрещается учащимся нарушать дисциплину: грубить, сквернословить, подсказывать, перебивать отвечающего или учителя во время объяснения, поправлять ответы без разрешения учит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роке запрещается жевать жевательную резинку, слушать плеер, разговаривать по сотовому телефон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 входе в класс директора или его заместителей и их выходе учащиеся обязаны прекратить работу и вст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рещается самовольно покидать класс во время уро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ле окончания урока учащиеся выходят из кабинета попрощавшись с учителе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время перемены дежурные по классу проводят необходимую уборку (моют доску, собирают мусор и пр.), проветривают помещ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ашнее задание ученик обязан записывать в свой днев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роках физкультуры обязательно должна быть спортивная фор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вобожденные от физкультуры обязаны сидеть на уроке и овладевать теоретическим материал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18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"/>
          <p:cNvPicPr/>
          <p:nvPr/>
        </p:nvPicPr>
        <p:blipFill>
          <a:blip r:embed="rId19"/>
          <a:stretch/>
        </p:blipFill>
        <p:spPr>
          <a:xfrm>
            <a:off x="7956720" y="6032520"/>
            <a:ext cx="1187280" cy="825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11m3"/>
          <p:cNvPicPr/>
          <p:nvPr/>
        </p:nvPicPr>
        <p:blipFill>
          <a:blip r:embed="rId20"/>
          <a:stretch/>
        </p:blipFill>
        <p:spPr>
          <a:xfrm>
            <a:off x="8101080" y="476280"/>
            <a:ext cx="1042920" cy="89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на перемен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ащимся на перемене разрешается ходить спокойно, не бег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на перемене крик, возня, беготня и др. действия, нарушающие общественный порядок или унижающие достоинство других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курение в туалете или других помещениях школы, а также на прилегающей к школе терр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кто не должен оставаться в коридорах после предупредительного звонка на у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ещается учащимся входить в учительскую или в другие помещения школы (лаборантские, медпункт и т.д.)без разрешения соответствующих рабо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учащийся с приходом в школу обязательно должен приветствовать всех учителей и сотрудни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14320" y="-360"/>
            <a:ext cx="5554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ход учащихся из школы</a:t>
            </a: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91440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ход учащихся из школы происходит организованно, в сопровождении учителя, ведущего последний ур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йся, получивший пальто, должен попрощаться с окружающими. Юноши головной убор одевают только при выходе из вестибю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таваться в школе можно только тем учащимся, которые занимаются в кружках, факультативах,  на дополнительных занятиях с учителем или по указанию классного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самовольный уход с уроков. Разрешается уходить только по разрешению классного руководителя на основании расписки от ро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пуски уроков считаются по уважительной причине только на основании медицинской справки или на основании приказа директора школы при проведении  каких-либо мероприя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ли учащемуся необходимо уйти домой раньше окончания занятий по причине недомогания, он обязан взять разрешение в медицинском кабинете; если по семейным обстоятельствам – у классного руковод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7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5" descr=""/>
          <p:cNvPicPr/>
          <p:nvPr/>
        </p:nvPicPr>
        <p:blipFill>
          <a:blip r:embed="rId8"/>
          <a:stretch/>
        </p:blipFill>
        <p:spPr>
          <a:xfrm>
            <a:off x="7858080" y="55720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6" descr=""/>
          <p:cNvPicPr/>
          <p:nvPr/>
        </p:nvPicPr>
        <p:blipFill>
          <a:blip r:embed="rId9"/>
          <a:stretch/>
        </p:blipFill>
        <p:spPr>
          <a:xfrm>
            <a:off x="0" y="0"/>
            <a:ext cx="934920" cy="785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644480" y="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 к уча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щимся по выполнению домашнего задания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ждый ученик ежедневно должен тратить на подготовку домашнего задания не менее 4 ча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учащиеся в обязательном порядке должны аккуратно и полно записывать домашнее задание в дневниках с указанием числа, на которое задано зад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разрешается выполнение домашнего задания на переменах или списывание его у других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ния, которые не выполнены дома, обязательно выполняются учеником после уроков, по непонятным вопросам подходят к учител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выполнять домашнее задание на листочках (если это не предусмотрено учителе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которые виды работ творческого характера выполняется учеником в библиотеке, используя дополнительную литерату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одготовке домашнего задания, ученик обязан систематически  повторять правила, определения ,теоремы, формулы по пройденным тема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8"/>
          <a:stretch/>
        </p:blipFill>
        <p:spPr>
          <a:xfrm>
            <a:off x="0" y="0"/>
            <a:ext cx="1835280" cy="1619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81200" y="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о содержанию учебников, дневников, тетрадей, учебных принадлежносте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бники и книги, используемые на уроках, должны быть в облож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язательно в учебниках и книгах должны быть заклад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тради необходимо содержать в порядке, в защитных обложках. Наличие полей в тетради обяз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тради ведутся с соблюдением правил орфографи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личие даты обязательно, обязательно записывается тема урока. Дата записывается на той же странице, с которой начинается изложение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авильно записанное должно быть аккуратно зачеркнуто. Запрещается стирать ошибки или использовать «замазку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невник должен быть в обложке, с заполненным расписанием и заданиями на дом. Дневники берутся для проверки один раз в неделю, наличие подписи родителей еженедельно обязат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рещается разрисовывать тетради и дневники, делать в них записи личного содерж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гулярно дневник подавать учителю для выставления отме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" descr="BD05629_"/>
          <p:cNvPicPr/>
          <p:nvPr/>
        </p:nvPicPr>
        <p:blipFill>
          <a:blip r:embed="rId10"/>
          <a:stretch/>
        </p:blipFill>
        <p:spPr>
          <a:xfrm>
            <a:off x="0" y="0"/>
            <a:ext cx="1116000" cy="861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76480" y="-360"/>
            <a:ext cx="7067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учащимся при проведении всевозможных мероприятий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ждый ученик ОБЯЗАН принять самое активное участие в подготовке запланированных мероприя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щиеся не должны опаздывать к началу мероприят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ащиеся, не умеющие себя вести на мероприятии, удаляются с него, о чем обязательно докладывается род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 время мероприятий запрещается пользоваться мобильными телефон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7:59:30Z</dcterms:created>
  <dc:creator>User</dc:creator>
  <dc:description/>
  <dc:language>en-US</dc:language>
  <cp:lastModifiedBy>User</cp:lastModifiedBy>
  <dcterms:modified xsi:type="dcterms:W3CDTF">2009-12-03T05:14:04Z</dcterms:modified>
  <cp:revision>8</cp:revision>
  <dc:subject/>
  <dc:title>Единые педагогические требования к учащимся</dc:title>
</cp:coreProperties>
</file>