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752-4EAF-4B8A-AD1E-AD858741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480-6E5E-408C-897F-7B47A833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82C-544C-41AF-9F07-64715C25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798-3A1C-4DB0-B85D-293D0592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04DD-87D6-44F5-8053-A4DA4E8B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99B9-A967-4AEC-81AE-BC5F691F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AE86-548F-416A-8DD1-AD9E72F1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6D80-5282-4175-9AB1-388FB085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8D54-4730-44D6-8582-B3949AF7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F7B2-CF61-40A3-85A1-80DB978D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5C6B-53AC-4EA3-A368-3C773517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C3A-1745-4F9E-BC3F-488A0E70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64D1-8A5A-48DC-AADB-79A9336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800E-2FB1-40C7-A50E-DC18AC72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2402-5B10-46B8-91AC-9B741C12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1F85-827E-4E12-912C-4050F0E4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9B7E-61C8-4E3F-96A3-798E6C67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608-32C4-477B-B945-E8EC4928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0EE-579B-4AEB-AF61-36619BA3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F4D-A9DB-4B49-836E-A6F88AF4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D15-98AD-4377-AB1D-76C55A63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2A5-30CF-4E4D-B991-294FCDC5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E1C-4781-4A63-8C8F-4C2BAF05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DDD-3496-43B0-8F79-B24F3654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C182-529F-40F0-A224-4DF290AD5D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196F-C27B-4644-93F2-0B30903F26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196640"/>
            <a:ext cx="6629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Экологические группы птиц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зентация к уроку 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ногообразие птиц в природ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0"/>
            <a:ext cx="73134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ищные птиц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невные хищные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чные хищные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1014480"/>
            <a:ext cx="9144000" cy="88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-1285920"/>
            <a:ext cx="9144000" cy="942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езентация к уроку зоолог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биологии ГБОУ 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ОУО г. Мос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нченкова Вера Пав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тицы культурных ландшаф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2923920"/>
            <a:ext cx="77724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рагменты из жизни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552600"/>
            <a:ext cx="9144000" cy="796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961920"/>
            <a:ext cx="9144000" cy="87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тицы  водоем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349360"/>
            <a:ext cx="77724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оплавающие 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ленастые 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-271440"/>
            <a:ext cx="914400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тицы – уникальные творения природы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зья и помощник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нитары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яторы численности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ют огромное эстетическо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5:35:24Z</dcterms:created>
  <dc:creator>VoronchenkovaVP</dc:creator>
  <dc:description/>
  <dc:language>en-US</dc:language>
  <cp:lastModifiedBy>VoronchenkovaVP</cp:lastModifiedBy>
  <dcterms:modified xsi:type="dcterms:W3CDTF">2012-02-29T06:06:16Z</dcterms:modified>
  <cp:revision>8</cp:revision>
  <dc:subject/>
  <dc:title>Экологические группы птиц</dc:title>
</cp:coreProperties>
</file>