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FB9-DEDC-444E-A26B-C02F02CC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AD7-8D61-4589-A584-3008946F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A82-E3AD-401C-89E4-C8D73F1C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4C9-E991-469B-AC5A-A97694D1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9EAC-AF11-41C1-A768-BA62763F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4C53-7469-474B-87CA-15550594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E560-DFF2-46D8-B88D-F798F3C4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A554-DF78-47C1-9F7A-0F8CB722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EAFB-14E3-4A2B-BD61-33490A2E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FA01-3B29-4FCB-932C-EAD68975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59E1-4215-4D2B-8F95-22B8B2EA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752-B019-46A7-86E7-035B2911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D991-1DFB-4019-AAA8-1C182DF3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3949-7BFA-427F-A7F1-2B6EE703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CD23-0D84-487D-9AA6-53DA48D9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3780-665B-4D9E-AFFB-9C3449C2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A89B-39A3-4B6F-949D-40D5402F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CBA-114A-4389-B4CF-94E3DC89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9E8-F0AA-4571-8FD3-CD5A58A2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6ED-FCD2-4DE7-980B-8EA623DB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775-D9C3-4CE8-AF29-16175627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7A4-81A6-4DB2-A17D-D89BC95E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ACB-308C-4782-B59F-6195B174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339-C2D5-4408-AF00-BBEEB4C8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CF67-752F-4D7B-BC1E-CCCFF43ED9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17CF-F5E2-44CA-AA1F-F3B529A653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196640"/>
            <a:ext cx="6629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Экологические группы птиц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зентация к уроку по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ногообразие птиц в природ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0"/>
            <a:ext cx="73134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ищны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невные хищные 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чные хищные 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-1014480"/>
            <a:ext cx="9144000" cy="88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-1285920"/>
            <a:ext cx="9144000" cy="942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езентация к уроку зоолог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биологии ГБОУ 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ОУО г. Мос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онченкова Вера Пав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тицы культурных ландшаф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2923920"/>
            <a:ext cx="77724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рагменты из жизни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-552600"/>
            <a:ext cx="9144000" cy="796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-128520"/>
            <a:ext cx="9144000" cy="71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961920"/>
            <a:ext cx="9144000" cy="87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тицы  водоем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2349360"/>
            <a:ext cx="77724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оплавающие  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ленастые 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-271440"/>
            <a:ext cx="914400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тицы – уникальные творения природы 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зья и помощник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нитары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уляторы численности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ют огромное эстетическое 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5:35:24Z</dcterms:created>
  <dc:creator>VoronchenkovaVP</dc:creator>
  <dc:description/>
  <dc:language>en-US</dc:language>
  <cp:lastModifiedBy>VoronchenkovaVP</cp:lastModifiedBy>
  <dcterms:modified xsi:type="dcterms:W3CDTF">2012-02-29T06:06:16Z</dcterms:modified>
  <cp:revision>8</cp:revision>
  <dc:subject/>
  <dc:title>Экологические группы птиц</dc:title>
</cp:coreProperties>
</file>