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344-073D-4A4A-BB4A-795D8573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E17-D641-4D32-9712-8BF64DF5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6B0-55C0-45AC-B4C2-D9D2FB5D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AACE-5AA1-401E-A9A7-AC4ED818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CC9C-E241-4B7D-8AC0-0672F27C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D04A-5CEE-4485-B1A5-4F8E40F2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7174-69DA-407B-A303-C0AC3B80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363C-8A32-453B-BC13-F9D161AB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A53B-96AE-42DC-8E27-C244BF3E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5FA6-BD64-4D75-9962-91C8BA04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BB42-208B-4F74-A2B2-FD7A74A2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332-A9E7-4328-9B6F-8BAEA69D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BB8A-45A9-4FF1-8DC2-E5FABAC9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F95A-BCC4-470B-A0E5-05F6751A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9130-A08F-4785-8796-62149438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669B-FCD0-4459-950F-929EECF7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9C34-A817-4C7E-B375-E9446F1B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C562-FD38-438C-9802-E7B61F98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3DD-561D-489E-B9CD-50BBF468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753-65D0-4896-9235-7F1E1CC4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921A-9606-488B-B9FA-91ECA205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5E50-BDBE-4C57-B410-6D828A44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C581-3EB3-41A0-9A35-CA3CBD34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3DE0-E9BD-4747-AA3A-7BEA2BF6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CDCA-BFBE-4282-8F76-3404380814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03EF-C9B1-47AB-AB7A-757C27F3FB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569080" cy="540072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cc"/>
                </a:solidFill>
                <a:uFillTx/>
                <a:latin typeface="Arial"/>
              </a:rPr>
              <a:t>Городская  научно-практическая конференция 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«Приоритеты социально-педагогической деятельности ОУ в соответствии с требованиями ФГОС»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9.02.2012 – 1.03.2012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Organization Chart 43"/>
          <p:cNvGrpSpPr/>
          <p:nvPr/>
        </p:nvGrpSpPr>
        <p:grpSpPr>
          <a:xfrm>
            <a:off x="2843280" y="189000"/>
            <a:ext cx="5471280" cy="2736000"/>
            <a:chOff x="2843280" y="189000"/>
            <a:chExt cx="5471280" cy="2736000"/>
          </a:xfrm>
        </p:grpSpPr>
        <p:cxnSp>
          <p:nvCxnSpPr>
            <p:cNvPr id="111" name="_s2052"/>
            <p:cNvCxnSpPr>
              <a:stCxn id="112" idx="0"/>
              <a:endCxn id="113" idx="2"/>
            </p:cNvCxnSpPr>
            <p:nvPr/>
          </p:nvCxnSpPr>
          <p:spPr>
            <a:xfrm flipV="1" rot="16200000">
              <a:off x="6041160" y="819720"/>
              <a:ext cx="547920" cy="1474200"/>
            </a:xfrm>
            <a:prstGeom prst="bentConnector3">
              <a:avLst>
                <a:gd name="adj1" fmla="val 209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2053"/>
            <p:cNvCxnSpPr>
              <a:stCxn id="115" idx="0"/>
              <a:endCxn id="113" idx="2"/>
            </p:cNvCxnSpPr>
            <p:nvPr/>
          </p:nvCxnSpPr>
          <p:spPr>
            <a:xfrm flipH="1" flipV="1" rot="5400000">
              <a:off x="4568040" y="820080"/>
              <a:ext cx="547920" cy="1473480"/>
            </a:xfrm>
            <a:prstGeom prst="bentConnector3">
              <a:avLst>
                <a:gd name="adj1" fmla="val 209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2054"/>
            <p:cNvSpPr/>
            <p:nvPr/>
          </p:nvSpPr>
          <p:spPr>
            <a:xfrm>
              <a:off x="4316040" y="189000"/>
              <a:ext cx="2525040" cy="10944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Передача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055"/>
            <p:cNvSpPr/>
            <p:nvPr/>
          </p:nvSpPr>
          <p:spPr>
            <a:xfrm>
              <a:off x="2843280" y="1830600"/>
              <a:ext cx="2525040" cy="10944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Приё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056"/>
            <p:cNvSpPr/>
            <p:nvPr/>
          </p:nvSpPr>
          <p:spPr>
            <a:xfrm>
              <a:off x="5789520" y="1830600"/>
              <a:ext cx="2525040" cy="10944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Передач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51"/>
          <p:cNvSpPr/>
          <p:nvPr/>
        </p:nvSpPr>
        <p:spPr>
          <a:xfrm>
            <a:off x="2411280" y="2997360"/>
            <a:ext cx="3024360" cy="34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Слуша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 Чита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3. Получать числовую информацию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4. Получать графическую информацию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5. Читать жесты и поз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6. Читать мимику лица и моторику тел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7. Различать интонацию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2"/>
          <p:cNvSpPr/>
          <p:nvPr/>
        </p:nvSpPr>
        <p:spPr>
          <a:xfrm>
            <a:off x="5508720" y="2879640"/>
            <a:ext cx="34560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Говори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 Писа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3. передавать числовую информацию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4. передавать графическую информацию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5. передавать информацию посредством жесто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6. передавать информацию мимикой и пантомимико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7. передавать информацию интонаци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Organization Chart 14"/>
          <p:cNvGrpSpPr/>
          <p:nvPr/>
        </p:nvGrpSpPr>
        <p:grpSpPr>
          <a:xfrm>
            <a:off x="2195640" y="0"/>
            <a:ext cx="6948000" cy="6168600"/>
            <a:chOff x="2195640" y="0"/>
            <a:chExt cx="6948000" cy="6168600"/>
          </a:xfrm>
        </p:grpSpPr>
        <p:cxnSp>
          <p:nvCxnSpPr>
            <p:cNvPr id="119" name="_s3076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7816320" y="1509120"/>
              <a:ext cx="528840" cy="2160"/>
            </a:xfrm>
            <a:prstGeom prst="bentConnector3">
              <a:avLst>
                <a:gd name="adj1" fmla="val 21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3077"/>
            <p:cNvCxnSpPr>
              <a:stCxn id="121" idx="1"/>
              <a:endCxn id="123" idx="2"/>
            </p:cNvCxnSpPr>
            <p:nvPr/>
          </p:nvCxnSpPr>
          <p:spPr>
            <a:xfrm rot="10800000">
              <a:off x="6474600" y="623160"/>
              <a:ext cx="833400" cy="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3078"/>
            <p:cNvCxnSpPr>
              <a:stCxn id="125" idx="2"/>
              <a:endCxn id="125" idx="2"/>
            </p:cNvCxnSpPr>
            <p:nvPr/>
          </p:nvCxnSpPr>
          <p:spPr>
            <a:xfrm flipH="1" rot="16200000">
              <a:off x="6153840" y="3017880"/>
              <a:ext cx="5400" cy="2160"/>
            </a:xfrm>
            <a:prstGeom prst="bentConnector3">
              <a:avLst>
                <a:gd name="adj1" fmla="val 198642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3079"/>
            <p:cNvCxnSpPr>
              <a:stCxn id="127" idx="2"/>
              <a:endCxn id="127" idx="2"/>
            </p:cNvCxnSpPr>
            <p:nvPr/>
          </p:nvCxnSpPr>
          <p:spPr>
            <a:xfrm flipH="1" rot="16200000">
              <a:off x="4548960" y="3017880"/>
              <a:ext cx="5400" cy="2160"/>
            </a:xfrm>
            <a:prstGeom prst="bentConnector3">
              <a:avLst>
                <a:gd name="adj1" fmla="val 208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3080"/>
            <p:cNvCxnSpPr>
              <a:stCxn id="129" idx="2"/>
              <a:endCxn id="129" idx="2"/>
            </p:cNvCxnSpPr>
            <p:nvPr/>
          </p:nvCxnSpPr>
          <p:spPr>
            <a:xfrm flipH="1" rot="16200000">
              <a:off x="2967480" y="3017880"/>
              <a:ext cx="5400" cy="2160"/>
            </a:xfrm>
            <a:prstGeom prst="bentConnector3">
              <a:avLst>
                <a:gd name="adj1" fmla="val 214285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3081"/>
            <p:cNvCxnSpPr>
              <a:stCxn id="125" idx="0"/>
              <a:endCxn id="131" idx="2"/>
            </p:cNvCxnSpPr>
            <p:nvPr/>
          </p:nvCxnSpPr>
          <p:spPr>
            <a:xfrm flipV="1" rot="16200000">
              <a:off x="4511880" y="130320"/>
              <a:ext cx="533520" cy="2754720"/>
            </a:xfrm>
            <a:prstGeom prst="bentConnector3">
              <a:avLst>
                <a:gd name="adj1" fmla="val 214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3082"/>
            <p:cNvCxnSpPr>
              <a:stCxn id="127" idx="0"/>
              <a:endCxn id="131" idx="2"/>
            </p:cNvCxnSpPr>
            <p:nvPr/>
          </p:nvCxnSpPr>
          <p:spPr>
            <a:xfrm flipV="1" rot="16200000">
              <a:off x="3709440" y="932760"/>
              <a:ext cx="533520" cy="1149840"/>
            </a:xfrm>
            <a:prstGeom prst="bentConnector3">
              <a:avLst>
                <a:gd name="adj1" fmla="val 214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3083"/>
            <p:cNvCxnSpPr>
              <a:stCxn id="129" idx="0"/>
              <a:endCxn id="131" idx="2"/>
            </p:cNvCxnSpPr>
            <p:nvPr/>
          </p:nvCxnSpPr>
          <p:spPr>
            <a:xfrm flipH="1" flipV="1" rot="5400000">
              <a:off x="2918520" y="1291320"/>
              <a:ext cx="533520" cy="433080"/>
            </a:xfrm>
            <a:prstGeom prst="bentConnector3">
              <a:avLst>
                <a:gd name="adj1" fmla="val 214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3084"/>
            <p:cNvCxnSpPr>
              <a:stCxn id="131" idx="0"/>
              <a:endCxn id="123" idx="2"/>
            </p:cNvCxnSpPr>
            <p:nvPr/>
          </p:nvCxnSpPr>
          <p:spPr>
            <a:xfrm>
              <a:off x="4175280" y="623160"/>
              <a:ext cx="756360" cy="3960"/>
            </a:xfrm>
            <a:prstGeom prst="bentConnector3">
              <a:avLst>
                <a:gd name="adj1" fmla="val 1504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_s3085"/>
            <p:cNvSpPr/>
            <p:nvPr/>
          </p:nvSpPr>
          <p:spPr>
            <a:xfrm>
              <a:off x="4931280" y="0"/>
              <a:ext cx="1544040" cy="124668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бработ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3086"/>
            <p:cNvSpPr/>
            <p:nvPr/>
          </p:nvSpPr>
          <p:spPr>
            <a:xfrm>
              <a:off x="2628000" y="0"/>
              <a:ext cx="1547640" cy="12416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ис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3087"/>
            <p:cNvSpPr/>
            <p:nvPr/>
          </p:nvSpPr>
          <p:spPr>
            <a:xfrm>
              <a:off x="2195640" y="1774800"/>
              <a:ext cx="1544040" cy="12416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 традиционны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сточника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3088"/>
            <p:cNvSpPr/>
            <p:nvPr/>
          </p:nvSpPr>
          <p:spPr>
            <a:xfrm>
              <a:off x="3780360" y="1774800"/>
              <a:ext cx="1540080" cy="12416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 компьютер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сточника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3089"/>
            <p:cNvSpPr/>
            <p:nvPr/>
          </p:nvSpPr>
          <p:spPr>
            <a:xfrm>
              <a:off x="5364000" y="1774800"/>
              <a:ext cx="1584720" cy="12416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 други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сточника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3090"/>
            <p:cNvSpPr/>
            <p:nvPr/>
          </p:nvSpPr>
          <p:spPr>
            <a:xfrm>
              <a:off x="2195640" y="3934440"/>
              <a:ext cx="1584720" cy="2234160"/>
            </a:xfrm>
            <a:custGeom>
              <a:avLst/>
              <a:gdLst>
                <a:gd name="textAreaLeft" fmla="*/ 77040 w 1584720"/>
                <a:gd name="textAreaRight" fmla="*/ 1507680 w 1584720"/>
                <a:gd name="textAreaTop" fmla="*/ 77040 h 2234160"/>
                <a:gd name="textAreaBottom" fmla="*/ 2157120 h 2234160"/>
              </a:gdLst>
              <a:ahLst/>
              <a:rect l="textAreaLeft" t="textAreaTop" r="textAreaRight" b="textAreaBottom"/>
              <a:pathLst>
                <a:path w="21600" h="30450">
                  <a:moveTo>
                    <a:pt x="3600" y="0"/>
                  </a:moveTo>
                  <a:arcTo wR="3600" hR="3600" stAng="16200000" swAng="-5400000"/>
                  <a:lnTo>
                    <a:pt x="0" y="26850"/>
                  </a:lnTo>
                  <a:arcTo wR="3600" hR="3600" stAng="10800000" swAng="-5400000"/>
                  <a:lnTo>
                    <a:pt x="18000" y="304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алфавитно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талог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предметно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талог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каталог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торичны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сточни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словаря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энциклопедия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3091"/>
            <p:cNvSpPr/>
            <p:nvPr/>
          </p:nvSpPr>
          <p:spPr>
            <a:xfrm>
              <a:off x="3780360" y="3934440"/>
              <a:ext cx="1583280" cy="2229480"/>
            </a:xfrm>
            <a:custGeom>
              <a:avLst/>
              <a:gdLst>
                <a:gd name="textAreaLeft" fmla="*/ 77040 w 1583280"/>
                <a:gd name="textAreaRight" fmla="*/ 1506240 w 1583280"/>
                <a:gd name="textAreaTop" fmla="*/ 77040 h 2229480"/>
                <a:gd name="textAreaBottom" fmla="*/ 2152440 h 2229480"/>
              </a:gdLst>
              <a:ahLst/>
              <a:rect l="textAreaLeft" t="textAreaTop" r="textAreaRight" b="textAreaBottom"/>
              <a:pathLst>
                <a:path w="21600" h="30414">
                  <a:moveTo>
                    <a:pt x="3600" y="0"/>
                  </a:moveTo>
                  <a:arcTo wR="3600" hR="3600" stAng="16200000" swAng="-5400000"/>
                  <a:lnTo>
                    <a:pt x="0" y="26814"/>
                  </a:lnTo>
                  <a:arcTo wR="3600" hR="3600" stAng="10800000" swAng="-5400000"/>
                  <a:lnTo>
                    <a:pt x="18000" y="304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сети Интерн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электронны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ниг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 помощью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исковы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грам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базе дан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3092"/>
            <p:cNvSpPr/>
            <p:nvPr/>
          </p:nvSpPr>
          <p:spPr>
            <a:xfrm>
              <a:off x="5364000" y="3934440"/>
              <a:ext cx="1654560" cy="2225520"/>
            </a:xfrm>
            <a:custGeom>
              <a:avLst/>
              <a:gdLst>
                <a:gd name="textAreaLeft" fmla="*/ 80640 w 1654560"/>
                <a:gd name="textAreaRight" fmla="*/ 1573920 w 1654560"/>
                <a:gd name="textAreaTop" fmla="*/ 80640 h 2225520"/>
                <a:gd name="textAreaBottom" fmla="*/ 2144880 h 2225520"/>
              </a:gdLst>
              <a:ahLst/>
              <a:rect l="textAreaLeft" t="textAreaTop" r="textAreaRight" b="textAreaBottom"/>
              <a:pathLst>
                <a:path w="21600" h="29052">
                  <a:moveTo>
                    <a:pt x="3600" y="0"/>
                  </a:moveTo>
                  <a:arcTo wR="3600" hR="3600" stAng="16200000" swAng="-5400000"/>
                  <a:lnTo>
                    <a:pt x="0" y="25452"/>
                  </a:lnTo>
                  <a:arcTo wR="3600" hR="3600" stAng="10800000" swAng="-5400000"/>
                  <a:lnTo>
                    <a:pt x="18000" y="290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социум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радиовещании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левещан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аудио-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идеоисточник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3093"/>
            <p:cNvSpPr/>
            <p:nvPr/>
          </p:nvSpPr>
          <p:spPr>
            <a:xfrm>
              <a:off x="7308360" y="0"/>
              <a:ext cx="1544040" cy="124668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ереработ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3094"/>
            <p:cNvSpPr/>
            <p:nvPr/>
          </p:nvSpPr>
          <p:spPr>
            <a:xfrm>
              <a:off x="7018560" y="1774800"/>
              <a:ext cx="2125080" cy="3670560"/>
            </a:xfrm>
            <a:custGeom>
              <a:avLst/>
              <a:gdLst>
                <a:gd name="textAreaLeft" fmla="*/ 103680 w 2125080"/>
                <a:gd name="textAreaRight" fmla="*/ 2021400 w 2125080"/>
                <a:gd name="textAreaTop" fmla="*/ 103680 h 3670560"/>
                <a:gd name="textAreaBottom" fmla="*/ 3566880 h 3670560"/>
              </a:gdLst>
              <a:ahLst/>
              <a:rect l="textAreaLeft" t="textAreaTop" r="textAreaRight" b="textAreaBottom"/>
              <a:pathLst>
                <a:path w="21600" h="37306">
                  <a:moveTo>
                    <a:pt x="3600" y="0"/>
                  </a:moveTo>
                  <a:arcTo wR="3600" hR="3600" stAng="16200000" swAng="-5400000"/>
                  <a:lnTo>
                    <a:pt x="0" y="33706"/>
                  </a:lnTo>
                  <a:arcTo wR="3600" hR="3600" stAng="10800000" swAng="-5400000"/>
                  <a:lnTo>
                    <a:pt x="18000" y="373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 основе анали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 основе синте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 основе сравн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 основе лексическ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вёрты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 основ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лассифик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 основ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истематиз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2"/>
          <p:cNvSpPr/>
          <p:nvPr/>
        </p:nvSpPr>
        <p:spPr>
          <a:xfrm>
            <a:off x="5832360" y="234936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Organization Chart 5"/>
          <p:cNvGrpSpPr/>
          <p:nvPr/>
        </p:nvGrpSpPr>
        <p:grpSpPr>
          <a:xfrm>
            <a:off x="2484360" y="404640"/>
            <a:ext cx="6336720" cy="5902920"/>
            <a:chOff x="2484360" y="404640"/>
            <a:chExt cx="6336720" cy="5902920"/>
          </a:xfrm>
        </p:grpSpPr>
        <p:cxnSp>
          <p:nvCxnSpPr>
            <p:cNvPr id="140" name="_s4100"/>
            <p:cNvCxnSpPr>
              <a:stCxn id="141" idx="0"/>
              <a:endCxn id="142" idx="2"/>
            </p:cNvCxnSpPr>
            <p:nvPr/>
          </p:nvCxnSpPr>
          <p:spPr>
            <a:xfrm flipV="1">
              <a:off x="3946680" y="4091760"/>
              <a:ext cx="3600" cy="743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4101"/>
            <p:cNvCxnSpPr>
              <a:stCxn id="144" idx="0"/>
              <a:endCxn id="145" idx="2"/>
            </p:cNvCxnSpPr>
            <p:nvPr/>
          </p:nvCxnSpPr>
          <p:spPr>
            <a:xfrm flipV="1" rot="16200000">
              <a:off x="6134760" y="1394280"/>
              <a:ext cx="741600" cy="1707120"/>
            </a:xfrm>
            <a:prstGeom prst="bentConnector3">
              <a:avLst>
                <a:gd name="adj1" fmla="val 153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4102"/>
            <p:cNvCxnSpPr>
              <a:stCxn id="142" idx="0"/>
              <a:endCxn id="145" idx="2"/>
            </p:cNvCxnSpPr>
            <p:nvPr/>
          </p:nvCxnSpPr>
          <p:spPr>
            <a:xfrm flipH="1" flipV="1" rot="5400000">
              <a:off x="4428720" y="1395000"/>
              <a:ext cx="741600" cy="1706400"/>
            </a:xfrm>
            <a:prstGeom prst="bentConnector3">
              <a:avLst>
                <a:gd name="adj1" fmla="val 153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5" name="_s4103"/>
            <p:cNvSpPr/>
            <p:nvPr/>
          </p:nvSpPr>
          <p:spPr>
            <a:xfrm>
              <a:off x="4190040" y="404640"/>
              <a:ext cx="2924640" cy="147312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Хранение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4104"/>
            <p:cNvSpPr/>
            <p:nvPr/>
          </p:nvSpPr>
          <p:spPr>
            <a:xfrm>
              <a:off x="2484360" y="2619000"/>
              <a:ext cx="2924640" cy="147312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радиционные носите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4105"/>
            <p:cNvSpPr/>
            <p:nvPr/>
          </p:nvSpPr>
          <p:spPr>
            <a:xfrm>
              <a:off x="5896440" y="2619000"/>
              <a:ext cx="2924640" cy="147312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мпьютерные носите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4106"/>
            <p:cNvSpPr/>
            <p:nvPr/>
          </p:nvSpPr>
          <p:spPr>
            <a:xfrm>
              <a:off x="2484360" y="4834440"/>
              <a:ext cx="2924640" cy="147312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а бумаг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 памя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а видео-, аудиокассета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отограф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http://ifets.ieee.org/russian/depository/v10_i2/html/4_Tischenko.files/image002.jpg"/>
          <p:cNvPicPr/>
          <p:nvPr/>
        </p:nvPicPr>
        <p:blipFill>
          <a:blip r:embed="rId1"/>
          <a:stretch/>
        </p:blipFill>
        <p:spPr>
          <a:xfrm>
            <a:off x="2124000" y="0"/>
            <a:ext cx="7020000" cy="4738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2340000" y="537372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сихолого-педагогические условия формирования коммуникативных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Функции общ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циальные функции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Организация совмест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Управление поведением и деятель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)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08360" y="1600200"/>
            <a:ext cx="3330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ие функции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Функция обеспечения психологического комфорта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Удовлетворение потребности в общ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) Функция самоутвер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0920" y="228600"/>
            <a:ext cx="6427800" cy="26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c0039"/>
                </a:solidFill>
                <a:latin typeface="Arial"/>
              </a:rPr>
              <a:t>Анализируя  работу с учащимся, можно прийти к выводу, что мотивы, побуждающие ребенка вступать в общение с взрослыми, связаны с тремя его главными потребностями:  на мой  взгляд это может быть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3141720"/>
            <a:ext cx="640080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ность во впечатлени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ность в активной деятель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ность в признании и поддерж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Таблица 2. Вычисление индекса уверенности учащихся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484360" y="1628640"/>
          <a:ext cx="6515280" cy="4824720"/>
        </p:xfrm>
        <a:graphic>
          <a:graphicData uri="http://schemas.openxmlformats.org/drawingml/2006/table">
            <a:tbl>
              <a:tblPr/>
              <a:tblGrid>
                <a:gridCol w="1936800"/>
                <a:gridCol w="757440"/>
                <a:gridCol w="866520"/>
                <a:gridCol w="865440"/>
                <a:gridCol w="679320"/>
                <a:gridCol w="1409760"/>
              </a:tblGrid>
              <a:tr h="362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ое ум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ее умею, чем не уме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ее не умею, чем уме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ме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удняюсь ответ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ть внимательно, не переби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 внятно, быстро, осмыслен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 графики, схемы, черте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ть смысл жестов, п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о воспринимать мим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84360" y="228240"/>
            <a:ext cx="6354720" cy="428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Кроме того, для каждого учащегося на основе его самооценки вычислим </a:t>
            </a:r>
            <a:r>
              <a:rPr b="0" i="1" lang="ru-RU" sz="2800" spc="-1" strike="noStrike">
                <a:solidFill>
                  <a:srgbClr val="8c0039"/>
                </a:solidFill>
                <a:latin typeface="Arial"/>
              </a:rPr>
              <a:t>Индекс уверенности в степени овладения коммуникативными умениями, </a:t>
            </a: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который вычисляется для контрольной и экспериментальной групп в начале эксперимента и в конце эксперимента по формуле: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57" name="Picture 4" descr="image013"/>
          <p:cNvPicPr/>
          <p:nvPr/>
        </p:nvPicPr>
        <p:blipFill>
          <a:blip r:embed="rId1"/>
          <a:stretch/>
        </p:blipFill>
        <p:spPr>
          <a:xfrm>
            <a:off x="2556000" y="4724280"/>
            <a:ext cx="623880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437920" y="1599840"/>
            <a:ext cx="6705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бщее количество ответ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количество ответов «умею» (соответственно +1 балл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количество ответов «скорее умею, чем не умею» (+0,5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количество ответов «скорее не умею, чем умею» (-0,5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n4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количество ответов «не умею» (-1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n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количество ответов «затрудняюсь ответить» (0 баллов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им образом, максимально возможное значение индекса, которое может получить испытуемый – +1, а минимальное равно -1 (табл. 2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(1·12+0,5·9-0,5·3-1·3):33=(12+4,5-1,5-3):33=0,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image013"/>
          <p:cNvPicPr/>
          <p:nvPr/>
        </p:nvPicPr>
        <p:blipFill>
          <a:blip r:embed="rId1"/>
          <a:stretch/>
        </p:blipFill>
        <p:spPr>
          <a:xfrm>
            <a:off x="2627280" y="333360"/>
            <a:ext cx="623880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84360" y="0"/>
            <a:ext cx="63547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Выделим три уровня сформированности коммуникативных умений старшеклассников: репродуктивный (низкий), продуктивный (средний), творческий (высокий)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11280" y="1989000"/>
            <a:ext cx="64008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Репродуктивны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низкий) уровень. Учащиеся, находящиеся на данном уровне не понимают ценность информации, коммуникативных умений и навыков. Отличаются плохим развитием информационных потребностей, отсутствием интереса к коммуникативной деятельности и безразличием к информации. Коммуникативные способности слабые. У учащихся не наблюдается сформированность «образа Я» как субъекта коммуникативной деятельности, учащиеся не могут самостоятельно организовывать собственную деятельность и пытаются подражать коммуникативной деятельности друг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80360" cy="597528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секция  3 «Защитно-охранная функция»</a:t>
            </a:r>
            <a:br>
              <a:rPr sz="4000"/>
            </a:b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"Формирование коммуникативной компетентности учащегося, как субъекта социальной жизни"</a:t>
            </a: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.</a:t>
            </a:r>
            <a:br>
              <a:rPr sz="4800"/>
            </a:b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1.03.2012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438280" y="692280"/>
            <a:ext cx="6400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одуктивны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средний) уровень. На данном уровне для учащихся типичным является понимание ценности информации и коммуникативных умений, наличие информационной потребности, интереса к информации и коммуникативной деятельности. Коммуникативные способности сформированы, но учащийся не ощущает необходимости их дальнейшего развития. Учащиеся способны самостоятельно спланировать и осуществить коммуникативную деятельность. У них сформирован «образ Я» как субъекта коммуникативной деятельности, но отсутствует потребность в дальнейшем развит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438280" y="189000"/>
            <a:ext cx="6400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Творческ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высокий) уровень. Учащийся обладает пониманием личностной ценности информации и коммуникативной деятельности, как способа получения такой информации, есть высокий интерес. Учащийся чувствует необходимость в дальнейшем развитии своих коммуникативных способностей. Уровень сформированности коммуникативных умений высокий, т.е. обучаемый выполняет все операции, последовательность их рациональна, все действия в целом вполне осознаны. Учащийся самостоятельно организует и выполняет коммуникативную деятельность. У него не только сформирован «образ Я» как субъекта коммуникативной деятельности, но, анализируя существующий «образ Я», он ощущает потребность в дальнейшем развитии себя и своей деятельности. Другими словами, учащийся конструирует свою жизнедеятельность на основе «образа Я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0920" y="228240"/>
            <a:ext cx="642780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c0039"/>
                </a:solidFill>
                <a:uFillTx/>
                <a:latin typeface="Arial"/>
              </a:rPr>
              <a:t>Структура коммуникативной компетентности включает 6 этапов коммуникации, которые характеризуются следующими показателями: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11280" y="2349000"/>
            <a:ext cx="6400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. Самоопределение в коммуникативной ситу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 Анализ намерений партнеров и способов коммун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 Реализации коммуник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 Выстраивание стратегии коммуник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. Корректировка процесса коммуник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6. Оценка успешности достижения желаемых результат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393372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ВОСПИТАНИЕ: ТРАДИЦИИ И ИННОВАЦИИ</a:t>
            </a:r>
            <a:br>
              <a:rPr sz="3600"/>
            </a:br>
            <a:br>
              <a:rPr sz="3600"/>
            </a:br>
            <a:r>
              <a:rPr b="1" lang="ru-RU" sz="3200" spc="-1" strike="noStrike" u="sng">
                <a:solidFill>
                  <a:srgbClr val="0033cc"/>
                </a:solidFill>
                <a:uFillTx/>
                <a:latin typeface="Arial"/>
              </a:rPr>
              <a:t>«Формирование коммуникативных умений и навыков у школьников. Развитие сплоченности школьного коллектива»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401840" y="5445000"/>
            <a:ext cx="77421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«Обычно легче изменить индивидуумов, собранных в групп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чем изменить каждого из них в отде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920000" cy="597708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уковякин Александр Юрьевич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циальный педагог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сударственного  бюджетного общеобразовательного  учреждения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имназии № 498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вского район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нкт – Петербург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ссия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228240"/>
            <a:ext cx="6570720" cy="622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Формирование </a:t>
            </a: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коммуникативных способностей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учащихся является одной из приоритетных задач школы, так как результативность процесса общения в большей степени зависит от уровня коммуникативных способностей субъектов общения 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24000" y="0"/>
            <a:ext cx="7020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8c0039"/>
                </a:solidFill>
                <a:latin typeface="Arial"/>
              </a:rPr>
              <a:t>Под </a:t>
            </a:r>
            <a:r>
              <a:rPr b="1" lang="ru-RU" sz="2200" spc="-1" strike="noStrike">
                <a:solidFill>
                  <a:srgbClr val="8c0039"/>
                </a:solidFill>
                <a:latin typeface="Arial"/>
              </a:rPr>
              <a:t>коммуникативными способностями  школьников</a:t>
            </a:r>
            <a:r>
              <a:rPr b="0" lang="ru-RU" sz="2200" spc="-1" strike="noStrike">
                <a:solidFill>
                  <a:srgbClr val="8c0039"/>
                </a:solidFill>
                <a:latin typeface="Arial"/>
              </a:rPr>
              <a:t> как средства их социальной адаптации мы понимаем </a:t>
            </a:r>
            <a:r>
              <a:rPr b="1" lang="ru-RU" sz="2200" spc="-1" strike="noStrike">
                <a:solidFill>
                  <a:srgbClr val="8c0039"/>
                </a:solidFill>
                <a:latin typeface="Arial"/>
              </a:rPr>
              <a:t>комплекс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484360" y="1484280"/>
            <a:ext cx="63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о-психологических качеств л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школьника социальной направленности (контактность, эмпатичность, доброжелательност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484360" y="2637000"/>
            <a:ext cx="56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знаний, умений и навы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циально- коммуникативной деятельности (знание законов бесконфликтного общения с окружающи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446200" y="378936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выки культуры пове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умение быстро ориентироваться в знакомой и незнакомой ситуации и др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84360" y="46530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лание и потребность вступать в социально-коммуникативную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448000" y="537372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ние анализиров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адекватно оценивать социально-коммуникативные ситуации и отслеживать своё состояние в деловых и личностных контактах с окружающи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 основу понимания </a:t>
            </a:r>
            <a:r>
              <a:rPr b="0" i="1" lang="ru-RU" sz="3200" spc="-1" strike="noStrike">
                <a:solidFill>
                  <a:srgbClr val="8c0039"/>
                </a:solidFill>
                <a:latin typeface="Arial"/>
              </a:rPr>
              <a:t>коммуникации 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положено две модели: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убъект- объект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оизвольное коммуникативное действие осуществляется только одним участником коммун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убъект-субъектная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льное коммуникативное действие осуществляется со стороны каждого участника коммуник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411280" y="260280"/>
            <a:ext cx="6553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разными моделями коммуникации лежат разные ценности, в первом случае ценностью является передаваемая информация, а во втором возможность понимания и осуществление совместного действия. В современном обществе особое значение приобретает субъект – субъектная модель коммуникации, а именно: уметь слышать друг друга, владеть способами общения, уметь представлять себя и результаты своей творческ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Таблица</a:t>
            </a: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 1.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  Классификация коммуникативных умений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02" name="Organization Chart 8"/>
          <p:cNvGrpSpPr/>
          <p:nvPr/>
        </p:nvGrpSpPr>
        <p:grpSpPr>
          <a:xfrm>
            <a:off x="2195640" y="1798560"/>
            <a:ext cx="6948000" cy="4581720"/>
            <a:chOff x="2195640" y="1798560"/>
            <a:chExt cx="6948000" cy="4581720"/>
          </a:xfrm>
        </p:grpSpPr>
        <p:cxnSp>
          <p:nvCxnSpPr>
            <p:cNvPr id="103" name="_s1028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6464880" y="2872080"/>
              <a:ext cx="840600" cy="2432520"/>
            </a:xfrm>
            <a:prstGeom prst="bentConnector3">
              <a:avLst>
                <a:gd name="adj1" fmla="val 139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29"/>
            <p:cNvCxnSpPr>
              <a:stCxn id="107" idx="0"/>
              <a:endCxn id="105" idx="2"/>
            </p:cNvCxnSpPr>
            <p:nvPr/>
          </p:nvCxnSpPr>
          <p:spPr>
            <a:xfrm flipV="1">
              <a:off x="5669640" y="3668040"/>
              <a:ext cx="2880" cy="840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0"/>
            <p:cNvCxnSpPr>
              <a:stCxn id="109" idx="0"/>
              <a:endCxn id="105" idx="2"/>
            </p:cNvCxnSpPr>
            <p:nvPr/>
          </p:nvCxnSpPr>
          <p:spPr>
            <a:xfrm flipH="1" flipV="1" rot="5400000">
              <a:off x="4033440" y="2872080"/>
              <a:ext cx="840600" cy="2432520"/>
            </a:xfrm>
            <a:prstGeom prst="bentConnector3">
              <a:avLst>
                <a:gd name="adj1" fmla="val 139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031"/>
            <p:cNvSpPr/>
            <p:nvPr/>
          </p:nvSpPr>
          <p:spPr>
            <a:xfrm>
              <a:off x="4627440" y="1798560"/>
              <a:ext cx="2084400" cy="1832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58b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ммуникатив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умения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2"/>
            <p:cNvSpPr/>
            <p:nvPr/>
          </p:nvSpPr>
          <p:spPr>
            <a:xfrm>
              <a:off x="2195640" y="4547520"/>
              <a:ext cx="2084400" cy="1832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ередач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4627440" y="4547520"/>
              <a:ext cx="2084400" cy="1832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бработк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4"/>
            <p:cNvSpPr/>
            <p:nvPr/>
          </p:nvSpPr>
          <p:spPr>
            <a:xfrm>
              <a:off x="7059240" y="4547520"/>
              <a:ext cx="2084400" cy="1832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Хран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07:27:32Z</dcterms:created>
  <dc:creator>Куковякин </dc:creator>
  <dc:description/>
  <dc:language>en-US</dc:language>
  <cp:lastModifiedBy>498-1</cp:lastModifiedBy>
  <dcterms:modified xsi:type="dcterms:W3CDTF">2012-02-29T08:51:26Z</dcterms:modified>
  <cp:revision>6</cp:revision>
  <dc:subject/>
  <dc:title>Городская  научно-практическая конференция  «Приоритеты социально-педагогической деятельности ОУ в соответствии с требованиями ФГОС» 29.02.2012 – 1.03.2012</dc:title>
</cp:coreProperties>
</file>