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E732-21D1-4F14-850F-2F027CD70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CB3A-278F-4D91-9DE6-88592C9C6D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1C7-6540-4D04-AFFD-59511274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5DB-E587-431C-8C46-9B0C1FEE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457-1B5D-483B-9B50-186A32F0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D36-A04C-42CC-A31C-B73A42CC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72D9-25CE-4E74-B304-643944EA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8454-E24F-4A1C-842C-ACDD75F6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9AFD-F80A-4734-AFAD-B57E891B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05AD-5C02-49A2-A311-B727A685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A174-AE20-4472-8AE6-7804D486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E4B2-E04A-4CA5-8810-D40EF1A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15FD-3511-4D2D-8AA7-54E56F83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38D-1315-4E35-ABA4-9B5F0ACC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02B0-3D86-4D69-BD06-807EE65C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740A-D429-4182-A862-3A7EA46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16FB-6A53-454C-9481-A1EA992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1F58-9F5B-43CF-AC4B-FB1B2727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E3EE-ABCA-4089-85D6-602C27AA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CEC-261C-4EAD-AE9D-AC6E682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F25-D999-4F78-B1E6-E4DE3ACB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5AD-5882-4144-AB5F-DB8E38EC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15C-B6AF-40E4-8463-80B82F3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8EC-DD1B-4931-A036-B6BBC3DD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DEB-4CE6-4D97-B3B6-F827926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AFF-CD2A-4F47-94AB-EF4DD397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B05-2577-4AC4-AE78-DBD2A9D81196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FFB7-FA20-483F-9CB3-A42A1FA174E8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00200" y="8377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5f210"/>
                </a:solidFill>
                <a:latin typeface="Times New Roman"/>
              </a:rPr>
              <a:t>Исследовательский  проект: «Хочу всё знать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447920" y="3034440"/>
            <a:ext cx="60958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Чайкина  Ил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00"/>
                </a:solidFill>
                <a:latin typeface="Arial"/>
              </a:rPr>
              <a:t>п. Мещерино Ступинского района Московской области Мещеринской  средней      общеобразовательной школы №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6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ема:«ПОЧЕМУ РАК ПЯТИТСЯ НАЗАД, ИЛИ ПОЧЕМУ ВСЕ ДУМАЮТ, ЧТО РАК ХОДИТ ЗАДОМ НАПЕРЕД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 А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cc"/>
                </a:solidFill>
                <a:uFillTx/>
                <a:latin typeface="Arial"/>
              </a:rPr>
              <a:t>2012г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7160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396720" y="152280"/>
            <a:ext cx="87109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615960" y="43344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2 вопрос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оложить раков в воду, будут ли они передвигаться вперед голово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держание эксперимента: Взял таз, налил в него воды и опустил туда ра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109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93492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2"/>
          <p:cNvSpPr/>
          <p:nvPr/>
        </p:nvSpPr>
        <p:spPr>
          <a:xfrm>
            <a:off x="533520" y="7621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533520" y="533520"/>
            <a:ext cx="8076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и наблюдения: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ки уверенно поплыли навстречу друг к дру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ahoma"/>
              </a:rPr>
              <a:t>раки умеют передвигаться в воде вперед голо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898704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11430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91440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Мои наблюдения: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ки поплыли вперед головами к добыче, как только поняли, что это корм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Вывод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: почуяв добычу в воде, раки плывут к ней вперед голово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66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371600" y="2437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Лебедь рвется в облак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ак пятится назад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а щука тянет в вод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(И. А. Крыл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536400" y="42840"/>
            <a:ext cx="8229600" cy="1504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Содержание эксперимента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15f210"/>
                </a:solidFill>
                <a:latin typeface="Times New Roman"/>
              </a:rPr>
              <a:t>в воду, где находятся раки,  бросил кусочки мяс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191120" y="2144880"/>
            <a:ext cx="94284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9129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80880" y="457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и наблюдения: </a:t>
            </a:r>
            <a:r>
              <a:rPr b="0" lang="ru-RU" sz="2800" spc="-1" strike="noStrike">
                <a:solidFill>
                  <a:srgbClr val="00b0f0"/>
                </a:solidFill>
                <a:latin typeface="Tahoma"/>
              </a:rPr>
              <a:t>раки, почуяв опасность, начали ползти наза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ВОД: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ПРИРОДЕ РЕЧНОЙ РАК И ПЛАВАЕТ И ХОДИТ ГОЛОВОЙ ВПЕРЕД. А ПЯТИТСЯ, ТОЛЬКО ПОЧУЯВ ОПАС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Есть такая легенд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В те давние времена, которые сейчас уже никто и не помнит, жили два лучших друга – рак и краб. И служили они водному царю, который так любил свои владения, что каждый день выходил на прогулку. И вот как-то раз взял он с собой рака и краба. Долго они ходили, видели и жемчуга, и леса коралловые, и красивых медуз. Но вдруг в одном из закоулков царства напала на владыку хитрая Злая акула. Рак, недолго думая, попятился назад, своя ведь шкурка целей. А краб боком залез в ближайшие водоросли. Царь, не мешкая, убил акулу и созвал совет. Долго они судили друзей. И царь придумал для них наказание. Краб до сих пор ходит боком, а рак пятится назад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 реке рак и плавает, и ходит головой вперед. А пятится, когда чего-нибудь испугается. Отступает с опаской. Вековая легенда о заднем ходе рака родилась, очевидно, на кухне. Когда пойманных раков высыпают из корзины на стол, они, разумеется, этим неожиданным своим переселением напуганы. Вот и пятя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304920" y="533520"/>
            <a:ext cx="8458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Спасибо Все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анализировать и собрать информацию о речных ра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Выполнить опыты в домашних условия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Объект исследования – речной ра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Методы работы – наблюдение, анализ литературы, опы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Гипотеза: я предполагаю, что раки ходят и плавают, как и все - вперед головой</a:t>
            </a:r>
            <a:r>
              <a:rPr b="0" lang="ru-RU" sz="20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6"/>
          <p:cNvSpPr/>
          <p:nvPr/>
        </p:nvSpPr>
        <p:spPr>
          <a:xfrm>
            <a:off x="2111400" y="1523880"/>
            <a:ext cx="5661000" cy="4117320"/>
          </a:xfrm>
          <a:prstGeom prst="rect">
            <a:avLst/>
          </a:prstGeom>
          <a:noFill/>
          <a:ln w="9360">
            <a:solidFill>
              <a:srgbClr val="8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Рак пятится назад»- странно, почему вообще об этом часто говорят и пишут. Конечно, рак пятится. Но ведь почти всякое животное может так сделать.  Как возникло поверье, будто рак всегда ходит задом наперед, непонятно. Если так, то почему у него не сзади, а спереди глаза, уши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увствительные усики? Да и рот тоже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135080" y="1609920"/>
            <a:ext cx="7010280" cy="2226960"/>
          </a:xfrm>
          <a:prstGeom prst="rect">
            <a:avLst/>
          </a:prstGeom>
          <a:gradFill rotWithShape="0">
            <a:gsLst>
              <a:gs pos="0">
                <a:srgbClr val="ffffcc">
                  <a:alpha val="22352"/>
                </a:srgbClr>
              </a:gs>
              <a:gs pos="100000">
                <a:srgbClr val="ffcc99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Я решил узнать: действительно ли рак ходит задом наперёд? Почему он пятится назад? Именно эти вопросы представляют цель моей исследовательской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68"/>
          <p:cNvSpPr/>
          <p:nvPr/>
        </p:nvSpPr>
        <p:spPr>
          <a:xfrm>
            <a:off x="5257800" y="8229600"/>
            <a:ext cx="152280" cy="2286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9800" y="-298440"/>
            <a:ext cx="8766360" cy="3138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4000680" y="179064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686480" y="3048120"/>
            <a:ext cx="327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572000" y="24382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371520" y="384120"/>
            <a:ext cx="8431200" cy="540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533520" y="121896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066680" y="380880"/>
            <a:ext cx="723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1"/>
          <p:cNvSpPr/>
          <p:nvPr/>
        </p:nvSpPr>
        <p:spPr>
          <a:xfrm>
            <a:off x="447840" y="519120"/>
            <a:ext cx="6476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ahoma"/>
              </a:rPr>
              <a:t>Итак, начнем наше исследова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ahoma"/>
              </a:rPr>
              <a:t>1 вопрос: Если положить раков  в пустой таз, будут ли они передвигаться вперед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держание эксперимента: Взял пустой таз, положил туда раков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531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er</dc:creator>
  <dc:description/>
  <dc:language>en-US</dc:language>
  <cp:lastModifiedBy>Acer</cp:lastModifiedBy>
  <dcterms:modified xsi:type="dcterms:W3CDTF">2012-05-31T21:18:40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