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B226A-B844-4F07-83FC-31D93F849C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1C5AF-27A2-47E2-935B-8832558DDCA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D6DF-3B85-43C0-8C29-2B163315E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1B82-C8BA-4D0D-BDEE-F258D1CB0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A1EF-DBED-46F0-A80A-067AFE94A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9222-39E0-49D5-8E9C-0384A47DF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EE57F-0254-4EA1-8C2E-E6ADCB093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96A10-48B7-41EA-A678-AC64A4160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BE567-95E9-4C44-84AC-9395A2939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1AFBF-355E-4664-8BA5-F66C0EF1E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1CC4C-B1DF-4D98-91CA-7EA302648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65A8E-0DA4-4C4D-9918-F7036E29A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F3AA3-893F-42F9-B459-665A8D2F2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D2AC-CFFB-4154-AD8E-EEE4914A5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7C7D3-ED0C-47A5-83B7-9E0962218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3DCF8-3E9B-43E7-88AD-8E989B77D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0D8DA-88A0-454F-97E2-60094D712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4FA31-B911-45DE-B7DA-E8726F235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9313E-950B-474F-BA09-6FF5A0A7C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DB21-CA4B-47E1-A634-699F17271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FE0F-4300-4031-80D3-BEDB5C052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A9CF-EAAA-40A2-916E-8F2E7CB5C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3150-AA20-4125-B96C-B1C90ACB4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A201-67EB-4B6E-ADB5-AE90E8FF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78E8-49B5-4970-A6F7-7042FED68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617E-3391-4547-9B15-AE90CC384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85D54-6F3E-42A3-A090-AE0911B8D72D}" type="slidenum">
              <a:rPr b="0" lang="ru-RU" sz="1200" spc="-1" strike="noStrike">
                <a:solidFill>
                  <a:srgbClr val="bcbcb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E4137-0AEF-40D7-AB44-4620AF04D74C}" type="slidenum">
              <a:rPr b="0" lang="ru-RU" sz="1200" spc="-1" strike="noStrike">
                <a:solidFill>
                  <a:srgbClr val="bcbcb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Rectangle 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1600200" y="837720"/>
            <a:ext cx="5486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5f210"/>
                </a:solidFill>
                <a:latin typeface="Times New Roman"/>
              </a:rPr>
              <a:t>Исследовательский  проект: «Хочу всё знать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1447920" y="3034440"/>
            <a:ext cx="6095880" cy="17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00"/>
                </a:solidFill>
                <a:latin typeface="Arial"/>
              </a:rPr>
              <a:t>Чайкина  Иль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00"/>
                </a:solidFill>
                <a:latin typeface="Arial"/>
              </a:rPr>
              <a:t>п. Мещерино Ступинского района Московской области Мещеринской  средней      общеобразовательной школы №1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86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Тема:«ПОЧЕМУ РАК ПЯТИТСЯ НАЗАД, ИЛИ ПОЧЕМУ ВСЕ ДУМАЮТ, ЧТО РАК ХОДИТ ЗАДОМ НАПЕРЕД?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4 А класс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Скругленный прямоугольник 6">
            <a:hlinkClick r:id="rId2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3333cc"/>
                </a:solidFill>
                <a:uFillTx/>
                <a:latin typeface="Arial"/>
              </a:rPr>
              <a:t>2012г</a:t>
            </a: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4724280" y="2286000"/>
            <a:ext cx="71604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Заголовок 1" descr=""/>
          <p:cNvPicPr/>
          <p:nvPr/>
        </p:nvPicPr>
        <p:blipFill>
          <a:blip r:embed="rId1"/>
          <a:stretch/>
        </p:blipFill>
        <p:spPr>
          <a:xfrm>
            <a:off x="396720" y="152280"/>
            <a:ext cx="8710920" cy="57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Rectangle 2" descr=""/>
          <p:cNvPicPr/>
          <p:nvPr/>
        </p:nvPicPr>
        <p:blipFill>
          <a:blip r:embed="rId1"/>
          <a:stretch/>
        </p:blipFill>
        <p:spPr>
          <a:xfrm>
            <a:off x="615960" y="433440"/>
            <a:ext cx="8242200" cy="115740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оугольник 2"/>
          <p:cNvSpPr/>
          <p:nvPr/>
        </p:nvSpPr>
        <p:spPr>
          <a:xfrm>
            <a:off x="304920" y="228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2 вопрос: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Если положить раков в воду, будут ли они передвигаться вперед головой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держание эксперимента: Взял таз, налил в него воды и опустил туда рак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4191120" y="2133720"/>
            <a:ext cx="10951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4800600" y="1981080"/>
            <a:ext cx="934920" cy="6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рямоугольник 2"/>
          <p:cNvSpPr/>
          <p:nvPr/>
        </p:nvSpPr>
        <p:spPr>
          <a:xfrm>
            <a:off x="533520" y="762120"/>
            <a:ext cx="784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Прямоугольник 1"/>
          <p:cNvSpPr/>
          <p:nvPr/>
        </p:nvSpPr>
        <p:spPr>
          <a:xfrm>
            <a:off x="533520" y="533520"/>
            <a:ext cx="80769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Мои наблюдения: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раки уверенно поплыли навстречу друг к друг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Вывод: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b0f0"/>
                </a:solidFill>
                <a:latin typeface="Tahoma"/>
              </a:rPr>
              <a:t>раки умеют передвигаться в воде вперед голово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Rectangle 2" descr=""/>
          <p:cNvPicPr/>
          <p:nvPr/>
        </p:nvPicPr>
        <p:blipFill>
          <a:blip r:embed="rId1"/>
          <a:stretch/>
        </p:blipFill>
        <p:spPr>
          <a:xfrm>
            <a:off x="133200" y="-6480"/>
            <a:ext cx="898704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1143000" cy="8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4648320" y="2133720"/>
            <a:ext cx="914400" cy="68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45720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Мои наблюдения: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раки поплыли вперед головами к добыче, как только поняли, что это корм 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Вывод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: почуяв добычу в воде, раки плывут к ней вперед головой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1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1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7668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1371600" y="2437920"/>
            <a:ext cx="6400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Georgia"/>
              </a:rPr>
              <a:t>Лебедь рвется в облака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Georgia"/>
              </a:rPr>
              <a:t>Рак пятится назад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Georgia"/>
              </a:rPr>
              <a:t>а щука тянет в воду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Georgia"/>
              </a:rPr>
              <a:t>                   </a:t>
            </a:r>
            <a:r>
              <a:rPr b="1" lang="ru-RU" sz="2000" spc="-1" strike="noStrike">
                <a:solidFill>
                  <a:srgbClr val="ffff00"/>
                </a:solidFill>
                <a:latin typeface="Georgia"/>
              </a:rPr>
              <a:t>(И. А. Крылов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Заголовок 1" descr=""/>
          <p:cNvPicPr/>
          <p:nvPr/>
        </p:nvPicPr>
        <p:blipFill>
          <a:blip r:embed="rId1"/>
          <a:stretch/>
        </p:blipFill>
        <p:spPr>
          <a:xfrm>
            <a:off x="536400" y="42840"/>
            <a:ext cx="8229600" cy="15048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Содержание эксперимента: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15f210"/>
                </a:solidFill>
                <a:latin typeface="Times New Roman"/>
              </a:rPr>
              <a:t>в воду, где находятся раки,  бросил кусочки мяса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4191120" y="2144880"/>
            <a:ext cx="942840" cy="70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4038480" y="2438280"/>
            <a:ext cx="91296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Прямоугольник 1"/>
          <p:cNvSpPr/>
          <p:nvPr/>
        </p:nvSpPr>
        <p:spPr>
          <a:xfrm>
            <a:off x="380880" y="457200"/>
            <a:ext cx="80773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Мои наблюдения: </a:t>
            </a:r>
            <a:r>
              <a:rPr b="0" lang="ru-RU" sz="2800" spc="-1" strike="noStrike">
                <a:solidFill>
                  <a:srgbClr val="00b0f0"/>
                </a:solidFill>
                <a:latin typeface="Tahoma"/>
              </a:rPr>
              <a:t>раки, почуяв опасность, начали ползти назад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ВЫВОД: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В ПРИРОДЕ РЕЧНОЙ РАК И ПЛАВАЕТ И ХОДИТ ГОЛОВОЙ ВПЕРЕД. А ПЯТИТСЯ, ТОЛЬКО ПОЧУЯВ ОПАСНОС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457200" y="1219320"/>
            <a:ext cx="78487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Есть такая легенда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«В те давние времена, которые сейчас уже никто и не помнит, жили два лучших друга – рак и краб. И служили они водному царю, который так любил свои владения, что каждый день выходил на прогулку. И вот как-то раз взял он с собой рака и краба. Долго они ходили, видели и жемчуга, и леса коралловые, и красивых медуз. Но вдруг в одном из закоулков царства напала на владыку хитрая Злая акула. Рак, недолго думая, попятился назад, своя ведь шкурка целей. А краб боком залез в ближайшие водоросли. Царь, не мешкая, убил акулу и созвал совет. Долго они судили друзей. И царь придумал для них наказание. Краб до сих пор ходит боком, а рак пятится назад»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В реке рак и плавает, и ходит головой вперед. А пятится, когда чего-нибудь испугается. Отступает с опаской. Вековая легенда о заднем ходе рака родилась, очевидно, на кухне. Когда пойманных раков высыпают из корзины на стол, они, разумеется, этим неожиданным своим переселением напуганы. Вот и пятятс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Прямоугольник 1"/>
          <p:cNvSpPr/>
          <p:nvPr/>
        </p:nvSpPr>
        <p:spPr>
          <a:xfrm>
            <a:off x="304920" y="533520"/>
            <a:ext cx="84582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00"/>
                </a:solidFill>
                <a:latin typeface="Tahoma"/>
              </a:rPr>
              <a:t>         </a:t>
            </a: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Спасибо Всем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00"/>
                </a:solidFill>
                <a:latin typeface="Tahoma"/>
              </a:rPr>
              <a:t>                             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1.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Проанализировать и собрать информацию о речных раках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2.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Выполнить опыты в домашних условиях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omic Sans MS"/>
              </a:rPr>
              <a:t>Объект исследования – речной рак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omic Sans MS"/>
              </a:rPr>
              <a:t>Методы работы – наблюдение, анализ литературы, опыты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omic Sans MS"/>
              </a:rPr>
              <a:t>Гипотеза: я предполагаю, что раки ходят и плавают, как и все - вперед головой</a:t>
            </a:r>
            <a:r>
              <a:rPr b="0" lang="ru-RU" sz="2000" spc="-1" strike="noStrike">
                <a:solidFill>
                  <a:srgbClr val="cc0066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6600"/>
                            </p:stCondLst>
                            <p:childTnLst>
                              <p:par>
                                <p:cTn id="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8520"/>
                            </p:stCondLst>
                            <p:childTnLst>
                              <p:par>
                                <p:cTn id="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Rectangle 2" descr=""/>
          <p:cNvPicPr/>
          <p:nvPr/>
        </p:nvPicPr>
        <p:blipFill>
          <a:blip r:embed="rId1"/>
          <a:stretch/>
        </p:blipFill>
        <p:spPr>
          <a:xfrm>
            <a:off x="457200" y="384120"/>
            <a:ext cx="8229600" cy="1170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6"/>
          <p:cNvSpPr/>
          <p:nvPr/>
        </p:nvSpPr>
        <p:spPr>
          <a:xfrm>
            <a:off x="2111400" y="1523880"/>
            <a:ext cx="5661000" cy="4117320"/>
          </a:xfrm>
          <a:prstGeom prst="rect">
            <a:avLst/>
          </a:prstGeom>
          <a:noFill/>
          <a:ln w="9360">
            <a:solidFill>
              <a:srgbClr val="8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«Рак пятится назад»- странно, почему вообще об этом часто говорят и пишут. Конечно, рак пятится. Но ведь почти всякое животное может так сделать.  Как возникло поверье, будто рак всегда ходит задом наперед, непонятно. Если так, то почему у него не сзади, а спереди глаза, уши 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чувствительные усики? Да и рот тоже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1135080" y="1609920"/>
            <a:ext cx="7010280" cy="2226960"/>
          </a:xfrm>
          <a:prstGeom prst="rect">
            <a:avLst/>
          </a:prstGeom>
          <a:gradFill rotWithShape="0">
            <a:gsLst>
              <a:gs pos="0">
                <a:srgbClr val="ffffcc">
                  <a:alpha val="22352"/>
                </a:srgbClr>
              </a:gs>
              <a:gs pos="100000">
                <a:srgbClr val="ffcc99">
                  <a:alpha val="2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</a:rPr>
              <a:t>Я решил узнать: действительно ли рак ходит задом наперёд? Почему он пятится назад? Именно эти вопросы представляют цель моей исследовательской работ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648320" y="2971800"/>
            <a:ext cx="40384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Rectangle 168"/>
          <p:cNvSpPr/>
          <p:nvPr/>
        </p:nvSpPr>
        <p:spPr>
          <a:xfrm>
            <a:off x="5257800" y="8229600"/>
            <a:ext cx="152280" cy="22860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Rectangle 2" descr=""/>
          <p:cNvPicPr/>
          <p:nvPr/>
        </p:nvPicPr>
        <p:blipFill>
          <a:blip r:embed="rId1"/>
          <a:stretch/>
        </p:blipFill>
        <p:spPr>
          <a:xfrm>
            <a:off x="469800" y="-298440"/>
            <a:ext cx="8766360" cy="313848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4000680" y="1790640"/>
            <a:ext cx="68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4686480" y="3048120"/>
            <a:ext cx="3276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4572000" y="2438280"/>
            <a:ext cx="396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Rectangle 2" descr=""/>
          <p:cNvPicPr/>
          <p:nvPr/>
        </p:nvPicPr>
        <p:blipFill>
          <a:blip r:embed="rId1"/>
          <a:stretch/>
        </p:blipFill>
        <p:spPr>
          <a:xfrm>
            <a:off x="371520" y="384120"/>
            <a:ext cx="8431200" cy="54072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533520" y="1218960"/>
            <a:ext cx="822960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1066680" y="380880"/>
            <a:ext cx="72392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Прямоугольник 1"/>
          <p:cNvSpPr/>
          <p:nvPr/>
        </p:nvSpPr>
        <p:spPr>
          <a:xfrm>
            <a:off x="447840" y="519120"/>
            <a:ext cx="64767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ahoma"/>
              </a:rPr>
              <a:t>Итак, начнем наше исследование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f0"/>
                </a:solidFill>
                <a:latin typeface="Tahoma"/>
              </a:rPr>
              <a:t>1 вопрос: Если положить раков  в пустой таз, будут ли они передвигаться вперед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Содержание эксперимента: Взял пустой таз, положил туда раков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4419720" y="2743200"/>
            <a:ext cx="531720" cy="4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cer</dc:creator>
  <dc:description/>
  <dc:language>en-US</dc:language>
  <cp:lastModifiedBy>Acer</cp:lastModifiedBy>
  <dcterms:modified xsi:type="dcterms:W3CDTF">2012-05-31T21:18:40Z</dcterms:modified>
  <cp:revision>8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