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26A-3293-49C6-93E8-B0D515B3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08AE-E18C-4164-B273-7B8F9BB8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D1EAB-8513-4475-824F-1B35C020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2FB25-BFD9-4C76-A8D0-3D144256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DD816-8C45-4A0F-A096-C3F4111E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AB90E-5CAE-4720-96F7-E70AFEC2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840CD-71DE-4A76-BA9D-FE2B7FE8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ADA3D-086A-44C3-9A54-F9403404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D8103-2868-41D3-B74C-E7604CCA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080A1-8F9D-43C9-95D2-2FB912AE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C652C-BD9A-49FF-B434-85AFB055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E586D-C461-41C7-8788-18ED2D9F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DE4-FF5C-4DC8-AB07-13F0756C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047CF-A71A-42CD-BAC5-7E83AE08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94106-87DD-4D48-AF60-E5CB511D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B3DD3-3CF9-426D-9A71-106D4349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7B355-6960-4DE4-B54C-4E1BCFF2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8E14B-5941-46EC-AEEF-E866B224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403D1-4A1D-4DBD-A58F-67E9CDBA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0B992-209E-46C8-B34D-3C564400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DB9A7-6B91-4560-A385-8796759F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34514-B99B-41C7-A442-A2933C22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CFA91-ABFE-40A2-80D2-336ED764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18E-1C41-4ABC-8DAB-FF56DAD8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BD11B-264F-4F05-8F1E-97507FED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0F7F7-327D-4818-BD60-4F1F2610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97EE1-86CA-4C89-980C-A9FA774A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D93FF-9F90-4399-B9F6-BC410892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3C8CC-3ADF-40B9-82D0-77EF5C03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D3122-FFE2-44E9-B3EB-956D9EA2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8DD84-A4E0-4183-B051-8FC95880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304E7-F2BD-40F2-B7AD-2E6D26D3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12E5E-398E-4CD3-B805-1C2BB6F4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E0E3A-41D3-4BF2-B8A9-D77B94DA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9CD1-812C-409D-95CF-05525970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91DA7-56A3-4DC5-B9DA-02ED12A2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B9D11-8F54-45BA-AFF9-956CE8E5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4ADA1-DEBF-4175-863D-1899D982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6448C-4CB1-434C-B98C-D5DAB368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CBFC8-880B-4231-ACDE-FE3649EA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A7D5D-FF1D-412B-A11B-5C512237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B314A-8AA8-4E18-B431-708C6446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050F3-2774-4E63-AD75-918B30B5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1A8E6-F84C-4485-B391-70EB5488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DA9CA-0BD8-40D8-B575-22B88169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3667-FB46-4FCB-A659-3373D3BC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88F19-2915-4E0D-B674-4016CF4E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66851-3583-48D0-8FD9-B3C93797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4D547-62BE-4639-B7AD-C57C113E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DD4D2-EA96-4FF0-9DBD-C0BD28C5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42138-04AC-4D07-80C9-7556F2F4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0059A-C258-4687-9A16-21A55E84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0E62DF-4D9D-40BB-BA44-1A4A5508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63FAB-BC5E-403E-86D4-9B6CA993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A43C9-9299-41FB-B7B9-6AAF136C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E84932-75AE-4D52-9AEB-15324839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C1E3-9119-4E45-81A1-99142D61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074EE-954E-43ED-88F3-54A4F01E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5F17DA-4F9F-4861-829E-E9713941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7C85A-7E71-4940-9D2B-BDDA630F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C2AF3-34C7-4766-A5EB-B5611195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F5ED3-8AAC-4C51-8B23-A0DFA2A7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6103B-DAA1-422B-B8AF-4ABC9C23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7B2E3-2EDC-4293-BDBA-04D6B490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9449F-5082-47BB-9645-09765D28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B0C0F2-0801-4909-82E6-4D63173A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D527F-D254-4513-BA05-8EE3EE08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A5A7-F076-4B5C-93A4-C34E44A1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FB01C-849E-46C2-83DA-0151E0CA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834B3D-B0D2-4CB0-AC33-EA0D2610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A1D7A-6ABE-4FD5-A059-D488F069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778E3-E55F-44C2-82F3-044A4073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A069E-141E-40D0-ADF0-9799D3C9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4EE5A7-9ECD-4A44-B05E-258CF1F8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AEC6A-41FB-4949-8B77-173C2771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8AAFCB-E09D-4687-9843-388AD5D8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00F42-D62F-4FD8-968B-7EDBB57C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DA9C3-C5E8-4B18-830F-8F0AB388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CD79-6DEC-4253-8811-39CCAC8D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7AB4C3-B6AA-4CFA-B282-1154E9A6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F81335-70F7-4F29-8CF1-B1ED2361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4DB73D-9784-4591-8E59-B300FF5D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D453F4-E792-48A5-8999-3D8B029D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E48FA8-393F-4F11-B71A-C9F0036C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B6F626-4C7B-4E5F-9288-8EDCB463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706C82-5A96-4E8E-8928-64877CEF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DA14B5-2BCF-44B4-B536-C1FB6C67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4A61B4-982A-46F3-8514-41E8CFDB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AD37C-5B4E-4B40-B5FD-E8B091F5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9222-0445-4F39-9740-49CBB0DF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6D584E-13EE-4F2E-8F41-A42FF80D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C9704-3DDB-451A-99AE-A4D1243F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5CDCF-B986-4E4D-826E-49F2C5B6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C762BC-6E78-4EFC-A7B3-9C8DFFDC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F55479-CBB0-4BEA-9561-20E0E030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25FFB0-9211-4256-93F5-7BB24259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B61A31-8823-4D35-9F36-CF40AB50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6B7BD5-6862-425B-8637-F0D0955B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02649-0247-4D4D-9B1E-DE911927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29C643-A31E-40C8-8737-B90FC0A7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EC1E-6393-4B1C-91BF-05786F46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294527-98D3-4D2C-A09D-FDD38F4F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15414-95F2-4E0B-9923-E29C29C2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CC1BFF-C8ED-459D-9879-DED10FD6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936-9AA3-40D6-BC47-20D553C9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D291-81B0-46CE-8766-C2DA4F99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190D-A3F6-4A81-9492-2D015734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0162-2D05-470E-86C6-F0C3D38F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550C-7AC0-431F-BD8B-125DB659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8670-11E9-4529-90E1-728BF321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A36FE-C165-4839-84AD-435E6433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8A2C7-DFEA-4CFA-A424-F7B36F8F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8079A-B406-4EF4-A0BA-FF3BB614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1E923-0146-4CFC-9470-1C349B31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8B4CC-A85D-49E0-B586-5A1E12F8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EA9-F94E-4981-ACCD-0DC4FC69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573EF-EE80-49EC-B7D5-42FDD82B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F57EB-9BAF-422B-AF05-483997E0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99B46-3945-4840-B5C0-DEDB1722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0DA1-485B-4A5E-B9D1-DC58619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23CB-91AF-4098-BA55-1131CDFF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F131-2C0F-4962-9A8D-A4F28703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83ED6-9C8F-4F3C-9FE8-55AA1C99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CEBEB-EB59-4DF5-B16D-F18375E7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8D926-8547-4FBF-8BAA-8FB90C23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D16EE-331A-4E8F-B223-F17E1657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3F5-FC47-46B2-8195-54D7378C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A6910-745F-4933-8CC1-E0E91210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1B2E6-CEB3-4873-A2ED-80CE7C8A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A7F97-ECDF-4750-B5CC-CCA88F1D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594A6-2513-4C01-B8BB-019C1ACB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4B0BA-8907-42DB-B2EA-4725EDB3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14A31-0986-4E6B-9294-1F344AAB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04517-7313-43B1-86F9-60F1D190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8632C-0021-4D92-B2C9-B054A364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46226-D4E0-4066-BC2A-0D25B6AE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DD7F0-8FE9-47CA-89EB-AADC55E7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4CA-B60D-4693-83B3-307109F6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D48B7-9B56-4E5C-A2B6-46FF36C4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D6256-3984-4246-90EA-9FD8E8C2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2F6B9-C10E-4CC8-AD13-6A84BAF9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20D99-55BA-4415-B89D-94BF4EE1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E65EE-5C23-4D79-BC82-F605FEAA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F488B-A65D-4F8E-9397-806F9CE8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C3F3D-F8F6-4572-A48C-EC047E38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FB82A-F853-45AD-BD0B-D3529421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1BD0C-ACE7-4BD4-B5D7-96666212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D3D59-96F9-4E57-AAC8-0C4B6A83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912-DE14-4660-AF64-878BDBBA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68C07-F6E9-4604-81A6-7B1EECFC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4ED11-4F3B-4B40-94EA-04960915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04D70-E6F0-4B9B-9D53-2296EBCC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8F2DC-2471-414F-B9AB-E5600FB1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8E3B2-6870-45AA-9E00-3E02A674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C1026-AEFF-4B5D-B763-D8BE79B6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A742F-CCB5-4879-913D-592E0EFD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914F2-CBBB-4024-8843-405660E9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CAF03-2FE2-4F28-A0A1-894AFFA5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AE863-EAAD-46C6-BFDB-496732FD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781-0B69-4CAD-9A5A-8780CB2F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070A6-BE2E-4763-A866-BC3CB610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71B15-BAD5-48D8-80D5-45F58E1F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7484D-BC99-4DAB-8BDF-40803B1C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2BA2A-4FF6-48B1-836B-FA076724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50F43-C7ED-4063-B605-31A1795A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9CF6D-8A1B-4921-870D-996336E3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D4D4D-6DB4-4C7B-BBAE-C9B05DD5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AC9EC-718F-4480-B2CF-8ACC0CE0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DEB1F-1355-4747-999F-5EBFCEB9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5A99C-B8F7-4868-BE56-D939D20B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8C9-15B2-4C35-BCE4-64E8D770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A484A-B929-4420-8005-6C2DEE51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4DE3D-7832-4211-A37F-8C4CD0C2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64C59-3CE7-48FB-95D3-28624B8C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5E330-4EB5-4BAF-A617-A9A301A9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A0F3C-E5DD-4D7B-B0FC-11FAE3C0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CE283-E877-42D1-A331-7A63A49D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8A55A-4DA7-46C5-B642-05F9CB7D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47B46-1E8E-46C5-8482-DFDB77CC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AC91D-7334-454C-B320-798225C3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07163-B878-4D55-8ED7-D86CB8BC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BA3-551F-42E2-BB10-2779F077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E5B5C-000F-46AF-9FE4-D0BA22D4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5D12E-8922-4A54-A4A9-49D28027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8151E-1AC0-4752-A9DC-7273F5D3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81D81-54D0-48F9-A3EF-C086BACE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F607E-434A-4AED-AB03-F0DB6AF0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E7E03-FA41-42A8-B90F-53A04ACD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D65C8-39E5-4B20-AD8B-75805AC3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3BAAD-9DF5-4AEF-A85F-D07040AE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54257-1564-432E-B482-B4208878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BD492-2469-432A-B554-CD6ABE50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F9C0-7D0F-47F5-8641-4E0600C3D18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2C8F-F689-456A-8357-AFC1976AFAE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50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455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5C20-75F2-4B6F-A809-A7D172E15BD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502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7D7F-81DE-4A9E-B9AC-6FA938FA98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3061-99E5-4B36-BCE8-4D9BE30AACE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64A0-11CE-4FD1-B70B-12B8042D5B0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B428-426A-48F5-8AE1-8850F6AE9B7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67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E7D4-BC25-4E16-B964-107F1D1D5BE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A863-8BD0-433F-B1FE-8442BA03B0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1A77-0FC0-4FEF-9617-BDB31ABDE5B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5683-8128-4E9E-9019-156A9E56158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9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20D0-DA28-4A0F-B9A5-2EF72FCB317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5F9B-9D85-458F-9B4E-083B9B80C8E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BE4C-646E-4FCD-8299-A8388A052CE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2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3774-C84A-4342-A2D5-DD9D6DA435E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200B-6675-4966-8F9E-A67BBDA8159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Заголовок 1" descr=""/>
          <p:cNvPicPr/>
          <p:nvPr/>
        </p:nvPicPr>
        <p:blipFill>
          <a:blip r:embed="rId1"/>
          <a:stretch/>
        </p:blipFill>
        <p:spPr>
          <a:xfrm>
            <a:off x="176040" y="4724280"/>
            <a:ext cx="8663040" cy="168912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213840" y="500040"/>
            <a:ext cx="4714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Franklin Gothic Book"/>
              </a:rPr>
              <a:t>Алехина Татьяна Федоровна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43329"/>
                </a:solidFill>
                <a:latin typeface="Franklin Gothic Book"/>
              </a:rPr>
              <a:t>учитель математики МБОУ СОШ №5 г. Апатиты, Мурманская обл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9" name="TextBox 3"/>
          <p:cNvSpPr/>
          <p:nvPr/>
        </p:nvSpPr>
        <p:spPr>
          <a:xfrm>
            <a:off x="3643200" y="62866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8" descr="50192485_1"/>
          <p:cNvPicPr/>
          <p:nvPr/>
        </p:nvPicPr>
        <p:blipFill>
          <a:blip r:embed="rId2"/>
          <a:stretch/>
        </p:blipFill>
        <p:spPr>
          <a:xfrm>
            <a:off x="4427640" y="1197000"/>
            <a:ext cx="4168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Box 1"/>
          <p:cNvSpPr/>
          <p:nvPr/>
        </p:nvSpPr>
        <p:spPr>
          <a:xfrm>
            <a:off x="1214280" y="357120"/>
            <a:ext cx="728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4. Предположим, что вероятность  встретить по дороге из школы черную кошку равна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0,1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а вероятность встретить злую собаку –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0,3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Считая, что собака и кошка гуляют независимо друг от друга, найдите вероятность того, что по дороге из школы  повстречаютс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и черная кошка,  и злая соба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"/>
          <p:cNvSpPr/>
          <p:nvPr/>
        </p:nvSpPr>
        <p:spPr>
          <a:xfrm>
            <a:off x="1357200" y="2500200"/>
            <a:ext cx="714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5.  Вероятность того, что лампочка в люстре перегорит в течение года, равна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0,2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Считая, ч то лампочки перегорают независимо друг от друга, найдите вероятность того, что в течение год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перегорят все лампочки в люстре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если в ней: а) две лампочки, б) три лампочки,  в) четыре ламп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1357200" y="4500720"/>
            <a:ext cx="721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6. У Ивана Ивановича есть компьютер, на котором он пишет книгу воспоминаний. Все клавиши работают хорошо, и только клавиша М работает неправильно.  С вероятностью    при нажатии получается буква П, а с вероятностью     – буква М.  Найдите вероятность того, что фраза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«Много лет тому назад, когда я был маленьким мальчиком»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удет написана правильно с первой попы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Object 2"/>
              <p:cNvSpPr txBox="1"/>
              <p:nvPr/>
            </p:nvSpPr>
            <p:spPr>
              <a:xfrm>
                <a:off x="5429160" y="5000760"/>
                <a:ext cx="139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3"/>
              <p:cNvSpPr txBox="1"/>
              <p:nvPr/>
            </p:nvSpPr>
            <p:spPr>
              <a:xfrm>
                <a:off x="4071960" y="5357880"/>
                <a:ext cx="2142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Box 1"/>
          <p:cNvSpPr/>
          <p:nvPr/>
        </p:nvSpPr>
        <p:spPr>
          <a:xfrm>
            <a:off x="642960" y="50004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Как ошибся Эдгар П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2"/>
          <p:cNvSpPr/>
          <p:nvPr/>
        </p:nvSpPr>
        <p:spPr>
          <a:xfrm>
            <a:off x="4211640" y="1484280"/>
            <a:ext cx="4334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Знаменитый автор детективов Э.А. По в эпилоге рассказа «Мари Роже» рассуждает о вероятностях, возникающих при бросаниях костей, таким образо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Franklin Gothic Book"/>
              </a:rPr>
              <a:t>«…обычного читателя почти невозможно убедить, что при игре в кости двукратное выпадение шестерки делает почти невероятным выпадение её в третий раз и дает все основания поставить против этого любую сумму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7" descr="henkin3"/>
          <p:cNvPicPr/>
          <p:nvPr/>
        </p:nvPicPr>
        <p:blipFill>
          <a:blip r:embed="rId1"/>
          <a:stretch/>
        </p:blipFill>
        <p:spPr>
          <a:xfrm>
            <a:off x="468360" y="1484280"/>
            <a:ext cx="3352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Box 1"/>
          <p:cNvSpPr/>
          <p:nvPr/>
        </p:nvSpPr>
        <p:spPr>
          <a:xfrm>
            <a:off x="428760" y="64296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Ясно, что ошибку допускает сам Эдгар По.  Он не учитывает, что все испытания независимы друг от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ействительно, вероятность выпадения трех шестерок ра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Object 2"/>
              <p:cNvSpPr txBox="1"/>
              <p:nvPr/>
            </p:nvSpPr>
            <p:spPr>
              <a:xfrm>
                <a:off x="6156360" y="1628640"/>
                <a:ext cx="19638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7" name="TextBox 3"/>
          <p:cNvSpPr/>
          <p:nvPr/>
        </p:nvSpPr>
        <p:spPr>
          <a:xfrm>
            <a:off x="571680" y="2428920"/>
            <a:ext cx="7786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Эта вероятность действительно м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днако, шестерка уже выпала два раза. Это событие у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существилось!  Поэтому, чтобы получить три шестерки подря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остаточно еще одной шестерки. Вероятность э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Object 3"/>
              <p:cNvSpPr txBox="1"/>
              <p:nvPr/>
            </p:nvSpPr>
            <p:spPr>
              <a:xfrm>
                <a:off x="4143240" y="5572080"/>
                <a:ext cx="3319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9" name="TextBox 5"/>
          <p:cNvSpPr/>
          <p:nvPr/>
        </p:nvSpPr>
        <p:spPr>
          <a:xfrm>
            <a:off x="857160" y="521496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Таким образом, вероятность выпадения трех шестерок подряд,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уже выпали две, не          ,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Object 4"/>
              <p:cNvSpPr txBox="1"/>
              <p:nvPr/>
            </p:nvSpPr>
            <p:spPr>
              <a:xfrm>
                <a:off x="3143160" y="5715000"/>
                <a:ext cx="5716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Object 5"/>
              <p:cNvSpPr txBox="1"/>
              <p:nvPr/>
            </p:nvSpPr>
            <p:spPr>
              <a:xfrm>
                <a:off x="6357960" y="3929040"/>
                <a:ext cx="3319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72" name="Picture 11" descr="kosti"/>
          <p:cNvPicPr/>
          <p:nvPr/>
        </p:nvPicPr>
        <p:blipFill>
          <a:blip r:embed="rId1"/>
          <a:stretch/>
        </p:blipFill>
        <p:spPr>
          <a:xfrm>
            <a:off x="5867280" y="5543640"/>
            <a:ext cx="12384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Box 1"/>
          <p:cNvSpPr/>
          <p:nvPr/>
        </p:nvSpPr>
        <p:spPr>
          <a:xfrm>
            <a:off x="1000080" y="357120"/>
            <a:ext cx="75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Franklin Gothic Book"/>
              </a:rPr>
              <a:t>Используемая литература и источники информ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2"/>
          <p:cNvSpPr/>
          <p:nvPr/>
        </p:nvSpPr>
        <p:spPr>
          <a:xfrm>
            <a:off x="539640" y="1052640"/>
            <a:ext cx="764388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Теория вероятностей и статистика /Ю. Н. Тюрин, А. А. Макаров, И. Р. Высоцкий, И. В. Ященко. – М.:МЦНМО:АО «Московские учебники»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googl.ru/imglanding?q=%D0%BC%D0%B0%D1%82%D0%B5%D0%BC%D0%B0%D1%82%D0%B8%D0%BA%D0%B0+%D0%BA%D0%B0%D1%80%D1%82%D0%B8%D0%BD%D0%BA%D0%B8&amp;hl=ru&amp;sa=G&amp;tbm=isch&amp;tbnid=5bZ_3O7j0TekvM:&amp;imgrefurl=http://moto-vip.ru/wp-includes/records/index.html&amp;imgurl=http://moto-vip.ru/wp-includes/images/dcs_49882.jpg&amp;w=323&amp;h=400&amp;ei=pending&amp;zoom=1&amp;iact=hc&amp;oei=XVCUTZOmDMSytAaP7N2tCA&amp;page=10&amp;tbnh=176&amp;tbnw=142&amp;start=215&amp;ndsp=25&amp;ved=1t:429,r:10,s:215&amp;biw=1260&amp;bih=8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Franklin Gothic Book"/>
              </a:rPr>
              <a:t>http://www.googl.ru/imglanding?q=%D0%BC%D0%B0%D1%82%D0%B5%D0%BC%D0%B0%D1%82%D0%B8%D0%BA%D0%B0+%D0%BA%D0%B0%D1%80%D1%82%D0%B8%D0%BD%D0%BA%D0%B8&amp;hl=ru&amp;sa=G&amp;tbm=isch&amp;prmd=ivns&amp;tbnid=b_dgTioDRfxhRM:&amp;imgrefurl=http://moscow.olx.ru/iid-50192485&amp;imgurl=http://images04.olx.ru/ui/3/29/85/50192485_1.jpg&amp;w=625&amp;h=500&amp;ei=pending&amp;zoom=1&amp;iact=hc&amp;oei=XVCUTZOmDMSytAaP7N2tCA&amp;page=1&amp;tbnh=150&amp;tbnw=186&amp;start=0&amp;ndsp=25&amp;ved=1t:429,r:3,s:0&amp;biw=1260&amp;bih=8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http://www.googl.ru/imglanding?q=%D1%8D%D0%B4%D0%B3%D0%B0%D1%80+%D0%BF%D0%BE&amp;hl=ru&amp;tbm=isch&amp;tbnid=K19O7nb-zoHczM:&amp;imgrefurl=http://www.chesspro.ru/_events/2007/henkel.html&amp;imgurl=http://www.chesspro.ru/_images/materials/2007/henkin3.jpg&amp;w=352&amp;h=420&amp;ei=pending&amp;zoom=1&amp;iact=hc&amp;oei=GFKUTYiYD8fEtA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qbHGCA&amp;page=1&amp;tbnh=135&amp;tbnw=111&amp;start=0&amp;ved=1t:429,r:0,s:0&amp;biw=1260&amp;bih=8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www.googl.ru/imglanding?q=%D0%BF%D1%80%D0%B8%D1%80%D0%BE%D0%B4%D0%B0+%D0%BA%D0%B0%D1%80%D1%82%D0%B8%D0%BD%D0%BA%D0%B8&amp;hl=ru&amp;sa=X&amp;tbm=isch&amp;prmd=ivns&amp;tbnid=zk2j2j7odqMk3M:&amp;imgrefurl=http://foto.lib.ru/s/shatalow_s_w/alb_0010/priroda05.htm&amp;imgurl=http://foto.lib.ru/img/s/shatalow_s_w/alb_0010/priroda05.jpg&amp;w=800&amp;h=600&amp;ei=lFSUTZq7Hs2GswbI1MCtCA&amp;zoom=1&amp;iact=hc&amp;oei=lFSUTZq7Hs2GswbI1MCtCA&amp;page=1&amp;tbnh=124&amp;tbnw=166&amp;start=0&amp;ved=1t:429,r:11,s:0&amp;biw=1260&amp;bih=8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http://www.googl.ru/imglanding?q=%D0%BF%D1%80%D0%B8%D1%80%D0%BE%D0%B4%D0%B0+%D0%BA%D0%B0%D1%80%D1%82%D0%B8%D0%BD%D0%BA%D0%B8&amp;hl=ru&amp;sa=X&amp;tbm=isch&amp;tbnid=2FaGPyFTxTG7CM:&amp;imgrefurl=http://www.liveinternet.ru/users/pomari/rubric/1085543/page3.html&amp;imgurl=http://img1.liveinternet.ru/images/attach/c/0//43/749/43749806_1242166916_09_01_2008_0020762001199881584_david_h_collier.jpg&amp;w=600&amp;h=400&amp;ei=pending&amp;zoom=1&amp;iact=hc&amp;oei=lFSUTZq7Hs2GswbI1MCtCA&amp;page=7&amp;tbnh=125&amp;tbnw=165&amp;start=184&amp;ved=1t:429,r:22,s:184&amp;biw=1260&amp;bih=8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http://www.googl.ru/imglanding?q=%D0%B8%D0%B3%D1%80%D0%B0%D0%BB%D1%8C%D0%BD%D1%8B%D0%B5+%D0%BA%D0%BE%D1%81%D1%82%D0%B8&amp;hl=ru&amp;sa=X&amp;tbm=isch&amp;prmd=ivns&amp;tbnid=9wmP89XErhYCKM:&amp;imgrefurl=http://www.club-tarot.ru/preds_sist_gadan.html&amp;imgurl=http://www.club-tarot.ru/images/kosti/334.jpg&amp;w=300&amp;h=227&amp;ei=uVWUTe2fI4XUsgaIqInPCA&amp;zoom=1&amp;iact=hc&amp;oei=uVWUTe2fI4XUsgaIqInPCA&amp;page=1&amp;tbnh=155&amp;tbnw=196&amp;start=0&amp;ndsp=24&amp;ved=1t:429,r:18,s:0&amp;biw=1260&amp;bih=8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http://www.googl.ru/imglanding?q=%D0%B8%D0%B3%D1%80%D0%B0%D0%BB%D1%8C%D0%BD%D1%8B%D0%B5+%D0%BA%D0%BE%D1%81%D1%82%D0%B8&amp;hl=ru&amp;sa=X&amp;tbm=isch&amp;tbnid=bZjz5ZJnofis4M:&amp;imgrefurl=http://www.prisnilos.su/gadanie/gadanie_kosti.html&amp;imgurl=http://www.prisnilos.su/flash/kosti.jpg&amp;w=130&amp;h=138&amp;ei=pending&amp;zoom=1&amp;iact=hc&amp;oei=uVWUTe2fI4XUsgaIqInPCA&amp;page=3&amp;tbnh=110&amp;tbnw=104&amp;start=45&amp;ndsp=21&amp;ved=1t:429,r:9,s:45&amp;biw=1260&amp;bih=8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Box 1"/>
          <p:cNvSpPr/>
          <p:nvPr/>
        </p:nvSpPr>
        <p:spPr>
          <a:xfrm>
            <a:off x="714240" y="857160"/>
            <a:ext cx="4857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 жизни мы часто встречаемся с ситуациями, когда события некоторым образом связаны. По наступлению одного из них можно судить о вероятности наступления друг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2"/>
          <p:cNvSpPr/>
          <p:nvPr/>
        </p:nvSpPr>
        <p:spPr>
          <a:xfrm>
            <a:off x="500040" y="600084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Если на небе тучи, то дождь более вероятен, чем в ясную по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6" descr="priroda05"/>
          <p:cNvPicPr/>
          <p:nvPr/>
        </p:nvPicPr>
        <p:blipFill>
          <a:blip r:embed="rId1"/>
          <a:stretch/>
        </p:blipFill>
        <p:spPr>
          <a:xfrm>
            <a:off x="0" y="234936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8" descr="43749806_1242166916_09_01_2008_0020762001199881584_david_h_collier"/>
          <p:cNvPicPr/>
          <p:nvPr/>
        </p:nvPicPr>
        <p:blipFill>
          <a:blip r:embed="rId2"/>
          <a:stretch/>
        </p:blipFill>
        <p:spPr>
          <a:xfrm>
            <a:off x="4500720" y="2349360"/>
            <a:ext cx="453708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Box 1"/>
          <p:cNvSpPr/>
          <p:nvPr/>
        </p:nvSpPr>
        <p:spPr>
          <a:xfrm>
            <a:off x="642960" y="642960"/>
            <a:ext cx="621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Бывают также события, которые явно не связ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Например при бросании двух костей результат бросания первой кости  явно не влияет на результат бросания второй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3"/>
          <p:cNvSpPr/>
          <p:nvPr/>
        </p:nvSpPr>
        <p:spPr>
          <a:xfrm>
            <a:off x="857160" y="592920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ро такие события  говорят, что они </a:t>
            </a: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независи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6" descr="334"/>
          <p:cNvPicPr/>
          <p:nvPr/>
        </p:nvPicPr>
        <p:blipFill>
          <a:blip r:embed="rId1"/>
          <a:stretch/>
        </p:blipFill>
        <p:spPr>
          <a:xfrm>
            <a:off x="3143160" y="2347920"/>
            <a:ext cx="366084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Box 1"/>
          <p:cNvSpPr/>
          <p:nvPr/>
        </p:nvSpPr>
        <p:spPr>
          <a:xfrm>
            <a:off x="1000080" y="92880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ля таких событий справедлива очень важная форму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3"/>
          <p:cNvSpPr/>
          <p:nvPr/>
        </p:nvSpPr>
        <p:spPr>
          <a:xfrm>
            <a:off x="1187280" y="1628640"/>
            <a:ext cx="62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ranklin Gothic Book"/>
              </a:rPr>
              <a:t>P(A</a:t>
            </a: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∩</a:t>
            </a:r>
            <a:r>
              <a:rPr b="0" lang="en-US" sz="4400" spc="-1" strike="noStrike">
                <a:solidFill>
                  <a:srgbClr val="c00000"/>
                </a:solidFill>
                <a:latin typeface="Franklin Gothic Book"/>
              </a:rPr>
              <a:t>B)=P(A)</a:t>
            </a: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·</a:t>
            </a:r>
            <a:r>
              <a:rPr b="0" lang="en-US" sz="4400" spc="-1" strike="noStrike">
                <a:solidFill>
                  <a:srgbClr val="c00000"/>
                </a:solidFill>
                <a:latin typeface="Franklin Gothic Book"/>
              </a:rPr>
              <a:t>P(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5"/>
          <p:cNvSpPr/>
          <p:nvPr/>
        </p:nvSpPr>
        <p:spPr>
          <a:xfrm>
            <a:off x="857160" y="3714840"/>
            <a:ext cx="7286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усть событие А – «на первой кости выпала шестерка». 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(А)=     . Событие В – «на второй кости выпала шестерк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Тогда Р(В)=     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ри бросании двух костей выпадение двух шесте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является событием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∩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и его вероятность 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3"/>
              <p:cNvSpPr txBox="1"/>
              <p:nvPr/>
            </p:nvSpPr>
            <p:spPr>
              <a:xfrm>
                <a:off x="1571760" y="4000680"/>
                <a:ext cx="3315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Object 4"/>
              <p:cNvSpPr txBox="1"/>
              <p:nvPr/>
            </p:nvSpPr>
            <p:spPr>
              <a:xfrm>
                <a:off x="2195640" y="4581360"/>
                <a:ext cx="3315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3" name="Object 5"/>
              <p:cNvSpPr txBox="1"/>
              <p:nvPr/>
            </p:nvSpPr>
            <p:spPr>
              <a:xfrm>
                <a:off x="6372360" y="5734080"/>
                <a:ext cx="5000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Box 1"/>
          <p:cNvSpPr/>
          <p:nvPr/>
        </p:nvSpPr>
        <p:spPr>
          <a:xfrm>
            <a:off x="571680" y="642960"/>
            <a:ext cx="6786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Franklin Gothic Book"/>
              </a:rPr>
              <a:t>Определение: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События А и В называю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зависимыми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если вероятность их пересечения равна произведению их вероят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"/>
          <p:cNvSpPr/>
          <p:nvPr/>
        </p:nvSpPr>
        <p:spPr>
          <a:xfrm>
            <a:off x="1714680" y="2357280"/>
            <a:ext cx="585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ranklin Gothic Book"/>
              </a:rPr>
              <a:t>P(A</a:t>
            </a: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∩</a:t>
            </a:r>
            <a:r>
              <a:rPr b="0" lang="en-US" sz="4400" spc="-1" strike="noStrike">
                <a:solidFill>
                  <a:srgbClr val="c00000"/>
                </a:solidFill>
                <a:latin typeface="Franklin Gothic Book"/>
              </a:rPr>
              <a:t>B)=P(A)</a:t>
            </a: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·</a:t>
            </a:r>
            <a:r>
              <a:rPr b="0" lang="en-US" sz="4400" spc="-1" strike="noStrike">
                <a:solidFill>
                  <a:srgbClr val="c00000"/>
                </a:solidFill>
                <a:latin typeface="Franklin Gothic Book"/>
              </a:rPr>
              <a:t>P(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5" descr="dcs_49882"/>
          <p:cNvPicPr/>
          <p:nvPr/>
        </p:nvPicPr>
        <p:blipFill>
          <a:blip r:embed="rId1"/>
          <a:stretch/>
        </p:blipFill>
        <p:spPr>
          <a:xfrm>
            <a:off x="585720" y="3284640"/>
            <a:ext cx="23274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Box 1"/>
          <p:cNvSpPr/>
          <p:nvPr/>
        </p:nvSpPr>
        <p:spPr>
          <a:xfrm>
            <a:off x="1143000" y="214200"/>
            <a:ext cx="45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Упраж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"/>
          <p:cNvSpPr/>
          <p:nvPr/>
        </p:nvSpPr>
        <p:spPr>
          <a:xfrm>
            <a:off x="1143000" y="1000080"/>
            <a:ext cx="664380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бытия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, V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W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независимы. Найдите вероятность события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∩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V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∩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W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, если  а) Р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=0,4   Р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=0,6   Р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 =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) Р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=0,4   Р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=0,3   Р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) =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3"/>
          <p:cNvSpPr/>
          <p:nvPr/>
        </p:nvSpPr>
        <p:spPr>
          <a:xfrm>
            <a:off x="1214280" y="2643120"/>
            <a:ext cx="6500880" cy="29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. Случайным образом выбирают натуральное число от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до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24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Событие </a:t>
            </a:r>
            <a:r>
              <a:rPr b="0" lang="ru-RU" sz="1800" spc="-1" strike="noStrike">
                <a:solidFill>
                  <a:srgbClr val="c00000"/>
                </a:solidFill>
                <a:latin typeface="Corbel"/>
              </a:rPr>
              <a:t>С – «число четное»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Являются ли события С и В независимыми, если событие В состоит в том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) выбранное число делится на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) выбранное число делится на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) выбранное число делится на 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4"/>
          <p:cNvSpPr/>
          <p:nvPr/>
        </p:nvSpPr>
        <p:spPr>
          <a:xfrm>
            <a:off x="1285920" y="4929120"/>
            <a:ext cx="69292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клавиатуре компьютера 105 клавиш. Найдите вероятность того, что обезьяна, нажав поочередно две клавиши случайным образом, напишет слово «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1143360" y="6021360"/>
            <a:ext cx="100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dc765"/>
                </a:solidFill>
                <a:uFillTx/>
                <a:latin typeface="Corbel"/>
                <a:hlinkClick r:id="rId3" action="ppaction://hlinksldjump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5"/>
          <p:cNvSpPr/>
          <p:nvPr/>
        </p:nvSpPr>
        <p:spPr>
          <a:xfrm>
            <a:off x="534348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1835280" y="1413000"/>
            <a:ext cx="68403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(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∩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(U)*P(V)*P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=0,4*0,6*0,5=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=0,4*0,3*0,1=0,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10">
            <a:hlinkClick r:id="rId1" action="ppaction://hlinksldjump"/>
          </p:cNvPr>
          <p:cNvSpPr/>
          <p:nvPr/>
        </p:nvSpPr>
        <p:spPr>
          <a:xfrm>
            <a:off x="7020000" y="5516640"/>
            <a:ext cx="1368360" cy="57636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1263" h="21600">
                <a:moveTo>
                  <a:pt x="0" y="0"/>
                </a:moveTo>
                <a:lnTo>
                  <a:pt x="51263" y="0"/>
                </a:lnTo>
                <a:lnTo>
                  <a:pt x="51263" y="21600"/>
                </a:lnTo>
                <a:lnTo>
                  <a:pt x="0" y="21600"/>
                </a:lnTo>
                <a:close/>
              </a:path>
              <a:path fill="lightenLess" w="51263" h="21600">
                <a:moveTo>
                  <a:pt x="0" y="0"/>
                </a:moveTo>
                <a:lnTo>
                  <a:pt x="51263" y="0"/>
                </a:lnTo>
                <a:lnTo>
                  <a:pt x="49863" y="1400"/>
                </a:lnTo>
                <a:lnTo>
                  <a:pt x="1400" y="1400"/>
                </a:lnTo>
                <a:close/>
              </a:path>
              <a:path fill="darken" w="51263" h="21600">
                <a:moveTo>
                  <a:pt x="51263" y="0"/>
                </a:moveTo>
                <a:lnTo>
                  <a:pt x="51263" y="21600"/>
                </a:lnTo>
                <a:lnTo>
                  <a:pt x="49863" y="20200"/>
                </a:lnTo>
                <a:lnTo>
                  <a:pt x="49863" y="1400"/>
                </a:lnTo>
                <a:close/>
              </a:path>
              <a:path fill="darkenLess" w="51263" h="21600">
                <a:moveTo>
                  <a:pt x="51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63" y="20200"/>
                </a:lnTo>
                <a:close/>
              </a:path>
              <a:path fill="lighten" w="51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63" h="21600">
                <a:moveTo>
                  <a:pt x="22133" y="10800"/>
                </a:moveTo>
                <a:lnTo>
                  <a:pt x="32638" y="3794"/>
                </a:lnTo>
                <a:lnTo>
                  <a:pt x="32638" y="17806"/>
                </a:lnTo>
                <a:close/>
              </a:path>
              <a:path fill="darken" w="51263" h="21600">
                <a:moveTo>
                  <a:pt x="18625" y="3794"/>
                </a:moveTo>
                <a:lnTo>
                  <a:pt x="20287" y="3794"/>
                </a:lnTo>
                <a:lnTo>
                  <a:pt x="20287" y="17806"/>
                </a:lnTo>
                <a:lnTo>
                  <a:pt x="18625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5"/>
          <p:cNvSpPr/>
          <p:nvPr/>
        </p:nvSpPr>
        <p:spPr>
          <a:xfrm>
            <a:off x="1692360" y="134136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6"/>
          <p:cNvSpPr/>
          <p:nvPr/>
        </p:nvSpPr>
        <p:spPr>
          <a:xfrm>
            <a:off x="1547640" y="299880"/>
            <a:ext cx="6912000" cy="66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С – «число четное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(С)=              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 – «число делится на 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(В)=                     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∩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В – «число четное и делится на 3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(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им справедливость равенства Р(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= Р(С)* Р(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ытия С и В независ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обытия С и В независ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события С и В не являются независим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Object 7"/>
              <p:cNvSpPr txBox="1"/>
              <p:nvPr/>
            </p:nvSpPr>
            <p:spPr>
              <a:xfrm>
                <a:off x="4716360" y="189000"/>
                <a:ext cx="792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8"/>
              <p:cNvSpPr txBox="1"/>
              <p:nvPr/>
            </p:nvSpPr>
            <p:spPr>
              <a:xfrm>
                <a:off x="2340000" y="981000"/>
                <a:ext cx="865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9"/>
              <p:cNvSpPr txBox="1"/>
              <p:nvPr/>
            </p:nvSpPr>
            <p:spPr>
              <a:xfrm>
                <a:off x="2627280" y="1773360"/>
                <a:ext cx="1008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11"/>
              <p:cNvSpPr txBox="1"/>
              <p:nvPr/>
            </p:nvSpPr>
            <p:spPr>
              <a:xfrm>
                <a:off x="1835280" y="3141720"/>
                <a:ext cx="23763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1" name="AutoShape 12">
            <a:hlinkClick r:id="rId1" action="ppaction://hlinksldjump"/>
          </p:cNvPr>
          <p:cNvSpPr/>
          <p:nvPr/>
        </p:nvSpPr>
        <p:spPr>
          <a:xfrm>
            <a:off x="7020000" y="5877000"/>
            <a:ext cx="1512720" cy="50472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708" h="21600">
                <a:moveTo>
                  <a:pt x="0" y="0"/>
                </a:moveTo>
                <a:lnTo>
                  <a:pt x="64708" y="0"/>
                </a:lnTo>
                <a:lnTo>
                  <a:pt x="64708" y="21600"/>
                </a:lnTo>
                <a:lnTo>
                  <a:pt x="0" y="21600"/>
                </a:lnTo>
                <a:close/>
              </a:path>
              <a:path fill="lightenLess" w="64708" h="21600">
                <a:moveTo>
                  <a:pt x="0" y="0"/>
                </a:moveTo>
                <a:lnTo>
                  <a:pt x="64708" y="0"/>
                </a:lnTo>
                <a:lnTo>
                  <a:pt x="63308" y="1400"/>
                </a:lnTo>
                <a:lnTo>
                  <a:pt x="1400" y="1400"/>
                </a:lnTo>
                <a:close/>
              </a:path>
              <a:path fill="darken" w="64708" h="21600">
                <a:moveTo>
                  <a:pt x="64708" y="0"/>
                </a:moveTo>
                <a:lnTo>
                  <a:pt x="64708" y="21600"/>
                </a:lnTo>
                <a:lnTo>
                  <a:pt x="63308" y="20200"/>
                </a:lnTo>
                <a:lnTo>
                  <a:pt x="63308" y="1400"/>
                </a:lnTo>
                <a:close/>
              </a:path>
              <a:path fill="darkenLess" w="64708" h="21600">
                <a:moveTo>
                  <a:pt x="64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8" y="20200"/>
                </a:lnTo>
                <a:close/>
              </a:path>
              <a:path fill="lighten" w="64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08" h="21600">
                <a:moveTo>
                  <a:pt x="28855" y="10800"/>
                </a:moveTo>
                <a:lnTo>
                  <a:pt x="39360" y="3794"/>
                </a:lnTo>
                <a:lnTo>
                  <a:pt x="39360" y="17806"/>
                </a:lnTo>
                <a:close/>
              </a:path>
              <a:path fill="darken" w="64708" h="21600">
                <a:moveTo>
                  <a:pt x="25347" y="3794"/>
                </a:moveTo>
                <a:lnTo>
                  <a:pt x="27010" y="3794"/>
                </a:lnTo>
                <a:lnTo>
                  <a:pt x="27010" y="17806"/>
                </a:lnTo>
                <a:lnTo>
                  <a:pt x="25347" y="17806"/>
                </a:lnTo>
                <a:close/>
              </a:path>
            </a:pathLst>
          </a:cu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5"/>
          <p:cNvSpPr/>
          <p:nvPr/>
        </p:nvSpPr>
        <p:spPr>
          <a:xfrm>
            <a:off x="1908000" y="836640"/>
            <a:ext cx="511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(О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(Й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(ОЙ)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Object 6"/>
              <p:cNvSpPr txBox="1"/>
              <p:nvPr/>
            </p:nvSpPr>
            <p:spPr>
              <a:xfrm>
                <a:off x="2700360" y="692280"/>
                <a:ext cx="476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Object 7"/>
              <p:cNvSpPr txBox="1"/>
              <p:nvPr/>
            </p:nvSpPr>
            <p:spPr>
              <a:xfrm>
                <a:off x="2700360" y="1484280"/>
                <a:ext cx="476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Object 8"/>
              <p:cNvSpPr txBox="1"/>
              <p:nvPr/>
            </p:nvSpPr>
            <p:spPr>
              <a:xfrm>
                <a:off x="2843280" y="2349360"/>
                <a:ext cx="1944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0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6" name="AutoShape 9">
            <a:hlinkClick r:id="rId1" action="ppaction://hlinksldjump"/>
          </p:cNvPr>
          <p:cNvSpPr/>
          <p:nvPr/>
        </p:nvSpPr>
        <p:spPr>
          <a:xfrm>
            <a:off x="6443640" y="6021360"/>
            <a:ext cx="1657440" cy="576360"/>
          </a:xfrm>
          <a:custGeom>
            <a:avLst/>
            <a:gdLst>
              <a:gd name="textAreaLeft" fmla="*/ 37080 w 1657440"/>
              <a:gd name="textAreaRight" fmla="*/ 1620360 w 1657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2090" h="21600">
                <a:moveTo>
                  <a:pt x="0" y="0"/>
                </a:moveTo>
                <a:lnTo>
                  <a:pt x="62090" y="0"/>
                </a:lnTo>
                <a:lnTo>
                  <a:pt x="62090" y="21600"/>
                </a:lnTo>
                <a:lnTo>
                  <a:pt x="0" y="21600"/>
                </a:lnTo>
                <a:close/>
              </a:path>
              <a:path fill="lightenLess" w="62090" h="21600">
                <a:moveTo>
                  <a:pt x="0" y="0"/>
                </a:moveTo>
                <a:lnTo>
                  <a:pt x="62090" y="0"/>
                </a:lnTo>
                <a:lnTo>
                  <a:pt x="60690" y="1400"/>
                </a:lnTo>
                <a:lnTo>
                  <a:pt x="1400" y="1400"/>
                </a:lnTo>
                <a:close/>
              </a:path>
              <a:path fill="darken" w="62090" h="21600">
                <a:moveTo>
                  <a:pt x="62090" y="0"/>
                </a:moveTo>
                <a:lnTo>
                  <a:pt x="62090" y="21600"/>
                </a:lnTo>
                <a:lnTo>
                  <a:pt x="60690" y="20200"/>
                </a:lnTo>
                <a:lnTo>
                  <a:pt x="60690" y="1400"/>
                </a:lnTo>
                <a:close/>
              </a:path>
              <a:path fill="darkenLess" w="62090" h="21600">
                <a:moveTo>
                  <a:pt x="62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90" y="20200"/>
                </a:lnTo>
                <a:close/>
              </a:path>
              <a:path fill="lighten" w="62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090" h="21600">
                <a:moveTo>
                  <a:pt x="27546" y="10800"/>
                </a:moveTo>
                <a:lnTo>
                  <a:pt x="38051" y="3794"/>
                </a:lnTo>
                <a:lnTo>
                  <a:pt x="38051" y="17806"/>
                </a:lnTo>
                <a:close/>
              </a:path>
              <a:path fill="darken" w="62090" h="21600">
                <a:moveTo>
                  <a:pt x="24038" y="3794"/>
                </a:moveTo>
                <a:lnTo>
                  <a:pt x="25701" y="3794"/>
                </a:lnTo>
                <a:lnTo>
                  <a:pt x="25701" y="17806"/>
                </a:lnTo>
                <a:lnTo>
                  <a:pt x="24038" y="17806"/>
                </a:lnTo>
                <a:close/>
              </a:path>
            </a:pathLst>
          </a:cu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7:20:25Z</dcterms:created>
  <dc:creator>Admin</dc:creator>
  <dc:description/>
  <dc:language>en-US</dc:language>
  <cp:lastModifiedBy>Admin</cp:lastModifiedBy>
  <dcterms:modified xsi:type="dcterms:W3CDTF">2012-03-23T14:56:01Z</dcterms:modified>
  <cp:revision>12</cp:revision>
  <dc:subject/>
  <dc:title>Слайд 1</dc:title>
</cp:coreProperties>
</file>