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89B-F3E9-4166-85A1-36F84EF8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410-8EFB-46B6-B33C-CDF19FD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FACFE-FCFD-4688-B688-04F51A2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A6B1-2B8B-49D3-9260-E4E22A8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5841F-B81D-4EF2-8E5C-7B2A6F7A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BFD4F-7E4C-46F3-AB50-998BA9A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FC246-6AEE-480B-9BDE-C41F52E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DA41D-727F-4997-8A12-0EE2D31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A4DBC-91F5-4B05-BAA7-E0D8E7C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3BC78-B446-4758-93D7-FC3044F5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09446-2A38-4931-B3AE-53F49530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2F417-63C4-4D34-A317-5B2D7E3C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ADA-58EC-413B-B588-A22F3355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E802-090A-487B-B0A4-0E7EB55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E3241-328D-4FA0-B577-1D290099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34992-2941-4585-A5FF-A7682AF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77D9E-2778-4AA5-9B36-C3D8FEB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9DB07-A7AF-4E2F-A444-4E98C45E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35F1-A9F2-40FE-846C-7116D23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D9599-4198-40EE-A5DB-9CF00D5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26A66-0791-444A-9FA0-89C5CF5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29100-4585-4B93-9627-7E63162D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AB60-0929-4B46-96C4-F8153E2B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726-B7C8-4A52-AC14-52C167FF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A128F-DDB4-4894-94A3-1ACB3C66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3DA6-4C0D-4D8F-9C22-BF4080AA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8022-0193-4325-B636-0CD25BD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265F3-6340-43DA-9866-420FF27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AAB8-3AD8-4B9D-8140-A1AE7255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C8496-26DA-4302-93DD-9075E84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172FD-6203-417F-A68A-30EBA37E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4C48-4E9E-489D-B629-1ECBEC3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1CAFE-FBB9-4486-8B4B-DBDBF5D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677D4-5254-48DA-ACDC-759FF6B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569B-75D0-4FF1-A1CE-A8183061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34D0-1A9A-4C7B-B8B4-4AEADD23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6EFF6-3032-4183-85E2-0ACD8EA7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38812-F1A1-45BB-A463-E7A9D85C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E1632-4259-4A35-8006-95671F31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FFBB-8F4F-4CC8-971F-DAB929F2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FC52C-804E-4870-B612-80FAE6FA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32C33-E1B6-4B8C-BC7F-2C081F4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4ACC5-9FEE-47B6-A7C7-3BA0776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4D95A-A745-4CA3-9644-424349FC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5E546-27F6-4FF2-8B7F-0AD109D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03C-460C-4EB2-8AC4-99A26882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427A-46CB-4A07-B4CE-817D631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EBF29-B7BA-429C-9833-829A1E65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2A7DB-2D8B-42B1-B65C-99685247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DE561-85B5-49AA-BDAB-048BDC9B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B4B86-63F5-4F75-8FDC-68663E18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8A541-7071-4D9B-A969-B14F6460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E38B7-CB3C-4E8E-BACF-F85F1F9F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16BCF-8B24-4B7D-9195-12485BD6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90E58-CBC8-44E6-AB0B-6C01E4A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76A5A-9F66-41AA-ACA4-AE0FDF3C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FBD-AB73-429F-98D6-72CFACE2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F957A-9BDB-4427-A90E-800BFD6D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A7C69-6A04-4F8F-9DB6-3ABF4BD0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1F93C-A693-467C-AF21-27B6C69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F6099-38E2-4B7D-A9DE-625CBBCA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73C1C-D1B1-4317-B235-49FD487C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B2A15-5524-4DF1-9374-23339A6E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1F647-EA19-48AC-82D8-C1E7FFFA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906B9-832D-4610-A7AE-D300AEDB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1940D-57A8-44F1-9784-1983BDC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F6330-2CCF-4379-B24C-938EF86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76BA-330C-4A37-B160-BF791DE7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DEDAA-6AA3-4742-B529-76AAE2F8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4FB01-8F63-478E-9FA3-F3042C4A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79040-BF22-4004-98EB-FF4C6AF3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D7A84-B19F-462A-A000-FA05B89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257AE-973D-4783-B03F-CF5CB5D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1C713-14E2-464C-AE50-EA9D0E3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75EF8-F070-43A3-846E-59F291A8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B6A8F-A208-4D10-9AA0-965578A4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84C69-D8B9-4DC8-BC1B-696E1F68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E7909-5EA0-49F1-A623-D1359837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DB4-2468-4E8B-AC83-B35FC0B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9B571-A2E3-467E-AD3A-0C4EB393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57CF0-0B58-4A47-9050-DBCD21A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13F4B-2A9C-4148-91AA-558CC032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4699F-84CA-4113-87F1-1D4324AC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8B450-001A-4BE5-8316-D9299FAF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0F06B-9A07-4823-9492-76850EC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87ADD-B3AD-4D9F-9E51-9B16071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3FBFA-484B-41BC-99FC-6DF799A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54AF6-DD06-4363-913F-EBD621C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3B776-D88E-4108-B2DB-69BCF884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E0A2-FC0D-45C7-828D-9CB4DCA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C1B57-73E4-4498-BD92-1AD392C6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81C02-F3FE-41B1-AA34-EAB24537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5B982-04D5-4514-B9BC-E6DA13A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03639-FA35-44D7-8889-E6E757DF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5D2DC-906A-4F3A-98E6-966019A8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6DCA1-0AF0-43F0-9266-E862529C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AF825-1742-40E7-A24A-BD6CC90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39F82-DC6D-4047-94AF-98A1B5B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FD52B-D02A-405D-97FB-8559AD7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8B847-C5A1-43A2-9A1D-6FCAA8F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912-0A5F-4EAA-AC91-249F42E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65E4E-5D28-414A-9EE1-BA87BC2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01D9D-476B-4EE0-8BF3-403EBAFE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8230F-CAD3-47E6-98BA-501A7815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DC9-C0B8-48D5-A950-86B50EFD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3ACB-C378-45F2-91E4-81B2543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30C1-5323-4547-8692-697757B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3677-021A-47F5-8640-AEA6CEB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352-E097-4E2E-B86C-7D761F5E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0A14-7378-44A1-A73F-254051AB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1E80-FEFC-42FF-8471-5E7BA96E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C185-6994-47E9-896E-2D926DA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9658-321E-4F58-AEB8-014E1954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9BCB-B170-4397-9A7D-8C9DB4CC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D0D3-2A29-40FD-8E45-789E8DA7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A73-A123-4744-BEF4-04B6120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030A-8C1C-4713-A1E2-46AB179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452F-E3DF-433B-AAE9-9E0384A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A16E-132C-4891-8B63-F8B4DA3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85BD-46D6-41B7-BF0A-50EADDA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D7AD-48D9-4AF3-94B7-3D20ACF0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0EFC-0EF5-4435-874A-1A159486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7D09-84F0-41BF-850B-2731DB20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FFFB2-8A91-4D43-A8C2-4C4B842A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AA7E-3232-4E70-85F9-3EB50A3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A4A7-D5DF-4C54-8B90-BE4F64E8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4E9-B292-42F9-891B-6149304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05AA-AEE0-412E-8C5D-30B52E0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33AB-B6C2-44A6-A2BC-75AD1040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6878-B1F8-4AAA-90AB-59B79EF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A6BE-B944-4457-AD3D-9CDAB60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2756-1C0D-42FE-A9A9-0E52BB5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6D99-853F-4D7C-9F76-4467A81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8FCB-65AB-4274-8C39-78C1445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86FF-2041-437B-A3F2-7A0518F6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BB62A-15C7-42B9-A3CD-65DD0977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CFA3-6B4A-4F30-8825-8C7F87B0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30E-F9B4-490A-833F-4039912B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DAF9C-C117-43A7-A162-A3E74BF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75F5-6856-454D-9E2C-F31AAEB4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83FD-843F-4388-B8DD-6DB67D4D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36E6-7902-46BC-9876-93AE9988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81F8-05F9-4088-873C-39F07C5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6A61-E2F3-494E-8479-C583501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A786-4CB0-4AA5-A9D6-84F9746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B77F-B72D-49D7-9AFE-68F39ED0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B428-EAAE-4D51-9CF8-5EE7482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A46DC-8E83-48CB-B0BF-2002BFEA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367-2905-46BC-A8A8-A4CAE21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12EFB-2D6E-4B82-9219-08B811F5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7FAD-D2D0-46A6-8044-51A78406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BE7F-9842-453E-90C4-ADCD218B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8B3F-BF8A-4DBD-9DE1-4E2B96B9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C387-9CCE-442A-9656-255F903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0B2A6-89FD-4978-B821-64C031A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ADA3-6A1F-4BE4-A5D5-AE158D0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00A3-C817-4EEC-B9A6-01CADE2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3B9D1-5A12-4FB4-9A7D-E84C4B1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A1EC-12EF-4E64-B25B-AEB30B0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ED6-9FC4-4D12-9671-0657F14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0C33-2630-41B1-A7F3-96F98EF5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D15BC-B33C-4D17-A7B5-C6341C57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687DE-BAD2-42AD-A648-48962D9B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79F6-37A6-4C1C-B662-E7B08FE3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AF20C-1492-4A4E-A544-1A5E34E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C268-955E-407F-9F90-7B2319D1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0D64-5FC9-4A3A-A4B4-1E9BDAAD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D765-A2B6-4042-8BC8-921784F8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1DD62-3C58-485E-B114-FF171EA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D4704-4602-4D0D-B9FF-E3B10E3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ADB-8B69-4C61-9CD9-E212AFD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14B6-F529-4649-B428-EF45785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43538-8DA1-4394-AD47-284091E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21A3-DA55-4009-89C7-AC457F5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67C53-CF5F-4C67-BC63-F4E97F66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233C7-00E0-4350-84D8-6A6CCCA6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895B7-7C27-4229-B3A2-E3C960A7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71CDE-40FA-4AF5-983C-38A77F14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918F-F65A-4D19-B004-E679B69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FC3A-FC60-444E-9CEE-051FB4B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EE525-F3C1-4E75-8274-2507D87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492-8A17-4803-827B-AE42F684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F75C-009D-4FB7-9496-F3723AB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5CBC4-55F3-48E5-988F-EDEDDE5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5C03-6982-4504-8990-6C56725E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1AD3-A6BE-4C7D-93D7-C677497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A773C-16E9-4FF9-830F-E95C903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37E99-23A2-4FD3-9015-AE06EA4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33F6-54DF-4F73-BA03-39D823D0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E0EF9-555B-4524-BD60-E57FAD47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F133D-0577-41C1-8FBC-7E11A82C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88E4-CE4A-491C-B28A-AC0BA19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025B-7803-42B7-99B7-2CDF3D793BC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AE4-FBCC-4A51-8BD7-0D50590F83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5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55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8C9-EC80-432C-9D8A-5982AE848A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02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A712-A72B-45EE-8FA1-9E7DDAFB12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001-CF94-40A5-B797-2EA2C691C1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851-7538-460F-905A-5D83D6775B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AAF0-C003-4F90-8439-EC839E3B5B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7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ABD7-B9D8-4B9A-910B-F4F0390056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7361-ECAE-4580-A981-C35974FF9E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F522-08F0-4B0D-B718-C521DB8FAE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B06-957A-4584-840B-6E843575AD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135-9E46-4315-BA28-9B659D5729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210-EF15-452D-9FD8-CF0E856350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0BE4-C8D1-4713-9828-759BDC57E4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3293-EC6E-4475-9CC7-E0368D1530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3E52-1FD7-42AF-8CC2-95043DDF0D3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Заголовок 1" descr=""/>
          <p:cNvPicPr/>
          <p:nvPr/>
        </p:nvPicPr>
        <p:blipFill>
          <a:blip r:embed="rId1"/>
          <a:stretch/>
        </p:blipFill>
        <p:spPr>
          <a:xfrm>
            <a:off x="176040" y="472428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213840" y="500040"/>
            <a:ext cx="4714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Алехина Татьяна Федоро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учитель математики МБОУ СОШ №5 г. Апатиты, Мурманская об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9" name="TextBox 3"/>
          <p:cNvSpPr/>
          <p:nvPr/>
        </p:nvSpPr>
        <p:spPr>
          <a:xfrm>
            <a:off x="3643200" y="6286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8" descr="50192485_1"/>
          <p:cNvPicPr/>
          <p:nvPr/>
        </p:nvPicPr>
        <p:blipFill>
          <a:blip r:embed="rId2"/>
          <a:stretch/>
        </p:blipFill>
        <p:spPr>
          <a:xfrm>
            <a:off x="4427640" y="1197000"/>
            <a:ext cx="4168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1"/>
          <p:cNvSpPr/>
          <p:nvPr/>
        </p:nvSpPr>
        <p:spPr>
          <a:xfrm>
            <a:off x="1214280" y="35712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Предположим, что вероятность  встретить по дороге из школы черную кошку равна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0,1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а вероятность встретить злую собаку –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0,3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Считая, что собака и кошка гуляют независимо друг от друга, найдите вероятность того, что по дороге из школы  повстреч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и черная кошка,  и злая соб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1357200" y="2500200"/>
            <a:ext cx="71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  Вероятность того, что лампочка в люстре перегорит в течение года, равна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0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Считая, ч то лампочки перегорают независимо друг от друга, найдите вероятность того, что в течение го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ерегорят все лампочки в люстр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если в ней: а) две лампочки, б) три лампочки,  в) четыре ламп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1357200" y="4500720"/>
            <a:ext cx="721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 У Ивана Ивановича есть компьютер, на котором он пишет книгу воспоминаний. Все клавиши работают хорошо, и только клавиша М работает неправильно.  С вероятностью    при нажатии получается буква П, а с вероятностью     – буква М.  Найдите вероятность того, что фраза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«Много лет тому назад, когда я был маленьким мальчиком»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удет написана правильно с первой попы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2"/>
              <p:cNvSpPr txBox="1"/>
              <p:nvPr/>
            </p:nvSpPr>
            <p:spPr>
              <a:xfrm>
                <a:off x="5429160" y="5000760"/>
                <a:ext cx="139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3"/>
              <p:cNvSpPr txBox="1"/>
              <p:nvPr/>
            </p:nvSpPr>
            <p:spPr>
              <a:xfrm>
                <a:off x="4071960" y="5357880"/>
                <a:ext cx="214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Box 1"/>
          <p:cNvSpPr/>
          <p:nvPr/>
        </p:nvSpPr>
        <p:spPr>
          <a:xfrm>
            <a:off x="642960" y="5000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Как ошибся Эдгар 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"/>
          <p:cNvSpPr/>
          <p:nvPr/>
        </p:nvSpPr>
        <p:spPr>
          <a:xfrm>
            <a:off x="4211640" y="1484280"/>
            <a:ext cx="4334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наменитый автор детективов Э.А. По в эпилоге рассказа «Мари Роже» рассуждает о вероятностях, возникающих при бросаниях костей, таким образ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Franklin Gothic Book"/>
              </a:rPr>
              <a:t>«…обычного читателя почти невозможно убедить, что при игре в кости двукратное выпадение шестерки делает почти невероятным выпадение её в третий раз и дает все основания поставить против этого любую сумму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7" descr="henkin3"/>
          <p:cNvPicPr/>
          <p:nvPr/>
        </p:nvPicPr>
        <p:blipFill>
          <a:blip r:embed="rId1"/>
          <a:stretch/>
        </p:blipFill>
        <p:spPr>
          <a:xfrm>
            <a:off x="468360" y="1484280"/>
            <a:ext cx="3352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1"/>
          <p:cNvSpPr/>
          <p:nvPr/>
        </p:nvSpPr>
        <p:spPr>
          <a:xfrm>
            <a:off x="428760" y="6429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Ясно, что ошибку допускает сам Эдгар По.  Он не учитывает, что все испытания независимы друг от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ействительно, вероятность выпадения трех шестерок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2"/>
              <p:cNvSpPr txBox="1"/>
              <p:nvPr/>
            </p:nvSpPr>
            <p:spPr>
              <a:xfrm>
                <a:off x="6156360" y="1628640"/>
                <a:ext cx="19638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TextBox 3"/>
          <p:cNvSpPr/>
          <p:nvPr/>
        </p:nvSpPr>
        <p:spPr>
          <a:xfrm>
            <a:off x="571680" y="2428920"/>
            <a:ext cx="778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Эта вероятность действительно м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днако, шестерка уже выпала два раза. Это событие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уществилось!  Поэтому, чтобы получить три шестерки подря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остаточно еще одной шестерки. Вероятность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3"/>
              <p:cNvSpPr txBox="1"/>
              <p:nvPr/>
            </p:nvSpPr>
            <p:spPr>
              <a:xfrm>
                <a:off x="4143240" y="5572080"/>
                <a:ext cx="331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9" name="TextBox 5"/>
          <p:cNvSpPr/>
          <p:nvPr/>
        </p:nvSpPr>
        <p:spPr>
          <a:xfrm>
            <a:off x="857160" y="521496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аким образом, вероятность выпадения трех шестерок подряд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же выпали две, не          ,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4"/>
              <p:cNvSpPr txBox="1"/>
              <p:nvPr/>
            </p:nvSpPr>
            <p:spPr>
              <a:xfrm>
                <a:off x="3143160" y="5715000"/>
                <a:ext cx="571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5"/>
              <p:cNvSpPr txBox="1"/>
              <p:nvPr/>
            </p:nvSpPr>
            <p:spPr>
              <a:xfrm>
                <a:off x="6357960" y="3929040"/>
                <a:ext cx="331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72" name="Picture 11" descr="kosti"/>
          <p:cNvPicPr/>
          <p:nvPr/>
        </p:nvPicPr>
        <p:blipFill>
          <a:blip r:embed="rId1"/>
          <a:stretch/>
        </p:blipFill>
        <p:spPr>
          <a:xfrm>
            <a:off x="5867280" y="5543640"/>
            <a:ext cx="1238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1"/>
          <p:cNvSpPr/>
          <p:nvPr/>
        </p:nvSpPr>
        <p:spPr>
          <a:xfrm>
            <a:off x="1000080" y="35712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Используемая литература и 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"/>
          <p:cNvSpPr/>
          <p:nvPr/>
        </p:nvSpPr>
        <p:spPr>
          <a:xfrm>
            <a:off x="539640" y="1052640"/>
            <a:ext cx="76438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Теория вероятностей и статистика /Ю. Н. Тюрин, А. А. Макаров, И. Р. Высоцкий, И. В. Ященко. – М.:МЦНМО:АО «Московские учебники»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googl.ru/imglanding?q=%D0%BC%D0%B0%D1%82%D0%B5%D0%BC%D0%B0%D1%82%D0%B8%D0%BA%D0%B0+%D0%BA%D0%B0%D1%80%D1%82%D0%B8%D0%BD%D0%BA%D0%B8&amp;hl=ru&amp;sa=G&amp;tbm=isch&amp;tbnid=5bZ_3O7j0TekvM:&amp;imgrefurl=http://moto-vip.ru/wp-includes/records/index.html&amp;imgurl=http://moto-vip.ru/wp-includes/images/dcs_49882.jpg&amp;w=323&amp;h=400&amp;ei=pending&amp;zoom=1&amp;iact=hc&amp;oei=XVCUTZOmDMSytAaP7N2tCA&amp;page=10&amp;tbnh=176&amp;tbnw=142&amp;start=215&amp;ndsp=25&amp;ved=1t:429,r:10,s:215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Franklin Gothic Book"/>
              </a:rPr>
              <a:t>http://www.googl.ru/imglanding?q=%D0%BC%D0%B0%D1%82%D0%B5%D0%BC%D0%B0%D1%82%D0%B8%D0%BA%D0%B0+%D0%BA%D0%B0%D1%80%D1%82%D0%B8%D0%BD%D0%BA%D0%B8&amp;hl=ru&amp;sa=G&amp;tbm=isch&amp;prmd=ivns&amp;tbnid=b_dgTioDRfxhRM:&amp;imgrefurl=http://moscow.olx.ru/iid-50192485&amp;imgurl=http://images04.olx.ru/ui/3/29/85/50192485_1.jpg&amp;w=625&amp;h=500&amp;ei=pending&amp;zoom=1&amp;iact=hc&amp;oei=XVCUTZOmDMSytAaP7N2tCA&amp;page=1&amp;tbnh=150&amp;tbnw=186&amp;start=0&amp;ndsp=25&amp;ved=1t:429,r:3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1%8D%D0%B4%D0%B3%D0%B0%D1%80+%D0%BF%D0%BE&amp;hl=ru&amp;tbm=isch&amp;tbnid=K19O7nb-zoHczM:&amp;imgrefurl=http://www.chesspro.ru/_events/2007/henkel.html&amp;imgurl=http://www.chesspro.ru/_images/materials/2007/henkin3.jpg&amp;w=352&amp;h=420&amp;ei=pending&amp;zoom=1&amp;iact=hc&amp;oei=GFKUTYiYD8fEtA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qbHGCA&amp;page=1&amp;tbnh=135&amp;tbnw=111&amp;start=0&amp;ved=1t:429,r:0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googl.ru/imglanding?q=%D0%BF%D1%80%D0%B8%D1%80%D0%BE%D0%B4%D0%B0+%D0%BA%D0%B0%D1%80%D1%82%D0%B8%D0%BD%D0%BA%D0%B8&amp;hl=ru&amp;sa=X&amp;tbm=isch&amp;prmd=ivns&amp;tbnid=zk2j2j7odqMk3M:&amp;imgrefurl=http://foto.lib.ru/s/shatalow_s_w/alb_0010/priroda05.htm&amp;imgurl=http://foto.lib.ru/img/s/shatalow_s_w/alb_0010/priroda05.jpg&amp;w=800&amp;h=600&amp;ei=lFSUTZq7Hs2GswbI1MCtCA&amp;zoom=1&amp;iact=hc&amp;oei=lFSUTZq7Hs2GswbI1MCtCA&amp;page=1&amp;tbnh=124&amp;tbnw=166&amp;start=0&amp;ved=1t:429,r:11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0%BF%D1%80%D0%B8%D1%80%D0%BE%D0%B4%D0%B0+%D0%BA%D0%B0%D1%80%D1%82%D0%B8%D0%BD%D0%BA%D0%B8&amp;hl=ru&amp;sa=X&amp;tbm=isch&amp;tbnid=2FaGPyFTxTG7CM:&amp;imgrefurl=http://www.liveinternet.ru/users/pomari/rubric/1085543/page3.html&amp;imgurl=http://img1.liveinternet.ru/images/attach/c/0//43/749/43749806_1242166916_09_01_2008_0020762001199881584_david_h_collier.jpg&amp;w=600&amp;h=400&amp;ei=pending&amp;zoom=1&amp;iact=hc&amp;oei=lFSUTZq7Hs2GswbI1MCtCA&amp;page=7&amp;tbnh=125&amp;tbnw=165&amp;start=184&amp;ved=1t:429,r:22,s:184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0%B8%D0%B3%D1%80%D0%B0%D0%BB%D1%8C%D0%BD%D1%8B%D0%B5+%D0%BA%D0%BE%D1%81%D1%82%D0%B8&amp;hl=ru&amp;sa=X&amp;tbm=isch&amp;prmd=ivns&amp;tbnid=9wmP89XErhYCKM:&amp;imgrefurl=http://www.club-tarot.ru/preds_sist_gadan.html&amp;imgurl=http://www.club-tarot.ru/images/kosti/334.jpg&amp;w=300&amp;h=227&amp;ei=uVWUTe2fI4XUsgaIqInPCA&amp;zoom=1&amp;iact=hc&amp;oei=uVWUTe2fI4XUsgaIqInPCA&amp;page=1&amp;tbnh=155&amp;tbnw=196&amp;start=0&amp;ndsp=24&amp;ved=1t:429,r:18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0%B8%D0%B3%D1%80%D0%B0%D0%BB%D1%8C%D0%BD%D1%8B%D0%B5+%D0%BA%D0%BE%D1%81%D1%82%D0%B8&amp;hl=ru&amp;sa=X&amp;tbm=isch&amp;tbnid=bZjz5ZJnofis4M:&amp;imgrefurl=http://www.prisnilos.su/gadanie/gadanie_kosti.html&amp;imgurl=http://www.prisnilos.su/flash/kosti.jpg&amp;w=130&amp;h=138&amp;ei=pending&amp;zoom=1&amp;iact=hc&amp;oei=uVWUTe2fI4XUsgaIqInPCA&amp;page=3&amp;tbnh=110&amp;tbnw=104&amp;start=45&amp;ndsp=21&amp;ved=1t:429,r:9,s:45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1"/>
          <p:cNvSpPr/>
          <p:nvPr/>
        </p:nvSpPr>
        <p:spPr>
          <a:xfrm>
            <a:off x="714240" y="85716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жизни мы часто встречаемся с ситуациями, когда события некоторым образом связаны. По наступлению одного из них можно судить о вероятности наступления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2"/>
          <p:cNvSpPr/>
          <p:nvPr/>
        </p:nvSpPr>
        <p:spPr>
          <a:xfrm>
            <a:off x="500040" y="600084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на небе тучи, то дождь более вероятен, чем в ясную по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6" descr="priroda05"/>
          <p:cNvPicPr/>
          <p:nvPr/>
        </p:nvPicPr>
        <p:blipFill>
          <a:blip r:embed="rId1"/>
          <a:stretch/>
        </p:blipFill>
        <p:spPr>
          <a:xfrm>
            <a:off x="0" y="2349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43749806_1242166916_09_01_2008_0020762001199881584_david_h_collier"/>
          <p:cNvPicPr/>
          <p:nvPr/>
        </p:nvPicPr>
        <p:blipFill>
          <a:blip r:embed="rId2"/>
          <a:stretch/>
        </p:blipFill>
        <p:spPr>
          <a:xfrm>
            <a:off x="4500720" y="2349360"/>
            <a:ext cx="4537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Box 1"/>
          <p:cNvSpPr/>
          <p:nvPr/>
        </p:nvSpPr>
        <p:spPr>
          <a:xfrm>
            <a:off x="642960" y="64296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ывают также события, которые явно не связ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пример при бросании двух костей результат бросания первой кости  явно не влияет на результат бросания второй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857160" y="592920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о такие события  говорят, что они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независ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6" descr="334"/>
          <p:cNvPicPr/>
          <p:nvPr/>
        </p:nvPicPr>
        <p:blipFill>
          <a:blip r:embed="rId1"/>
          <a:stretch/>
        </p:blipFill>
        <p:spPr>
          <a:xfrm>
            <a:off x="3143160" y="2347920"/>
            <a:ext cx="36608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1"/>
          <p:cNvSpPr/>
          <p:nvPr/>
        </p:nvSpPr>
        <p:spPr>
          <a:xfrm>
            <a:off x="1000080" y="92880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ля таких событий справедлива очень важн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"/>
          <p:cNvSpPr/>
          <p:nvPr/>
        </p:nvSpPr>
        <p:spPr>
          <a:xfrm>
            <a:off x="1187280" y="1628640"/>
            <a:ext cx="62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A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B)=P(A)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·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5"/>
          <p:cNvSpPr/>
          <p:nvPr/>
        </p:nvSpPr>
        <p:spPr>
          <a:xfrm>
            <a:off x="857160" y="3714840"/>
            <a:ext cx="728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усть событие А – «на первой кости выпала шестерка».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(А)=     . Событие В – «на второй кости выпала шестер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огда Р(В)=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и бросании двух костей выпадение двух шесте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является событием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и его вероятность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3"/>
              <p:cNvSpPr txBox="1"/>
              <p:nvPr/>
            </p:nvSpPr>
            <p:spPr>
              <a:xfrm>
                <a:off x="1571760" y="4000680"/>
                <a:ext cx="331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4"/>
              <p:cNvSpPr txBox="1"/>
              <p:nvPr/>
            </p:nvSpPr>
            <p:spPr>
              <a:xfrm>
                <a:off x="2195640" y="4581360"/>
                <a:ext cx="331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6372360" y="5734080"/>
                <a:ext cx="500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Box 1"/>
          <p:cNvSpPr/>
          <p:nvPr/>
        </p:nvSpPr>
        <p:spPr>
          <a:xfrm>
            <a:off x="571680" y="642960"/>
            <a:ext cx="6786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Определение: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обытия А и В называ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зависимым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вероятность их пересечения равна произведению их вероя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"/>
          <p:cNvSpPr/>
          <p:nvPr/>
        </p:nvSpPr>
        <p:spPr>
          <a:xfrm>
            <a:off x="1714680" y="2357280"/>
            <a:ext cx="58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A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B)=P(A)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·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dcs_49882"/>
          <p:cNvPicPr/>
          <p:nvPr/>
        </p:nvPicPr>
        <p:blipFill>
          <a:blip r:embed="rId1"/>
          <a:stretch/>
        </p:blipFill>
        <p:spPr>
          <a:xfrm>
            <a:off x="585720" y="3284640"/>
            <a:ext cx="2327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Box 1"/>
          <p:cNvSpPr/>
          <p:nvPr/>
        </p:nvSpPr>
        <p:spPr>
          <a:xfrm>
            <a:off x="1143000" y="21420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Упраж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"/>
          <p:cNvSpPr/>
          <p:nvPr/>
        </p:nvSpPr>
        <p:spPr>
          <a:xfrm>
            <a:off x="1143000" y="1000080"/>
            <a:ext cx="664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бытия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, V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независимы. Найдите вероятность события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V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, если  а)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4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6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=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4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3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=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"/>
          <p:cNvSpPr/>
          <p:nvPr/>
        </p:nvSpPr>
        <p:spPr>
          <a:xfrm>
            <a:off x="1214280" y="2643120"/>
            <a:ext cx="650088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 Случайным образом выбирают натуральное число от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до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4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Событие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С – «число четное»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Являются ли события С и В независимыми, если событие В состоит в том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выбранное число делится на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выбранное число делится на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выбранное число делится на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4"/>
          <p:cNvSpPr/>
          <p:nvPr/>
        </p:nvSpPr>
        <p:spPr>
          <a:xfrm>
            <a:off x="1285920" y="4929120"/>
            <a:ext cx="69292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клавиатуре компьютера 105 клавиш. Найдите вероятность того, что обезьяна, нажав поочередно две клавиши случайным образом, напишет слово «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1143360" y="602136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5"/>
          <p:cNvSpPr/>
          <p:nvPr/>
        </p:nvSpPr>
        <p:spPr>
          <a:xfrm>
            <a:off x="534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1835280" y="1413000"/>
            <a:ext cx="6840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(U)*P(V)*P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0,4*0,6*0,5=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0,4*0,3*0,1=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10">
            <a:hlinkClick r:id="rId1" action="ppaction://hlinksldjump"/>
          </p:cNvPr>
          <p:cNvSpPr/>
          <p:nvPr/>
        </p:nvSpPr>
        <p:spPr>
          <a:xfrm>
            <a:off x="7020000" y="551664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63" h="21600">
                <a:moveTo>
                  <a:pt x="22133" y="10800"/>
                </a:moveTo>
                <a:lnTo>
                  <a:pt x="32638" y="3794"/>
                </a:lnTo>
                <a:lnTo>
                  <a:pt x="32638" y="17806"/>
                </a:lnTo>
                <a:close/>
              </a:path>
              <a:path fill="darken" w="51263" h="21600">
                <a:moveTo>
                  <a:pt x="18625" y="3794"/>
                </a:moveTo>
                <a:lnTo>
                  <a:pt x="20287" y="3794"/>
                </a:lnTo>
                <a:lnTo>
                  <a:pt x="20287" y="17806"/>
                </a:lnTo>
                <a:lnTo>
                  <a:pt x="18625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5"/>
          <p:cNvSpPr/>
          <p:nvPr/>
        </p:nvSpPr>
        <p:spPr>
          <a:xfrm>
            <a:off x="1692360" y="1341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547640" y="299880"/>
            <a:ext cx="69120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 – «число четно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(С)=          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– «число делится на 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В)=                 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∩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– «число четное и делится на 3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м справедливость равенства Р(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= Р(С)* Р(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я С и В незави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обытия С и В незави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события С и В не являются независим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7"/>
              <p:cNvSpPr txBox="1"/>
              <p:nvPr/>
            </p:nvSpPr>
            <p:spPr>
              <a:xfrm>
                <a:off x="4716360" y="189000"/>
                <a:ext cx="792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8"/>
              <p:cNvSpPr txBox="1"/>
              <p:nvPr/>
            </p:nvSpPr>
            <p:spPr>
              <a:xfrm>
                <a:off x="2340000" y="981000"/>
                <a:ext cx="865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9"/>
              <p:cNvSpPr txBox="1"/>
              <p:nvPr/>
            </p:nvSpPr>
            <p:spPr>
              <a:xfrm>
                <a:off x="2627280" y="1773360"/>
                <a:ext cx="1008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11"/>
              <p:cNvSpPr txBox="1"/>
              <p:nvPr/>
            </p:nvSpPr>
            <p:spPr>
              <a:xfrm>
                <a:off x="1835280" y="3141720"/>
                <a:ext cx="2376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12">
            <a:hlinkClick r:id="rId1" action="ppaction://hlinksldjump"/>
          </p:cNvPr>
          <p:cNvSpPr/>
          <p:nvPr/>
        </p:nvSpPr>
        <p:spPr>
          <a:xfrm>
            <a:off x="7020000" y="5877000"/>
            <a:ext cx="1512720" cy="50472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708" h="21600">
                <a:moveTo>
                  <a:pt x="0" y="0"/>
                </a:moveTo>
                <a:lnTo>
                  <a:pt x="64708" y="0"/>
                </a:lnTo>
                <a:lnTo>
                  <a:pt x="64708" y="21600"/>
                </a:lnTo>
                <a:lnTo>
                  <a:pt x="0" y="21600"/>
                </a:lnTo>
                <a:close/>
              </a:path>
              <a:path fill="lightenLess" w="64708" h="21600">
                <a:moveTo>
                  <a:pt x="0" y="0"/>
                </a:moveTo>
                <a:lnTo>
                  <a:pt x="64708" y="0"/>
                </a:lnTo>
                <a:lnTo>
                  <a:pt x="63308" y="1400"/>
                </a:lnTo>
                <a:lnTo>
                  <a:pt x="1400" y="1400"/>
                </a:lnTo>
                <a:close/>
              </a:path>
              <a:path fill="darken" w="64708" h="21600">
                <a:moveTo>
                  <a:pt x="64708" y="0"/>
                </a:moveTo>
                <a:lnTo>
                  <a:pt x="64708" y="21600"/>
                </a:lnTo>
                <a:lnTo>
                  <a:pt x="63308" y="20200"/>
                </a:lnTo>
                <a:lnTo>
                  <a:pt x="63308" y="1400"/>
                </a:lnTo>
                <a:close/>
              </a:path>
              <a:path fill="darkenLess" w="64708" h="21600">
                <a:moveTo>
                  <a:pt x="64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8" y="20200"/>
                </a:lnTo>
                <a:close/>
              </a:path>
              <a:path fill="lighten" w="64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08" h="21600">
                <a:moveTo>
                  <a:pt x="28855" y="10800"/>
                </a:moveTo>
                <a:lnTo>
                  <a:pt x="39360" y="3794"/>
                </a:lnTo>
                <a:lnTo>
                  <a:pt x="39360" y="17806"/>
                </a:lnTo>
                <a:close/>
              </a:path>
              <a:path fill="darken" w="64708" h="21600">
                <a:moveTo>
                  <a:pt x="25347" y="3794"/>
                </a:moveTo>
                <a:lnTo>
                  <a:pt x="27010" y="3794"/>
                </a:lnTo>
                <a:lnTo>
                  <a:pt x="27010" y="17806"/>
                </a:lnTo>
                <a:lnTo>
                  <a:pt x="25347" y="17806"/>
                </a:lnTo>
                <a:close/>
              </a:path>
            </a:pathLst>
          </a:cu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5"/>
          <p:cNvSpPr/>
          <p:nvPr/>
        </p:nvSpPr>
        <p:spPr>
          <a:xfrm>
            <a:off x="1908000" y="836640"/>
            <a:ext cx="511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О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Й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ОЙ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2700360" y="692280"/>
                <a:ext cx="476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7"/>
              <p:cNvSpPr txBox="1"/>
              <p:nvPr/>
            </p:nvSpPr>
            <p:spPr>
              <a:xfrm>
                <a:off x="2700360" y="1484280"/>
                <a:ext cx="476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8"/>
              <p:cNvSpPr txBox="1"/>
              <p:nvPr/>
            </p:nvSpPr>
            <p:spPr>
              <a:xfrm>
                <a:off x="2843280" y="2349360"/>
                <a:ext cx="1944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6" name="AutoShape 9">
            <a:hlinkClick r:id="rId1" action="ppaction://hlinksldjump"/>
          </p:cNvPr>
          <p:cNvSpPr/>
          <p:nvPr/>
        </p:nvSpPr>
        <p:spPr>
          <a:xfrm>
            <a:off x="6443640" y="6021360"/>
            <a:ext cx="1657440" cy="576360"/>
          </a:xfrm>
          <a:custGeom>
            <a:avLst/>
            <a:gdLst>
              <a:gd name="textAreaLeft" fmla="*/ 37080 w 1657440"/>
              <a:gd name="textAreaRight" fmla="*/ 1620360 w 1657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90" h="21600">
                <a:moveTo>
                  <a:pt x="0" y="0"/>
                </a:moveTo>
                <a:lnTo>
                  <a:pt x="62090" y="0"/>
                </a:lnTo>
                <a:lnTo>
                  <a:pt x="62090" y="21600"/>
                </a:lnTo>
                <a:lnTo>
                  <a:pt x="0" y="21600"/>
                </a:lnTo>
                <a:close/>
              </a:path>
              <a:path fill="lightenLess" w="62090" h="21600">
                <a:moveTo>
                  <a:pt x="0" y="0"/>
                </a:moveTo>
                <a:lnTo>
                  <a:pt x="62090" y="0"/>
                </a:lnTo>
                <a:lnTo>
                  <a:pt x="60690" y="1400"/>
                </a:lnTo>
                <a:lnTo>
                  <a:pt x="1400" y="1400"/>
                </a:lnTo>
                <a:close/>
              </a:path>
              <a:path fill="darken" w="62090" h="21600">
                <a:moveTo>
                  <a:pt x="62090" y="0"/>
                </a:moveTo>
                <a:lnTo>
                  <a:pt x="62090" y="21600"/>
                </a:lnTo>
                <a:lnTo>
                  <a:pt x="60690" y="20200"/>
                </a:lnTo>
                <a:lnTo>
                  <a:pt x="60690" y="1400"/>
                </a:lnTo>
                <a:close/>
              </a:path>
              <a:path fill="darkenLess" w="62090" h="21600">
                <a:moveTo>
                  <a:pt x="62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0" y="20200"/>
                </a:lnTo>
                <a:close/>
              </a:path>
              <a:path fill="lighten" w="62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90" h="21600">
                <a:moveTo>
                  <a:pt x="27546" y="10800"/>
                </a:moveTo>
                <a:lnTo>
                  <a:pt x="38051" y="3794"/>
                </a:lnTo>
                <a:lnTo>
                  <a:pt x="38051" y="17806"/>
                </a:lnTo>
                <a:close/>
              </a:path>
              <a:path fill="darken" w="62090" h="21600">
                <a:moveTo>
                  <a:pt x="24038" y="3794"/>
                </a:moveTo>
                <a:lnTo>
                  <a:pt x="25701" y="3794"/>
                </a:lnTo>
                <a:lnTo>
                  <a:pt x="25701" y="17806"/>
                </a:lnTo>
                <a:lnTo>
                  <a:pt x="24038" y="17806"/>
                </a:lnTo>
                <a:close/>
              </a:path>
            </a:pathLst>
          </a:cu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20:25Z</dcterms:created>
  <dc:creator>Admin</dc:creator>
  <dc:description/>
  <dc:language>en-US</dc:language>
  <cp:lastModifiedBy>Admin</cp:lastModifiedBy>
  <dcterms:modified xsi:type="dcterms:W3CDTF">2012-03-23T14:56:01Z</dcterms:modified>
  <cp:revision>12</cp:revision>
  <dc:subject/>
  <dc:title>Слайд 1</dc:title>
</cp:coreProperties>
</file>