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BCB2-1500-4115-97FD-F3E752800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89AE-D27D-471F-8FC3-A490025AD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5AE7-9A9D-4F2A-BB48-48B019FC4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B608-8E3C-4460-B655-5C0AB95BD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602D3-21FA-46A8-9134-EEB548FE3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7E6FC-C135-4AF4-91D9-74DD42B9D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21035-419A-4EAD-BBB1-3A95C4413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F12CF-9F21-4A70-A836-2FDA4B7C0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94745-979C-4AF1-B8E2-21B82435A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5CF57-E254-4894-AD9A-32F2AF3A7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2E7E5-8BC2-4FDE-A21E-7814BCE97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0587-9314-40D2-B048-C09FAF63B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9A8F7-12F1-4B1E-91C0-E066F33E6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8370B-E684-45FD-8612-39DA6785C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88BF6-DF9A-4CE8-A413-6B7F7DD97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FA665-A383-49C6-8B3E-CB96786D6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AEFE7-46D3-4171-95E0-15601C5FF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C16B-D6F3-4310-A3E3-36C2DC30C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6128-94D1-4B39-8B96-3840FCB34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942E-37F2-432D-BF9B-234138B5F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1475-10DB-4BB3-A735-F70FEAA08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DDFE-7E68-40B8-B608-90A4FD43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A859-AFB4-4B30-93E1-2D994738C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28D7-2593-491D-A7C9-45C568D44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ED60A-7BB8-46EA-A10A-DCD7F670948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9760" y="-84960"/>
            <a:ext cx="2431080" cy="2251800"/>
            <a:chOff x="7169760" y="-84960"/>
            <a:chExt cx="2431080" cy="225180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9760" y="-84960"/>
              <a:ext cx="2431080" cy="2251800"/>
              <a:chOff x="7169760" y="-84960"/>
              <a:chExt cx="2431080" cy="22518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9760" y="-84960"/>
                <a:ext cx="2431080" cy="2251800"/>
                <a:chOff x="7169760" y="-84960"/>
                <a:chExt cx="2431080" cy="225180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040"/>
                  <a:ext cx="244080" cy="198720"/>
                </a:xfrm>
                <a:custGeom>
                  <a:avLst/>
                  <a:gdLst>
                    <a:gd name="textAreaLeft" fmla="*/ 0 w 244080"/>
                    <a:gd name="textAreaRight" fmla="*/ 244440 w 24408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1160" y="521640"/>
                  <a:ext cx="429480" cy="695160"/>
                </a:xfrm>
                <a:custGeom>
                  <a:avLst/>
                  <a:gdLst>
                    <a:gd name="textAreaLeft" fmla="*/ 0 w 429480"/>
                    <a:gd name="textAreaRight" fmla="*/ 429840 w 42948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8760" y="284400"/>
                  <a:ext cx="805680" cy="1425600"/>
                </a:xfrm>
                <a:custGeom>
                  <a:avLst/>
                  <a:gdLst>
                    <a:gd name="textAreaLeft" fmla="*/ 0 w 805680"/>
                    <a:gd name="textAreaRight" fmla="*/ 806040 w 80568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0320" y="-25560"/>
                  <a:ext cx="1209600" cy="2133360"/>
                </a:xfrm>
                <a:custGeom>
                  <a:avLst/>
                  <a:gdLst>
                    <a:gd name="textAreaLeft" fmla="*/ 0 w 1209600"/>
                    <a:gd name="textAreaRight" fmla="*/ 1209960 w 120960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716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680" y="1276560"/>
                  <a:ext cx="289080" cy="228600"/>
                </a:xfrm>
                <a:custGeom>
                  <a:avLst/>
                  <a:gdLst>
                    <a:gd name="textAreaLeft" fmla="*/ 0 w 289080"/>
                    <a:gd name="textAreaRight" fmla="*/ 289440 w 2890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4800"/>
                  <a:ext cx="288720" cy="233640"/>
                </a:xfrm>
                <a:custGeom>
                  <a:avLst/>
                  <a:gdLst>
                    <a:gd name="textAreaLeft" fmla="*/ 0 w 288720"/>
                    <a:gd name="textAreaRight" fmla="*/ 289080 w 28872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1680" y="217440"/>
                  <a:ext cx="285480" cy="218880"/>
                </a:xfrm>
                <a:custGeom>
                  <a:avLst/>
                  <a:gdLst>
                    <a:gd name="textAreaLeft" fmla="*/ 0 w 285480"/>
                    <a:gd name="textAreaRight" fmla="*/ 285840 w 28548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3C18A-32B2-4F93-8307-7DD4BBFAE9B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Comic Sans MS"/>
              </a:rPr>
              <a:t>Пантеон греческих богов и героев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Штрихи к портрету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-16740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333000"/>
            <a:ext cx="850752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Его воспитали две нереиды- Фетида и Эвримона;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Его могучие и умелые руки творили чудеса;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Он выковал золотой трон для Геры;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Молнии Зевсу, колесницу Гелиосу,героям доспехи,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Могучие удары его молота порой заставляют извергаться вулканы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ff0000"/>
                </a:solidFill>
                <a:latin typeface="Comic Sans MS"/>
              </a:rPr>
              <a:t>Гефест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-48132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333000"/>
            <a:ext cx="76960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Его называли «колебатель земли»;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честь него учредили «Истмийские игры»;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его честь греки создают Эрехтейон;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Русском музее Санкт –Петербурга есть статуя работы К. Растрелли;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орской и торговый город Санкт- Петербург развивался под эгидой двух олимпийских богов Гермеса и …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ff0000"/>
                </a:solidFill>
                <a:latin typeface="Comic Sans MS"/>
              </a:rPr>
              <a:t>Посейдон</a:t>
            </a:r>
            <a:r>
              <a:rPr b="0" lang="ru-RU" sz="88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-37044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836280"/>
            <a:ext cx="76960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Этот титан добровольно вступил в союз с богами олимпийцам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н первым вылепил людей из земли и вод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н изобрел разные науки и ремесла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У поэтов Гете и Байрона есть стихи ему посвященные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X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ек подарил миру симфонию А.Н.Скрябина в которой есть партия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ff0000"/>
                </a:solidFill>
                <a:latin typeface="Comic Sans MS"/>
              </a:rPr>
              <a:t>Прометей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-37044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4360" y="549360"/>
            <a:ext cx="76960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римской мифологии Минерва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дарила людям законы правосудия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арфенон считался ее главной обителью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на и Промахос (Воительница) и Паллада (Защитница)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.Веласкес в своей картине «Пряхи» использовал сюжет мифа о победе …над Арахной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ff0000"/>
                </a:solidFill>
                <a:latin typeface="Comic Sans MS"/>
              </a:rPr>
              <a:t>Афина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-167400"/>
            <a:ext cx="6870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«Илиаде» и «Одиссее» Гомера он упоминается как бог- убийца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Лук и лира его неотъемлемые спутники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У римлян он Феб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н убил дракона Пифона, осыпав его градом золотых стрел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вятилище в Дельфах храм …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скульптурах Фидия, Праксителя, и Леохара он олицетворение греческого идеала Человека;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н обитает на горе Парнас у подножия Кастальского ключа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14200" y="21384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ff0000"/>
                </a:solidFill>
                <a:latin typeface="Comic Sans MS"/>
              </a:rPr>
              <a:t>Аполлон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Ему принесли в жертву золоторунного овна;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 заточенной Данае он проник в виде золотого дождя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воего отца он низвергнул в Тартар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воему брату он уступил власть над морским царством.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428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У римлян он Бахус,Вакх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ын Зевса и царевны Семелы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 его именем связано рождение театра в Древней Греции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его свите возят на ослике старого сатира Силена- учителя…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имволы бога…:чаша и тирс-жезл увитый виноградными листьями;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ff0000"/>
                </a:solidFill>
                <a:latin typeface="Comic Sans MS"/>
              </a:rPr>
              <a:t>Дионис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428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Лувре, худ. музее мира в Париже, прекрасное творение скульптора Агесандра изумляет своим совершенство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глубокой древности различали ее как небесную, морскую, подземную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ядом с ее именемчасто употребляют эпитет Киприд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Является олицетворением производительных сил природы, часто появляется в свите диких зверей- львов, медведей, волков.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ff0000"/>
                </a:solidFill>
                <a:latin typeface="Comic Sans MS"/>
              </a:rPr>
              <a:t>Афродита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-550080"/>
            <a:ext cx="6870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285480"/>
            <a:ext cx="769608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Богиня цветения колосьев, цветов и садов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Греческой мифологии – богиня цветов Хлорид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«Богиня …» Рембрандта величайшее творение живописного искусства. Жена художника Саския явилась прообразом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Где … - там цветы, безмятежный покой и радость быти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Ее красоту и вечную молодость запечатлели  Тициан, Рембрандт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. Пуссен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9720" y="0"/>
            <a:ext cx="7529400" cy="627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ff0000"/>
                </a:solidFill>
                <a:latin typeface="Comic Sans MS"/>
              </a:rPr>
              <a:t>Флора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-335880"/>
            <a:ext cx="6870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285480" y="357120"/>
            <a:ext cx="809604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Гомер в «Илиаде» и «Одиссее» наделяет его эпитетами «смертоносный», «свирепый», «ужасный, как демон»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они его Блеск, Пламя, Шум, Ужас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Его спутница богиня Эрида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Древней Греции его культ был незначителен, а у римлян он получил широкое распространени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его честь в городах сооружали………-      место военных смотров и парадо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Ему посвящен первый месяц весны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27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ff0000"/>
                </a:solidFill>
                <a:latin typeface="Comic Sans MS"/>
              </a:rPr>
              <a:t>Марс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-478800"/>
            <a:ext cx="6870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85840" y="356760"/>
            <a:ext cx="795312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Он носится над землей и над морем на блестящий золотых крыльях. В его руках – золотой лук, за плечами- колчан со стрелам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С самим Аполлоном он может поспорить в меткости стрельбы из лука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Скульпторы Пракситель и Лисипп запечатлели его шаловливым мальчиком с крылышками, луком и стрелам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Его стрелы могли принести богам и людям: одним- счастье и радость любви, другим- муки и горечь страдания, третьим- неминуемую гибел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49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ff0000"/>
                </a:solidFill>
                <a:latin typeface="Comic Sans MS"/>
              </a:rPr>
              <a:t>Эрот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9640" y="234936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ff0000"/>
                </a:solidFill>
                <a:latin typeface="Comic Sans MS"/>
              </a:rPr>
              <a:t>Зевс</a:t>
            </a:r>
            <a:r>
              <a:rPr b="1" i="1" lang="ru-RU" sz="88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15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omic Sans MS"/>
              </a:rPr>
              <a:t>Автор работы: </a:t>
            </a:r>
            <a:br>
              <a:rPr sz="3600"/>
            </a:br>
            <a:r>
              <a:rPr b="1" i="1" lang="ru-RU" sz="3600" spc="-1" strike="noStrike">
                <a:solidFill>
                  <a:srgbClr val="ff0000"/>
                </a:solidFill>
                <a:latin typeface="Comic Sans MS"/>
              </a:rPr>
              <a:t>учитель музыки и МХК </a:t>
            </a:r>
            <a:br>
              <a:rPr sz="3600"/>
            </a:br>
            <a:r>
              <a:rPr b="1" i="1" lang="ru-RU" sz="3600" spc="-1" strike="noStrike">
                <a:solidFill>
                  <a:srgbClr val="ff0000"/>
                </a:solidFill>
                <a:latin typeface="Comic Sans MS"/>
              </a:rPr>
              <a:t>Э.С. Белоконова </a:t>
            </a:r>
            <a:br>
              <a:rPr sz="3600"/>
            </a:br>
            <a:r>
              <a:rPr b="1" i="1" lang="ru-RU" sz="3600" spc="-1" strike="noStrike">
                <a:solidFill>
                  <a:srgbClr val="ff0000"/>
                </a:solidFill>
                <a:latin typeface="Comic Sans MS"/>
              </a:rPr>
              <a:t>МБОУ ООШ №2 </a:t>
            </a:r>
            <a:br>
              <a:rPr sz="3600"/>
            </a:br>
            <a:r>
              <a:rPr b="1" i="1" lang="ru-RU" sz="3600" spc="-1" strike="noStrike">
                <a:solidFill>
                  <a:srgbClr val="ff0000"/>
                </a:solidFill>
                <a:latin typeface="Comic Sans MS"/>
              </a:rPr>
              <a:t>г. Полярный </a:t>
            </a:r>
            <a:br>
              <a:rPr sz="3600"/>
            </a:br>
            <a:r>
              <a:rPr b="1" i="1" lang="ru-RU" sz="3600" spc="-1" strike="noStrike">
                <a:solidFill>
                  <a:srgbClr val="ff0000"/>
                </a:solidFill>
                <a:latin typeface="Comic Sans MS"/>
              </a:rPr>
              <a:t>Мурманской обл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н- герой древнегреческого эпоса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ын Лаэрта и Антиклеи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упруг Пенелопы;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Царствовал на Кефалленийских островах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 Тафе Анхиал подарил ему яд для стрел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У Гомера представлен умным отважным  и терпеливым героем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Лишь верный пес Аргус узнал его после возвращения из долгих странствий;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ff0000"/>
                </a:solidFill>
                <a:latin typeface="Comic Sans MS"/>
              </a:rPr>
              <a:t>Одиссей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на была дочерью Урана и Геи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на была первой женой Зевса;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редседательствовала на пирах олимпийцев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е изображают с повязкой на глазах,с весами судьбы и мечом в руках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ff0000"/>
                </a:solidFill>
                <a:latin typeface="Comic Sans MS"/>
              </a:rPr>
              <a:t>Фемида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представлениях древних греков – это богиня красоты, любви и женского плодород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дна из двенадцати верховных богов Олимп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зменчивая и ветреная, она царит над всем миром, возбуждая любовь и радость жизн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Её власти над собой могут избежать только Афина, Гестия и Артемид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Щит-зеркало помогло ей совершенствовать её божественную красот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ff0000"/>
                </a:solidFill>
                <a:latin typeface="Comic Sans MS"/>
              </a:rPr>
              <a:t>Афродита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0T12:50:51Z</dcterms:created>
  <dc:creator> Белоконова </dc:creator>
  <dc:description/>
  <dc:language>en-US</dc:language>
  <cp:lastModifiedBy>Admin</cp:lastModifiedBy>
  <dcterms:modified xsi:type="dcterms:W3CDTF">2012-06-03T08:44:20Z</dcterms:modified>
  <cp:revision>43</cp:revision>
  <dc:subject/>
  <dc:title>П</dc:title>
</cp:coreProperties>
</file>