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45C5-B628-4416-9123-EB1D8B8EE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BB49-367B-4B23-8B23-CEDC1C774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4D20-63BE-4726-B662-C52818211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779E-854B-4E92-935E-14F61D3CF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2D4BB-8AD7-4798-B604-5646AAB82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3DABA-B0FE-4E97-9551-E3B4740BA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4BBD0-13BC-4FCE-BE7B-F036F9654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0F242-584D-4434-9007-D5473970E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55A68-9752-44B9-A0EB-0265EF893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22D82-3329-40B1-8F8A-8115D011D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617FA-9054-49E0-916D-CEB04C60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DF6D-618B-4166-8CA0-0503DC01E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0CC8F-1004-481B-9C8A-69DB71F9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9B9E0-E991-4A87-A8BE-BE4EDBFE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7F4F9-3C23-45A8-930E-2E3EFF04C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3DD90-2E82-4D6D-8FE0-AEEF38627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F1418-2B45-4D5F-8926-2E9E9FE28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442F-7F29-4D63-A016-ECE720F4F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940A-5153-4CB3-B7EC-AF38470B5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E2FC-1E6A-4D66-8E4E-8FBE7465A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87A0-ACF6-4386-A1BA-519ACA82F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A191-F847-4FDB-8917-5F060CBB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0681-3862-4BD7-9043-E25B77AD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0E00-C516-48C8-8DD0-4D0D0504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D9BC3-A32B-46C6-B2E5-92B2BF4EB4F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9760" y="-84960"/>
            <a:ext cx="2431080" cy="2251800"/>
            <a:chOff x="7169760" y="-84960"/>
            <a:chExt cx="2431080" cy="22518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9760" y="-84960"/>
              <a:ext cx="2431080" cy="2251800"/>
              <a:chOff x="7169760" y="-84960"/>
              <a:chExt cx="2431080" cy="22518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9760" y="-84960"/>
                <a:ext cx="2431080" cy="2251800"/>
                <a:chOff x="7169760" y="-84960"/>
                <a:chExt cx="2431080" cy="22518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040"/>
                  <a:ext cx="244080" cy="198720"/>
                </a:xfrm>
                <a:custGeom>
                  <a:avLst/>
                  <a:gdLst>
                    <a:gd name="textAreaLeft" fmla="*/ 0 w 244080"/>
                    <a:gd name="textAreaRight" fmla="*/ 244440 w 24408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1160" y="521640"/>
                  <a:ext cx="429480" cy="695160"/>
                </a:xfrm>
                <a:custGeom>
                  <a:avLst/>
                  <a:gdLst>
                    <a:gd name="textAreaLeft" fmla="*/ 0 w 429480"/>
                    <a:gd name="textAreaRight" fmla="*/ 429840 w 42948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8760" y="284400"/>
                  <a:ext cx="805680" cy="1425600"/>
                </a:xfrm>
                <a:custGeom>
                  <a:avLst/>
                  <a:gdLst>
                    <a:gd name="textAreaLeft" fmla="*/ 0 w 805680"/>
                    <a:gd name="textAreaRight" fmla="*/ 806040 w 80568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0320" y="-25560"/>
                  <a:ext cx="1209600" cy="2133360"/>
                </a:xfrm>
                <a:custGeom>
                  <a:avLst/>
                  <a:gdLst>
                    <a:gd name="textAreaLeft" fmla="*/ 0 w 1209600"/>
                    <a:gd name="textAreaRight" fmla="*/ 1209960 w 120960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716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680" y="1276560"/>
                  <a:ext cx="289080" cy="228600"/>
                </a:xfrm>
                <a:custGeom>
                  <a:avLst/>
                  <a:gdLst>
                    <a:gd name="textAreaLeft" fmla="*/ 0 w 289080"/>
                    <a:gd name="textAreaRight" fmla="*/ 289440 w 2890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4800"/>
                  <a:ext cx="288720" cy="233640"/>
                </a:xfrm>
                <a:custGeom>
                  <a:avLst/>
                  <a:gdLst>
                    <a:gd name="textAreaLeft" fmla="*/ 0 w 288720"/>
                    <a:gd name="textAreaRight" fmla="*/ 289080 w 28872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1680" y="217440"/>
                  <a:ext cx="285480" cy="218880"/>
                </a:xfrm>
                <a:custGeom>
                  <a:avLst/>
                  <a:gdLst>
                    <a:gd name="textAreaLeft" fmla="*/ 0 w 285480"/>
                    <a:gd name="textAreaRight" fmla="*/ 285840 w 28548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D177D-5C67-4128-AEFC-0AC5D6EC6F8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Comic Sans MS"/>
              </a:rPr>
              <a:t>Пантеон греческих богов и героев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Штрихи к портрету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-16740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333000"/>
            <a:ext cx="85075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Его воспитали две нереиды- Фетида и Эвримона;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Его могучие и умелые руки творили чудеса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Он выковал золотой трон для Геры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Молнии Зевсу, колесницу Гелиосу,героям доспехи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Могучие удары его молота порой заставляют извергаться вулканы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ff0000"/>
                </a:solidFill>
                <a:latin typeface="Comic Sans MS"/>
              </a:rPr>
              <a:t>Гефест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-48132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333000"/>
            <a:ext cx="7696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го называли «колебатель земли»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честь него учредили «Истмийские игры»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его честь греки создают Эрехтейон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Русском музее Санкт –Петербурга есть статуя работы К. Растрелли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орской и торговый город Санкт- Петербург развивался под эгидой двух олимпийских богов Гермеса и …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ff0000"/>
                </a:solidFill>
                <a:latin typeface="Comic Sans MS"/>
              </a:rPr>
              <a:t>Посейдон</a:t>
            </a:r>
            <a:r>
              <a:rPr b="0" lang="ru-RU" sz="8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-37044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836280"/>
            <a:ext cx="7696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Этот титан добровольно вступил в союз с богами олимпийцам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н первым вылепил людей из земли и вод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н изобрел разные науки и ремесл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 поэтов Гете и Байрона есть стихи ему посвященные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X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ек подарил миру симфонию А.Н.Скрябина в которой есть партия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ff0000"/>
                </a:solidFill>
                <a:latin typeface="Comic Sans MS"/>
              </a:rPr>
              <a:t>Прометей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-37044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4360" y="549360"/>
            <a:ext cx="76960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римской мифологии Минерв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дарила людям законы правосудия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арфенон считался ее главной обителью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на и Промахос (Воительница) и Паллада (Защитница)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.Веласкес в своей картине «Пряхи» использовал сюжет мифа о победе …над Арахной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ff0000"/>
                </a:solidFill>
                <a:latin typeface="Comic Sans MS"/>
              </a:rPr>
              <a:t>Афина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-16740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«Илиаде» и «Одиссее» Гомера он упоминается как бог- убийц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Лук и лира его неотъемлемые спутники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 римлян он Феб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н убил дракона Пифона, осыпав его градом золотых стрел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вятилище в Дельфах храм …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скульптурах Фидия, Праксителя, и Леохара он олицетворение греческого идеала Человека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н обитает на горе Парнас у подножия Кастальского ключ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14200" y="21384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ff0000"/>
                </a:solidFill>
                <a:latin typeface="Comic Sans MS"/>
              </a:rPr>
              <a:t>Аполлон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му принесли в жертву золоторунного овна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 заточенной Данае он проник в виде золотого дождя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воего отца он низвергнул в Тартар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воему брату он уступил власть над морским царством.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428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 римлян он Бахус,Вакх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ын Зевса и царевны Семелы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 его именем связано рождение театра в Древней Греции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его свите возят на ослике старого сатира Силена- учителя…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имволы бога…:чаша и тирс-жезл увитый виноградными листьями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f0000"/>
                </a:solidFill>
                <a:latin typeface="Comic Sans MS"/>
              </a:rPr>
              <a:t>Дионис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428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Лувре, худ. музее мира в Париже, прекрасное творение скульптора Агесандра изумляет своим совершенство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глубокой древности различали ее как небесную, морскую, подземную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ядом с ее именемчасто употребляют эпитет Киприд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Является олицетворением производительных сил природы, часто появляется в свите диких зверей- львов, медведей, волков.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ff0000"/>
                </a:solidFill>
                <a:latin typeface="Comic Sans MS"/>
              </a:rPr>
              <a:t>Афродита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-55008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285480"/>
            <a:ext cx="769608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огиня цветения колосьев, цветов и садов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Греческой мифологии – богиня цветов Хлорид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«Богиня …» Рембрандта величайшее творение живописного искусства. Жена художника Саския явилась прообразом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де … - там цветы, безмятежный покой и радость быт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Ее красоту и вечную молодость запечатлели  Тициан, Рембрандт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. Пуссен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9720" y="0"/>
            <a:ext cx="7529400" cy="627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ff0000"/>
                </a:solidFill>
                <a:latin typeface="Comic Sans MS"/>
              </a:rPr>
              <a:t>Флора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-33588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85480" y="357120"/>
            <a:ext cx="809604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омер в «Илиаде» и «Одиссее» наделяет его эпитетами «смертоносный», «свирепый», «ужасный, как демон»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они его Блеск, Пламя, Шум, Ужас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го спутница богиня Эрида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Древней Греции его культ был незначителен, а у римлян он получил широкое распространени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его честь в городах сооружали………-      место военных смотров и парад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му посвящен первый месяц весны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27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ff0000"/>
                </a:solidFill>
                <a:latin typeface="Comic Sans MS"/>
              </a:rPr>
              <a:t>Марс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-47880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85840" y="356760"/>
            <a:ext cx="795312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Он носится над землей и над морем на блестящий золотых крыльях. В его руках – золотой лук, за плечами- колчан со стрелам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С самим Аполлоном он может поспорить в меткости стрельбы из лука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Скульпторы Пракситель и Лисипп запечатлели его шаловливым мальчиком с крылышками, луком и стрелам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Его стрелы могли принести богам и людям: одним- счастье и радость любви, другим- муки и горечь страдания, третьим- неминуемую гибел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49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f0000"/>
                </a:solidFill>
                <a:latin typeface="Comic Sans MS"/>
              </a:rPr>
              <a:t>Эрот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9640" y="234936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f0000"/>
                </a:solidFill>
                <a:latin typeface="Comic Sans MS"/>
              </a:rPr>
              <a:t>Зевс</a:t>
            </a:r>
            <a:r>
              <a:rPr b="1" i="1" lang="ru-RU" sz="8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15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omic Sans MS"/>
              </a:rPr>
              <a:t>Автор работы: </a:t>
            </a: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Comic Sans MS"/>
              </a:rPr>
              <a:t>учитель музыки и МХК </a:t>
            </a: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Comic Sans MS"/>
              </a:rPr>
              <a:t>Э.С. Белоконова </a:t>
            </a: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Comic Sans MS"/>
              </a:rPr>
              <a:t>МБОУ ООШ №2 </a:t>
            </a: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Comic Sans MS"/>
              </a:rPr>
              <a:t>г. Полярный </a:t>
            </a: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Comic Sans MS"/>
              </a:rPr>
              <a:t>Мурманской обл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н- герой древнегреческого эпос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ын Лаэрта и Антиклеи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упруг Пенелопы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Царствовал на Кефалленийских островах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 Тафе Анхиал подарил ему яд для стрел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 Гомера представлен умным отважным  и терпеливым героем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Лишь верный пес Аргус узнал его после возвращения из долгих странствий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ff0000"/>
                </a:solidFill>
                <a:latin typeface="Comic Sans MS"/>
              </a:rPr>
              <a:t>Одиссей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на была дочерью Урана и Геи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на была первой женой Зевса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редседательствовала на пирах олимпийцев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е изображают с повязкой на глазах,с весами судьбы и мечом в руках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ff0000"/>
                </a:solidFill>
                <a:latin typeface="Comic Sans MS"/>
              </a:rPr>
              <a:t>Фемида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представлениях древних греков – это богиня красоты, любви и женского плодород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дна из двенадцати верховных богов Олимп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зменчивая и ветреная, она царит над всем миром, возбуждая любовь и радость жизн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ё власти над собой могут избежать только Афина, Гестия и Артемид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Щит-зеркало помогло ей совершенствовать её божественную красот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ff0000"/>
                </a:solidFill>
                <a:latin typeface="Comic Sans MS"/>
              </a:rPr>
              <a:t>Афродита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0T12:50:51Z</dcterms:created>
  <dc:creator> Белоконова </dc:creator>
  <dc:description/>
  <dc:language>en-US</dc:language>
  <cp:lastModifiedBy>Admin</cp:lastModifiedBy>
  <dcterms:modified xsi:type="dcterms:W3CDTF">2012-06-03T08:44:20Z</dcterms:modified>
  <cp:revision>43</cp:revision>
  <dc:subject/>
  <dc:title>П</dc:title>
</cp:coreProperties>
</file>