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3.gif" ContentType="image/gif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613-9FD2-4851-A5AE-3CAD23BF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D68-57C7-48B1-A23F-DF3C582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2E7-57F9-4B28-908E-164283A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7FA-E420-44CB-9D43-B219A169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F96-45D9-444A-A9A6-BD295D4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C791-DD7F-4915-B3D9-8A8B0AE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AA9-3CC0-479A-BD6B-7159A4D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BD74-F91B-4158-AA5F-F292098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59E-3CF1-4580-8A69-EA8E1B8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6159-9E34-4FB0-97B2-D559815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67D2-1E05-4CE2-A622-AEDC4D9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2D0-7D09-45D3-B87A-D67AE264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433-F694-4900-8DBE-1A5A5F7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8B60-94B3-4C0B-8203-B784F2D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DA77-1B61-4B44-95EF-A75A9E0F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4B8-51C3-47B1-88B8-18FFB964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1580-B86B-4EF2-A1A7-B5559A7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F68-7BD3-4728-9092-336EB17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BEC-4400-4687-90D2-E08746F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8FA-3F28-4FCD-8E3E-CA348541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F1B-F072-4CEA-AEC4-8B2F282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26B-30E5-49AE-BB4C-D8E5008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007-D907-4BA5-B1AC-2B318E5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97F-63D6-4142-838E-F63D833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A27E-2496-4E5E-8B47-2610F621166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1E0-C549-49A9-9109-D8AA3953573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9200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Monotype Corsiva"/>
              </a:rPr>
              <a:t>«Парламентаризм</a:t>
            </a:r>
            <a:br>
              <a:rPr sz="6600"/>
            </a:br>
            <a:r>
              <a:rPr b="1" lang="ru-RU" sz="6600" spc="-1" strike="noStrike">
                <a:solidFill>
                  <a:srgbClr val="a50021"/>
                </a:solidFill>
                <a:latin typeface="Monotype Corsiva"/>
              </a:rPr>
              <a:t> в России»</a:t>
            </a:r>
            <a:br>
              <a:rPr sz="6600"/>
            </a:b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003640" y="3284640"/>
            <a:ext cx="3889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1304"/>
                </a:solidFill>
                <a:latin typeface="Times New Roman"/>
              </a:rPr>
              <a:t>Меньшинство  нередко становится большинством, потому что встает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1304"/>
                </a:solidFill>
                <a:latin typeface="Times New Roman"/>
              </a:rPr>
              <a:t>с постели и голосует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Monotype Corsiva"/>
              </a:rPr>
              <a:t>Лоренс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итер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 ученица 10 класса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виенко Галина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рила: учитель обществознания Твердова С.Н.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7" name="Picture 3" descr="Flag_GerbRF"/>
          <p:cNvPicPr/>
          <p:nvPr/>
        </p:nvPicPr>
        <p:blipFill>
          <a:blip r:embed="rId1"/>
          <a:stretch/>
        </p:blipFill>
        <p:spPr>
          <a:xfrm>
            <a:off x="1258920" y="3789360"/>
            <a:ext cx="3889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0" name="Picture 4" descr="дума003"/>
          <p:cNvPicPr/>
          <p:nvPr/>
        </p:nvPicPr>
        <p:blipFill>
          <a:blip r:embed="rId1"/>
          <a:stretch/>
        </p:blipFill>
        <p:spPr>
          <a:xfrm>
            <a:off x="1187280" y="1484280"/>
            <a:ext cx="7488360" cy="5113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332000" y="5661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9-2003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3" name="Picture 4" descr="дума004"/>
          <p:cNvPicPr/>
          <p:nvPr/>
        </p:nvPicPr>
        <p:blipFill>
          <a:blip r:embed="rId1"/>
          <a:stretch/>
        </p:blipFill>
        <p:spPr>
          <a:xfrm>
            <a:off x="1258920" y="1413000"/>
            <a:ext cx="7489800" cy="504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187280" y="4221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2003-2007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6" name="Picture 12" descr="дума005бис"/>
          <p:cNvPicPr/>
          <p:nvPr/>
        </p:nvPicPr>
        <p:blipFill>
          <a:blip r:embed="rId1"/>
          <a:stretch/>
        </p:blipFill>
        <p:spPr>
          <a:xfrm>
            <a:off x="1187280" y="1413000"/>
            <a:ext cx="752328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1187280" y="4221000"/>
            <a:ext cx="237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2007-2011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403280" y="4365720"/>
            <a:ext cx="705816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 декабре 2011 года гражданам нашей страны предстоит сделать свой выбор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Будут переизбраны депутаты в Государственную Думу страны, и начнёт функционировать уже новая Дума-6!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40464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2843280" y="1628640"/>
          <a:ext cx="403848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28640"/>
                    <a:ext cx="40384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Парламентаризм. </a:t>
            </a:r>
            <a:br>
              <a:rPr sz="5400"/>
            </a:b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Избирательное право в современной России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258920" y="404640"/>
            <a:ext cx="748836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ты современного парламентариз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332000" y="1341360"/>
            <a:ext cx="7416720" cy="505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Освобождение депутатов от выполнения основных производственных функций и концентрация их на деятельности в Госдуме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Депутатство как професси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Четко очерченный круг дел Госдумы. (Законотворчество, принятие бюджета, влияние на внутреннюю и внешнюю политику, формирование гос. органов)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Определенные формы, методы и стиль работы (коллегиальность, использование устоявшихся процедур: прения, дебаты, голосование, запросы депутатов и т. д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484360" y="260280"/>
            <a:ext cx="48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бирательное прав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1042920" y="1773360"/>
            <a:ext cx="3816360" cy="1800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3132000" y="1197000"/>
            <a:ext cx="432000" cy="4316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042920" y="4292640"/>
            <a:ext cx="2089080" cy="1225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203640" y="4221000"/>
            <a:ext cx="1800000" cy="2232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203640" y="422100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Через своих представителей в органах власти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(представительная демократия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5076720" y="1773360"/>
            <a:ext cx="3527640" cy="165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948360" y="4292640"/>
            <a:ext cx="1656000" cy="1297080"/>
          </a:xfrm>
          <a:prstGeom prst="rect">
            <a:avLst/>
          </a:prstGeom>
          <a:solidFill>
            <a:srgbClr val="f2b8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(пассивное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быть 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збранным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292720" y="4365720"/>
            <a:ext cx="1440000" cy="93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(активное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збирать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547640" y="177336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Нормы права, обеспечивающие справедливость участия граждан  в управлении страной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5435640" y="2205000"/>
            <a:ext cx="27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Избирательные права граждан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5435640" y="1125360"/>
            <a:ext cx="934920" cy="57636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900000" y="436572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Непосредственно (непосредственная демократия)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>
            <a:off x="1835280" y="3573360"/>
            <a:ext cx="792000" cy="71928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3348000" y="3573360"/>
            <a:ext cx="1152720" cy="6494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5866920" y="3500280"/>
            <a:ext cx="792360" cy="71928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7093080" y="3500280"/>
            <a:ext cx="863640" cy="6494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4"/>
          <p:cNvSpPr/>
          <p:nvPr/>
        </p:nvSpPr>
        <p:spPr>
          <a:xfrm>
            <a:off x="1979640" y="404640"/>
            <a:ext cx="5472000" cy="158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бирательные 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900000" y="2708280"/>
            <a:ext cx="3708360" cy="1512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5003640" y="2708280"/>
            <a:ext cx="3889440" cy="1440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Пропорциональная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Голосование по партийным спискам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2700360" y="4724280"/>
            <a:ext cx="410508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ff99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мешанна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50%    50%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258920" y="2997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Мажоритарная(фр. –большинство) Голосование по одномандатным округам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2771640" y="1989000"/>
            <a:ext cx="10065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4643280" y="1989000"/>
            <a:ext cx="73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5219640" y="198900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6"/>
          <p:cNvSpPr/>
          <p:nvPr/>
        </p:nvSpPr>
        <p:spPr>
          <a:xfrm>
            <a:off x="5724360" y="549360"/>
            <a:ext cx="2590920" cy="576000"/>
          </a:xfrm>
          <a:prstGeom prst="parallelogram">
            <a:avLst>
              <a:gd name="adj" fmla="val 112453"/>
            </a:avLst>
          </a:prstGeom>
          <a:solidFill>
            <a:srgbClr val="66ffcc"/>
          </a:solidFill>
          <a:ln w="9360">
            <a:solidFill>
              <a:srgbClr val="919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716360" y="1557360"/>
            <a:ext cx="2590920" cy="576360"/>
          </a:xfrm>
          <a:prstGeom prst="parallelogram">
            <a:avLst>
              <a:gd name="adj" fmla="val 112383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900000" y="765000"/>
            <a:ext cx="4140360" cy="1368720"/>
          </a:xfrm>
          <a:prstGeom prst="parallelogram">
            <a:avLst>
              <a:gd name="adj" fmla="val 75625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364000" y="2852640"/>
            <a:ext cx="2590920" cy="576360"/>
          </a:xfrm>
          <a:prstGeom prst="parallelogram">
            <a:avLst>
              <a:gd name="adj" fmla="val 112383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4643280" y="4149720"/>
            <a:ext cx="3816360" cy="1224000"/>
          </a:xfrm>
          <a:prstGeom prst="parallelogram">
            <a:avLst>
              <a:gd name="adj" fmla="val 77949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755640" y="5013360"/>
            <a:ext cx="3240000" cy="936720"/>
          </a:xfrm>
          <a:prstGeom prst="parallelogram">
            <a:avLst>
              <a:gd name="adj" fmla="val 86472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1042920" y="3500280"/>
            <a:ext cx="3313080" cy="1081080"/>
          </a:xfrm>
          <a:prstGeom prst="parallelogram">
            <a:avLst>
              <a:gd name="adj" fmla="val 76615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042920" y="1052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емократические выборы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622764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общ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5292720" y="1628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вн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6012000" y="2852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ям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536400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иодичные (1 раз в 4 года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187280" y="522936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бязательн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619280" y="3645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 тайном голосовании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755640" y="2133720"/>
            <a:ext cx="72072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2411280" y="2133720"/>
            <a:ext cx="57636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3564000" y="2133720"/>
            <a:ext cx="158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4140360" y="1989000"/>
            <a:ext cx="158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V="1">
            <a:off x="4643280" y="1052280"/>
            <a:ext cx="1152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4427640" y="1557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403280" y="620640"/>
            <a:ext cx="724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330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"/>
              </a:rPr>
              <a:t>Стадии избирательного процесса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187280" y="1916280"/>
            <a:ext cx="1873080" cy="863280"/>
            <a:chOff x="1187280" y="1916280"/>
            <a:chExt cx="1873080" cy="863280"/>
          </a:xfrm>
        </p:grpSpPr>
        <p:sp>
          <p:nvSpPr>
            <p:cNvPr id="212" name="Rectangle 6"/>
            <p:cNvSpPr/>
            <p:nvPr/>
          </p:nvSpPr>
          <p:spPr>
            <a:xfrm>
              <a:off x="1187280" y="1916280"/>
              <a:ext cx="1800000" cy="86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1260360" y="19875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егистрация кандидатов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3203640" y="3068640"/>
            <a:ext cx="2663280" cy="863280"/>
            <a:chOff x="3203640" y="3068640"/>
            <a:chExt cx="2663280" cy="863280"/>
          </a:xfrm>
        </p:grpSpPr>
        <p:sp>
          <p:nvSpPr>
            <p:cNvPr id="215" name="Rectangle 9"/>
            <p:cNvSpPr/>
            <p:nvPr/>
          </p:nvSpPr>
          <p:spPr>
            <a:xfrm>
              <a:off x="3203640" y="3068640"/>
              <a:ext cx="2160360" cy="86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274920" y="3139920"/>
              <a:ext cx="25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едвыборная кампания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6516720" y="3141720"/>
            <a:ext cx="1800360" cy="863640"/>
            <a:chOff x="6516720" y="3141720"/>
            <a:chExt cx="1800360" cy="863640"/>
          </a:xfrm>
        </p:grpSpPr>
        <p:sp>
          <p:nvSpPr>
            <p:cNvPr id="218" name="Rectangle 12"/>
            <p:cNvSpPr/>
            <p:nvPr/>
          </p:nvSpPr>
          <p:spPr>
            <a:xfrm>
              <a:off x="6516720" y="3141720"/>
              <a:ext cx="180036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6516720" y="321480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йное голосование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3708360" y="5013360"/>
            <a:ext cx="2160360" cy="863640"/>
            <a:chOff x="3708360" y="5013360"/>
            <a:chExt cx="2160360" cy="863640"/>
          </a:xfrm>
        </p:grpSpPr>
        <p:sp>
          <p:nvSpPr>
            <p:cNvPr id="221" name="Rectangle 15"/>
            <p:cNvSpPr/>
            <p:nvPr/>
          </p:nvSpPr>
          <p:spPr>
            <a:xfrm>
              <a:off x="3708360" y="5013360"/>
              <a:ext cx="180000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3924000" y="50850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дсчет голосов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6948360" y="4941720"/>
            <a:ext cx="1800360" cy="863640"/>
            <a:chOff x="6948360" y="4941720"/>
            <a:chExt cx="1800360" cy="863640"/>
          </a:xfrm>
        </p:grpSpPr>
        <p:sp>
          <p:nvSpPr>
            <p:cNvPr id="224" name="Rectangle 18"/>
            <p:cNvSpPr/>
            <p:nvPr/>
          </p:nvSpPr>
          <p:spPr>
            <a:xfrm>
              <a:off x="6948360" y="4941720"/>
              <a:ext cx="180036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7020000" y="52293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езультаты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26" name="Line 20"/>
          <p:cNvSpPr/>
          <p:nvPr/>
        </p:nvSpPr>
        <p:spPr>
          <a:xfrm>
            <a:off x="3059280" y="2492280"/>
            <a:ext cx="863280" cy="505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5364000" y="3500280"/>
            <a:ext cx="108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 flipH="1">
            <a:off x="5444640" y="4015080"/>
            <a:ext cx="1060920" cy="98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 flipV="1">
            <a:off x="5581440" y="5292720"/>
            <a:ext cx="1303920" cy="7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0" name="Picture 24" descr="i?id=35910191&amp;tov=2"/>
          <p:cNvPicPr/>
          <p:nvPr/>
        </p:nvPicPr>
        <p:blipFill>
          <a:blip r:embed="rId1"/>
          <a:stretch/>
        </p:blipFill>
        <p:spPr>
          <a:xfrm>
            <a:off x="1258920" y="4365720"/>
            <a:ext cx="22334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4"/>
          <p:cNvSpPr/>
          <p:nvPr/>
        </p:nvSpPr>
        <p:spPr>
          <a:xfrm>
            <a:off x="1476360" y="1700280"/>
            <a:ext cx="6840720" cy="4359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аша страна стремится стать правовым государством, а общество свободным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и гражданским. В современных демократических  государствах законодательная  власть осуществляется через деятельность представительного законодательного органа, построенного на выборных началах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История парламентаризма насчитывает около  700 лет, а в России-105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187280" y="549360"/>
            <a:ext cx="7488360" cy="581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сия - правовое государство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2"/>
          <p:cNvSpPr txBox="1"/>
          <p:nvPr/>
        </p:nvSpPr>
        <p:spPr>
          <a:xfrm>
            <a:off x="1619280" y="549360"/>
            <a:ext cx="7086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уктура Федерального Собра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Organization Chart 44"/>
          <p:cNvGrpSpPr/>
          <p:nvPr/>
        </p:nvGrpSpPr>
        <p:grpSpPr>
          <a:xfrm>
            <a:off x="1116000" y="1592640"/>
            <a:ext cx="7722000" cy="1880640"/>
            <a:chOff x="1116000" y="1592640"/>
            <a:chExt cx="7722000" cy="1880640"/>
          </a:xfrm>
        </p:grpSpPr>
        <p:cxnSp>
          <p:nvCxnSpPr>
            <p:cNvPr id="233" name="_s614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830200" y="1495080"/>
              <a:ext cx="376560" cy="2075400"/>
            </a:xfrm>
            <a:prstGeom prst="bentConnector3">
              <a:avLst>
                <a:gd name="adj1" fmla="val 33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614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751200" y="1490760"/>
              <a:ext cx="376560" cy="2084040"/>
            </a:xfrm>
            <a:prstGeom prst="bentConnector3">
              <a:avLst>
                <a:gd name="adj1" fmla="val 33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6150"/>
            <p:cNvSpPr/>
            <p:nvPr/>
          </p:nvSpPr>
          <p:spPr>
            <a:xfrm>
              <a:off x="2246040" y="1592640"/>
              <a:ext cx="5465880" cy="7520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едеральное Собрание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7" name="_s6151"/>
            <p:cNvSpPr/>
            <p:nvPr/>
          </p:nvSpPr>
          <p:spPr>
            <a:xfrm>
              <a:off x="1116000" y="2721240"/>
              <a:ext cx="3564000" cy="7520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вет Федераций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4" name="_s6152"/>
            <p:cNvSpPr/>
            <p:nvPr/>
          </p:nvSpPr>
          <p:spPr>
            <a:xfrm>
              <a:off x="5274000" y="2721240"/>
              <a:ext cx="3564000" cy="7520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осударственная Дума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pic>
        <p:nvPicPr>
          <p:cNvPr id="238" name="Picture 11" descr="дума007"/>
          <p:cNvPicPr/>
          <p:nvPr/>
        </p:nvPicPr>
        <p:blipFill>
          <a:blip r:embed="rId3"/>
          <a:stretch/>
        </p:blipFill>
        <p:spPr>
          <a:xfrm>
            <a:off x="1187280" y="3645000"/>
            <a:ext cx="3384720" cy="261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дума005"/>
          <p:cNvPicPr/>
          <p:nvPr/>
        </p:nvPicPr>
        <p:blipFill>
          <a:blip r:embed="rId4"/>
          <a:stretch/>
        </p:blipFill>
        <p:spPr>
          <a:xfrm>
            <a:off x="6659640" y="3573360"/>
            <a:ext cx="2143080" cy="2952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5003640" y="3645000"/>
            <a:ext cx="1657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редседатель палаты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Грызлов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Борис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Вячеславович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1042920" y="3789360"/>
            <a:ext cx="1657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редседатель палаты Миронов Сергей Михайлович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7"/>
          <p:cNvSpPr/>
          <p:nvPr/>
        </p:nvSpPr>
        <p:spPr>
          <a:xfrm>
            <a:off x="1403280" y="1413000"/>
            <a:ext cx="7201080" cy="478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арламентаризм может рассматриваться как система власти, предусматривающая наличие парламента как представительного органа, наделенного законодательными и контрольными полномочиями, и основанная на принципе разделения государственной власти на исполнительную, законодательную и судебную, каждая из которых является независимой и самостоятельной в осуществлении своих конституционных полномочий.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332000" y="476280"/>
            <a:ext cx="748800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 всё таки значи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ламентар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1773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История развития парламентаризма </a:t>
            </a:r>
            <a:br>
              <a:rPr sz="5400"/>
            </a:b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в России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Picture 18" descr="дума006"/>
          <p:cNvPicPr/>
          <p:nvPr/>
        </p:nvPicPr>
        <p:blipFill>
          <a:blip r:embed="rId1"/>
          <a:stretch/>
        </p:blipFill>
        <p:spPr>
          <a:xfrm>
            <a:off x="3708360" y="3716280"/>
            <a:ext cx="2122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1187280" y="333360"/>
            <a:ext cx="748836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Государственная Дум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2700360" y="155736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7 апреля 1906 г.-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 июля 1906 г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4" name="Object 16"/>
          <p:cNvGraphicFramePr/>
          <p:nvPr/>
        </p:nvGraphicFramePr>
        <p:xfrm>
          <a:off x="1116000" y="2852640"/>
          <a:ext cx="4753080" cy="314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47530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8" descr="дума012"/>
          <p:cNvPicPr/>
          <p:nvPr/>
        </p:nvPicPr>
        <p:blipFill>
          <a:blip r:embed="rId7"/>
          <a:stretch/>
        </p:blipFill>
        <p:spPr>
          <a:xfrm>
            <a:off x="6084720" y="2781360"/>
            <a:ext cx="2481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8"/>
          <p:cNvGraphicFramePr/>
          <p:nvPr/>
        </p:nvGraphicFramePr>
        <p:xfrm>
          <a:off x="1332000" y="2781360"/>
          <a:ext cx="4475160" cy="33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4475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15"/>
          <p:cNvSpPr txBox="1"/>
          <p:nvPr/>
        </p:nvSpPr>
        <p:spPr>
          <a:xfrm>
            <a:off x="2843280" y="1557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 февраля 1907 г.-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июня 1907 г.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0" name="Object 9"/>
          <p:cNvGraphicFramePr/>
          <p:nvPr/>
        </p:nvGraphicFramePr>
        <p:xfrm>
          <a:off x="6877080" y="2349360"/>
          <a:ext cx="1440000" cy="345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349360"/>
                    <a:ext cx="144000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3"/>
          <p:cNvSpPr/>
          <p:nvPr/>
        </p:nvSpPr>
        <p:spPr>
          <a:xfrm>
            <a:off x="1187280" y="333360"/>
            <a:ext cx="748836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Государственная Дум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0"/>
          <p:cNvSpPr txBox="1"/>
          <p:nvPr/>
        </p:nvSpPr>
        <p:spPr>
          <a:xfrm>
            <a:off x="2987640" y="1484280"/>
            <a:ext cx="40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ноября 1907 г.-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 июня 1912 г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19" descr="дума011"/>
          <p:cNvPicPr/>
          <p:nvPr/>
        </p:nvPicPr>
        <p:blipFill>
          <a:blip r:embed="rId5"/>
          <a:stretch/>
        </p:blipFill>
        <p:spPr>
          <a:xfrm>
            <a:off x="5867280" y="2637000"/>
            <a:ext cx="275760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1"/>
          <p:cNvGraphicFramePr/>
          <p:nvPr/>
        </p:nvGraphicFramePr>
        <p:xfrm>
          <a:off x="1187280" y="2637000"/>
          <a:ext cx="4608720" cy="3373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2637000"/>
                    <a:ext cx="460872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0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3132000" y="1484280"/>
            <a:ext cx="37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 ноября 1912 г.-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октября 1917 г.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1116000" y="2492280"/>
          <a:ext cx="4680000" cy="345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492280"/>
                    <a:ext cx="468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4" descr="дума010"/>
          <p:cNvPicPr/>
          <p:nvPr/>
        </p:nvPicPr>
        <p:blipFill>
          <a:blip r:embed="rId7"/>
          <a:stretch/>
        </p:blipFill>
        <p:spPr>
          <a:xfrm>
            <a:off x="6156360" y="2565360"/>
            <a:ext cx="2322360" cy="3384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дума001"/>
          <p:cNvPicPr/>
          <p:nvPr/>
        </p:nvPicPr>
        <p:blipFill>
          <a:blip r:embed="rId1"/>
          <a:stretch/>
        </p:blipFill>
        <p:spPr>
          <a:xfrm>
            <a:off x="1403280" y="1413000"/>
            <a:ext cx="7164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476360" y="6093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3-1995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7" name="Picture 4" descr="дума002"/>
          <p:cNvPicPr/>
          <p:nvPr/>
        </p:nvPicPr>
        <p:blipFill>
          <a:blip r:embed="rId1"/>
          <a:stretch/>
        </p:blipFill>
        <p:spPr>
          <a:xfrm>
            <a:off x="1476360" y="1413000"/>
            <a:ext cx="6983280" cy="482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476360" y="6093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5-1999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СВЕТЛАНА</cp:lastModifiedBy>
  <dcterms:modified xsi:type="dcterms:W3CDTF">2011-04-28T04:39:27Z</dcterms:modified>
  <cp:revision>107</cp:revision>
  <dc:subject/>
  <dc:title>ОСОБЕННОСТИ ДРЕВНИХ ЦИВИЛИЗАЦИЙ.</dc:title>
</cp:coreProperties>
</file>