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52B-4A19-4AFE-9B2A-165E7292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C05-E71F-4CF5-B765-FACBAF3A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3D6-CBEF-4508-B8D5-947D434E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440-9970-4B3D-8E0E-7402CD3F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400F2-2389-46D3-8E6A-DAEC552B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5DAAD-6303-4815-B526-28CE043F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5E9E0-2191-48AE-A238-D9EFDE1A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E77D0-7736-47AE-8BE2-867A1D93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A716F-4C27-4264-8E7B-A49ED432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B28D2-22F7-490D-A6B5-71F2A767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A89A8-4896-49BB-84B6-6C508F34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20A-0610-4DFC-A674-C8FA819A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85CAC-2003-416F-B5B4-AF4C8771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CD0B0-685F-48F4-A89B-55FBDE00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C08EB-CD15-4288-9DF6-5336D591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CF1EA-AF8F-4CEE-943A-C7900849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D08A1-850B-4B81-90F5-DD9CE36C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95DB-0B0C-4F7C-BDB6-395CE316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EDEA3-9C42-4711-87D4-9551E0D3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9CBA-F6AB-48E6-9A41-997CCEDF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BB34-279B-47D1-B992-724B5D60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D921-373C-4B21-BAC0-18A585F2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C5C-73EE-4301-AF32-7AB4D075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C82E-07B8-4561-BF18-A8053FB5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C7D0-F90F-4B29-BB16-8267252A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BD61-19F7-4BC0-A6EF-3218895C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07619-6388-485C-9296-DBF5E584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E6635-437A-4210-8B61-D309B2B3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FD08-AA44-4C4A-B074-ACC2DC2D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C252-73DE-44AC-994E-B4C01A33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1FC2BF-B8C3-40DC-94CC-FA4D7B24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08652-AB09-4243-9808-77CBC17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09B840-FB9E-4871-A791-1C9D8B30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150-63EE-4C08-A7EE-9D710CE5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14AD6-6758-46A5-965F-A0C9F247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32B51-1C2C-44A4-8F92-9B88CEB9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E0B449-79C5-41B4-A3A9-438BAD2D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4E828-0720-4DFF-8294-B27A1E30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257423-4C14-494C-869F-0D179D9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C3E6DF-F49D-4C60-9FF8-5DF1AF6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4CC27B-56FE-474A-9B0F-3D5F2C94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279A2-38AB-4FBC-8635-B74FCB3D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ACB83-3853-4D18-AECC-782AE736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201-22E7-41E0-80F8-BF1EC392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AA6-7ED9-4F5C-AB68-1B5C120E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ECD-8F31-439B-93C4-89B2ABE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30F-6024-4DFE-8E77-D83BBD04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1DD-DE1D-4C86-8F33-F6C991E2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E9B-91C7-4378-B16D-C0E393291601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eb80a"/>
          </a:solidFill>
          <a:ln w="38160">
            <a:solidFill>
              <a:srgbClr val="feb8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710F-B714-46BC-B0C2-00D431701137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DACD-E3C6-4F3D-985D-013D86976ABD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b860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e0a20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C31B-0C0F-485F-AF98-C258EF6F963C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Топчиева Л. М.,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МОУ СОШ № 36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Волжского Волгоградской области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360360" y="146160"/>
            <a:ext cx="8332920" cy="585792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2" descr="i (9).jpg"/>
          <p:cNvPicPr/>
          <p:nvPr/>
        </p:nvPicPr>
        <p:blipFill>
          <a:blip r:embed="rId2"/>
          <a:stretch/>
        </p:blipFill>
        <p:spPr>
          <a:xfrm>
            <a:off x="4357800" y="652320"/>
            <a:ext cx="3571920" cy="170496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3" descr="darvin.jpg"/>
          <p:cNvPicPr/>
          <p:nvPr/>
        </p:nvPicPr>
        <p:blipFill>
          <a:blip r:embed="rId3"/>
          <a:stretch/>
        </p:blipFill>
        <p:spPr>
          <a:xfrm>
            <a:off x="500040" y="50004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дарвин - обезьяна.jpg"/>
          <p:cNvPicPr/>
          <p:nvPr/>
        </p:nvPicPr>
        <p:blipFill>
          <a:blip r:embed="rId4"/>
          <a:stretch/>
        </p:blipFill>
        <p:spPr>
          <a:xfrm>
            <a:off x="2071800" y="1428840"/>
            <a:ext cx="1785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37926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" descr="westminster-abbey-north_entrance-visitors.jpg"/>
          <p:cNvPicPr/>
          <p:nvPr/>
        </p:nvPicPr>
        <p:blipFill>
          <a:blip r:embed="rId2"/>
          <a:stretch/>
        </p:blipFill>
        <p:spPr>
          <a:xfrm>
            <a:off x="428760" y="385776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" descr="i (7).jpg"/>
          <p:cNvPicPr/>
          <p:nvPr/>
        </p:nvPicPr>
        <p:blipFill>
          <a:blip r:embed="rId3"/>
          <a:stretch/>
        </p:blipFill>
        <p:spPr>
          <a:xfrm>
            <a:off x="2357280" y="4857840"/>
            <a:ext cx="1938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4" descr="i (14).jpg"/>
          <p:cNvPicPr/>
          <p:nvPr/>
        </p:nvPicPr>
        <p:blipFill>
          <a:blip r:embed="rId1"/>
          <a:stretch/>
        </p:blipFill>
        <p:spPr>
          <a:xfrm>
            <a:off x="1214280" y="3643200"/>
            <a:ext cx="1857600" cy="2643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357360" y="2786040"/>
            <a:ext cx="54082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ель эволюционной теории Чарльз Дарвин родился 12 февраля 1809 года в английском городе Шрусбер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ь, происходила из семьи, владевшая фарфоровым заводом, умерла, едва мальчику исполнилось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л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857680" y="285840"/>
            <a:ext cx="6000480" cy="257184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ум был своеобразной машиной , перерабатывающий факты и наблюдения в общие законы природ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Он готовился стать священником, но вместо этого создал теорию, которая нанесла сокрушительный удар по религиозной системе мир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5" name="Рисунок 9" descr="81a6f7af4a64x.jpg"/>
          <p:cNvPicPr/>
          <p:nvPr/>
        </p:nvPicPr>
        <p:blipFill>
          <a:blip r:embed="rId2"/>
          <a:stretch/>
        </p:blipFill>
        <p:spPr>
          <a:xfrm>
            <a:off x="285840" y="1071720"/>
            <a:ext cx="23572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643200" y="499680"/>
            <a:ext cx="52149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отец был врачом. Мужчина исполинских размеров, деятельностный и внушительный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смерти жены отец сам занялся воспитанием сына, который рос заурядным , склонным к взрывам безотчётного непокорства мальчиком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 самых ранних лет «глубоко чувствовал прелесть живой природы и был одержим страстью собирать всякую всячину, от монет и печаток до тритонов и жуков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781680" y="456840"/>
            <a:ext cx="1981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e7dec9"/>
              </a:solidFill>
              <a:latin typeface="Constantia"/>
            </a:endParaRPr>
          </a:p>
        </p:txBody>
      </p:sp>
      <p:pic>
        <p:nvPicPr>
          <p:cNvPr id="178" name="Содержимое 4" descr="i (1).jpg"/>
          <p:cNvPicPr/>
          <p:nvPr/>
        </p:nvPicPr>
        <p:blipFill>
          <a:blip r:embed="rId1"/>
          <a:stretch/>
        </p:blipFill>
        <p:spPr>
          <a:xfrm>
            <a:off x="1357200" y="3429000"/>
            <a:ext cx="20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150px-Robert_Darwin.jpg"/>
          <p:cNvPicPr/>
          <p:nvPr/>
        </p:nvPicPr>
        <p:blipFill>
          <a:blip r:embed="rId2"/>
          <a:stretch/>
        </p:blipFill>
        <p:spPr>
          <a:xfrm>
            <a:off x="857160" y="100008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14200" y="499680"/>
            <a:ext cx="532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емейным традициям он отправил Чарльза в Эдинбургский университет изучать медицину. Но юноша охладел к медицине после посещения ряда операций, которые проводились без наркоз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года в Кембридже тоже были потрачены зря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 так и не решил чем будет заниматьс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00480" y="1600200"/>
            <a:ext cx="2765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e7dec9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643360" y="457200"/>
            <a:ext cx="3119400" cy="4716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7dec9"/>
                </a:solidFill>
                <a:latin typeface="Constantia"/>
              </a:rPr>
              <a:t>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денческие годы</a:t>
            </a:r>
            <a:endParaRPr b="0" lang="en-US" sz="25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3" name="Рисунок 4" descr="i (23).jpg"/>
          <p:cNvPicPr/>
          <p:nvPr/>
        </p:nvPicPr>
        <p:blipFill>
          <a:blip r:embed="rId1"/>
          <a:stretch/>
        </p:blipFill>
        <p:spPr>
          <a:xfrm>
            <a:off x="5429160" y="107172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5" descr="i (24).jpg"/>
          <p:cNvPicPr/>
          <p:nvPr/>
        </p:nvPicPr>
        <p:blipFill>
          <a:blip r:embed="rId2"/>
          <a:stretch/>
        </p:blipFill>
        <p:spPr>
          <a:xfrm>
            <a:off x="6072120" y="2428920"/>
            <a:ext cx="2786040" cy="15717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6" descr="i.jpg"/>
          <p:cNvPicPr/>
          <p:nvPr/>
        </p:nvPicPr>
        <p:blipFill>
          <a:blip r:embed="rId3"/>
          <a:stretch/>
        </p:blipFill>
        <p:spPr>
          <a:xfrm>
            <a:off x="5429160" y="4000680"/>
            <a:ext cx="20718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85840" y="428400"/>
            <a:ext cx="5929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однажды, осенью 1831 года он получил приглашение принять участие в научной экспедиции в качестве натуралис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 декабря корабль Бигль покинул берега Англии. За пять лет легкомысленный юноша превратился в увлечённого исследователя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по бывал на Тенерифе, на островах Зелёного мыса, побережье Бразилии, Аргентины, Уругвая, на Огненной земле и Тасмани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781680" y="1600200"/>
            <a:ext cx="198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e7dec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215040" y="456840"/>
            <a:ext cx="2548080" cy="7570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угосветное путешествие</a:t>
            </a:r>
            <a:endParaRPr b="0" lang="en-US" sz="2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9" name="Рисунок 4" descr="i (21).jpg"/>
          <p:cNvPicPr/>
          <p:nvPr/>
        </p:nvPicPr>
        <p:blipFill>
          <a:blip r:embed="rId1"/>
          <a:stretch/>
        </p:blipFill>
        <p:spPr>
          <a:xfrm>
            <a:off x="6072120" y="2071800"/>
            <a:ext cx="2714760" cy="18572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245px-HMS_Beagle_by_Conrad_Martens.jpg"/>
          <p:cNvPicPr/>
          <p:nvPr/>
        </p:nvPicPr>
        <p:blipFill>
          <a:blip r:embed="rId2"/>
          <a:stretch/>
        </p:blipFill>
        <p:spPr>
          <a:xfrm>
            <a:off x="5286240" y="4500720"/>
            <a:ext cx="25005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28760" y="456840"/>
            <a:ext cx="600048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. Дарвин наблюдал как изменяется фауна и флора. На Галапагосских островах он обнаружил, что одни и те же животные на разных островах архипелага сильно отличаются  друг от друга. Он убеждался, что все разнообразие не было специально создано богом, а возникло в ходе эволюци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октября 1836 года Бигль вернулся к родным берегам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днее он издаёт книгу «Путешествия натуралиста вокруг света на корабле Бигль»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781680" y="1600200"/>
            <a:ext cx="1984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e7dec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6781680" y="456840"/>
            <a:ext cx="1981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e7dec9"/>
              </a:solidFill>
              <a:latin typeface="Constantia"/>
            </a:endParaRPr>
          </a:p>
        </p:txBody>
      </p:sp>
      <p:pic>
        <p:nvPicPr>
          <p:cNvPr id="194" name="Рисунок 4" descr="i (6).jpg"/>
          <p:cNvPicPr/>
          <p:nvPr/>
        </p:nvPicPr>
        <p:blipFill>
          <a:blip r:embed="rId1"/>
          <a:stretch/>
        </p:blipFill>
        <p:spPr>
          <a:xfrm>
            <a:off x="428760" y="407196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hotel.img.prev.php.jpg"/>
          <p:cNvPicPr/>
          <p:nvPr/>
        </p:nvPicPr>
        <p:blipFill>
          <a:blip r:embed="rId2"/>
          <a:stretch/>
        </p:blipFill>
        <p:spPr>
          <a:xfrm>
            <a:off x="6357960" y="928800"/>
            <a:ext cx="2190600" cy="17859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hit-bart8.jpg"/>
          <p:cNvPicPr/>
          <p:nvPr/>
        </p:nvPicPr>
        <p:blipFill>
          <a:blip r:embed="rId3"/>
          <a:stretch/>
        </p:blipFill>
        <p:spPr>
          <a:xfrm>
            <a:off x="4143240" y="4643280"/>
            <a:ext cx="2167200" cy="17146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 (15).jpg"/>
          <p:cNvPicPr/>
          <p:nvPr/>
        </p:nvPicPr>
        <p:blipFill>
          <a:blip r:embed="rId4"/>
          <a:stretch/>
        </p:blipFill>
        <p:spPr>
          <a:xfrm>
            <a:off x="5929200" y="3000240"/>
            <a:ext cx="2786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378000" y="633240"/>
            <a:ext cx="6346800" cy="39452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" descr="090210143014.jpg"/>
          <p:cNvPicPr/>
          <p:nvPr/>
        </p:nvPicPr>
        <p:blipFill>
          <a:blip r:embed="rId2"/>
          <a:stretch/>
        </p:blipFill>
        <p:spPr>
          <a:xfrm>
            <a:off x="5500800" y="3857760"/>
            <a:ext cx="2219040" cy="25714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i.jpg"/>
          <p:cNvPicPr/>
          <p:nvPr/>
        </p:nvPicPr>
        <p:blipFill>
          <a:blip r:embed="rId3"/>
          <a:stretch/>
        </p:blipFill>
        <p:spPr>
          <a:xfrm>
            <a:off x="6429240" y="785880"/>
            <a:ext cx="2143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2687760" y="244440"/>
            <a:ext cx="6005520" cy="49071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" descr="i (5).jpg"/>
          <p:cNvPicPr/>
          <p:nvPr/>
        </p:nvPicPr>
        <p:blipFill>
          <a:blip r:embed="rId2"/>
          <a:stretch/>
        </p:blipFill>
        <p:spPr>
          <a:xfrm>
            <a:off x="285840" y="35712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i (12).jpg"/>
          <p:cNvPicPr/>
          <p:nvPr/>
        </p:nvPicPr>
        <p:blipFill>
          <a:blip r:embed="rId3"/>
          <a:stretch/>
        </p:blipFill>
        <p:spPr>
          <a:xfrm>
            <a:off x="857160" y="2143080"/>
            <a:ext cx="1714680" cy="17859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i (4).jpg"/>
          <p:cNvPicPr/>
          <p:nvPr/>
        </p:nvPicPr>
        <p:blipFill>
          <a:blip r:embed="rId4"/>
          <a:stretch/>
        </p:blipFill>
        <p:spPr>
          <a:xfrm>
            <a:off x="428760" y="4071960"/>
            <a:ext cx="2071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5" descr="i (20).jpg"/>
          <p:cNvPicPr/>
          <p:nvPr/>
        </p:nvPicPr>
        <p:blipFill>
          <a:blip r:embed="rId1"/>
          <a:stretch/>
        </p:blipFill>
        <p:spPr>
          <a:xfrm>
            <a:off x="6643800" y="2142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06" name="Заголовок 1" descr=""/>
          <p:cNvPicPr/>
          <p:nvPr/>
        </p:nvPicPr>
        <p:blipFill>
          <a:blip r:embed="rId2"/>
          <a:stretch/>
        </p:blipFill>
        <p:spPr>
          <a:xfrm>
            <a:off x="360360" y="420840"/>
            <a:ext cx="6729480" cy="56559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i (2).jpg"/>
          <p:cNvPicPr/>
          <p:nvPr/>
        </p:nvPicPr>
        <p:blipFill>
          <a:blip r:embed="rId3"/>
          <a:stretch/>
        </p:blipFill>
        <p:spPr>
          <a:xfrm>
            <a:off x="4929120" y="714240"/>
            <a:ext cx="2071800" cy="22147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3" descr="i (18).jpg"/>
          <p:cNvPicPr/>
          <p:nvPr/>
        </p:nvPicPr>
        <p:blipFill>
          <a:blip r:embed="rId4"/>
          <a:stretch/>
        </p:blipFill>
        <p:spPr>
          <a:xfrm>
            <a:off x="6858000" y="3500280"/>
            <a:ext cx="1857240" cy="26434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4" descr="i (3).jpg"/>
          <p:cNvPicPr/>
          <p:nvPr/>
        </p:nvPicPr>
        <p:blipFill>
          <a:blip r:embed="rId5"/>
          <a:stretch/>
        </p:blipFill>
        <p:spPr>
          <a:xfrm>
            <a:off x="714240" y="357120"/>
            <a:ext cx="2071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2:40:26Z</dcterms:created>
  <dc:creator>Admin</dc:creator>
  <dc:description/>
  <dc:language>en-US</dc:language>
  <cp:lastModifiedBy>Admin</cp:lastModifiedBy>
  <dcterms:modified xsi:type="dcterms:W3CDTF">2009-12-02T21:51:31Z</dcterms:modified>
  <cp:revision>24</cp:revision>
  <dc:subject/>
  <dc:title>Чарльз Роберт Дарвин: фрагменты жизни</dc:title>
</cp:coreProperties>
</file>