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4F5E-2AF9-41E9-9286-ED456400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5279-708B-42D1-8BA1-444CB1B9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07D6-7286-496D-A320-39F447ED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7987-D64F-4817-B94C-76341761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94419-82F7-4FEC-8188-FE8BE257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B0F14-CC92-4410-8489-6A6D9C25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6E72E-97DE-4A41-8B35-E0749F71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06998-7B3F-49BF-9BF2-0707995C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6D64E-86A1-4C21-B607-F38BDDFA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326EE-A696-4E30-815C-38217DB1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E2625-06F8-468F-943D-879003AA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7407-CB6F-4773-8CE2-56B32C67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0156F-522A-44DC-AC4E-EE50FD02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7C7E7-F150-45EC-8D1D-AA19AC8D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A07F9-3E8B-4260-B639-BD73A822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4576D-CB6F-466F-9424-84BA588A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AC887-6F0E-4918-BF01-0A7784B6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31AB3-4C87-44B5-A917-2C935340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3DD3A-B7DA-4A1F-8ED8-66495AD0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B4DAC-9CF9-4223-84D8-C739F0F9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4C849-FE30-44D6-94AE-925F14B1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F2103-6B07-426D-B5D9-A3F5077A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06EF-DE4B-452A-83F4-1E34D56D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8300A-0F23-4B2F-91DD-5BF8B4FF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886D5-DE84-4F9D-940F-2E598091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17B91-6D05-4ADE-8525-48C4F1BF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86E98-98CE-4BED-89D6-9E18D11A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03211-AD45-485F-B93D-C0C38230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089E9-99C5-453E-93E3-8346A3E4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89A6A-6262-40E2-B487-31F70A7D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E75834-2926-47FA-A17D-FA0E2B15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C017ED-6991-44B4-BED3-CF9CC74D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FF4986-CEF4-4018-B34D-6D5ED717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1D8C-CD4A-4ABF-A59E-2F3743D6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3A0A88-B1B7-41D3-91A7-4895A5AC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80E24D-863B-426B-99E5-54A9A55D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C473CC-52C8-4830-8E15-048EC6EF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B56DAA-9E3C-4419-A38F-DA7A2817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55189B-742C-49F0-9B53-1F999674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96206A-4ECA-4510-B0B4-FCF2A11C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9291DF-5B80-45B4-B43A-341C1727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A69CBA-8780-4C43-BCE4-00623A24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1CDDBA-0C53-4A3A-B95C-CDB14F60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B2A7-F08B-437B-BD63-260CD91C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2169-DC6E-4B16-8EC3-497AAAA3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B5F2-4367-450C-BA7C-B6F7BCA6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3F0E-D175-4F53-8BE6-FD98DE1F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85B1-9CB3-434F-B465-DF04C35F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b86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D375-5F71-460B-9732-46B187158E7D}" type="slidenum">
              <a:rPr b="0" lang="ru-RU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eb80a"/>
          </a:solidFill>
          <a:ln w="38160">
            <a:solidFill>
              <a:srgbClr val="feb80a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b86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710F-5F58-492C-8BB1-E45597E306D0}" type="slidenum">
              <a:rPr b="0" lang="ru-RU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b86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B786-9334-4AB7-B6AC-61611EC50C16}" type="slidenum">
              <a:rPr b="0" lang="ru-RU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b86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4A71-0AC3-4C1C-B2CA-C8A59CB8A62A}" type="slidenum">
              <a:rPr b="0" lang="ru-RU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Топчиева Л. М.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иологии МОУ СОШ № 36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Волжского Волгоградской област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360360" y="146160"/>
            <a:ext cx="8332920" cy="585792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2" descr="i (9).jpg"/>
          <p:cNvPicPr/>
          <p:nvPr/>
        </p:nvPicPr>
        <p:blipFill>
          <a:blip r:embed="rId2"/>
          <a:stretch/>
        </p:blipFill>
        <p:spPr>
          <a:xfrm>
            <a:off x="4357800" y="652320"/>
            <a:ext cx="3571920" cy="170496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3" descr="darvin.jpg"/>
          <p:cNvPicPr/>
          <p:nvPr/>
        </p:nvPicPr>
        <p:blipFill>
          <a:blip r:embed="rId3"/>
          <a:stretch/>
        </p:blipFill>
        <p:spPr>
          <a:xfrm>
            <a:off x="500040" y="500040"/>
            <a:ext cx="1785960" cy="221472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4" descr="дарвин - обезьяна.jpg"/>
          <p:cNvPicPr/>
          <p:nvPr/>
        </p:nvPicPr>
        <p:blipFill>
          <a:blip r:embed="rId4"/>
          <a:stretch/>
        </p:blipFill>
        <p:spPr>
          <a:xfrm>
            <a:off x="2071800" y="1428840"/>
            <a:ext cx="1785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37926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2" descr="westminster-abbey-north_entrance-visitors.jpg"/>
          <p:cNvPicPr/>
          <p:nvPr/>
        </p:nvPicPr>
        <p:blipFill>
          <a:blip r:embed="rId2"/>
          <a:stretch/>
        </p:blipFill>
        <p:spPr>
          <a:xfrm>
            <a:off x="428760" y="3857760"/>
            <a:ext cx="1857240" cy="250020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3" descr="i (7).jpg"/>
          <p:cNvPicPr/>
          <p:nvPr/>
        </p:nvPicPr>
        <p:blipFill>
          <a:blip r:embed="rId3"/>
          <a:stretch/>
        </p:blipFill>
        <p:spPr>
          <a:xfrm>
            <a:off x="2357280" y="4857840"/>
            <a:ext cx="1938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4" descr="i (14).jpg"/>
          <p:cNvPicPr/>
          <p:nvPr/>
        </p:nvPicPr>
        <p:blipFill>
          <a:blip r:embed="rId1"/>
          <a:stretch/>
        </p:blipFill>
        <p:spPr>
          <a:xfrm>
            <a:off x="1214280" y="3643200"/>
            <a:ext cx="1857600" cy="2643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357360" y="2786040"/>
            <a:ext cx="54082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ель эволюционной теории Чарльз Дарвин родился 12 февраля 1809 года в английском городе Шрусбери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ь, происходила из семьи, владевшая фарфоровым заводом, умерла, едва мальчику исполнилось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лет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5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2857680" y="285840"/>
            <a:ext cx="6000480" cy="257184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ум был своеобразной машиной , перерабатывающий факты и наблюдения в общие законы природы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Он готовился стать священником, но вместо этого создал теорию, которая нанесла сокрушительный удар по религиозной системе мир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75" name="Рисунок 9" descr="81a6f7af4a64x.jpg"/>
          <p:cNvPicPr/>
          <p:nvPr/>
        </p:nvPicPr>
        <p:blipFill>
          <a:blip r:embed="rId2"/>
          <a:stretch/>
        </p:blipFill>
        <p:spPr>
          <a:xfrm>
            <a:off x="285840" y="1071720"/>
            <a:ext cx="235728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643200" y="499680"/>
            <a:ext cx="52149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отец был врачом. Мужчина исполинских размеров, деятельностный и внушительный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смерти жены отец сам занялся воспитанием сына, который рос заурядным , склонным к взрывам безотчётного непокорства мальчиком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 самых ранних лет «глубоко чувствовал прелесть живой природы и был одержим страстью собирать всякую всячину, от монет и печаток до тритонов и жуков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6781680" y="456840"/>
            <a:ext cx="1981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e7dec9"/>
              </a:solidFill>
              <a:latin typeface="Constantia"/>
            </a:endParaRPr>
          </a:p>
        </p:txBody>
      </p:sp>
      <p:pic>
        <p:nvPicPr>
          <p:cNvPr id="178" name="Содержимое 4" descr="i (1).jpg"/>
          <p:cNvPicPr/>
          <p:nvPr/>
        </p:nvPicPr>
        <p:blipFill>
          <a:blip r:embed="rId1"/>
          <a:stretch/>
        </p:blipFill>
        <p:spPr>
          <a:xfrm>
            <a:off x="1357200" y="3429000"/>
            <a:ext cx="2071800" cy="27432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5" descr="150px-Robert_Darwin.jpg"/>
          <p:cNvPicPr/>
          <p:nvPr/>
        </p:nvPicPr>
        <p:blipFill>
          <a:blip r:embed="rId2"/>
          <a:stretch/>
        </p:blipFill>
        <p:spPr>
          <a:xfrm>
            <a:off x="857160" y="100008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214200" y="499680"/>
            <a:ext cx="532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емейным традициям он отправил Чарльза в Эдинбургский университет изучать медицину. Но юноша охладел к медицине после посещения ряда операций, которые проводились без наркоза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года в Кембридже тоже были потрачены зря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вин так и не решил чем будет заниматьс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000480" y="1600200"/>
            <a:ext cx="27651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e7dec9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5643360" y="457200"/>
            <a:ext cx="3119400" cy="4716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7dec9"/>
                </a:solidFill>
                <a:latin typeface="Constantia"/>
              </a:rPr>
              <a:t>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уденческие годы</a:t>
            </a:r>
            <a:endParaRPr b="0" lang="en-US" sz="25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3" name="Рисунок 4" descr="i (23).jpg"/>
          <p:cNvPicPr/>
          <p:nvPr/>
        </p:nvPicPr>
        <p:blipFill>
          <a:blip r:embed="rId1"/>
          <a:stretch/>
        </p:blipFill>
        <p:spPr>
          <a:xfrm>
            <a:off x="5429160" y="1071720"/>
            <a:ext cx="2571840" cy="150012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5" descr="i (24).jpg"/>
          <p:cNvPicPr/>
          <p:nvPr/>
        </p:nvPicPr>
        <p:blipFill>
          <a:blip r:embed="rId2"/>
          <a:stretch/>
        </p:blipFill>
        <p:spPr>
          <a:xfrm>
            <a:off x="6072120" y="2428920"/>
            <a:ext cx="2786040" cy="157176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6" descr="i.jpg"/>
          <p:cNvPicPr/>
          <p:nvPr/>
        </p:nvPicPr>
        <p:blipFill>
          <a:blip r:embed="rId3"/>
          <a:stretch/>
        </p:blipFill>
        <p:spPr>
          <a:xfrm>
            <a:off x="5429160" y="4000680"/>
            <a:ext cx="20718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85840" y="428400"/>
            <a:ext cx="5929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однажды, осенью 1831 года он получил приглашение принять участие в научной экспедиции в качестве натуралист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7 декабря корабль Бигль покинул берега Англии. За пять лет легкомысленный юноша превратился в увлечённого исследователя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 по бывал на Тенерифе, на островах Зелёного мыса, побережье Бразилии, Аргентины, Уругвая, на Огненной земле и Тасмании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781680" y="1600200"/>
            <a:ext cx="1984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e7dec9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6215040" y="456840"/>
            <a:ext cx="2548080" cy="7570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угосветное путешествие</a:t>
            </a:r>
            <a:endParaRPr b="0" lang="en-US" sz="2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9" name="Рисунок 4" descr="i (21).jpg"/>
          <p:cNvPicPr/>
          <p:nvPr/>
        </p:nvPicPr>
        <p:blipFill>
          <a:blip r:embed="rId1"/>
          <a:stretch/>
        </p:blipFill>
        <p:spPr>
          <a:xfrm>
            <a:off x="6072120" y="2071800"/>
            <a:ext cx="2714760" cy="185724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245px-HMS_Beagle_by_Conrad_Martens.jpg"/>
          <p:cNvPicPr/>
          <p:nvPr/>
        </p:nvPicPr>
        <p:blipFill>
          <a:blip r:embed="rId2"/>
          <a:stretch/>
        </p:blipFill>
        <p:spPr>
          <a:xfrm>
            <a:off x="5286240" y="4500720"/>
            <a:ext cx="25005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28760" y="456840"/>
            <a:ext cx="6000480" cy="59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. Дарвин наблюдал как изменяется фауна и флора. На Галапагосских островах он обнаружил, что одни и те же животные на разных островах архипелага сильно отличаются  друг от друга. Он убеждался, что все разнообразие не было специально создано богом, а возникло в ходе эволюци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октября 1836 года Бигль вернулся к родным берега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днее он издаёт книгу «Путешествия натуралиста вокруг света на корабле Бигль»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781680" y="1600200"/>
            <a:ext cx="1984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e7dec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6781680" y="456840"/>
            <a:ext cx="1981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e7dec9"/>
              </a:solidFill>
              <a:latin typeface="Constantia"/>
            </a:endParaRPr>
          </a:p>
        </p:txBody>
      </p:sp>
      <p:pic>
        <p:nvPicPr>
          <p:cNvPr id="194" name="Рисунок 4" descr="i (6).jpg"/>
          <p:cNvPicPr/>
          <p:nvPr/>
        </p:nvPicPr>
        <p:blipFill>
          <a:blip r:embed="rId1"/>
          <a:stretch/>
        </p:blipFill>
        <p:spPr>
          <a:xfrm>
            <a:off x="428760" y="4071960"/>
            <a:ext cx="1714320" cy="22147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hotel.img.prev.php.jpg"/>
          <p:cNvPicPr/>
          <p:nvPr/>
        </p:nvPicPr>
        <p:blipFill>
          <a:blip r:embed="rId2"/>
          <a:stretch/>
        </p:blipFill>
        <p:spPr>
          <a:xfrm>
            <a:off x="6357960" y="928800"/>
            <a:ext cx="2190600" cy="178596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6" descr="hit-bart8.jpg"/>
          <p:cNvPicPr/>
          <p:nvPr/>
        </p:nvPicPr>
        <p:blipFill>
          <a:blip r:embed="rId3"/>
          <a:stretch/>
        </p:blipFill>
        <p:spPr>
          <a:xfrm>
            <a:off x="4143240" y="4643280"/>
            <a:ext cx="2167200" cy="171468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7" descr="i (15).jpg"/>
          <p:cNvPicPr/>
          <p:nvPr/>
        </p:nvPicPr>
        <p:blipFill>
          <a:blip r:embed="rId4"/>
          <a:stretch/>
        </p:blipFill>
        <p:spPr>
          <a:xfrm>
            <a:off x="5929200" y="3000240"/>
            <a:ext cx="27860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378000" y="633240"/>
            <a:ext cx="6346800" cy="394524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2" descr="090210143014.jpg"/>
          <p:cNvPicPr/>
          <p:nvPr/>
        </p:nvPicPr>
        <p:blipFill>
          <a:blip r:embed="rId2"/>
          <a:stretch/>
        </p:blipFill>
        <p:spPr>
          <a:xfrm>
            <a:off x="5500800" y="3857760"/>
            <a:ext cx="2219040" cy="257148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3" descr="i.jpg"/>
          <p:cNvPicPr/>
          <p:nvPr/>
        </p:nvPicPr>
        <p:blipFill>
          <a:blip r:embed="rId3"/>
          <a:stretch/>
        </p:blipFill>
        <p:spPr>
          <a:xfrm>
            <a:off x="6429240" y="785880"/>
            <a:ext cx="21434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2687760" y="244440"/>
            <a:ext cx="6005520" cy="490716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2" descr="i (5).jpg"/>
          <p:cNvPicPr/>
          <p:nvPr/>
        </p:nvPicPr>
        <p:blipFill>
          <a:blip r:embed="rId2"/>
          <a:stretch/>
        </p:blipFill>
        <p:spPr>
          <a:xfrm>
            <a:off x="285840" y="357120"/>
            <a:ext cx="1785960" cy="207180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3" descr="i (12).jpg"/>
          <p:cNvPicPr/>
          <p:nvPr/>
        </p:nvPicPr>
        <p:blipFill>
          <a:blip r:embed="rId3"/>
          <a:stretch/>
        </p:blipFill>
        <p:spPr>
          <a:xfrm>
            <a:off x="857160" y="2143080"/>
            <a:ext cx="1714680" cy="178596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4" descr="i (4).jpg"/>
          <p:cNvPicPr/>
          <p:nvPr/>
        </p:nvPicPr>
        <p:blipFill>
          <a:blip r:embed="rId4"/>
          <a:stretch/>
        </p:blipFill>
        <p:spPr>
          <a:xfrm>
            <a:off x="428760" y="4071960"/>
            <a:ext cx="20714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5" descr="i (20).jpg"/>
          <p:cNvPicPr/>
          <p:nvPr/>
        </p:nvPicPr>
        <p:blipFill>
          <a:blip r:embed="rId1"/>
          <a:stretch/>
        </p:blipFill>
        <p:spPr>
          <a:xfrm>
            <a:off x="6643800" y="214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06" name="Заголовок 1" descr=""/>
          <p:cNvPicPr/>
          <p:nvPr/>
        </p:nvPicPr>
        <p:blipFill>
          <a:blip r:embed="rId2"/>
          <a:stretch/>
        </p:blipFill>
        <p:spPr>
          <a:xfrm>
            <a:off x="360360" y="420840"/>
            <a:ext cx="6729480" cy="565596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2" descr="i (2).jpg"/>
          <p:cNvPicPr/>
          <p:nvPr/>
        </p:nvPicPr>
        <p:blipFill>
          <a:blip r:embed="rId3"/>
          <a:stretch/>
        </p:blipFill>
        <p:spPr>
          <a:xfrm>
            <a:off x="4929120" y="714240"/>
            <a:ext cx="2071800" cy="221472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3" descr="i (18).jpg"/>
          <p:cNvPicPr/>
          <p:nvPr/>
        </p:nvPicPr>
        <p:blipFill>
          <a:blip r:embed="rId4"/>
          <a:stretch/>
        </p:blipFill>
        <p:spPr>
          <a:xfrm>
            <a:off x="6858000" y="3500280"/>
            <a:ext cx="1857240" cy="264348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4" descr="i (3).jpg"/>
          <p:cNvPicPr/>
          <p:nvPr/>
        </p:nvPicPr>
        <p:blipFill>
          <a:blip r:embed="rId5"/>
          <a:stretch/>
        </p:blipFill>
        <p:spPr>
          <a:xfrm>
            <a:off x="714240" y="357120"/>
            <a:ext cx="20718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2:40:26Z</dcterms:created>
  <dc:creator>Admin</dc:creator>
  <dc:description/>
  <dc:language>en-US</dc:language>
  <cp:lastModifiedBy>Admin</cp:lastModifiedBy>
  <dcterms:modified xsi:type="dcterms:W3CDTF">2009-12-02T21:51:31Z</dcterms:modified>
  <cp:revision>24</cp:revision>
  <dc:subject/>
  <dc:title>Чарльз Роберт Дарвин: фрагменты жизни</dc:title>
</cp:coreProperties>
</file>