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1EC-0437-4C55-B6DE-C4ECE727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523-6AC7-4671-AF19-9F85BF8F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88E-61FC-41CB-9828-48709E2B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CFB-5367-4652-AE31-94064D26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BEEB-5669-432A-8B8A-DDB91DBF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FB0D-2FB3-4AB1-916B-DC55F601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47AD-1C49-4B55-9DB4-FC6A20BF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3F6C-868F-4505-BD38-CB56D0FC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E82F-86E8-41C7-B6B7-B55CECF3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A027-A051-4A7C-A730-1548E9B1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E130-3AC7-4A58-B304-2C7868AB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1E4-F3A1-420F-9DD5-2EE03CF5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AA92-580C-4699-8829-BD1A0A74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67D9-8E6B-4637-A336-1E37A24F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53F8-7C38-4AAE-B6ED-4AA5A892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51DA-1BD7-451F-AE37-CF1CDEFB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821A-9A43-414C-8546-2A851539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751-CA6B-464D-BC87-E8D42A39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406-D5EB-4CB8-A3A3-BC04C27C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B30-1F4A-469D-9914-11D21A92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D72-F1E8-4F54-BF57-F609D2AE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647-97A2-416E-B6B7-D613FDE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441-6D0F-4494-A7D6-9DDA5F40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5E3-3FB9-4A85-92CC-8905845B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0FD6-3431-4105-87F0-8250E07337A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FA96-A629-4A25-B705-C9B32CEEA13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77120" y="1077120"/>
            <a:ext cx="7293960" cy="434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6600"/>
                </a:solidFill>
                <a:latin typeface="Bookman Old Style"/>
              </a:rPr>
              <a:t>Презентация </a:t>
            </a:r>
            <a:br>
              <a:rPr sz="3600"/>
            </a:br>
            <a:r>
              <a:rPr b="1" i="1" lang="ru-RU" sz="3600" spc="-1" strike="noStrike">
                <a:solidFill>
                  <a:srgbClr val="336600"/>
                </a:solidFill>
                <a:latin typeface="Bookman Old Style"/>
              </a:rPr>
              <a:t>  урока – КВН </a:t>
            </a:r>
            <a:br>
              <a:rPr sz="3600"/>
            </a:br>
            <a:r>
              <a:rPr b="1" i="1" lang="ru-RU" sz="3600" spc="-1" strike="noStrike">
                <a:solidFill>
                  <a:srgbClr val="336600"/>
                </a:solidFill>
                <a:latin typeface="Bookman Old Style"/>
              </a:rPr>
              <a:t>по Окружающему миру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82440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рвал ягоду с куста, проглоти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 заметил, что съел не одн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разу несколько ягод.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маленькие и спаяны вместе и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е напоминают шапо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кли к земле красивые,                                                вырезанные по краям листочки.                                                             А между ними на тонкой ножке –                                            вкусная и ароматная ягода.                                                        Первая ягода 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Рисунок1"/>
          <p:cNvPicPr/>
          <p:nvPr/>
        </p:nvPicPr>
        <p:blipFill>
          <a:blip r:embed="rId1"/>
          <a:stretch/>
        </p:blipFill>
        <p:spPr>
          <a:xfrm>
            <a:off x="7102440" y="189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m_035"/>
          <p:cNvPicPr/>
          <p:nvPr/>
        </p:nvPicPr>
        <p:blipFill>
          <a:blip r:embed="rId2"/>
          <a:stretch/>
        </p:blipFill>
        <p:spPr>
          <a:xfrm>
            <a:off x="826920" y="2349360"/>
            <a:ext cx="2016360" cy="191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z3176"/>
          <p:cNvPicPr/>
          <p:nvPr/>
        </p:nvPicPr>
        <p:blipFill>
          <a:blip r:embed="rId3"/>
          <a:stretch/>
        </p:blipFill>
        <p:spPr>
          <a:xfrm>
            <a:off x="6904080" y="4365720"/>
            <a:ext cx="190008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11640" y="834120"/>
            <a:ext cx="8856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5 конкурс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« Вопросы для капитан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8532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овите хвойные деревья. В чем их особен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чему у лиственницы такое наз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то нужно для жизни семян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ое растение впитывает влагу как губ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 чем может рассказать лишай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Для чего нам нужен ле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Рисунок1"/>
          <p:cNvPicPr/>
          <p:nvPr/>
        </p:nvPicPr>
        <p:blipFill>
          <a:blip r:embed="rId1"/>
          <a:stretch/>
        </p:blipFill>
        <p:spPr>
          <a:xfrm>
            <a:off x="7093080" y="4797360"/>
            <a:ext cx="1769760" cy="19162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дведение  итогов урока – КВ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Награждение победителе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IMAGE0085"/>
          <p:cNvPicPr/>
          <p:nvPr/>
        </p:nvPicPr>
        <p:blipFill>
          <a:blip r:embed="rId1"/>
          <a:stretch/>
        </p:blipFill>
        <p:spPr>
          <a:xfrm>
            <a:off x="971640" y="3429000"/>
            <a:ext cx="7921440" cy="32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Рисунок1"/>
          <p:cNvPicPr/>
          <p:nvPr/>
        </p:nvPicPr>
        <p:blipFill>
          <a:blip r:embed="rId2"/>
          <a:stretch/>
        </p:blipFill>
        <p:spPr>
          <a:xfrm>
            <a:off x="6989760" y="0"/>
            <a:ext cx="183816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68680" y="1130400"/>
            <a:ext cx="7692480" cy="507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Выполнила 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 учитель начальных классов           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    МОУ СОШ №1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      р.п. Екатериновка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    Саратовской области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   Данилина 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Наталия Николаевна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 u="sng">
                <a:solidFill>
                  <a:srgbClr val="336600"/>
                </a:solidFill>
                <a:uFillTx/>
                <a:latin typeface="Bookman Old Style"/>
              </a:rPr>
              <a:t>Зеленый мир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Bookman Old Style"/>
              </a:rPr>
              <a:t>             </a:t>
            </a:r>
            <a:r>
              <a:rPr b="1" i="1" lang="ru-RU" sz="3600" spc="-1" strike="noStrike">
                <a:solidFill>
                  <a:srgbClr val="336600"/>
                </a:solidFill>
                <a:latin typeface="Bookman Old Style"/>
              </a:rPr>
              <a:t>Цели уро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ить у учащихся знания, полученные на уроках окружающего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познавательную активность детей, умение работать в коман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ивать интерес к предмету « Мир вокруг на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42040" y="635760"/>
            <a:ext cx="775116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1 конкурс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«Пословицы и поговорки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78469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оскажи пословицу или поговорку о расте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цветок, там и …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дальше в лес, тем больше …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 и вода родные …. и …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и дерево крепкое, гнилое само 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лько цветочки, ягодки - ……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 зимой словно …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Рисунок1"/>
          <p:cNvPicPr/>
          <p:nvPr/>
        </p:nvPicPr>
        <p:blipFill>
          <a:blip r:embed="rId1"/>
          <a:stretch/>
        </p:blipFill>
        <p:spPr>
          <a:xfrm>
            <a:off x="7380360" y="4941720"/>
            <a:ext cx="1407960" cy="1524240"/>
          </a:xfrm>
          <a:prstGeom prst="rect">
            <a:avLst/>
          </a:prstGeom>
          <a:ln w="0">
            <a:noFill/>
          </a:ln>
        </p:spPr>
      </p:pic>
    </p:spTree>
  </p:cSld>
  <p:transition advTm="1100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2 конкурс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«Загадочны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 этих шариков пушис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летят парашют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Я на розу так похож,                                              Разве что не так хорош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о зато мои пл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сем пригодны для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мигнет тебе украд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Из травы фонарик слад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Рисунок1"/>
          <p:cNvPicPr/>
          <p:nvPr/>
        </p:nvPicPr>
        <p:blipFill>
          <a:blip r:embed="rId1"/>
          <a:stretch/>
        </p:blipFill>
        <p:spPr>
          <a:xfrm>
            <a:off x="7164360" y="404640"/>
            <a:ext cx="1408320" cy="1524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одуванчик"/>
          <p:cNvPicPr/>
          <p:nvPr/>
        </p:nvPicPr>
        <p:blipFill>
          <a:blip r:embed="rId2"/>
          <a:stretch/>
        </p:blipFill>
        <p:spPr>
          <a:xfrm>
            <a:off x="6588000" y="2492280"/>
            <a:ext cx="2295720" cy="17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sh_107"/>
          <p:cNvPicPr/>
          <p:nvPr/>
        </p:nvPicPr>
        <p:blipFill>
          <a:blip r:embed="rId3"/>
          <a:stretch/>
        </p:blipFill>
        <p:spPr>
          <a:xfrm>
            <a:off x="5940360" y="4653000"/>
            <a:ext cx="2336760" cy="19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гда спело – душисто, румяно, золотис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Будто медом налилось,                                   видны семечки насквоз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ний мунди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желтая подклад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 в середине сла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 земле крошки, а из земли леп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Рисунок1"/>
          <p:cNvPicPr/>
          <p:nvPr/>
        </p:nvPicPr>
        <p:blipFill>
          <a:blip r:embed="rId1"/>
          <a:stretch/>
        </p:blipFill>
        <p:spPr>
          <a:xfrm>
            <a:off x="7093080" y="333360"/>
            <a:ext cx="14079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ia3257"/>
          <p:cNvPicPr/>
          <p:nvPr/>
        </p:nvPicPr>
        <p:blipFill>
          <a:blip r:embed="rId2"/>
          <a:stretch/>
        </p:blipFill>
        <p:spPr>
          <a:xfrm>
            <a:off x="6877080" y="2997360"/>
            <a:ext cx="1798560" cy="2266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3287"/>
          <p:cNvPicPr/>
          <p:nvPr/>
        </p:nvPicPr>
        <p:blipFill>
          <a:blip r:embed="rId3"/>
          <a:stretch/>
        </p:blipFill>
        <p:spPr>
          <a:xfrm>
            <a:off x="826920" y="3963960"/>
            <a:ext cx="2376720" cy="19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3 конкур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600" spc="-1" strike="noStrike" u="sng">
                <a:solidFill>
                  <a:srgbClr val="336600"/>
                </a:solidFill>
                <a:uFillTx/>
                <a:latin typeface="Bookman Old Style"/>
              </a:rPr>
              <a:t>« Конструктор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разуйте новые слова из букв, входящих в данное сло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0" lang="ru-RU" sz="6600" spc="-1" strike="noStrike">
                <a:solidFill>
                  <a:srgbClr val="336600"/>
                </a:solidFill>
                <a:latin typeface="Bookman Old Style"/>
              </a:rPr>
              <a:t>С м о р о д и н 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Рисунок1"/>
          <p:cNvPicPr/>
          <p:nvPr/>
        </p:nvPicPr>
        <p:blipFill>
          <a:blip r:embed="rId1"/>
          <a:stretch/>
        </p:blipFill>
        <p:spPr>
          <a:xfrm>
            <a:off x="7020000" y="189000"/>
            <a:ext cx="186840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4 конкурс: </a:t>
            </a:r>
            <a:r>
              <a:rPr b="0" i="1" lang="ru-RU" sz="2800" spc="-1" strike="noStrike" u="sng">
                <a:solidFill>
                  <a:srgbClr val="336600"/>
                </a:solidFill>
                <a:uFillTx/>
                <a:latin typeface="Bookman Old Style"/>
              </a:rPr>
              <a:t>« По грибы, по ягоды»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жешь гриб и увидишь: ножка его на срезе         потемнела, а у этого гриба не темнеет никогда,               даже если его высушить.                                                     Может поэтому и получил гриб свое наз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иб красивый, яркий. Для некоторых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гриб – лекарство, а для человека – 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Рисунок1"/>
          <p:cNvPicPr/>
          <p:nvPr/>
        </p:nvPicPr>
        <p:blipFill>
          <a:blip r:embed="rId1"/>
          <a:stretch/>
        </p:blipFill>
        <p:spPr>
          <a:xfrm>
            <a:off x="7380360" y="333360"/>
            <a:ext cx="140796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00059"/>
          <p:cNvPicPr/>
          <p:nvPr/>
        </p:nvPicPr>
        <p:blipFill>
          <a:blip r:embed="rId2"/>
          <a:stretch/>
        </p:blipFill>
        <p:spPr>
          <a:xfrm>
            <a:off x="7236000" y="2349360"/>
            <a:ext cx="1439640" cy="2000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m_561"/>
          <p:cNvPicPr/>
          <p:nvPr/>
        </p:nvPicPr>
        <p:blipFill>
          <a:blip r:embed="rId3"/>
          <a:stretch/>
        </p:blipFill>
        <p:spPr>
          <a:xfrm>
            <a:off x="1042920" y="4508640"/>
            <a:ext cx="137160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1:56Z</dcterms:created>
  <dc:creator>Артем</dc:creator>
  <dc:description/>
  <dc:language>en-US</dc:language>
  <cp:lastModifiedBy>Артём</cp:lastModifiedBy>
  <dcterms:modified xsi:type="dcterms:W3CDTF">2012-06-03T20:20:21Z</dcterms:modified>
  <cp:revision>18</cp:revision>
  <dc:subject/>
  <dc:title>Зеленый мир</dc:title>
</cp:coreProperties>
</file>