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0FA-45AC-47C4-BDA2-C250480D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443A-EC6D-424A-A07B-80B1DB7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217-F140-4B0C-AEF0-328155D9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AAD-5E1D-4704-BCD2-B18232FC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7375-AE6C-48D9-9FAC-46FC72CD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337A-FB5C-46C6-A2B5-BF4F4ED8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0864-C31F-4E9E-A975-D8EE0A8A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674C-129E-4937-B22B-06F56C45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8D7A-3D3F-495B-8214-BAC0DCC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BEAB-573B-4BBE-B804-F4F764F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0868-90FF-4471-9E59-34AB1427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F6A-F23C-4EEE-BF40-EECBE73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C2C-A3F9-4B80-B9B2-92AEB217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018-DC8F-4612-93A7-AA7ADAB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14AE-30D5-4A67-A02D-8F3E5E8D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DD6C-85DF-48AB-989F-659E9B30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DF6E-FF9C-4BED-B1E1-19BF87A7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0E9-A9AA-4BB4-B141-66E3783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27B-607F-4D04-9C43-7600370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7EA-2B6C-4EEB-9C15-CEB824BC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8F9-3AAA-499A-AC51-101E03FE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4D7-8B07-455B-B542-5C31FDF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49B-12E4-4A3A-AC9F-2CCB6CB5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E3B-4EDA-44A6-81B0-1A072FC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FFAF-905C-4C37-A336-27570167209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40EB-FE4A-4BBD-AC7C-B097C54A4BA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77120" y="1077120"/>
            <a:ext cx="7293960" cy="434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Презентация </a:t>
            </a:r>
            <a:br>
              <a:rPr sz="3600"/>
            </a:b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  урока – КВН </a:t>
            </a:r>
            <a:br>
              <a:rPr sz="3600"/>
            </a:b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по Окружающему миру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82440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рвал ягоду с куста, проглоти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заметил, что съел не од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разу несколько ягод.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маленькие и спаяны вместе и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е напоминают шапо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кли к земле красивые,                                                вырезанные по краям листочки.                                                             А между ними на тонкой ножке –                                            вкусная и ароматная ягода.                                                        Первая ягода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1"/>
          <p:cNvPicPr/>
          <p:nvPr/>
        </p:nvPicPr>
        <p:blipFill>
          <a:blip r:embed="rId1"/>
          <a:stretch/>
        </p:blipFill>
        <p:spPr>
          <a:xfrm>
            <a:off x="7102440" y="189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m_035"/>
          <p:cNvPicPr/>
          <p:nvPr/>
        </p:nvPicPr>
        <p:blipFill>
          <a:blip r:embed="rId2"/>
          <a:stretch/>
        </p:blipFill>
        <p:spPr>
          <a:xfrm>
            <a:off x="826920" y="2349360"/>
            <a:ext cx="2016360" cy="1916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z3176"/>
          <p:cNvPicPr/>
          <p:nvPr/>
        </p:nvPicPr>
        <p:blipFill>
          <a:blip r:embed="rId3"/>
          <a:stretch/>
        </p:blipFill>
        <p:spPr>
          <a:xfrm>
            <a:off x="6904080" y="4365720"/>
            <a:ext cx="190008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640" y="834120"/>
            <a:ext cx="8856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5 конкурс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 Вопросы для капитан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532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овите хвойные деревья. В чем их особен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чему у лиственницы так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то нужно для жизни семя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кое растение впитывает влагу как губ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 чем может рассказать лишай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Для чего нам нужен л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сунок1"/>
          <p:cNvPicPr/>
          <p:nvPr/>
        </p:nvPicPr>
        <p:blipFill>
          <a:blip r:embed="rId1"/>
          <a:stretch/>
        </p:blipFill>
        <p:spPr>
          <a:xfrm>
            <a:off x="7093080" y="4797360"/>
            <a:ext cx="1769760" cy="19162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дведение  итогов урока – КВ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Награждение победителе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IMAGE0085"/>
          <p:cNvPicPr/>
          <p:nvPr/>
        </p:nvPicPr>
        <p:blipFill>
          <a:blip r:embed="rId1"/>
          <a:stretch/>
        </p:blipFill>
        <p:spPr>
          <a:xfrm>
            <a:off x="971640" y="3429000"/>
            <a:ext cx="7921440" cy="3267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Рисунок1"/>
          <p:cNvPicPr/>
          <p:nvPr/>
        </p:nvPicPr>
        <p:blipFill>
          <a:blip r:embed="rId2"/>
          <a:stretch/>
        </p:blipFill>
        <p:spPr>
          <a:xfrm>
            <a:off x="6989760" y="0"/>
            <a:ext cx="183816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68680" y="1130400"/>
            <a:ext cx="7692480" cy="507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Выполнила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учитель начальных классов          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МОУ СОШ №1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  р.п. Екатериновка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 Саратовской области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   Данилина </a:t>
            </a:r>
            <a:br>
              <a:rPr sz="3200"/>
            </a:br>
            <a:r>
              <a:rPr b="1" i="1" lang="ru-RU" sz="3200" spc="-1" strike="noStrike">
                <a:solidFill>
                  <a:srgbClr val="336600"/>
                </a:solidFill>
                <a:latin typeface="Bookman Old Style"/>
              </a:rPr>
              <a:t>Наталия Николаевна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 u="sng">
                <a:solidFill>
                  <a:srgbClr val="336600"/>
                </a:solidFill>
                <a:uFillTx/>
                <a:latin typeface="Bookman Old Style"/>
              </a:rPr>
              <a:t>Зеленый мир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man Old Style"/>
              </a:rPr>
              <a:t>             </a:t>
            </a:r>
            <a:r>
              <a:rPr b="1" i="1" lang="ru-RU" sz="3600" spc="-1" strike="noStrike">
                <a:solidFill>
                  <a:srgbClr val="336600"/>
                </a:solidFill>
                <a:latin typeface="Bookman Old Style"/>
              </a:rPr>
              <a:t>Цели уро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репить у учащихся знания, полученные на уроках окружающего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познавательную активность детей, умение работать в команд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интерес к предмету « Мир вокруг на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42040" y="635760"/>
            <a:ext cx="775116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1 конкурс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Пословицы и поговорки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784692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Доскажи пословицу или поговорку о растен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цветок, там и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дальше в лес, тем больше …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 и вода родные …. и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и дерево крепкое, гнилое само 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лько цветочки, ягодки - ……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 зимой словно ….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1"/>
          <p:cNvPicPr/>
          <p:nvPr/>
        </p:nvPicPr>
        <p:blipFill>
          <a:blip r:embed="rId1"/>
          <a:stretch/>
        </p:blipFill>
        <p:spPr>
          <a:xfrm>
            <a:off x="7380360" y="4941720"/>
            <a:ext cx="1407960" cy="152424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2 конкурс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Bookman Old Style"/>
              </a:rPr>
              <a:t>«Загадочны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 этих шариков пушист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летят парашют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Я на розу так похож,                                              Разве что не так хоро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о зато мои пл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сем пригодны для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мигнет тебе украд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Из травы фонарик слад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7164360" y="404640"/>
            <a:ext cx="1408320" cy="1524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одуванчик"/>
          <p:cNvPicPr/>
          <p:nvPr/>
        </p:nvPicPr>
        <p:blipFill>
          <a:blip r:embed="rId2"/>
          <a:stretch/>
        </p:blipFill>
        <p:spPr>
          <a:xfrm>
            <a:off x="6588000" y="2492280"/>
            <a:ext cx="2295720" cy="17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h_107"/>
          <p:cNvPicPr/>
          <p:nvPr/>
        </p:nvPicPr>
        <p:blipFill>
          <a:blip r:embed="rId3"/>
          <a:stretch/>
        </p:blipFill>
        <p:spPr>
          <a:xfrm>
            <a:off x="5940360" y="4653000"/>
            <a:ext cx="233676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Когда спело – душисто, румяно, золотис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удто медом налилось,                                   видны семечки насквоз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ний мунди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желтая подкла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 в середине сла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земле крошки, а из земли леп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Рисунок1"/>
          <p:cNvPicPr/>
          <p:nvPr/>
        </p:nvPicPr>
        <p:blipFill>
          <a:blip r:embed="rId1"/>
          <a:stretch/>
        </p:blipFill>
        <p:spPr>
          <a:xfrm>
            <a:off x="7093080" y="333360"/>
            <a:ext cx="140796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ia3257"/>
          <p:cNvPicPr/>
          <p:nvPr/>
        </p:nvPicPr>
        <p:blipFill>
          <a:blip r:embed="rId2"/>
          <a:stretch/>
        </p:blipFill>
        <p:spPr>
          <a:xfrm>
            <a:off x="6877080" y="2997360"/>
            <a:ext cx="1798560" cy="2266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3287"/>
          <p:cNvPicPr/>
          <p:nvPr/>
        </p:nvPicPr>
        <p:blipFill>
          <a:blip r:embed="rId3"/>
          <a:stretch/>
        </p:blipFill>
        <p:spPr>
          <a:xfrm>
            <a:off x="826920" y="3963960"/>
            <a:ext cx="2376720" cy="19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3 конкур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600" spc="-1" strike="noStrike" u="sng">
                <a:solidFill>
                  <a:srgbClr val="336600"/>
                </a:solidFill>
                <a:uFillTx/>
                <a:latin typeface="Bookman Old Style"/>
              </a:rPr>
              <a:t>« Конструктор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разуйте новые слова из букв, входящих в данное сло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00"/>
                </a:solidFill>
                <a:latin typeface="Bookman Old Style"/>
              </a:rPr>
              <a:t> </a:t>
            </a:r>
            <a:r>
              <a:rPr b="0" lang="ru-RU" sz="6600" spc="-1" strike="noStrike">
                <a:solidFill>
                  <a:srgbClr val="336600"/>
                </a:solidFill>
                <a:latin typeface="Bookman Old Style"/>
              </a:rPr>
              <a:t>С м о р о д и н 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Рисунок1"/>
          <p:cNvPicPr/>
          <p:nvPr/>
        </p:nvPicPr>
        <p:blipFill>
          <a:blip r:embed="rId1"/>
          <a:stretch/>
        </p:blipFill>
        <p:spPr>
          <a:xfrm>
            <a:off x="7020000" y="189000"/>
            <a:ext cx="186840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4 конкурс: </a:t>
            </a:r>
            <a:r>
              <a:rPr b="0" i="1" lang="ru-RU" sz="2800" spc="-1" strike="noStrike" u="sng">
                <a:solidFill>
                  <a:srgbClr val="336600"/>
                </a:solidFill>
                <a:uFillTx/>
                <a:latin typeface="Bookman Old Style"/>
              </a:rPr>
              <a:t>« По грибы, по ягоды»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жешь гриб и увидишь: ножка его на срезе         потемнела, а у этого гриба не темнеет никогда,               даже если его высушить.                                                     Может поэтому и получил гриб свое наз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иб красивый, яркий. Для некоторых живо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гриб – лекарство, а для человека – я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Рисунок1"/>
          <p:cNvPicPr/>
          <p:nvPr/>
        </p:nvPicPr>
        <p:blipFill>
          <a:blip r:embed="rId1"/>
          <a:stretch/>
        </p:blipFill>
        <p:spPr>
          <a:xfrm>
            <a:off x="7380360" y="333360"/>
            <a:ext cx="140796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b00059"/>
          <p:cNvPicPr/>
          <p:nvPr/>
        </p:nvPicPr>
        <p:blipFill>
          <a:blip r:embed="rId2"/>
          <a:stretch/>
        </p:blipFill>
        <p:spPr>
          <a:xfrm>
            <a:off x="7236000" y="2349360"/>
            <a:ext cx="1439640" cy="2000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m_561"/>
          <p:cNvPicPr/>
          <p:nvPr/>
        </p:nvPicPr>
        <p:blipFill>
          <a:blip r:embed="rId3"/>
          <a:stretch/>
        </p:blipFill>
        <p:spPr>
          <a:xfrm>
            <a:off x="1042920" y="4508640"/>
            <a:ext cx="137160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1:56Z</dcterms:created>
  <dc:creator>Артем</dc:creator>
  <dc:description/>
  <dc:language>en-US</dc:language>
  <cp:lastModifiedBy>Артём</cp:lastModifiedBy>
  <dcterms:modified xsi:type="dcterms:W3CDTF">2012-06-03T20:20:21Z</dcterms:modified>
  <cp:revision>18</cp:revision>
  <dc:subject/>
  <dc:title>Зеленый мир</dc:title>
</cp:coreProperties>
</file>