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6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E12B-C5E5-459D-8A55-71E180E79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180E-19F6-4D9C-8E7F-640F642A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AD9D-1E62-4A46-B3B7-490A5231C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0EA5-5825-43A1-BB7B-A38351C74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98D3-2F6E-4036-9B22-7E786E6D6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5C6F-E21A-4A4F-81AC-C77184AD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89D1-A687-40D6-8176-A25FB09F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21D0-4D99-440E-BA15-96ADC434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BFF2-36A8-4DB6-9C10-26913DBF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2AF9-1A64-424D-BE74-0A04DC10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899F-303A-4624-93C4-BEFA630E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CA52-2132-4F25-9C51-1D9DE891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C6F9-CEAD-43A7-9C15-30061D40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0184-3A18-4771-8E04-59853DE3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1C65-CE0B-4D0C-89DF-EBB106E1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13B0-C1AB-43DA-8E96-DDE4F1DC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B9C5-9053-4D76-A526-916BA55CA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BFDC-63D0-43E1-8FD5-12909ECB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9065-F04B-4401-A3BF-C1955DA8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E42B-449F-483C-81FB-6DA8CA1B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D014-E552-4317-8A54-8E496879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A087-A989-4632-9C76-8534A8D2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744E-13AE-4EFF-825B-F3F57CA8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0323-7A64-450F-B244-ACB76201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8249-8841-429C-B76E-9424B66EF6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C3A7-E20C-404E-AEA8-92E89A44EC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43280" y="2565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c14"/>
                </a:solidFill>
                <a:latin typeface="Times New Roman"/>
              </a:rPr>
              <a:t>Спортивная викторина</a:t>
            </a:r>
            <a:br>
              <a:rPr sz="3200"/>
            </a:br>
            <a:r>
              <a:rPr b="0" i="1" lang="ru-RU" sz="3200" spc="-1" strike="noStrike">
                <a:solidFill>
                  <a:srgbClr val="000c14"/>
                </a:solidFill>
                <a:latin typeface="Times New Roman"/>
              </a:rPr>
              <a:t>для учащихся 1-4 классов</a:t>
            </a:r>
            <a:br>
              <a:rPr sz="5400"/>
            </a:br>
            <a:r>
              <a:rPr b="1" lang="ru-RU" sz="2000" spc="-1" strike="noStrike">
                <a:solidFill>
                  <a:srgbClr val="ccecff"/>
                </a:solidFill>
                <a:latin typeface="Comic Sans MS"/>
              </a:rPr>
              <a:t>Хорошавина Яна Александровна</a:t>
            </a:r>
            <a:br>
              <a:rPr sz="2000"/>
            </a:br>
            <a:r>
              <a:rPr b="1" lang="ru-RU" sz="2000" spc="-1" strike="noStrike">
                <a:solidFill>
                  <a:srgbClr val="ccecff"/>
                </a:solidFill>
                <a:latin typeface="Comic Sans MS"/>
              </a:rPr>
              <a:t>МАОУ лицей «Синтон» </a:t>
            </a:r>
            <a:br>
              <a:rPr sz="2000"/>
            </a:br>
            <a:r>
              <a:rPr b="1" lang="ru-RU" sz="2000" spc="-1" strike="noStrike">
                <a:solidFill>
                  <a:srgbClr val="ccecff"/>
                </a:solidFill>
                <a:latin typeface="Comic Sans MS"/>
              </a:rPr>
              <a:t>г. Чайковский Пермский край</a:t>
            </a:r>
            <a:br>
              <a:rPr sz="2000"/>
            </a:br>
            <a:r>
              <a:rPr b="1" lang="ru-RU" sz="2000" spc="-1" strike="noStrike">
                <a:solidFill>
                  <a:srgbClr val="ccecff"/>
                </a:solidFill>
                <a:latin typeface="Comic Sans MS"/>
              </a:rPr>
              <a:t>учитель физической культуры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57880" y="409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1059" descr=""/>
          <p:cNvPicPr/>
          <p:nvPr/>
        </p:nvPicPr>
        <p:blipFill>
          <a:blip r:embed="rId1"/>
          <a:stretch/>
        </p:blipFill>
        <p:spPr>
          <a:xfrm>
            <a:off x="4932360" y="4362480"/>
            <a:ext cx="4211640" cy="24955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6372360" y="0"/>
            <a:ext cx="2771640" cy="18590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826920" y="189000"/>
            <a:ext cx="3203640" cy="28954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0" y="3595680"/>
            <a:ext cx="406728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Как называют человека лазающего по скалам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345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Times New Roman"/>
              </a:rPr>
              <a:t>Скалолаз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692360" y="1841400"/>
            <a:ext cx="590400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Без чего судья не может выйти на поле?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763640" y="1609560"/>
            <a:ext cx="576108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Times New Roman"/>
              </a:rPr>
              <a:t>Без свистка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692360" y="1558800"/>
            <a:ext cx="5616360" cy="44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ecff"/>
                </a:solidFill>
                <a:latin typeface="Times New Roman"/>
              </a:rPr>
              <a:t>В каком виде спорта важен попутный ветер?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619280" y="1890720"/>
            <a:ext cx="590544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Парусно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619280" y="1890720"/>
            <a:ext cx="561672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ecff"/>
                </a:solidFill>
                <a:latin typeface="Times New Roman"/>
              </a:rPr>
              <a:t>Какому спортсмену на соревнованиях приходится вязать узлы?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835280" y="2027160"/>
            <a:ext cx="561636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ecff"/>
                </a:solidFill>
                <a:latin typeface="Times New Roman"/>
              </a:rPr>
              <a:t>Турист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692360" y="1587600"/>
            <a:ext cx="561636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 каком виде спорта самый высокий старт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966960" y="1600200"/>
            <a:ext cx="3017520" cy="45259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157720" y="1600200"/>
            <a:ext cx="3017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ecff"/>
                </a:solidFill>
                <a:latin typeface="Times New Roman"/>
              </a:rPr>
              <a:t>Парашютно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0" name="Picture 6" descr="парашют"/>
          <p:cNvPicPr/>
          <p:nvPr/>
        </p:nvPicPr>
        <p:blipFill>
          <a:blip r:embed="rId1"/>
          <a:stretch/>
        </p:blipFill>
        <p:spPr>
          <a:xfrm>
            <a:off x="1397160" y="1741320"/>
            <a:ext cx="634968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ecff"/>
                </a:solidFill>
                <a:latin typeface="Arial"/>
              </a:rPr>
              <a:t>Расставьте правильно мячи по видам спор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Футбол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Волейбол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Баскетбо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635280" y="335772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95280" y="3213000"/>
            <a:ext cx="2187720" cy="2187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6588000" y="3141720"/>
            <a:ext cx="212580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Как называется игра в мяч на воде?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51850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Times New Roman"/>
              </a:rPr>
              <a:t>Водное пол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4" name="Picture 4" descr="C:\Documents and Settings\Admin\Рабочий стол\0821.jpg"/>
          <p:cNvPicPr/>
          <p:nvPr/>
        </p:nvPicPr>
        <p:blipFill>
          <a:blip r:embed="rId1"/>
          <a:stretch/>
        </p:blipFill>
        <p:spPr>
          <a:xfrm>
            <a:off x="1835280" y="1700280"/>
            <a:ext cx="541944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Баскетбол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50920" y="3860640"/>
            <a:ext cx="2700360" cy="2700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3276720" y="1197000"/>
            <a:ext cx="2544480" cy="25448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6227640" y="4157640"/>
            <a:ext cx="2700360" cy="27003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816480" y="3227400"/>
            <a:ext cx="14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Times New Roman"/>
              </a:rPr>
              <a:t>Волейбо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945840" y="337176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Times New Roman"/>
              </a:rPr>
              <a:t>Футбо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ecff"/>
                </a:solidFill>
                <a:latin typeface="Arial"/>
              </a:rPr>
              <a:t>Как называется площадка для игры в большой теннис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635280" y="1341360"/>
            <a:ext cx="530568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ecff"/>
                </a:solidFill>
                <a:latin typeface="Times New Roman"/>
              </a:rPr>
              <a:t>Кор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116000" y="1254240"/>
            <a:ext cx="700560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В каком виде спорта спортсмены наносят друг другу уколы?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Picture 2" descr="C:\Documents and Settings\Admin\Рабочий стол\fencing31(1).jpg"/>
          <p:cNvPicPr/>
          <p:nvPr/>
        </p:nvPicPr>
        <p:blipFill>
          <a:blip r:embed="rId1"/>
          <a:stretch/>
        </p:blipFill>
        <p:spPr>
          <a:xfrm>
            <a:off x="2333520" y="2433600"/>
            <a:ext cx="44769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ecff"/>
                </a:solidFill>
                <a:latin typeface="Times New Roman"/>
              </a:rPr>
              <a:t>В Фехтован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50088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Times New Roman"/>
              </a:rPr>
              <a:t>Что требует зритель в хоккее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908000" y="1725480"/>
            <a:ext cx="5040360" cy="40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Times New Roman"/>
              </a:rPr>
              <a:t>Шайбы! Шайбы! Шайбы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835280" y="1666800"/>
            <a:ext cx="547344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8:46:53Z</dcterms:created>
  <dc:creator>user</dc:creator>
  <dc:description/>
  <dc:language>en-US</dc:language>
  <cp:lastModifiedBy>user</cp:lastModifiedBy>
  <dcterms:modified xsi:type="dcterms:W3CDTF">2012-06-03T12:49:14Z</dcterms:modified>
  <cp:revision>8</cp:revision>
  <dc:subject/>
  <dc:title>Слайд 1</dc:title>
</cp:coreProperties>
</file>