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A74-D043-4EC5-A2C1-0EA44BAD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4C3-28E7-47FE-BCE5-47A0C21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494-65DF-41B1-9FC7-9B969AD5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1D8-D250-49A7-AFC6-9B76BDA2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FAA9-7402-4D04-A0DD-89CAE676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EF08-5F8E-4369-AF0F-ADB93F4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15AB-2C6F-4F15-AA9A-E252576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920-A55C-4D2B-BC1A-1FD2D2B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1D2-1A53-4523-83DB-A762B26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5D51-C1E3-4151-B2EC-64B5EC0B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3AE-DA0C-4F59-B5CD-01AB5EC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3DD-E081-4E48-BB8C-B1C5E9A1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AE81-72ED-4E7A-B04B-C427BC0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288A-E8C9-44AA-894C-D4FEEA5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2EDD-8951-41D9-B659-07F25A7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2926-66AC-4692-A472-173CE465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F34F-B46F-4A90-966E-E8675148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B53-9C7F-40D2-91A3-FDDE9661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1CF-EC26-4710-90FD-8BADCFD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A11-447A-47E3-AFD7-FD2E9A0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69B-E9FE-4442-90EB-E139A450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B30-8FE9-4D7C-B9F2-B23AC2F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2C1-80EB-4046-91DE-4F66019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82E-7B20-4AB8-8699-DF646CAA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79D-8579-4406-BBA8-559F2A5CA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07EB-696D-44EB-99D7-F7EEE5928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4328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c14"/>
                </a:solidFill>
                <a:latin typeface="Times New Roman"/>
              </a:rPr>
              <a:t>Спортивная викторина</a:t>
            </a:r>
            <a:br>
              <a:rPr sz="3200"/>
            </a:br>
            <a:r>
              <a:rPr b="0" i="1" lang="ru-RU" sz="3200" spc="-1" strike="noStrike">
                <a:solidFill>
                  <a:srgbClr val="000c14"/>
                </a:solidFill>
                <a:latin typeface="Times New Roman"/>
              </a:rPr>
              <a:t>для учащихся 1-4 классов</a:t>
            </a:r>
            <a:br>
              <a:rPr sz="54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Хорошавина Яна Александровн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МАОУ лицей «Синтон» 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г. Чайковский Пермский край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учитель физической культур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57880" y="409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1059" descr=""/>
          <p:cNvPicPr/>
          <p:nvPr/>
        </p:nvPicPr>
        <p:blipFill>
          <a:blip r:embed="rId1"/>
          <a:stretch/>
        </p:blipFill>
        <p:spPr>
          <a:xfrm>
            <a:off x="4932360" y="4362480"/>
            <a:ext cx="4211640" cy="2495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1859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3203640" cy="2895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3595680"/>
            <a:ext cx="4067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ак называют человека лазающего по скал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Скало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92360" y="1841400"/>
            <a:ext cx="5904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Без чего судья не может выйти на поле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63640" y="1609560"/>
            <a:ext cx="5761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Без свист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92360" y="1558800"/>
            <a:ext cx="5616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Times New Roman"/>
              </a:rPr>
              <a:t>В каком виде спорта важен попутный ветер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19280" y="1890720"/>
            <a:ext cx="5905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Парус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619280" y="1890720"/>
            <a:ext cx="56167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Times New Roman"/>
              </a:rPr>
              <a:t>Какому спортсмену на соревнованиях приходится вязать узлы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2027160"/>
            <a:ext cx="56163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Турис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1587600"/>
            <a:ext cx="5616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каком виде спорта самый высокий старт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Парашют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парашют"/>
          <p:cNvPicPr/>
          <p:nvPr/>
        </p:nvPicPr>
        <p:blipFill>
          <a:blip r:embed="rId1"/>
          <a:stretch/>
        </p:blipFill>
        <p:spPr>
          <a:xfrm>
            <a:off x="1397160" y="1741320"/>
            <a:ext cx="6349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Расставьте правильно мячи по видам спо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Фут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олей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2125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ак называется игра в мяч на воде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Водное пол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C:\Documents and Settings\Admin\Рабочий стол\0821.jpg"/>
          <p:cNvPicPr/>
          <p:nvPr/>
        </p:nvPicPr>
        <p:blipFill>
          <a:blip r:embed="rId1"/>
          <a:stretch/>
        </p:blipFill>
        <p:spPr>
          <a:xfrm>
            <a:off x="1835280" y="1700280"/>
            <a:ext cx="54194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2544480" cy="2544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22764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16480" y="32274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5840" y="3371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Как называется площадка для игры в большой тенни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5305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Кор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254240"/>
            <a:ext cx="70056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В каком виде спорта спортсмены наносят друг другу уколы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fencing31(1).jpg"/>
          <p:cNvPicPr/>
          <p:nvPr/>
        </p:nvPicPr>
        <p:blipFill>
          <a:blip r:embed="rId1"/>
          <a:stretch/>
        </p:blipFill>
        <p:spPr>
          <a:xfrm>
            <a:off x="2333520" y="243360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В Фехто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Что требует зритель в хокк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1725480"/>
            <a:ext cx="50403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Шайбы! Шайбы! Шайб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47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6:53Z</dcterms:created>
  <dc:creator>user</dc:creator>
  <dc:description/>
  <dc:language>en-US</dc:language>
  <cp:lastModifiedBy>user</cp:lastModifiedBy>
  <dcterms:modified xsi:type="dcterms:W3CDTF">2012-06-03T12:49:14Z</dcterms:modified>
  <cp:revision>8</cp:revision>
  <dc:subject/>
  <dc:title>Слайд 1</dc:title>
</cp:coreProperties>
</file>