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920D-7AA9-4772-9E66-D6B00D9A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CCF6-1574-453C-A09A-F077C4CF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7429-FC42-47A5-84EC-FC3D5D4E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B623-3BAF-4CB2-9CFD-A05DCB1F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2DBE-BA9B-4833-B0C9-94963828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FEA5-678E-4D46-9BEF-4507EF6B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BE6A-4956-42AC-B223-E7EE6839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598-51C1-46FA-9CDE-A73458ED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288B-A4E5-4F35-A606-07F85CE7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DC60-9004-40B1-A0A7-6B13AD1F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D444-9678-4869-A042-AB9A06B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8697-1E98-4B91-8578-2661965B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C1EC-F287-4E5A-BAFE-F9101E0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752B-FD3E-4824-A7C1-A2AFFAA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9481-6175-4E0C-A9BB-122ED0D2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9C4D-EE88-4600-AB40-EA86FC2B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3167-E7D5-4704-BA22-B96F749E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3C96-D682-4606-A992-3FE57D2B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E93F-2490-492B-A5CB-8DB30150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A852-64A8-4738-9C93-1E591F0A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5794-03DD-45BF-B5A0-CAAD183B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0E30-0F5C-47D7-A073-0BDB760B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8A4B-4790-49FD-95C3-5D7B0ACF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EC00-5A67-4972-BD70-F6F3FB5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0471-F478-4DA0-AA2B-12D77D11E3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96B-D5B7-48BD-AC8C-99A439D619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ехника безопасности на занятиях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о лыжной подготовк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95640" y="3693960"/>
            <a:ext cx="5148360" cy="3164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145800" y="465300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Comic Sans MS"/>
              </a:rPr>
              <a:t>Хорошавина Яна Александровна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Comic Sans MS"/>
              </a:rPr>
              <a:t>МАОУ лицей «Синтон» 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Comic Sans MS"/>
              </a:rPr>
              <a:t>г. Чайковский Пермский край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Comic Sans MS"/>
              </a:rPr>
              <a:t>учи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9. При занятиях следует обязательно надеть теплое белье из натуральных (не синтетических) тканей, а на руки - вареж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067280" y="3002040"/>
            <a:ext cx="5076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0. Запрещается заниматься без головного убора. Следует надеть спортивную шапочку, прикрывающую уш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62640" y="2332080"/>
            <a:ext cx="368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1. Надо проверить исправность лыжного инвентаря, развязать лыжи до выхода на улицу. Выйдя на улицу, следует не спешить вставать на лыжи, а дать им остыть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иначе на них образуется корка льда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которая будет препятствовать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кольжению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76960" y="2581200"/>
            <a:ext cx="2867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2. В случае опоздания на занятие лыжной подготовкой надо предупредить учителя о своем приходе, чтобы он знал точное количество занимающихся. Не уходить с занятий без разрешения учите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064040" y="3530520"/>
            <a:ext cx="50799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3. Владение правильной техникой выполнения упражнений - лучшая профилактика травматизма. Поэтому следует внимательно слушать объяснения учителя, стараться правильно и точно выполнять упражнени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4. Обязательно выполнять правила поведения на лыжне. При передвижении на лыжах по дистанции соблюдать интервал 3-4 м. При спусках не выставлять вперед лыжные палки. Если возникла необходимость в быстрой остановке, приседая, падать на бок (обязательно держа при этом палки сзади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6000" y="4165560"/>
            <a:ext cx="3348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5. После спуска не останавливаться у подножия склона, помня, что за тобой следуют другие лыжни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6. Не пересекать лыжню, по которой передвигаются спускающиеся со склона лыжни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7. Не наступать на пятки лыж при обго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2130480"/>
            <a:ext cx="63007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8. Категорически  запрещается  использовать  лыжные палки для осаливания во время подвижных игр и эстафет: это можно делать только рук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08360" y="3044880"/>
            <a:ext cx="54356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. Лыжи должны быть подобраны по росту занимающегося и находиться в исправном состоянии(неисправностями считаются: трещины, сколы, поломки носка или пятки лыж, деформация скользящей поверхности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3664080"/>
            <a:ext cx="84596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9. При обгоне не толкаться, не задевать соперника палкам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229392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0. Спускаться с определенной учителем высоты и в указанном направлени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286680" y="2533680"/>
            <a:ext cx="2857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1. При побелении или потере чувствительности кожи ушей, носа, щек следует немедленно сделать растирание. Сначала растереть (до порозовения) кожу по соседству, а затем на самом отмороженном участке. Делать это нужно сухой рукой, а не снегом, так как в последнем случае можно повредить кожу и занести инфекцию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72040" y="4476600"/>
            <a:ext cx="3171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2. Нельзя раздеваться во время передвижения на лыжах по дистанции(это приведет к простуде). Лучше снять лишнюю одежду до начала заняти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13440" y="2332080"/>
            <a:ext cx="313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3. Перед входом в помещение счистить снег с лыж, а зайдя в помещение, связать их вмест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03920" y="2332080"/>
            <a:ext cx="33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4. В случае неожиданного плохого самочувствия или каких-либо других непредвиденных ситуаций немедленно поставить в известность учител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191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5. Сразу после занятий по лыжной подготовке не пить холодную воду, чтобы не заболело горло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45160" y="2971800"/>
            <a:ext cx="439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. Крепления должны быть отрегулированы так чтобы можно было без посторонней помощи прикреплять к лыжам ботинки или валенк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51280" y="2819520"/>
            <a:ext cx="5292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3. Палки, подобранные по росту, должны иметь наконечник и регулируемой длины ремень для кисти ру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2179800"/>
            <a:ext cx="70200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4. Лыжные ботинки должны быть подобраны по размеру: тесная или очень свободная обувь может привести к потертостям или травме голеностопного сустава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91120" y="2332080"/>
            <a:ext cx="405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. Не зашнуровывать ботинки слишком туго и не обвязывать шнурки вокруг голени  - из-за этого ухудшается кровообращение и ноги быстрее мерзнут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24360" y="294336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. После занятий надо обязательно просушить ботинки: ходьба в сырой обуви приводит к потертостям. Ни в коем случае нельзя сушить ботинки на батарее отопления или печке: от этого они становятся жесткими и коробятс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7. Надевать обувь лучше на два носка (хлопчатобумажный и шерстяной). Носки должны быть сухим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57920" y="233208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8. Одежда на занятиях лыжной подготовкой должна защищать от холода и ветра, быть легкой, удобной, не сковывающей движений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27280" y="2509920"/>
            <a:ext cx="65167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1:23:23Z</dcterms:created>
  <dc:creator>user</dc:creator>
  <dc:description/>
  <dc:language>en-US</dc:language>
  <cp:lastModifiedBy>user</cp:lastModifiedBy>
  <dcterms:modified xsi:type="dcterms:W3CDTF">2012-06-03T13:01:15Z</dcterms:modified>
  <cp:revision>11</cp:revision>
  <dc:subject/>
  <dc:title>Правила безопасности на занятиях лыжной подготовк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