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8644E-14DE-4F69-B2EC-3E316D2A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9A282-5637-4281-AA27-42AF65E5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D0EB-1CB5-44E6-A8DB-A49192C6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B64ED-A605-4B3E-8E71-7F76BBDD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805B-9365-49E6-9556-513E4B40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9165-0489-47D7-A98C-5F050F4D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119A-0AAC-4D43-9EC1-0F368CD5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7420-8E57-46C6-B2AF-1838783E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1C8D-C513-4DF1-898D-C8A0813B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A3F7-9A1B-45BE-A776-B75DCAD5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6E02-0B71-4A1B-A41B-CA4ADAB5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C99D-33D9-472D-B4CA-F4E34280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ABC6-C12D-43CC-B39D-907038AD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8D56-156F-45A5-9B42-084E6962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224B-A515-4BCF-9018-B37E8FF7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3CF7-6D7F-42E5-888F-6EFC0D97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EC25-0247-4CD7-90C9-5F4C980F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AE0A5-B513-4FAC-BCBA-2A28BA13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D9CE9-AB62-42B8-A0D8-793B2CE8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BD48B-4B08-4F7C-91FD-96F35C8B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66AAF-9F1B-4AB7-807D-84A9E91C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FDCC5-F0AF-4AA8-9CE8-FD737511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BFAD9-92C3-43BD-83AD-9C131ABF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C93EC-5941-44DA-AA1D-E2A388FC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E6AB-AC00-41C6-BD05-66C89EDBE3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F260-A6A2-45B7-96A5-21868883BB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Техника безопасности на занятиях</a:t>
            </a:r>
            <a:br>
              <a:rPr sz="6000"/>
            </a:b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по лыжной подготовке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95640" y="3693960"/>
            <a:ext cx="5148360" cy="3164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-145800" y="4653000"/>
            <a:ext cx="41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e5ff"/>
                </a:solidFill>
                <a:latin typeface="Comic Sans MS"/>
              </a:rPr>
              <a:t>Хорошавина Яна Александровна</a:t>
            </a:r>
            <a:br>
              <a:rPr sz="1800"/>
            </a:br>
            <a:r>
              <a:rPr b="1" lang="ru-RU" sz="1800" spc="-1" strike="noStrike">
                <a:solidFill>
                  <a:srgbClr val="e5e5ff"/>
                </a:solidFill>
                <a:latin typeface="Comic Sans MS"/>
              </a:rPr>
              <a:t>МАОУ лицей «Синтон» </a:t>
            </a:r>
            <a:br>
              <a:rPr sz="1800"/>
            </a:br>
            <a:r>
              <a:rPr b="1" lang="ru-RU" sz="1800" spc="-1" strike="noStrike">
                <a:solidFill>
                  <a:srgbClr val="e5e5ff"/>
                </a:solidFill>
                <a:latin typeface="Comic Sans MS"/>
              </a:rPr>
              <a:t>г. Чайковский Пермский край</a:t>
            </a:r>
            <a:br>
              <a:rPr sz="1800"/>
            </a:br>
            <a:r>
              <a:rPr b="1" lang="ru-RU" sz="1800" spc="-1" strike="noStrike">
                <a:solidFill>
                  <a:srgbClr val="e5e5ff"/>
                </a:solidFill>
                <a:latin typeface="Comic Sans MS"/>
              </a:rPr>
              <a:t>учитель физической куль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9. При занятиях следует обязательно надеть теплое белье из натуральных (не синтетических) тканей, а на руки - варежк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067280" y="3002040"/>
            <a:ext cx="50767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0. Запрещается заниматься без головного убора. Следует надеть спортивную шапочку, прикрывающую уши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62640" y="2332080"/>
            <a:ext cx="3681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1. Надо проверить исправность лыжного инвентаря, развязать лыжи до выхода на улицу. Выйдя на улицу, следует не спешить вставать на лыжи, а дать им остыть, 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иначе на них образуется корка льда, 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которая будет препятствовать 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скольжению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276960" y="2581200"/>
            <a:ext cx="28670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2. В случае опоздания на занятие лыжной подготовкой надо предупредить учителя о своем приходе, чтобы он знал точное количество занимающихся. Не уходить с занятий без разрешения учител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064040" y="3530520"/>
            <a:ext cx="50799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3. Владение правильной техникой выполнения упражнений - лучшая профилактика травматизма. Поэтому следует внимательно слушать объяснения учителя, стараться правильно и точно выполнять упражнени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3280" y="3481560"/>
            <a:ext cx="45007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4. Обязательно выполнять правила поведения на лыжне. При передвижении на лыжах по дистанции соблюдать интервал 3-4 м. При спусках не выставлять вперед лыжные палки. Если возникла необходимость в быстрой остановке, приседая, падать на бок (обязательно держа при этом палки сзади)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796000" y="4165560"/>
            <a:ext cx="33480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5. После спуска не останавливаться у подножия склона, помня, что за тобой следуют другие лыжник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87640" y="2239920"/>
            <a:ext cx="615636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6. Не пересекать лыжню, по которой передвигаются спускающиеся со склона лыжник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987640" y="2239920"/>
            <a:ext cx="615636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7. Не наступать на пятки лыж при обгон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43280" y="2130480"/>
            <a:ext cx="630072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8. Категорически  запрещается  использовать  лыжные палки для осаливания во время подвижных игр и эстафет: это можно делать только рукой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708360" y="3044880"/>
            <a:ext cx="543564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. Лыжи должны быть подобраны по росту занимающегося и находиться в исправном состоянии(неисправностями считаются: трещины, сколы, поломки носка или пятки лыж, деформация скользящей поверхности)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3664080"/>
            <a:ext cx="845964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19. При обгоне не толкаться, не задевать соперника палкам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59280" y="2293920"/>
            <a:ext cx="60847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0. Спускаться с определенной учителем высоты и в указанном направлении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286680" y="2533680"/>
            <a:ext cx="28573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1. При побелении или потере чувствительности кожи ушей, носа, щек следует немедленно сделать растирание. Сначала растереть (до порозовения) кожу по соседству, а затем на самом отмороженном участке. Делать это нужно сухой рукой, а не снегом, так как в последнем случае можно повредить кожу и занести инфекцию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972040" y="4476600"/>
            <a:ext cx="3171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2. Нельзя раздеваться во время передвижения на лыжах по дистанции(это приведет к простуде). Лучше снять лишнюю одежду до начала заняти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013440" y="2332080"/>
            <a:ext cx="3130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3. Перед входом в помещение счистить снег с лыж, а зайдя в помещение, связать их вместе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803920" y="2332080"/>
            <a:ext cx="334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4. В случае неожиданного плохого самочувствия или каких-либо других непредвиденных ситуаций немедленно поставить в известность учителя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952880" y="3048120"/>
            <a:ext cx="4191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5. Сразу после занятий по лыжной подготовке не пить холодную воду, чтобы не заболело горло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45160" y="2971800"/>
            <a:ext cx="439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2. Крепления должны быть отрегулированы так чтобы можно было без посторонней помощи прикреплять к лыжам ботинки или валенки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51280" y="2819520"/>
            <a:ext cx="5292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3. Палки, подобранные по росту, должны иметь наконечник и регулируемой длины ремень для кисти руки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24000" y="2179800"/>
            <a:ext cx="702000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4. Лыжные ботинки должны быть подобраны по размеру: тесная или очень свободная обувь может привести к потертостям или травме голеностопного сустава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91120" y="2332080"/>
            <a:ext cx="4052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5. Не зашнуровывать ботинки слишком туго и не обвязывать шнурки вокруг голени  - из-за этого ухудшается кровообращение и ноги быстрее мерзнут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24360" y="2943360"/>
            <a:ext cx="52196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6. После занятий надо обязательно просушить ботинки: ходьба в сырой обуви приводит к потертостям. Ни в коем случае нельзя сушить ботинки на батарее отопления или печке: от этого они становятся жесткими и коробятс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5928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7. Надевать обувь лучше на два носка (хлопчатобумажный и шерстяной). Носки должны быть сухими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57920" y="2332080"/>
            <a:ext cx="328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8. Одежда на занятиях лыжной подготовкой должна защищать от холода и ветра, быть легкой, удобной, не сковывающей движений.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627280" y="2509920"/>
            <a:ext cx="651672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1:23:23Z</dcterms:created>
  <dc:creator>user</dc:creator>
  <dc:description/>
  <dc:language>en-US</dc:language>
  <cp:lastModifiedBy>user</cp:lastModifiedBy>
  <dcterms:modified xsi:type="dcterms:W3CDTF">2012-06-03T13:01:15Z</dcterms:modified>
  <cp:revision>11</cp:revision>
  <dc:subject/>
  <dc:title>Правила безопасности на занятиях лыжной подготовко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