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2047-6EC1-4165-B6FF-0AA130AD2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229D-5642-4B36-B644-0EF9A7C8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7D7B-58CA-46B8-9F33-55F31B19E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DE1A-9E7C-4967-BB93-C3D730665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5B1F-3903-4F5A-82DB-09A96F10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FD57-B9A5-4FEA-A692-1DD2448A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8919-6AFA-4E8A-B1DD-E28DFB43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0A74-5AC1-4709-80ED-C74AE993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F24D-FFAB-4D34-AB05-BD991F7E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3DDC-E67D-4C0F-B0C6-B1DC003A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1150-0916-44F9-AD42-B2EC41CE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0F37-03EC-4A95-9647-68A8191B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BE83-30E4-483B-A67B-C0D7B5CBA3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468360" y="333360"/>
            <a:ext cx="806436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икторин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539640" y="2492280"/>
            <a:ext cx="8353440" cy="30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cc"/>
                </a:solidFill>
                <a:latin typeface="Times New Roman"/>
              </a:rPr>
              <a:t>юный эруди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cc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А. П. Бородин обладал не только выдающимся музыкальным и литературным дарованием но и талантом ученого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ика              биолога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тематика       хими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250920" y="476280"/>
            <a:ext cx="88930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А. П. Бородин обладал н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только выдающимся музыкальным и литературны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дарованием но и талантом ученого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ика              биолога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тематика       </a:t>
            </a: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хим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Последняя опера 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Н. А. Римского- Корсакова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Снегурочка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 Псковитянка»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Золотой петушок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Садко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1050840" y="260280"/>
            <a:ext cx="70455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Последняя опера </a:t>
            </a:r>
            <a:br>
              <a:rPr sz="4800"/>
            </a:b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Н. А. Римского- Корсакова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«Снегурочка»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« Псковитянка» </a:t>
            </a:r>
            <a:br>
              <a:rPr sz="4800"/>
            </a:br>
            <a:r>
              <a:rPr b="0" i="1" lang="ru-RU" sz="4800" spc="-1" strike="noStrike">
                <a:solidFill>
                  <a:srgbClr val="ff0000"/>
                </a:solidFill>
                <a:latin typeface="Arial"/>
              </a:rPr>
              <a:t>«Золотой петушок»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«Садко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646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С 1856 по 1862годы композитор 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Н. А. Римский- Корсаков 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учился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консерватори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морском кадетском корпус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училище правоведен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университе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73468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С 1856 по 1862годы композитор 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Н. А. Римский- Корсаков 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учился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консерватории </a:t>
            </a: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в морском кадетском корпус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училище правоведения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университете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Город где расположен </a:t>
            </a:r>
            <a:br>
              <a:rPr sz="5400"/>
            </a:b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Дом-музей </a:t>
            </a:r>
            <a:br>
              <a:rPr sz="5400"/>
            </a:b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П.И.Чайковского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ткинск         Клин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сква           Тверь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250920" y="333360"/>
            <a:ext cx="8569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Город где расположен </a:t>
            </a:r>
            <a:br>
              <a:rPr sz="5400"/>
            </a:b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Дом-музей </a:t>
            </a:r>
            <a:br>
              <a:rPr sz="5400"/>
            </a:b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П.И.Чайковского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откинск         </a:t>
            </a:r>
            <a:r>
              <a:rPr b="0" i="1" lang="ru-RU" sz="5400" spc="-1" strike="noStrike">
                <a:solidFill>
                  <a:srgbClr val="ff0000"/>
                </a:solidFill>
                <a:latin typeface="Arial"/>
              </a:rPr>
              <a:t>Клин 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осква           Твер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По мотивам поэмы А.Пушкина 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«Полтава» написана опера П.Чайковског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Воевода» 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«Мазепа»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Орлеанская дева»  «Иолант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250920" y="620640"/>
            <a:ext cx="87138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По мотивам поэмы А.Пушки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«Полтава» написана оп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П.Чайковског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Воевода» 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«Мазепа»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Орлеанская дева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Иолант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Автор увертюр для симфонического оркестра «Арагонская хота» и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«Ночь в Мадриде»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.Глинка     П. Чайковский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. Бородин      М. Мусоргски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«У камелька», «Масленица» 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«Белые ночи», «На тройке»-пьесы из фортепианного цикла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Детский альбом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Времена года»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Картинки с выставки»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Детска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684360" y="260280"/>
            <a:ext cx="77738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«У камелька», «Масленица» 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«Белые ночи», «Натройке»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пьесы из фортепианн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цикла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Детский альбом»</a:t>
            </a:r>
            <a:br>
              <a:rPr sz="4400"/>
            </a:b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«Времена года»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Картинки с выставки»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Детска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Кто из названых композиторов не входил в творческое содружество «Могучая кучка»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. Кю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. Бородин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.Глинка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.Балакире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468360" y="260280"/>
            <a:ext cx="834696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Кто из названых композитор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не входил в творческо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содружество «Могучая кучка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. Кю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. Бородин </a:t>
            </a:r>
            <a:br>
              <a:rPr sz="4400"/>
            </a:b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М.Глинка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.Балакир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Композитор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века, который экспериментировал в области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цвето- и светомузык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. Шостакович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.Скрябин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.Прокофьев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. Хачатуря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395280" y="333360"/>
            <a:ext cx="8352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Композитор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век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который экспериментировал в области цвето- и светомузык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. Шостакович</a:t>
            </a:r>
            <a:br>
              <a:rPr sz="4400"/>
            </a:b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А.Скрябин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.Прокофьев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. Хачатуря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Композитор,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написавший 19 рапсодий, рисующих картины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венгерской народной жизни. </a:t>
            </a:r>
            <a:br>
              <a:rPr sz="4400"/>
            </a:br>
            <a:br>
              <a:rPr sz="44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Ф.Лист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Ф.Шопен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.Моцарт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И. Ба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324000" y="476280"/>
            <a:ext cx="8640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Композитор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написавший 19 рапсодий, рисующих картин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венгерской народной жизн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Ф.Лист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.Шопен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.Моцарт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. Б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Французский композитор, который оркестровал фортепианный цикл М.Мусоргского 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«Картинки с выставки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.Дебюсси     М.Равель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Ж.Бизе       Ш. Гу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468360" y="476280"/>
            <a:ext cx="83516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Французский композитор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который оркестрова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фортепианный цик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М.Мусоргского </a:t>
            </a:r>
            <a:br>
              <a:rPr sz="4800"/>
            </a:b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«Картинки с выставки»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.Дебюсси    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800" spc="-1" strike="noStrike">
                <a:solidFill>
                  <a:srgbClr val="ff0000"/>
                </a:solidFill>
                <a:latin typeface="Arial"/>
              </a:rPr>
              <a:t>М.Равель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Ж.Бизе       Ш. Гу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Автор увертюр для симфонического оркестра «Арагонская хота» и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«Ночь в Мадриде» </a:t>
            </a:r>
            <a:br>
              <a:rPr sz="4400"/>
            </a:br>
            <a:br>
              <a:rPr sz="4400"/>
            </a:b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М.Глинка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П. Чайковский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. Бородин      М. Мусорг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Художник- автор портретов русских  писателей и композиторов </a:t>
            </a: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.Третьяков     А.Шилов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И.Репин      В.Гартман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324000" y="260280"/>
            <a:ext cx="8640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Художник- автор портрет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русских  писателей 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композиторов </a:t>
            </a: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.Третьяков     А.Шилов </a:t>
            </a:r>
            <a:br>
              <a:rPr sz="5400"/>
            </a:br>
            <a:r>
              <a:rPr b="0" i="1" lang="ru-RU" sz="5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i="1" lang="ru-RU" sz="5400" spc="-1" strike="noStrike">
                <a:solidFill>
                  <a:srgbClr val="ff0000"/>
                </a:solidFill>
                <a:latin typeface="Arial"/>
              </a:rPr>
              <a:t>Репин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 В.Гартма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Художник- автор рисунков, вдохновивших М.Мусоргского на создание фортепианного цикла «Картинки с выставки»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.Гартман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.Перов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.Васнецов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.Верещаг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250920" y="189000"/>
            <a:ext cx="87138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Художник- автор рисунков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вдохновивших М.Мусоргск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на создание фортепианног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цикла «Картинки с выставки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В.Гартман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ов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.Васнецов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.Верещаг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Основатель знаменитой картинной галереи в Москве </a:t>
            </a: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.Морозов   С.Дягилев   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К.Иванов    П.Третьяк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179280" y="620640"/>
            <a:ext cx="8713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Основатель знаменито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картинной галереи 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Москве </a:t>
            </a: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.Морозов   С.Дягилев   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К.Иванов    </a:t>
            </a:r>
            <a:r>
              <a:rPr b="0" i="1" lang="ru-RU" sz="5400" spc="-1" strike="noStrike">
                <a:solidFill>
                  <a:srgbClr val="ff0000"/>
                </a:solidFill>
                <a:latin typeface="Arial"/>
              </a:rPr>
              <a:t>П.Третьяк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518320" cy="64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Композитор, автор симфонической сказки 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«Петя и волк»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. Скрябин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. Кабалевский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. Прокофьев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. Шостакович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250920" y="549360"/>
            <a:ext cx="856908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Композитор, авт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симфонической сказки 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«Петя и волк»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. Скрябин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. Кабалевский </a:t>
            </a:r>
            <a:br>
              <a:rPr sz="4400"/>
            </a:b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С. Прокофьев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. Шостакович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1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Автор работы: </a:t>
            </a:r>
            <a:br>
              <a:rPr sz="3600"/>
            </a:b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учитель музыки и МХК </a:t>
            </a:r>
            <a:br>
              <a:rPr sz="3600"/>
            </a:b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Э.С. Белоконова </a:t>
            </a:r>
            <a:br>
              <a:rPr sz="3600"/>
            </a:b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МБОУ ООШ №2 </a:t>
            </a:r>
            <a:br>
              <a:rPr sz="3600"/>
            </a:b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г. Полярный </a:t>
            </a:r>
            <a:br>
              <a:rPr sz="3600"/>
            </a:b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Мурманской об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713800" cy="639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Романсы «Жаворонок», 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«Сомнение»,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«Попутная песня» написаны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М. Глинкой на стихи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.Жуковского      А.Пушкин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Ю.Лермонтова    Н.Куколь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250920" y="260280"/>
            <a:ext cx="84978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Романсы «Жаворонок», 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«Сомнение»,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«Попутная песня» написаны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М. Глинкой на стихи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.Жуковского      А.Пушкин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Ю.Лермонтова    </a:t>
            </a: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Н.Куколь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46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Фортепианный цикл М.Мусоргского 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«Картинки с выставки» 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завершается пьесой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Старый замок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Богатырские ворота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Избушка на курьих ножках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Гном»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324000" y="404640"/>
            <a:ext cx="8280360" cy="58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Фортепианный цикл М.Мусоргского 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«Картинки с выставки» 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завершается пьес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Старый замок»</a:t>
            </a:r>
            <a:br>
              <a:rPr sz="4400"/>
            </a:b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«Богатырские ворота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Избушка на курьих ножках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Гном»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Какая группа инструментов может не входить в состав симфонического оркестр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дарные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унные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вишные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уховы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106200" y="549360"/>
            <a:ext cx="89316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Какая группа инструмент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может не входить в соста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симфонического оркестр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дарные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унные </a:t>
            </a:r>
            <a:br>
              <a:rPr sz="4400"/>
            </a:b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Клавишные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уховы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18:23:13Z</dcterms:created>
  <dc:creator>Admin</dc:creator>
  <dc:description/>
  <dc:language>en-US</dc:language>
  <cp:lastModifiedBy>Admin</cp:lastModifiedBy>
  <dcterms:modified xsi:type="dcterms:W3CDTF">2012-06-03T08:55:13Z</dcterms:modified>
  <cp:revision>7</cp:revision>
  <dc:subject/>
  <dc:title>Викторина</dc:title>
</cp:coreProperties>
</file>