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56A-321B-444C-8C67-05BCC7E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5B5-21E5-4BF7-B014-A581053C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095-9440-4504-BA71-D92D22FF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15A-F58F-47C7-95E2-0B9273AE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4B5-9C46-4AF6-8BA1-E5C538FA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07CE-F2EA-4FFC-A425-CE8A1DB6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AA8-C985-4E57-B226-472BE3C9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3CD2-5918-4889-87D8-A1291625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4EC6-B51F-45A9-9F62-0B309D3E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160D-6DCC-4C63-8061-0F194FE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111D-98F1-4808-AB46-236D7517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C4A-A14D-4C2E-93A2-8EE3917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0D86-060F-450D-8515-F4937BA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0C93-8090-4BF2-8581-99AE75B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C109-67F1-4ADB-8191-765E347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A6EE-384E-45C8-8C5D-A695F3D5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2C56-390C-4A90-8017-2697786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414-5FCB-431E-AA24-129B8C2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4F9-1B27-44E7-9E9B-0253D63D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BB6-50A9-45DC-A083-18F72036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C10-C627-4EC5-8F2C-71FC8C0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0EA-AB36-4B87-8884-1CFD8F9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943-4B4D-47DF-8744-D445FDF3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9FE-0084-4417-94BB-6A40E2F3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BCEC-FD44-43E3-9934-78FBE0B85D5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E293-B364-4819-91F0-135CE94492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oples.ru/sport/hockey/a_ovechkin/ovechkin-1127200621095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ea.ru/pictures/US-Bobsled-team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www.spurtup.com/imgp/view/991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../lyizhnyiy-sport.html" TargetMode="External"/><Relationship Id="rId2" Type="http://schemas.openxmlformats.org/officeDocument/2006/relationships/hyperlink" Target="file:///../../../../zimnie-olimpiyskie-igryi.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256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Comic Sans MS"/>
              </a:rPr>
              <a:t>Зимние Олимпийские виды спор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48240" y="0"/>
            <a:ext cx="3695760" cy="260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ртинка 122 из 3981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213000"/>
            <a:ext cx="2979720" cy="36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716360" y="4581360"/>
            <a:ext cx="44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Хорошавина Яна Александровна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МАОУ лицей «Синтон» 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г. Чайковский Пермский край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Comic Sans MS"/>
              </a:rPr>
              <a:t>уитель физической куль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Прыжки на лыжах с трамплин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25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диционные индивидуальные соревнования мужчин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ыжках на лыжах с трамплинов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зной проектной мощности (К-90 и К-120) дополнили в последнее десятилетие командным состязанием. В состав команды входят 4 прыгуна, итоговый результат определяют общей суммой очков за технику и дальность двух зачетных прыжков каждого участника команды, т.е. за восемь прыжк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424320"/>
            <a:ext cx="4572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Горнолыж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578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ден в олимпийскую программу в 1936 г.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имних Играх в Гармиш-Партенкирхене (Германия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грамма горнолыжников включает в себя следующие 5 дисциплин: слалом, гигантский слалом, супергигантский слалом, скоростной спуск и комбинация (слалом и скоростной спуск). В каждом соревновательном упражнении для мужчин и женщин трассы имеют достаточно жесткие основные параметры по длине, перепаду высот, количеству ворот и расстоянию между ворот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02320" y="487692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9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Лыжное двоеборь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Это соревнование мужчин в прыжках на лыжах с трамплина и лыжной гонке свободным стилем. Во всех видах программы оба упражнения участники выполняют теперь в один соревновательный день. Долгие годы они соревновались только в классическом двоеборье- прыжках на лыжах с трамплина мощностью К-90 (1-й день) и лыжной гонке на 15 км (2-й день). Затем (в 1982 г.) в программу добавили командное соревнование с участием 3 спортсменов в прыжках с такого же по мощности трамплина и лыжной эстафете 3 х 1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24360" y="4289400"/>
            <a:ext cx="3419640" cy="2568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4290840"/>
            <a:ext cx="3851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Фристайл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56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бютировал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V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ней Олимпиаде в Альбервиле (Франция, 1992 г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огул — спуск по бугристому склону длиной около 250 м между расположенными в шашечном порядке кочками по максимально точной прямой и с обязательным выполнением двух различных прыжков на холмах-трамплин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кробатика- лыжники-акробаты разгоняются со склона, заходят на специально спрофилированный трамплин и, взлетая вверх, исполняют акробатические элементы различной сложност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618240" y="3068640"/>
            <a:ext cx="2525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ноуборд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90320" y="2743200"/>
            <a:ext cx="775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афпайп (в переводе с английского- пол­трубы) проводят на трассе, представляющей собой желоб глубиной 3-4 м и длиной 110 м. Разгоняясь по желобу от края к краю, спортсмены выполняют различные акробатические элементы на краях желоб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аллельном гигантском слаломе на склоне прокладывают две равноценные по длине, перепаду высот и количеству ворот параллельные слаломные дорожки для одновременного старта двух участников. Каждая пара делает две попытки, обязательно меняясь дорожками после первого заез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бордкроссе. Его проводят на сложной, скоростной трассе длиной около 1200 м с трамплинами, поворотами, различными неровностями. Участники стартуют квартетами, из которых двое лучших (по времени) выходят в следующий ту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оубординг- введен в олимпийскую программу 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имних играх в Нагано (Япония, 1998 г.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Биатл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55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Биатлон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- современное зимнее двоеборье - представляет собой лыжную гонку с оружием на установленные дистанции и стрельбу по мишеням из положения лежа и стоя на огневых рубеж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вые олимпийские награды биатлонисты разыграли на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II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имних Олимпийских играх в 1960 г. (Скво-Вэлли, США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435640" y="4129200"/>
            <a:ext cx="3708360" cy="27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298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341964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анные виды спор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421000" y="1611360"/>
            <a:ext cx="4764240" cy="4764240"/>
            <a:chOff x="2421000" y="1611360"/>
            <a:chExt cx="4764240" cy="4764240"/>
          </a:xfrm>
        </p:grpSpPr>
        <p:sp>
          <p:nvSpPr>
            <p:cNvPr id="186" name="_s62489"/>
            <p:cNvSpPr/>
            <p:nvPr/>
          </p:nvSpPr>
          <p:spPr>
            <a:xfrm>
              <a:off x="305928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62490"/>
            <p:cNvSpPr/>
            <p:nvPr/>
          </p:nvSpPr>
          <p:spPr>
            <a:xfrm rot="7200000">
              <a:off x="3058920" y="224964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62491"/>
            <p:cNvSpPr/>
            <p:nvPr/>
          </p:nvSpPr>
          <p:spPr>
            <a:xfrm rot="14400000">
              <a:off x="3059280" y="2249280"/>
              <a:ext cx="3487680" cy="3487680"/>
            </a:xfrm>
            <a:prstGeom prst="blockArc">
              <a:avLst>
                <a:gd name="adj1" fmla="val 14400000"/>
                <a:gd name="adj2" fmla="val 7200000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62477"/>
            <p:cNvSpPr/>
            <p:nvPr/>
          </p:nvSpPr>
          <p:spPr>
            <a:xfrm>
              <a:off x="3013200" y="273528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Бобсле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62475"/>
            <p:cNvSpPr/>
            <p:nvPr/>
          </p:nvSpPr>
          <p:spPr>
            <a:xfrm>
              <a:off x="4270320" y="4911840"/>
              <a:ext cx="106380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анный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62473"/>
            <p:cNvSpPr/>
            <p:nvPr/>
          </p:nvSpPr>
          <p:spPr>
            <a:xfrm>
              <a:off x="5527800" y="2733840"/>
              <a:ext cx="1063440" cy="10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Times New Roman"/>
                </a:rPr>
                <a:t>Скелетон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анный спорт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анный спорт- спуск на одноместных санях (до 22 кг) у мужчин и женщин и на двухместных (до 24 кг) санях у мужчин. Эти сани управляемые. Высота их- 15 см, длина 124-150 см (в зависимости от роста спортсмена). Полозья сделаны из металла и дерева. Стартуют спортсмены на них сидя, а затем ложатся на спину и в таком положении управляют санями, изменяя нагрузку на полозья с помощью натяжного ремня и приподнимая полозья. Длина трассы — 1233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а одноместных санях спортсмены участвуют в четырех заездах, на двухместных — в двух. Победители определяются по сумме времени во всех заезд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38880" y="411480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келетон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келетон (данное наименование имеет не только вид спорта, но и сами сани) - это специальные сани без рулевого управления со стальными полозьями и утяжеленной рамой (до 50 кг), длиной 70 см и шириной 38 см. Спортсмен во время спуска лежит на санях головой вперед, лицом вниз и использует для управления санями специальные шипы на носках ботинок и движения т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Длина трассы в скелетоне- 1435 м с 19 поворотами, перепад высот на старте и финише- 114 м. Скорость спуска достигает 130 км/час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039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76260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Бобсл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560" y="227664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ни здесь, именуемые бобом, имеют цельнометаллический кузов обтекаемой формы, который закреплен на двух парах полозьев-коньков: передней подвижной с рулем и задней неподвижной с тормозом. На соревнованиях используют двухместные бобы (двойка)- длина не более 2,7 м, масса не свыше 165 кг, вес экипажа не более 200 кг и четырехместные (четверка)- соответственно 3,8 м, 230 кг, 400 кг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 старте членам экипажа на расстоянии 50 м разрешается разгонять сани, при этом за 6 сек. они нередко достигают скорости 30 км/час. Затем они садятся в сани за рулевым, пригибаясь к не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Картинка 14 из 1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6480"/>
            <a:ext cx="4140360" cy="2711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0 из 15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0"/>
            <a:ext cx="270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1866960"/>
            <a:ext cx="9143640" cy="2004840"/>
            <a:chOff x="0" y="1866960"/>
            <a:chExt cx="9143640" cy="2004840"/>
          </a:xfrm>
        </p:grpSpPr>
        <p:cxnSp>
          <p:nvCxnSpPr>
            <p:cNvPr id="113" name="_s5327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6275880" y="1024560"/>
              <a:ext cx="279720" cy="3688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6" name="_s53276"/>
            <p:cNvCxnSpPr>
              <a:stCxn id="117" idx="0"/>
              <a:endCxn id="115" idx="2"/>
            </p:cNvCxnSpPr>
            <p:nvPr/>
          </p:nvCxnSpPr>
          <p:spPr>
            <a:xfrm flipV="1" rot="16200000">
              <a:off x="5354280" y="1946160"/>
              <a:ext cx="279720" cy="18453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53272"/>
            <p:cNvCxnSpPr>
              <a:stCxn id="119" idx="0"/>
              <a:endCxn id="115" idx="2"/>
            </p:cNvCxnSpPr>
            <p:nvPr/>
          </p:nvCxnSpPr>
          <p:spPr>
            <a:xfrm flipV="1">
              <a:off x="4571640" y="2729160"/>
              <a:ext cx="1080" cy="279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0" name="_s53271"/>
            <p:cNvCxnSpPr>
              <a:stCxn id="121" idx="0"/>
              <a:endCxn id="115" idx="2"/>
            </p:cNvCxnSpPr>
            <p:nvPr/>
          </p:nvCxnSpPr>
          <p:spPr>
            <a:xfrm flipH="1" flipV="1" rot="5400000">
              <a:off x="3510720" y="1947240"/>
              <a:ext cx="279720" cy="18435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2" name="_s53270"/>
            <p:cNvCxnSpPr>
              <a:stCxn id="123" idx="0"/>
              <a:endCxn id="115" idx="2"/>
            </p:cNvCxnSpPr>
            <p:nvPr/>
          </p:nvCxnSpPr>
          <p:spPr>
            <a:xfrm flipH="1" flipV="1" rot="5400000">
              <a:off x="2588760" y="1025640"/>
              <a:ext cx="279720" cy="3686760"/>
            </a:xfrm>
            <a:prstGeom prst="bentConnector3">
              <a:avLst>
                <a:gd name="adj1" fmla="val 4110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5" name="_s53266"/>
            <p:cNvSpPr/>
            <p:nvPr/>
          </p:nvSpPr>
          <p:spPr>
            <a:xfrm>
              <a:off x="2667240" y="1866960"/>
              <a:ext cx="3809880" cy="86292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Ледовы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0" lang="en-US" sz="2500" spc="-1" strike="noStrike">
                  <a:solidFill>
                    <a:srgbClr val="00ff00"/>
                  </a:solidFill>
                  <a:latin typeface="Times New Roman"/>
                </a:rPr>
                <a:t>виды спорт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53267"/>
            <p:cNvSpPr/>
            <p:nvPr/>
          </p:nvSpPr>
          <p:spPr>
            <a:xfrm>
              <a:off x="0" y="300924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Скоростной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99"/>
                  </a:solidFill>
                  <a:latin typeface="Times New Roman"/>
                </a:rPr>
                <a:t>бег на конька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53268"/>
            <p:cNvSpPr/>
            <p:nvPr/>
          </p:nvSpPr>
          <p:spPr>
            <a:xfrm>
              <a:off x="184320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Шорт-трек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53269"/>
            <p:cNvSpPr/>
            <p:nvPr/>
          </p:nvSpPr>
          <p:spPr>
            <a:xfrm>
              <a:off x="368676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Фигурное</a:t>
              </a:r>
              <a:r>
                <a:rPr b="0" lang="en-US" sz="2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атани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53275"/>
            <p:cNvSpPr/>
            <p:nvPr/>
          </p:nvSpPr>
          <p:spPr>
            <a:xfrm>
              <a:off x="5529960" y="3009240"/>
              <a:ext cx="177048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Керлинг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53277"/>
            <p:cNvSpPr/>
            <p:nvPr/>
          </p:nvSpPr>
          <p:spPr>
            <a:xfrm>
              <a:off x="7373520" y="3009240"/>
              <a:ext cx="1770120" cy="86256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40" rIns="864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3399"/>
                  </a:solidFill>
                  <a:latin typeface="Times New Roman"/>
                </a:rPr>
                <a:t>Хоккей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Скоростной бег на коньках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нькобежный спорт - вид спорта, в котором необходимо как можно быстрее преодолеть соревновательную дистанцию на ледовом стадионе по замкнутому круг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 программу зимних Олимпийских игр скоростной бег на коньках у мужчин был включен с 1924 года, с 1960 года проводятся и соревнования среди женщи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овременная программа зимних Олимпийских игр включает прохождение коротких - 500, 1000, 1500 м, и длинных - 3000, 5000, 10000 м дистан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астники соревнований бегут парами - один по внешней, другой - по внутренней дорожка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3280" y="3906720"/>
            <a:ext cx="45007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Шорт-трек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62064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орт-трек происходит от английского short track, что означает "короткая дорожка". Это разновидность конькобежного спор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ревнования проводятся на льду внутри площадки для хоккея с шайбой. Окружность катка составляет 111,12 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ограмму зимних Олимпийских игр шорт-трек был включен начиная с 1992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ограмме шесть видов соревнований - личное первенство в беге на 500 и 1000 м, у мужчин и женщин, и эстафетная гонка на 3000 м у женщин, и 5000 м у мужч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стафету от одного спортсмена к другому можно передавать в любой точке дистанции касанием любой части тела. Спортсмен обычно подталкивает сзади своего товарища по команде, содействуя более быстрому прохождению дистанц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51640" y="4237200"/>
            <a:ext cx="34923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-387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Фигурное катание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5329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одиночном катании как среди мужчин, так и среди женщин и в парном катании включают так называемую короткую программу - исполнение в течение определенного времени под музыку, выбранную спортсменами, 8 предписанных элементов со связующими шагами, и произвольную программу - исполнение в течение определенного времени под музыку, выбранную спортсменами, композиции из непредписанных элемен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спортивных танцах на льду соревнования состоят из обязательных, предписанных, танцев, оригинального танца, с требуемым ритмом, и произвольного танца, под музыку, выбранную спортсме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1924 года фигурное катание на коньках включено в программу зимних Олимпийских игр. Спортивные танцы на льду включены в программу зимних Олимпийских игр с 1976 г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ждом виде олимпийских соревнований страна может заявить одного участника или пару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фигкатание"/>
          <p:cNvPicPr/>
          <p:nvPr/>
        </p:nvPicPr>
        <p:blipFill>
          <a:blip r:embed="rId1"/>
          <a:stretch/>
        </p:blipFill>
        <p:spPr>
          <a:xfrm>
            <a:off x="6400800" y="27432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Кёрлинг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274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ёрлинг - спортивная игра, в которой противоборствующие команды, по 4 человека в каждой, стремятся попасть пущенной битой (камень), диск с рукояткой массой 20 кг и размером 30 х 40 см, в вычерченную на льду мишень. Линия броска биты находится на расстоянии около 31 м от мишен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Цель игры - попасть битой в мишень, вытолкнув из нее биту сопер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ёрлинг включен в программу XVIII зимних Олимпийских игр в 1994 г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67560" y="0"/>
            <a:ext cx="2476440" cy="1981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3718080"/>
            <a:ext cx="39243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Хокке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 мужчин вначале матчи проходят в двух предварительных группах по 6 команд. По 4 сильнейшие сборные из обеих групп встречаются затем в четвертьфиналах, победители которых выходят в полуфиналы, где определяются участники финальных матчей за 1-2 и 3-4-е места. В «утешительных» встречах команды выявляют места 5-го по 8-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енщины вначале состязаются в двух предварительных группах по 4 команды. Победители групповых турниров после этого встречаются с командами, занявшими в группах 2-е места (перекрестно). В финале «А» затем играют победители полуфиналов, а в финале «Б» - команды, проигравшие в них. Команды, оказавшиеся в предварительных турнирах на 3-м и 4-м местах, по тому же принципу разыгрывают итоговые 5-8-е мес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724360" y="4560840"/>
            <a:ext cx="3419640" cy="2297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481640"/>
            <a:ext cx="356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363040" y="1114560"/>
            <a:ext cx="5012280" cy="4919400"/>
            <a:chOff x="2363040" y="1114560"/>
            <a:chExt cx="5012280" cy="4919400"/>
          </a:xfrm>
        </p:grpSpPr>
        <p:sp>
          <p:nvSpPr>
            <p:cNvPr id="142" name="_s60459"/>
            <p:cNvSpPr/>
            <p:nvPr/>
          </p:nvSpPr>
          <p:spPr>
            <a:xfrm flipH="1" flipV="1">
              <a:off x="3870360" y="2871360"/>
              <a:ext cx="501120" cy="402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60458"/>
            <p:cNvSpPr/>
            <p:nvPr/>
          </p:nvSpPr>
          <p:spPr>
            <a:xfrm>
              <a:off x="2731320" y="18378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Биатл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60457"/>
            <p:cNvSpPr/>
            <p:nvPr/>
          </p:nvSpPr>
          <p:spPr>
            <a:xfrm flipH="1">
              <a:off x="3622680" y="3810240"/>
              <a:ext cx="626400" cy="13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60450"/>
            <p:cNvSpPr/>
            <p:nvPr/>
          </p:nvSpPr>
          <p:spPr>
            <a:xfrm>
              <a:off x="2363040" y="345888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ноубордин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60456"/>
            <p:cNvSpPr/>
            <p:nvPr/>
          </p:nvSpPr>
          <p:spPr>
            <a:xfrm flipH="1">
              <a:off x="4311360" y="4240800"/>
              <a:ext cx="279720" cy="57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60448"/>
            <p:cNvSpPr/>
            <p:nvPr/>
          </p:nvSpPr>
          <p:spPr>
            <a:xfrm>
              <a:off x="340056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Фристай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60455"/>
            <p:cNvSpPr/>
            <p:nvPr/>
          </p:nvSpPr>
          <p:spPr>
            <a:xfrm>
              <a:off x="5142960" y="4240800"/>
              <a:ext cx="277560" cy="57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60446"/>
            <p:cNvSpPr/>
            <p:nvPr/>
          </p:nvSpPr>
          <p:spPr>
            <a:xfrm>
              <a:off x="5063400" y="47574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о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двоеборь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60454"/>
            <p:cNvSpPr/>
            <p:nvPr/>
          </p:nvSpPr>
          <p:spPr>
            <a:xfrm>
              <a:off x="5487120" y="3810240"/>
              <a:ext cx="626760" cy="144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60444"/>
            <p:cNvSpPr/>
            <p:nvPr/>
          </p:nvSpPr>
          <p:spPr>
            <a:xfrm>
              <a:off x="6098760" y="345672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рнолыж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60453"/>
            <p:cNvSpPr/>
            <p:nvPr/>
          </p:nvSpPr>
          <p:spPr>
            <a:xfrm flipV="1">
              <a:off x="5364360" y="2871360"/>
              <a:ext cx="503640" cy="40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60428"/>
            <p:cNvSpPr/>
            <p:nvPr/>
          </p:nvSpPr>
          <p:spPr>
            <a:xfrm>
              <a:off x="5728320" y="183564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Прыж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на лыж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с трампли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60452"/>
            <p:cNvSpPr/>
            <p:nvPr/>
          </p:nvSpPr>
          <p:spPr>
            <a:xfrm flipV="1">
              <a:off x="4866840" y="2388960"/>
              <a:ext cx="0" cy="643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60425"/>
            <p:cNvSpPr/>
            <p:nvPr/>
          </p:nvSpPr>
          <p:spPr>
            <a:xfrm>
              <a:off x="4229640" y="111456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Лыжны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гон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_s60424"/>
            <p:cNvSpPr/>
            <p:nvPr/>
          </p:nvSpPr>
          <p:spPr>
            <a:xfrm>
              <a:off x="4229640" y="3033000"/>
              <a:ext cx="1276560" cy="12765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Лыжны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99"/>
                  </a:solidFill>
                  <a:latin typeface="Times New Roman"/>
                </a:rPr>
                <a:t>спор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Лыжные гонки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1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ыжные гонки 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д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лыжного спорта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- состязания в беге на лыжах обычно по пересеченной местности по специально подготовленной трассе. Классические дистанции: у мужчин- индивидуальные лыжные гонки на 10, 15 км (до 1952 на 18 км), 30 и 50 км, а также эстафета 4x10 км; у женщин- индивидуальные лыжные гонки на 5, 10, 15 (с 1989), 30 км (в 1978-1989- 20 км), а также эстафета 4x5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Лыжные гонки входили в программы всех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зимних Олимпиад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, начиная с 1924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867280" y="4519440"/>
            <a:ext cx="3276720" cy="233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1:17Z</dcterms:created>
  <dc:creator>user</dc:creator>
  <dc:description/>
  <dc:language>en-US</dc:language>
  <cp:lastModifiedBy>user</cp:lastModifiedBy>
  <dcterms:modified xsi:type="dcterms:W3CDTF">2012-06-03T13:12:40Z</dcterms:modified>
  <cp:revision>13</cp:revision>
  <dc:subject/>
  <dc:title>Слайд 1</dc:title>
</cp:coreProperties>
</file>