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5.jpeg" ContentType="image/jpeg"/>
  <Override PartName="/ppt/media/image22.jpeg" ContentType="image/jpeg"/>
  <Override PartName="/ppt/media/image39.png" ContentType="image/png"/>
  <Override PartName="/ppt/media/image24.png" ContentType="image/png"/>
  <Override PartName="/ppt/media/image21.gif" ContentType="image/gif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35.wmf" ContentType="image/x-wmf"/>
  <Override PartName="/ppt/media/image14.jpeg" ContentType="image/jpeg"/>
  <Override PartName="/ppt/media/image1.wmf" ContentType="image/x-wmf"/>
  <Override PartName="/ppt/media/image31.wmf" ContentType="image/x-wmf"/>
  <Override PartName="/ppt/media/image34.wmf" ContentType="image/x-wmf"/>
  <Override PartName="/ppt/media/image9.wmf" ContentType="image/x-wmf"/>
  <Override PartName="/ppt/media/image41.png" ContentType="image/png"/>
  <Override PartName="/ppt/media/image42.jpeg" ContentType="image/jpeg"/>
  <Override PartName="/ppt/media/image19.jpeg" ContentType="image/jpeg"/>
  <Override PartName="/ppt/media/image11.png" ContentType="image/png"/>
  <Override PartName="/ppt/media/image6.wmf" ContentType="image/x-wmf"/>
  <Override PartName="/ppt/media/image36.wmf" ContentType="image/x-wmf"/>
  <Override PartName="/ppt/media/image37.png" ContentType="image/png"/>
  <Override PartName="/ppt/media/image33.jpeg" ContentType="image/jpeg"/>
  <Override PartName="/ppt/media/image30.wmf" ContentType="image/x-wmf"/>
  <Override PartName="/ppt/media/image10.png" ContentType="image/png"/>
  <Override PartName="/ppt/media/image28.wmf" ContentType="image/x-wmf"/>
  <Override PartName="/ppt/media/image38.png" ContentType="image/png"/>
  <Override PartName="/ppt/media/image43.png" ContentType="image/png"/>
  <Override PartName="/ppt/media/image26.wmf" ContentType="image/x-wmf"/>
  <Override PartName="/ppt/media/image40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2.wmf" ContentType="image/x-wmf"/>
  <Override PartName="/ppt/media/image32.wmf" ContentType="image/x-wmf"/>
  <Override PartName="/ppt/media/image5.png" ContentType="image/png"/>
  <Override PartName="/ppt/media/image3.wmf" ContentType="image/x-wmf"/>
  <Override PartName="/ppt/media/image29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661-10C5-4A5B-A928-92BC5C6C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C8B-218A-4828-9777-44C509F0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F7D-3099-47D2-94A4-44551944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00D-EE11-4BD1-BFB0-FE0119DF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3059-3C56-46C6-A9E3-6C62E9F0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D749-DF92-44FF-A2C6-1D25AEA4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EBEC-5EF7-44AC-9BA7-7AD0C209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DB88-2058-42E3-BAF4-551030EF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A8DE-88C7-4AC8-8493-3265BE50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A15F-A4DF-4B46-B968-FACDFFC9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612D-C0CC-46A0-ABEE-9EC203E2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358-3A30-42E9-A5AA-49A6754C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7FBC-72ED-46AD-9383-8074DA43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F87F-4F93-4E39-A2F1-C0F576F2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CB5A-76B0-4C84-A0CE-87769A75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8E98-A8E5-4C53-9C31-115E77D2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BC0E-C364-4149-99F4-5BF5C4B0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9D0-A845-4A43-A6CC-B7484EF8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CB4-1535-4114-9073-C4B99F3B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64F-1257-447D-9BED-2F4A9F1D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003-AFAD-494F-A33C-681B8B94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A0D-E02A-463E-B0B1-FA05D3E2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83C-8CAD-4B60-B81E-2454DC99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05E-8023-4269-B404-9276748D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4F85-8175-401E-8509-9E914837063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63F9-C433-4A20-8CD6-1732633F1C8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jpe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9;&#1082;&#1072;&#1083;&#1080;&#1086;&#1079;.ppt" TargetMode="External"/><Relationship Id="rId2" Type="http://schemas.openxmlformats.org/officeDocument/2006/relationships/hyperlink" Target="file:///&#1089;&#1082;&#1072;&#1083;&#1080;&#1086;&#1079;.ppt" TargetMode="External"/><Relationship Id="rId3" Type="http://schemas.openxmlformats.org/officeDocument/2006/relationships/hyperlink" Target="file:///&#1089;&#1082;&#1072;&#1083;&#1080;&#1086;&#1079;.ppt" TargetMode="External"/><Relationship Id="rId4" Type="http://schemas.openxmlformats.org/officeDocument/2006/relationships/hyperlink" Target="file:///&#1089;&#1082;&#1072;&#1083;&#1080;&#1086;&#1079;.ppt" TargetMode="External"/><Relationship Id="rId5" Type="http://schemas.openxmlformats.org/officeDocument/2006/relationships/hyperlink" Target="file:///&#1089;&#1082;&#1072;&#1083;&#1080;&#1086;&#1079;.ppt" TargetMode="External"/><Relationship Id="rId6" Type="http://schemas.openxmlformats.org/officeDocument/2006/relationships/hyperlink" Target="file:///&#1089;&#1082;&#1072;&#1083;&#1080;&#1086;&#1079;.ppt" TargetMode="External"/><Relationship Id="rId7" Type="http://schemas.openxmlformats.org/officeDocument/2006/relationships/hyperlink" Target="file:///&#1089;&#1082;&#1072;&#1083;&#1080;&#1086;&#1079;.ppt" TargetMode="External"/><Relationship Id="rId8" Type="http://schemas.openxmlformats.org/officeDocument/2006/relationships/hyperlink" Target="file:///&#1089;&#1082;&#1072;&#1083;&#1080;&#1086;&#1079;.ppt" TargetMode="External"/><Relationship Id="rId9" Type="http://schemas.openxmlformats.org/officeDocument/2006/relationships/hyperlink" Target="file:///&#1089;&#1082;&#1072;&#1083;&#1080;&#1086;&#1079;.ppt" TargetMode="External"/><Relationship Id="rId10" Type="http://schemas.openxmlformats.org/officeDocument/2006/relationships/hyperlink" Target="file:///&#1089;&#1082;&#1072;&#1083;&#1080;&#1086;&#1079;.ppt" TargetMode="External"/><Relationship Id="rId11" Type="http://schemas.openxmlformats.org/officeDocument/2006/relationships/hyperlink" Target="file:///&#1089;&#1082;&#1072;&#1083;&#1080;&#1086;&#1079;.ppt" TargetMode="External"/><Relationship Id="rId12" Type="http://schemas.openxmlformats.org/officeDocument/2006/relationships/hyperlink" Target="file:///&#1089;&#1082;&#1072;&#1083;&#1080;&#1086;&#1079;.ppt" TargetMode="External"/><Relationship Id="rId13" Type="http://schemas.openxmlformats.org/officeDocument/2006/relationships/hyperlink" Target="file:///&#1089;&#1082;&#1072;&#1083;&#1080;&#1086;&#1079;.ppt" TargetMode="External"/><Relationship Id="rId14" Type="http://schemas.openxmlformats.org/officeDocument/2006/relationships/hyperlink" Target="file:///&#1089;&#1082;&#1072;&#1083;&#1080;&#1086;&#1079;.ppt" TargetMode="External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1E83-F3A3-4BA9-8881-DD73F40FBFC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12000" y="2493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ЧЕНИЕ ПРАВИЛЬНОЙ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АНКИ В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ИЗНЕДЕЯТЕЛЬНОСТИ ЧЕЛОВЕ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0" y="3789000"/>
            <a:ext cx="395928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</a:rPr>
              <a:t>Составила: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Плюхина Е.О., учитель физической культуры МОУ «Средняя общеобразовательная школа №121» г.Снежинск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0721-37F0-45D4-8720-7571F477C67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рушение осанки может исправить система целостного движения с помощью простейших упражнений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" name="Picture 5" descr="YOG2053L"/>
          <p:cNvPicPr/>
          <p:nvPr/>
        </p:nvPicPr>
        <p:blipFill>
          <a:blip r:embed="rId1"/>
          <a:stretch/>
        </p:blipFill>
        <p:spPr>
          <a:xfrm>
            <a:off x="6516720" y="2276640"/>
            <a:ext cx="2627280" cy="1996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YOG2066L"/>
          <p:cNvPicPr/>
          <p:nvPr/>
        </p:nvPicPr>
        <p:blipFill>
          <a:blip r:embed="rId2"/>
          <a:stretch/>
        </p:blipFill>
        <p:spPr>
          <a:xfrm>
            <a:off x="1187280" y="4292640"/>
            <a:ext cx="2953080" cy="2352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0" descr="YOG2029L"/>
          <p:cNvPicPr/>
          <p:nvPr/>
        </p:nvPicPr>
        <p:blipFill>
          <a:blip r:embed="rId3"/>
          <a:stretch/>
        </p:blipFill>
        <p:spPr>
          <a:xfrm>
            <a:off x="2195640" y="2349360"/>
            <a:ext cx="2989080" cy="20480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YOG2067L"/>
          <p:cNvPicPr/>
          <p:nvPr/>
        </p:nvPicPr>
        <p:blipFill>
          <a:blip r:embed="rId4"/>
          <a:stretch/>
        </p:blipFill>
        <p:spPr>
          <a:xfrm>
            <a:off x="5292720" y="4437000"/>
            <a:ext cx="2743200" cy="20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DABC-5465-4BF2-B5F1-A636C9E9668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11000" y="433080"/>
            <a:ext cx="7876080" cy="137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8 причин иметь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авильную и здоровую осанку</a:t>
            </a: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7" name="Picture 2" descr="14"/>
          <p:cNvPicPr/>
          <p:nvPr/>
        </p:nvPicPr>
        <p:blipFill>
          <a:blip r:embed="rId1"/>
          <a:stretch/>
        </p:blipFill>
        <p:spPr>
          <a:xfrm>
            <a:off x="6054840" y="4149720"/>
            <a:ext cx="961920" cy="1224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0" descr="AHA0001L"/>
          <p:cNvPicPr/>
          <p:nvPr/>
        </p:nvPicPr>
        <p:blipFill>
          <a:blip r:embed="rId2"/>
          <a:stretch/>
        </p:blipFill>
        <p:spPr>
          <a:xfrm>
            <a:off x="826920" y="2349360"/>
            <a:ext cx="4007160" cy="401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D8A9-415C-494F-B486-6C838BBF470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1. Чем красивее спина, тем увереннее личность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Хорошая осанка повысит уверенность в себ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вое, на что вы обращаете внимание при виде нового человека, — не его глаза, волосы и даже не одежда. Главное — осанка. И она говорит о том, кто о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от, у кого прямая спина, кажется гордым и уверенным в себ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 кто горбится, кажется, что стыдится самого себ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Picture 12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1708200" cy="3527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"/>
          <p:cNvPicPr/>
          <p:nvPr/>
        </p:nvPicPr>
        <p:blipFill>
          <a:blip r:embed="rId2"/>
          <a:stretch/>
        </p:blipFill>
        <p:spPr>
          <a:xfrm>
            <a:off x="6732720" y="2708280"/>
            <a:ext cx="1939680" cy="381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F497-91E0-4D73-B925-4EE51AB91C0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Picture 0" descr="STL0025L"/>
          <p:cNvPicPr/>
          <p:nvPr/>
        </p:nvPicPr>
        <p:blipFill>
          <a:blip r:embed="rId1"/>
          <a:stretch/>
        </p:blipFill>
        <p:spPr>
          <a:xfrm>
            <a:off x="6620040" y="620640"/>
            <a:ext cx="2523960" cy="3659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2. Дыхание становится легким и более глубоким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6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пробуйте сделать следующее: сядьте и сгорбитесь. Попробуйте сделать вдох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метьте, что так тяжелее дышать. Это пример того, как наши мышцы и сухожилия сковываются и вызывают затруднения в дыхан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орошая осанка увеличивает вместимость легких, помогая обращению кислор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Picture 0" descr="CRCTR011"/>
          <p:cNvPicPr/>
          <p:nvPr/>
        </p:nvPicPr>
        <p:blipFill>
          <a:blip r:embed="rId2"/>
          <a:stretch/>
        </p:blipFill>
        <p:spPr>
          <a:xfrm>
            <a:off x="6227640" y="4005360"/>
            <a:ext cx="1617840" cy="285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1B3F-A1EE-450C-B706-EC3D2B53E05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56360" y="1124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3. Вы выглядите более стройными и молодыми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09428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мея хорошую осанку, вы будете казаться 2-2,5 см. стройнее, моложе и одежда будет лучше на вас сидет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Picture 4" descr="WOMAN4"/>
          <p:cNvPicPr/>
          <p:nvPr/>
        </p:nvPicPr>
        <p:blipFill>
          <a:blip r:embed="rId1"/>
          <a:stretch/>
        </p:blipFill>
        <p:spPr>
          <a:xfrm>
            <a:off x="7380360" y="1197000"/>
            <a:ext cx="1449360" cy="506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0" descr="BIZMAN2"/>
          <p:cNvPicPr/>
          <p:nvPr/>
        </p:nvPicPr>
        <p:blipFill>
          <a:blip r:embed="rId2"/>
          <a:stretch/>
        </p:blipFill>
        <p:spPr>
          <a:xfrm>
            <a:off x="5148360" y="1413000"/>
            <a:ext cx="1960560" cy="503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D48E-41EA-4565-932B-3779E680FF5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4. Улучшается и пищеварение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авильная осанка важна не только для сохранения фигуры: она существенно разгружает внутренние органы и мышцы спины, способствует правильному пищеварени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лучшается здоровье, органы функционируют лучш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Picture 0" descr="FOO0404L"/>
          <p:cNvPicPr/>
          <p:nvPr/>
        </p:nvPicPr>
        <p:blipFill>
          <a:blip r:embed="rId1"/>
          <a:stretch/>
        </p:blipFill>
        <p:spPr>
          <a:xfrm>
            <a:off x="5214960" y="2714760"/>
            <a:ext cx="3699000" cy="292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E902-813F-455C-9239-C288492CEBF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5. Голос будет казаться лучш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785880" y="2286000"/>
            <a:ext cx="37749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гда вы держите осанку, диафрагма открываетс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 результате этого ваш голос лучше звучи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1" name="Picture 4" descr="GUITAR3"/>
          <p:cNvPicPr/>
          <p:nvPr/>
        </p:nvPicPr>
        <p:blipFill>
          <a:blip r:embed="rId1"/>
          <a:stretch/>
        </p:blipFill>
        <p:spPr>
          <a:xfrm>
            <a:off x="6568920" y="1989000"/>
            <a:ext cx="2575080" cy="324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CRCTR084"/>
          <p:cNvPicPr/>
          <p:nvPr/>
        </p:nvPicPr>
        <p:blipFill>
          <a:blip r:embed="rId2"/>
          <a:stretch/>
        </p:blipFill>
        <p:spPr>
          <a:xfrm>
            <a:off x="4500720" y="2349360"/>
            <a:ext cx="1949400" cy="412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114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11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F61F-043E-4DDA-AE93-40D1401C469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4" name="Picture 4" descr="AMERI214"/>
          <p:cNvPicPr/>
          <p:nvPr/>
        </p:nvPicPr>
        <p:blipFill>
          <a:blip r:embed="rId1"/>
          <a:stretch/>
        </p:blipFill>
        <p:spPr>
          <a:xfrm>
            <a:off x="7643880" y="0"/>
            <a:ext cx="1500120" cy="2216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711000" y="353880"/>
            <a:ext cx="778788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6. Помогает мышцам и суставам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7921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орошая осанка помогает нам держать скелет и суставы в правильном положении так, чтобы наши мышцы работали правильно, уменьшая возможность таких последствий, которые могли бы привести к артриту и болях в суставах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акже уменьшает напряжение на связках, скрепляющих спинные суставы, уменьшая вероятность травм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орошее положение позволяет мышцам работать более эффективн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07407E-006 C -0.18212 -0.0037 -0.37031 0.00695 -0.55069 -0.00879 C -0.62517 -0.00625 -0.59462 -0.01898 -0.62656 0.01135 C -0.63524 0.02871 -0.62396 0.00857 -0.63524 0.02246 C -0.64218 0.03125 -0.64566 0.04352 -0.65104 0.05348 C -0.65173 0.05579 -0.65278 0.05787 -0.65278 0.06019 C -0.65278 0.07431 -0.65347 0.08889 -0.65104 0.10278 C -0.65052 0.10625 -0.64653 0.10718 -0.64409 0.10926 C -0.63559 0.11551 -0.62361 0.11644 -0.61423 0.11829 C -0.60781 0.12107 -0.60156 0.12639 -0.59462 0.12709 C -0.58871 0.12801 -0.58316 0.12315 -0.57725 0.12269 C -0.5467 0.12061 -0.51614 0.12107 -0.48559 0.12037 C -0.32552 0.12223 -0.16753 0.12037 -0.00729 0.12037 E">
                                      <p:cBhvr>
                                        <p:cTn id="12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B23A-9395-4D62-B0C0-DF04D652744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Picture 4" descr="YOG1000L"/>
          <p:cNvPicPr/>
          <p:nvPr/>
        </p:nvPicPr>
        <p:blipFill>
          <a:blip r:embed="rId1"/>
          <a:stretch/>
        </p:blipFill>
        <p:spPr>
          <a:xfrm>
            <a:off x="7451640" y="4908600"/>
            <a:ext cx="1514520" cy="1949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820800" y="392040"/>
            <a:ext cx="7806600" cy="81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7. Улучшается мышл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267920"/>
            <a:ext cx="5894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анка также затрагивает ваш у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 настроение может отразиться на осанке. Когда вы счастливы и хорошо себя чувствуете — осанка пряма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 вот унылые люди с хроническими болями, часто сидят или стоят ссутулившис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следующий раз, когда вы почувствуете себя угнетенными или обеспокоенным, пробуйте выпрямиться и глубоко вздохнуть. Хорошая осанка облегчает дыхание, помогая расслабиться и сконцентрировать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ногие восточные методы, например йога, улучшают осан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Picture 4" descr="CRCTR094"/>
          <p:cNvPicPr/>
          <p:nvPr/>
        </p:nvPicPr>
        <p:blipFill>
          <a:blip r:embed="rId2"/>
          <a:stretch/>
        </p:blipFill>
        <p:spPr>
          <a:xfrm>
            <a:off x="6286680" y="3286080"/>
            <a:ext cx="1087200" cy="2124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GRD"/>
          <p:cNvPicPr/>
          <p:nvPr/>
        </p:nvPicPr>
        <p:blipFill>
          <a:blip r:embed="rId3"/>
          <a:stretch/>
        </p:blipFill>
        <p:spPr>
          <a:xfrm>
            <a:off x="7253280" y="333360"/>
            <a:ext cx="1890720" cy="3414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44444E-006 L 0.12188 0.01297 E">
                                      <p:cBhvr>
                                        <p:cTn id="132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44444E-006 L -0.11614 -4.44444E-006 E">
                                      <p:cBhvr>
                                        <p:cTn id="134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A991-4593-4668-BFC9-1FA023E8B82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8. Здоровый позвоночни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2630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авильная осанка — простой, но очень важный способ для поддержания здорового позвоночник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доровая спина особенно важна для людей, которые много стоят в течение дня или сидят в офи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тобы иметь правильную осанку, у вас должно войти в привычку правильно держать плечи, втягивать живот, приподнимать голову и подбородок параллельно телу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E38C-F8CA-47AF-9226-F8362EBBD19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72360" y="261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еликие об осан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427280" y="227628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ть такая поговорка: «Человек настолько молод, насколько молод и здоров его позвоночник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37706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з «Толкового словаря» В. Даля: «...под осанкой разумеют стройность, величавость, приличие к красоте»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E817-22DC-4C5E-827B-4DF06B5087A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9160" y="266400"/>
            <a:ext cx="7831800" cy="106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Плоскостопие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51850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лоскостопие у детей и взрослых — следствие врожденных дефектов опорно-двигательного аппарата, а также результат воздействия длительной работы в положении стоя, хождения на высоких каблуках и в узких туфлях, избыточного ве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Picture 3" descr="FEET_02"/>
          <p:cNvPicPr/>
          <p:nvPr/>
        </p:nvPicPr>
        <p:blipFill>
          <a:blip r:embed="rId1"/>
          <a:stretch/>
        </p:blipFill>
        <p:spPr>
          <a:xfrm>
            <a:off x="6357960" y="2857680"/>
            <a:ext cx="2390760" cy="294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4 -0.09259 C 0.0974 -0.27222 0.17396 -0.45162 0.11771 -0.38935 C 0.06146 -0.32708 -0.28732 0.19468 -0.31632 0.28125 C -0.34531 0.36875 -0.10087 0.16134 -0.0566 0.13287 C -0.01232 0.10532 -0.03125 0.10903 -0.05017 0.11343 E">
                                      <p:cBhvr>
                                        <p:cTn id="15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AE53-83AD-43D0-89FC-22DF726AE4B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886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лоскостопие изменяет походку, вызывает развитие утомления, при незначительных пеших нагрузках, вследствие чего ухудшается кровоснабжение в мелких суставах стопы, мышцах голени и способствует нарушению осанки, развитию остеохондроз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2" name="Group 2"/>
          <p:cNvGrpSpPr/>
          <p:nvPr/>
        </p:nvGrpSpPr>
        <p:grpSpPr>
          <a:xfrm>
            <a:off x="5435640" y="260280"/>
            <a:ext cx="3495600" cy="1657440"/>
            <a:chOff x="5435640" y="260280"/>
            <a:chExt cx="3495600" cy="1657440"/>
          </a:xfrm>
        </p:grpSpPr>
        <p:graphicFrame>
          <p:nvGraphicFramePr>
            <p:cNvPr id="253" name="Object 10"/>
            <p:cNvGraphicFramePr/>
            <p:nvPr/>
          </p:nvGraphicFramePr>
          <p:xfrm>
            <a:off x="7380360" y="260280"/>
            <a:ext cx="1550880" cy="1657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4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80360" y="260280"/>
                      <a:ext cx="15508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6372000" y="260280"/>
            <a:ext cx="901800" cy="159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72000" y="260280"/>
                      <a:ext cx="901800" cy="15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3"/>
            <p:cNvGraphicFramePr/>
            <p:nvPr/>
          </p:nvGraphicFramePr>
          <p:xfrm>
            <a:off x="5435640" y="333360"/>
            <a:ext cx="855720" cy="153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8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35640" y="333360"/>
                      <a:ext cx="855720" cy="15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59" name="Picture 0" descr="YOG0102S"/>
          <p:cNvPicPr/>
          <p:nvPr/>
        </p:nvPicPr>
        <p:blipFill>
          <a:blip r:embed="rId7"/>
          <a:stretch/>
        </p:blipFill>
        <p:spPr>
          <a:xfrm>
            <a:off x="5076720" y="2492280"/>
            <a:ext cx="2135160" cy="2376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" descr="YOG1245S"/>
          <p:cNvPicPr/>
          <p:nvPr/>
        </p:nvPicPr>
        <p:blipFill>
          <a:blip r:embed="rId8"/>
          <a:stretch/>
        </p:blipFill>
        <p:spPr>
          <a:xfrm>
            <a:off x="7164360" y="2781360"/>
            <a:ext cx="1747800" cy="1944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9"/>
          <a:stretch/>
        </p:blipFill>
        <p:spPr>
          <a:xfrm>
            <a:off x="3203640" y="189000"/>
            <a:ext cx="2368440" cy="178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10"/>
          <a:stretch/>
        </p:blipFill>
        <p:spPr>
          <a:xfrm>
            <a:off x="4932360" y="5300640"/>
            <a:ext cx="1724040" cy="1362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11"/>
          <a:stretch/>
        </p:blipFill>
        <p:spPr>
          <a:xfrm>
            <a:off x="6804000" y="4797360"/>
            <a:ext cx="1752480" cy="135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2FDC-FE78-43AC-B9F7-D41E5974D93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971280" y="2349360"/>
            <a:ext cx="76928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он на жесткой постели в положении лежа на животе или спи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авильная и точная коррекция обуви : (плоскостопие, косолапость)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рганизация и строгое соблюдение правильного режима дня ( время сна, бодрствования, питания и т.д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стоянная двигательная активность , включающая прогулки, занятия физическими упражнениями, спортом, туризмом, плава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каз от таких вредных привычек  как : стояние на одной ноге, неправильное положение тела во время сидения ( за партой, рабочим столом, дома в кресле и т.д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онтроль за правильной, равномерной нагрузкой на позвоночник при ношении рюкзаков , сумок, портфелей и др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476360" y="620640"/>
            <a:ext cx="71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рофилактика развития нарушений осанки и сколиозов должна быть комплексной и включать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 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8C1A-8438-4942-B3E7-B020E717A25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машнее задание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Помните! Правильная осанка придает человеку достойный внешний вид, способствует нормальной деятельности всего организма»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верить осанку у все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воей семь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AC85-E8D2-4D1A-A8A6-F497F8F0BA8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то такое осанка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анка – это непринужденная обычная поза человека в различных положениях: стоя, сидя, при ходьбе, во время игр, развлечений, в процессе тру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6" descr="CMPTRTCH"/>
          <p:cNvPicPr/>
          <p:nvPr/>
        </p:nvPicPr>
        <p:blipFill>
          <a:blip r:embed="rId1"/>
          <a:stretch/>
        </p:blipFill>
        <p:spPr>
          <a:xfrm>
            <a:off x="1187280" y="2852640"/>
            <a:ext cx="2179800" cy="2398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JACKHMR"/>
          <p:cNvPicPr/>
          <p:nvPr/>
        </p:nvPicPr>
        <p:blipFill>
          <a:blip r:embed="rId2"/>
          <a:stretch/>
        </p:blipFill>
        <p:spPr>
          <a:xfrm>
            <a:off x="7740720" y="260280"/>
            <a:ext cx="1112760" cy="2567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JOGGER1"/>
          <p:cNvPicPr/>
          <p:nvPr/>
        </p:nvPicPr>
        <p:blipFill>
          <a:blip r:embed="rId3"/>
          <a:stretch/>
        </p:blipFill>
        <p:spPr>
          <a:xfrm>
            <a:off x="2987640" y="3933720"/>
            <a:ext cx="1739880" cy="264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68D3-7B53-4544-9C47-F424CB14CC1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авильная осан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39290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голова приподнята, грудная клетка развернута, плечи- на одном уровн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если смотреть сзади, голова, шея и позвоночник составляют прямую вертикальную лин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если смотреть сбоку, позвоночник имеет небольшие углубления в  шейном и поясничном отделах (лордозы) и небольшую выпуклость в грудном отделе (кифоз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2411280" y="1989000"/>
            <a:ext cx="4105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изнаки правильной осанк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743120" cy="5721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2022480" cy="361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06DB-79D0-4BEE-B086-33E0403957D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7" descr="AMERI04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549360"/>
            <a:ext cx="3618000" cy="4876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AMERI148"/>
          <p:cNvPicPr/>
          <p:nvPr/>
        </p:nvPicPr>
        <p:blipFill>
          <a:blip r:embed="rId3"/>
          <a:stretch/>
        </p:blipFill>
        <p:spPr>
          <a:xfrm>
            <a:off x="5786280" y="285840"/>
            <a:ext cx="2298960" cy="1697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DANCING"/>
          <p:cNvPicPr/>
          <p:nvPr/>
        </p:nvPicPr>
        <p:blipFill>
          <a:blip r:embed="rId4"/>
          <a:stretch/>
        </p:blipFill>
        <p:spPr>
          <a:xfrm>
            <a:off x="3995640" y="2637000"/>
            <a:ext cx="1671840" cy="377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SPO071"/>
          <p:cNvPicPr/>
          <p:nvPr/>
        </p:nvPicPr>
        <p:blipFill>
          <a:blip r:embed="rId5"/>
          <a:stretch/>
        </p:blipFill>
        <p:spPr>
          <a:xfrm>
            <a:off x="3780000" y="189000"/>
            <a:ext cx="1604880" cy="177804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3"/>
          <p:cNvGrpSpPr/>
          <p:nvPr/>
        </p:nvGrpSpPr>
        <p:grpSpPr>
          <a:xfrm>
            <a:off x="6804000" y="2205000"/>
            <a:ext cx="1870200" cy="3449520"/>
            <a:chOff x="6804000" y="2205000"/>
            <a:chExt cx="1870200" cy="3449520"/>
          </a:xfrm>
        </p:grpSpPr>
        <p:sp>
          <p:nvSpPr>
            <p:cNvPr id="120" name="AutoShape 2"/>
            <p:cNvSpPr/>
            <p:nvPr/>
          </p:nvSpPr>
          <p:spPr>
            <a:xfrm>
              <a:off x="6804000" y="2205000"/>
              <a:ext cx="1870200" cy="34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6838920" y="2257560"/>
              <a:ext cx="1704960" cy="335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7365960" y="5524560"/>
              <a:ext cx="370080" cy="73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Freeform 6"/>
            <p:cNvSpPr/>
            <p:nvPr/>
          </p:nvSpPr>
          <p:spPr>
            <a:xfrm>
              <a:off x="6865920" y="5432400"/>
              <a:ext cx="363600" cy="15876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Freeform 7"/>
            <p:cNvSpPr/>
            <p:nvPr/>
          </p:nvSpPr>
          <p:spPr>
            <a:xfrm>
              <a:off x="7848720" y="4471920"/>
              <a:ext cx="785520" cy="110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8272440" y="4908600"/>
              <a:ext cx="320760" cy="64908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8354880" y="5500800"/>
              <a:ext cx="22320" cy="5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7345440" y="5062680"/>
              <a:ext cx="423720" cy="479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Freeform 11"/>
            <p:cNvSpPr/>
            <p:nvPr/>
          </p:nvSpPr>
          <p:spPr>
            <a:xfrm>
              <a:off x="8199360" y="5132520"/>
              <a:ext cx="119160" cy="40644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Freeform 12"/>
            <p:cNvSpPr/>
            <p:nvPr/>
          </p:nvSpPr>
          <p:spPr>
            <a:xfrm>
              <a:off x="6885000" y="5086440"/>
              <a:ext cx="560520" cy="447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Freeform 13"/>
            <p:cNvSpPr/>
            <p:nvPr/>
          </p:nvSpPr>
          <p:spPr>
            <a:xfrm>
              <a:off x="7504200" y="5265720"/>
              <a:ext cx="108000" cy="604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Freeform 14"/>
            <p:cNvSpPr/>
            <p:nvPr/>
          </p:nvSpPr>
          <p:spPr>
            <a:xfrm>
              <a:off x="7132680" y="5230800"/>
              <a:ext cx="103320" cy="6660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Freeform 15"/>
            <p:cNvSpPr/>
            <p:nvPr/>
          </p:nvSpPr>
          <p:spPr>
            <a:xfrm>
              <a:off x="7486560" y="5151600"/>
              <a:ext cx="165240" cy="7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7508880" y="5164200"/>
              <a:ext cx="119160" cy="572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Freeform 17"/>
            <p:cNvSpPr/>
            <p:nvPr/>
          </p:nvSpPr>
          <p:spPr>
            <a:xfrm>
              <a:off x="8124840" y="4932360"/>
              <a:ext cx="176040" cy="27288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Freeform 18"/>
            <p:cNvSpPr/>
            <p:nvPr/>
          </p:nvSpPr>
          <p:spPr>
            <a:xfrm>
              <a:off x="7130880" y="5140440"/>
              <a:ext cx="106560" cy="5076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Freeform 19"/>
            <p:cNvSpPr/>
            <p:nvPr/>
          </p:nvSpPr>
          <p:spPr>
            <a:xfrm>
              <a:off x="7058160" y="4444920"/>
              <a:ext cx="745920" cy="66204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8559720" y="4761000"/>
              <a:ext cx="60480" cy="21564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862760" y="4756320"/>
              <a:ext cx="433440" cy="190440"/>
            </a:xfrm>
            <a:prstGeom prst="pie">
              <a:avLst/>
            </a:pr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881840" y="4795920"/>
              <a:ext cx="73080" cy="2232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7988400" y="4610160"/>
              <a:ext cx="156960" cy="19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8020080" y="4735440"/>
              <a:ext cx="6012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921800" y="4487760"/>
              <a:ext cx="420480" cy="26856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6983280" y="4324320"/>
              <a:ext cx="106560" cy="21600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015320" y="3441600"/>
              <a:ext cx="826920" cy="103824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Freeform 28"/>
            <p:cNvSpPr/>
            <p:nvPr/>
          </p:nvSpPr>
          <p:spPr>
            <a:xfrm>
              <a:off x="7556400" y="4094280"/>
              <a:ext cx="274680" cy="2617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Freeform 29"/>
            <p:cNvSpPr/>
            <p:nvPr/>
          </p:nvSpPr>
          <p:spPr>
            <a:xfrm>
              <a:off x="7826400" y="3660840"/>
              <a:ext cx="262080" cy="67608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Freeform 30"/>
            <p:cNvSpPr/>
            <p:nvPr/>
          </p:nvSpPr>
          <p:spPr>
            <a:xfrm>
              <a:off x="6986520" y="4114800"/>
              <a:ext cx="50760" cy="18576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Freeform 31"/>
            <p:cNvSpPr/>
            <p:nvPr/>
          </p:nvSpPr>
          <p:spPr>
            <a:xfrm>
              <a:off x="7605720" y="2671920"/>
              <a:ext cx="795240" cy="154908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Freeform 32"/>
            <p:cNvSpPr/>
            <p:nvPr/>
          </p:nvSpPr>
          <p:spPr>
            <a:xfrm>
              <a:off x="6991200" y="3867120"/>
              <a:ext cx="211320" cy="22536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>
              <a:off x="7346880" y="3776760"/>
              <a:ext cx="260280" cy="30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Freeform 34"/>
            <p:cNvSpPr/>
            <p:nvPr/>
          </p:nvSpPr>
          <p:spPr>
            <a:xfrm>
              <a:off x="7431120" y="3876840"/>
              <a:ext cx="142920" cy="18864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Freeform 35"/>
            <p:cNvSpPr/>
            <p:nvPr/>
          </p:nvSpPr>
          <p:spPr>
            <a:xfrm>
              <a:off x="7367760" y="3836880"/>
              <a:ext cx="63360" cy="21744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Freeform 36"/>
            <p:cNvSpPr/>
            <p:nvPr/>
          </p:nvSpPr>
          <p:spPr>
            <a:xfrm>
              <a:off x="6993000" y="3751200"/>
              <a:ext cx="210960" cy="14292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Freeform 37"/>
            <p:cNvSpPr/>
            <p:nvPr/>
          </p:nvSpPr>
          <p:spPr>
            <a:xfrm>
              <a:off x="7396200" y="3786120"/>
              <a:ext cx="195120" cy="10152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Freeform 38"/>
            <p:cNvSpPr/>
            <p:nvPr/>
          </p:nvSpPr>
          <p:spPr>
            <a:xfrm>
              <a:off x="7870680" y="3552840"/>
              <a:ext cx="109800" cy="2318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Freeform 39"/>
            <p:cNvSpPr/>
            <p:nvPr/>
          </p:nvSpPr>
          <p:spPr>
            <a:xfrm>
              <a:off x="7837560" y="3476520"/>
              <a:ext cx="145800" cy="29052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Freeform 40"/>
            <p:cNvSpPr/>
            <p:nvPr/>
          </p:nvSpPr>
          <p:spPr>
            <a:xfrm>
              <a:off x="7786800" y="3467160"/>
              <a:ext cx="164880" cy="2840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Freeform 41"/>
            <p:cNvSpPr/>
            <p:nvPr/>
          </p:nvSpPr>
          <p:spPr>
            <a:xfrm>
              <a:off x="7027920" y="3451320"/>
              <a:ext cx="212760" cy="29052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Freeform 42"/>
            <p:cNvSpPr/>
            <p:nvPr/>
          </p:nvSpPr>
          <p:spPr>
            <a:xfrm>
              <a:off x="7402680" y="3511440"/>
              <a:ext cx="274320" cy="12708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Freeform 43"/>
            <p:cNvSpPr/>
            <p:nvPr/>
          </p:nvSpPr>
          <p:spPr>
            <a:xfrm>
              <a:off x="7331040" y="3495600"/>
              <a:ext cx="115920" cy="11124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7709040" y="3478320"/>
              <a:ext cx="153720" cy="10008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Freeform 45"/>
            <p:cNvSpPr/>
            <p:nvPr/>
          </p:nvSpPr>
          <p:spPr>
            <a:xfrm>
              <a:off x="7974000" y="3505320"/>
              <a:ext cx="22320" cy="36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Freeform 46"/>
            <p:cNvSpPr/>
            <p:nvPr/>
          </p:nvSpPr>
          <p:spPr>
            <a:xfrm>
              <a:off x="7093080" y="2797200"/>
              <a:ext cx="890280" cy="72396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Freeform 47"/>
            <p:cNvSpPr/>
            <p:nvPr/>
          </p:nvSpPr>
          <p:spPr>
            <a:xfrm>
              <a:off x="7926480" y="2763720"/>
              <a:ext cx="379440" cy="72396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Freeform 48"/>
            <p:cNvSpPr/>
            <p:nvPr/>
          </p:nvSpPr>
          <p:spPr>
            <a:xfrm>
              <a:off x="7381800" y="3330720"/>
              <a:ext cx="4788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Freeform 49"/>
            <p:cNvSpPr/>
            <p:nvPr/>
          </p:nvSpPr>
          <p:spPr>
            <a:xfrm>
              <a:off x="7888320" y="3114720"/>
              <a:ext cx="4428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Freeform 50"/>
            <p:cNvSpPr/>
            <p:nvPr/>
          </p:nvSpPr>
          <p:spPr>
            <a:xfrm>
              <a:off x="7148520" y="2392200"/>
              <a:ext cx="917640" cy="685800"/>
            </a:xfrm>
            <a:prstGeom prst="pie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Freeform 51"/>
            <p:cNvSpPr/>
            <p:nvPr/>
          </p:nvSpPr>
          <p:spPr>
            <a:xfrm>
              <a:off x="7400880" y="2844720"/>
              <a:ext cx="211320" cy="20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Freeform 52"/>
            <p:cNvSpPr/>
            <p:nvPr/>
          </p:nvSpPr>
          <p:spPr>
            <a:xfrm>
              <a:off x="7540560" y="2982960"/>
              <a:ext cx="61920" cy="5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Freeform 53"/>
            <p:cNvSpPr/>
            <p:nvPr/>
          </p:nvSpPr>
          <p:spPr>
            <a:xfrm>
              <a:off x="7329600" y="2951280"/>
              <a:ext cx="205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Freeform 54"/>
            <p:cNvSpPr/>
            <p:nvPr/>
          </p:nvSpPr>
          <p:spPr>
            <a:xfrm>
              <a:off x="7237440" y="2798640"/>
              <a:ext cx="138240" cy="17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Freeform 55"/>
            <p:cNvSpPr/>
            <p:nvPr/>
          </p:nvSpPr>
          <p:spPr>
            <a:xfrm>
              <a:off x="7191360" y="2741760"/>
              <a:ext cx="144360" cy="727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Freeform 56"/>
            <p:cNvSpPr/>
            <p:nvPr/>
          </p:nvSpPr>
          <p:spPr>
            <a:xfrm>
              <a:off x="7300800" y="2774880"/>
              <a:ext cx="42840" cy="223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Freeform 57"/>
            <p:cNvSpPr/>
            <p:nvPr/>
          </p:nvSpPr>
          <p:spPr>
            <a:xfrm>
              <a:off x="7367760" y="2752560"/>
              <a:ext cx="131760" cy="446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Freeform 58"/>
            <p:cNvSpPr/>
            <p:nvPr/>
          </p:nvSpPr>
          <p:spPr>
            <a:xfrm>
              <a:off x="8247240" y="2633760"/>
              <a:ext cx="114120" cy="14904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Freeform 59"/>
            <p:cNvSpPr/>
            <p:nvPr/>
          </p:nvSpPr>
          <p:spPr>
            <a:xfrm>
              <a:off x="8307360" y="2313000"/>
              <a:ext cx="219240" cy="3380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Freeform 60"/>
            <p:cNvSpPr/>
            <p:nvPr/>
          </p:nvSpPr>
          <p:spPr>
            <a:xfrm>
              <a:off x="8447040" y="2271600"/>
              <a:ext cx="63720" cy="84240"/>
            </a:xfrm>
            <a:prstGeom prst="pie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5185E-006 L -0.00087 0.23241 E">
                                      <p:cBhvr>
                                        <p:cTn id="3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3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48148E-006 C -0.00156 -0.00069 -0.00382 -0.00046 -0.00486 -0.00232 C -0.00625 -0.00463 -0.00573 -0.0081 -0.00642 -0.01088 C -0.00746 -0.01458 -0.01163 -0.03148 -0.01302 -0.03449 C -0.01423 -0.03704 -0.01649 -0.03866 -0.01788 -0.04097 C -0.02187 -0.04792 -0.02569 -0.05509 -0.02916 -0.0625 C -0.03316 -0.0713 -0.03281 -0.07639 -0.04045 -0.07963 C -0.05156 -0.09468 -0.04566 -0.0912 -0.05642 -0.09468 C -0.0967 -0.13009 -0.13715 -0.11296 -0.19045 -0.11412 C -0.19861 -0.11204 -0.20243 -0.1088 -0.20972 -0.10532 C -0.21146 -0.09838 -0.21788 -0.08611 -0.21788 -0.08611 C -0.221 -0.07315 -0.225 -0.06528 -0.23073 -0.05394 C -0.23177 -0.05185 -0.23281 -0.04954 -0.23385 -0.04745 C -0.23489 -0.04537 -0.23611 -0.04306 -0.23715 -0.04097 C -0.23819 -0.03889 -0.24045 -0.03449 -0.24045 -0.03449 C -0.24218 -0.02755 -0.24496 -0.02199 -0.24687 -0.01505 C -0.24878 0.02546 -0.25208 0.09583 -0.21458 0.11181 C -0.20937 0.12199 -0.21319 0.11736 -0.20173 0.12245 C -0.18837 0.12824 -0.20104 0.12546 -0.19045 0.12893 C -0.18298 0.13125 -0.17534 0.13356 -0.16788 0.13542 C -0.15069 0.14468 -0.13142 0.14421 -0.11458 0.13333 C -0.10989 0.12708 -0.10642 0.12014 -0.10173 0.11389 C -0.09982 0.1044 -0.09705 0.09537 -0.09514 0.08588 C -0.09566 0.07222 -0.09496 0.05856 -0.09687 0.04514 C -0.09722 0.04259 -0.10034 0.04259 -0.10173 0.04074 C -0.10833 0.03171 -0.10625 0.03194 -0.11614 0.02801 C -0.11944 0.02662 -0.12587 0.02361 -0.12587 0.02361 C -0.16198 0.025 -0.17604 0.00625 -0.18229 0.04074 C -0.18212 0.0419 -0.18055 0.05532 -0.17916 0.0581 C -0.175 0.06643 -0.16493 0.07431 -0.15816 0.07731 C -0.15538 0.07662 -0.15 0.07523 -0.15 0.07523 E">
                                      <p:cBhvr>
                                        <p:cTn id="35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3217 L -4.16667E-006 0.17569 E">
                                      <p:cBhvr>
                                        <p:cTn id="40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FBF2-851A-4582-9F2D-EBC3D1F6CAB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01000" y="30600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еправильная осан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488628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Нарушение осанки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- </a:t>
            </a: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это отклонения в положении позвоночни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Признаки неправильной осан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голова выдвинута за продольную ось тела (опущенная голова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плечи сведены вперед, поднят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 ( или ассиметричное положение плеч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круглая спина, запавшая грудная клетк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живот выпячен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таз отставлен назад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излишне увеличе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 поясничный изгиб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. 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5"/>
          <a:stretch/>
        </p:blipFill>
        <p:spPr>
          <a:xfrm>
            <a:off x="3492360" y="4149720"/>
            <a:ext cx="1882800" cy="2708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16"/>
          <a:stretch/>
        </p:blipFill>
        <p:spPr>
          <a:xfrm>
            <a:off x="7350120" y="1413000"/>
            <a:ext cx="1490760" cy="5157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17"/>
          <a:stretch/>
        </p:blipFill>
        <p:spPr>
          <a:xfrm>
            <a:off x="5508720" y="1484280"/>
            <a:ext cx="1687320" cy="517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7ED6-84F4-4E44-97E3-60C334EAE86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7" descr="image002"/>
          <p:cNvPicPr/>
          <p:nvPr/>
        </p:nvPicPr>
        <p:blipFill>
          <a:blip r:embed="rId1"/>
          <a:stretch/>
        </p:blipFill>
        <p:spPr>
          <a:xfrm>
            <a:off x="4932360" y="1268280"/>
            <a:ext cx="3816360" cy="502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image001"/>
          <p:cNvPicPr/>
          <p:nvPr/>
        </p:nvPicPr>
        <p:blipFill>
          <a:blip r:embed="rId2"/>
          <a:stretch/>
        </p:blipFill>
        <p:spPr>
          <a:xfrm>
            <a:off x="971640" y="2276640"/>
            <a:ext cx="3349440" cy="43923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42920" y="981000"/>
            <a:ext cx="7632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Такие позы способствуют формированию неправильной осанки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214880" y="5500800"/>
            <a:ext cx="4929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арушение осанки может произойти в любом возрас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1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BD44-B9D0-4C1A-8C99-E96014F878F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20800" y="392040"/>
            <a:ext cx="7806600" cy="81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азновидности нарушения оса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5905440" cy="31194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8"/>
          <p:cNvSpPr/>
          <p:nvPr/>
        </p:nvSpPr>
        <p:spPr>
          <a:xfrm>
            <a:off x="1619280" y="5516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ая сп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3997440" y="544500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ая сп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6300720" y="5373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длообразна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угловогнутая) сп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CD72-CC3A-4163-B154-D12AF902C40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34080" y="46440"/>
            <a:ext cx="768384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РАВЛЕНИЕ ОСА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26560" y="765000"/>
            <a:ext cx="77058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ы рассмотрели те недостатки, которые наиболее характерны для современного челове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Picture 0" descr="04_01_00"/>
          <p:cNvPicPr/>
          <p:nvPr/>
        </p:nvPicPr>
        <p:blipFill>
          <a:blip r:embed="rId1"/>
          <a:stretch/>
        </p:blipFill>
        <p:spPr>
          <a:xfrm>
            <a:off x="1835280" y="2349360"/>
            <a:ext cx="5927760" cy="431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4:14:39Z</dcterms:created>
  <dc:creator>USER</dc:creator>
  <dc:description/>
  <dc:language>en-US</dc:language>
  <cp:lastModifiedBy>Home</cp:lastModifiedBy>
  <dcterms:modified xsi:type="dcterms:W3CDTF">2010-02-12T04:09:29Z</dcterms:modified>
  <cp:revision>21</cp:revision>
  <dc:subject/>
  <dc:title>ЗНАЧЕНИЕ ПРАВИЛЬНОЙ ОСАНКИ В ЖИЗНЕДЕЯТЕЛЬНОСТИ ЧЕЛОВЕКА</dc:title>
</cp:coreProperties>
</file>