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5.jpeg" ContentType="image/jpeg"/>
  <Override PartName="/ppt/media/image22.jpeg" ContentType="image/jpeg"/>
  <Override PartName="/ppt/media/image39.png" ContentType="image/png"/>
  <Override PartName="/ppt/media/image24.png" ContentType="image/png"/>
  <Override PartName="/ppt/media/image21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34.wmf" ContentType="image/x-wmf"/>
  <Override PartName="/ppt/media/image9.wmf" ContentType="image/x-wmf"/>
  <Override PartName="/ppt/media/image41.png" ContentType="image/png"/>
  <Override PartName="/ppt/media/image42.jpeg" ContentType="image/jpeg"/>
  <Override PartName="/ppt/media/image19.jpeg" ContentType="image/jpeg"/>
  <Override PartName="/ppt/media/image11.png" ContentType="image/png"/>
  <Override PartName="/ppt/media/image6.wmf" ContentType="image/x-wmf"/>
  <Override PartName="/ppt/media/image36.wmf" ContentType="image/x-wmf"/>
  <Override PartName="/ppt/media/image37.png" ContentType="image/png"/>
  <Override PartName="/ppt/media/image33.jpeg" ContentType="image/jpeg"/>
  <Override PartName="/ppt/media/image30.wmf" ContentType="image/x-wmf"/>
  <Override PartName="/ppt/media/image10.png" ContentType="image/png"/>
  <Override PartName="/ppt/media/image28.wmf" ContentType="image/x-wmf"/>
  <Override PartName="/ppt/media/image38.png" ContentType="image/png"/>
  <Override PartName="/ppt/media/image43.png" ContentType="image/png"/>
  <Override PartName="/ppt/media/image26.wmf" ContentType="image/x-wmf"/>
  <Override PartName="/ppt/media/image40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2.wmf" ContentType="image/x-wmf"/>
  <Override PartName="/ppt/media/image32.wmf" ContentType="image/x-wmf"/>
  <Override PartName="/ppt/media/image5.png" ContentType="image/png"/>
  <Override PartName="/ppt/media/image3.wmf" ContentType="image/x-wmf"/>
  <Override PartName="/ppt/media/image29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3F1-673E-4B5B-98C7-3DF775BD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A17-70D3-43BE-B701-ECAB7620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29B-8062-4120-B9F5-4E216DE7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B5F-63A4-4369-A2A3-4AA4C2B0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1D44-6D4F-41D6-B7C4-69F44286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342B-94B6-4FEE-BE92-F243F595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5DED-E13B-47D1-B0AE-089BDEC6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610D-B4B4-487D-B76C-98B15753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B854-40EE-4232-82E6-9CC6F59B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FBB0-4544-42F6-AFF5-940A01F5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BA52-E45C-491C-8ED7-71D77D1C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F50-9466-47B6-9320-FDA1381D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BDE2-3966-4FEE-996C-2451D27D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9D3D-7F81-4775-BC15-2D06D57C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5746-B8FE-4FA9-B413-2B99640C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6059-6706-4011-926B-F1B05BD0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73DF-E777-4469-BF70-41C9373B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A8D-666A-4FAD-9A08-FF984613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0B4-A675-4A3B-9D40-CFAA3FF3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B82-BE9A-4499-8FED-D313F198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C48-45EE-4391-BA3B-716EF1F6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AC1-6DCA-4315-91CA-F556538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290-6850-42EB-B42A-0EC89832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D79-FD55-4347-8A15-D49EFFBE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B6E5-97C3-41B9-83B9-546B4C6A7C6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8667-0976-4D82-9445-F88B5C7BE78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jpe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9;&#1082;&#1072;&#1083;&#1080;&#1086;&#1079;.ppt" TargetMode="External"/><Relationship Id="rId2" Type="http://schemas.openxmlformats.org/officeDocument/2006/relationships/hyperlink" Target="file:///&#1089;&#1082;&#1072;&#1083;&#1080;&#1086;&#1079;.ppt" TargetMode="External"/><Relationship Id="rId3" Type="http://schemas.openxmlformats.org/officeDocument/2006/relationships/hyperlink" Target="file:///&#1089;&#1082;&#1072;&#1083;&#1080;&#1086;&#1079;.ppt" TargetMode="External"/><Relationship Id="rId4" Type="http://schemas.openxmlformats.org/officeDocument/2006/relationships/hyperlink" Target="file:///&#1089;&#1082;&#1072;&#1083;&#1080;&#1086;&#1079;.ppt" TargetMode="External"/><Relationship Id="rId5" Type="http://schemas.openxmlformats.org/officeDocument/2006/relationships/hyperlink" Target="file:///&#1089;&#1082;&#1072;&#1083;&#1080;&#1086;&#1079;.ppt" TargetMode="External"/><Relationship Id="rId6" Type="http://schemas.openxmlformats.org/officeDocument/2006/relationships/hyperlink" Target="file:///&#1089;&#1082;&#1072;&#1083;&#1080;&#1086;&#1079;.ppt" TargetMode="External"/><Relationship Id="rId7" Type="http://schemas.openxmlformats.org/officeDocument/2006/relationships/hyperlink" Target="file:///&#1089;&#1082;&#1072;&#1083;&#1080;&#1086;&#1079;.ppt" TargetMode="External"/><Relationship Id="rId8" Type="http://schemas.openxmlformats.org/officeDocument/2006/relationships/hyperlink" Target="file:///&#1089;&#1082;&#1072;&#1083;&#1080;&#1086;&#1079;.ppt" TargetMode="External"/><Relationship Id="rId9" Type="http://schemas.openxmlformats.org/officeDocument/2006/relationships/hyperlink" Target="file:///&#1089;&#1082;&#1072;&#1083;&#1080;&#1086;&#1079;.ppt" TargetMode="External"/><Relationship Id="rId10" Type="http://schemas.openxmlformats.org/officeDocument/2006/relationships/hyperlink" Target="file:///&#1089;&#1082;&#1072;&#1083;&#1080;&#1086;&#1079;.ppt" TargetMode="External"/><Relationship Id="rId11" Type="http://schemas.openxmlformats.org/officeDocument/2006/relationships/hyperlink" Target="file:///&#1089;&#1082;&#1072;&#1083;&#1080;&#1086;&#1079;.ppt" TargetMode="External"/><Relationship Id="rId12" Type="http://schemas.openxmlformats.org/officeDocument/2006/relationships/hyperlink" Target="file:///&#1089;&#1082;&#1072;&#1083;&#1080;&#1086;&#1079;.ppt" TargetMode="External"/><Relationship Id="rId13" Type="http://schemas.openxmlformats.org/officeDocument/2006/relationships/hyperlink" Target="file:///&#1089;&#1082;&#1072;&#1083;&#1080;&#1086;&#1079;.ppt" TargetMode="External"/><Relationship Id="rId14" Type="http://schemas.openxmlformats.org/officeDocument/2006/relationships/hyperlink" Target="file:///&#1089;&#1082;&#1072;&#1083;&#1080;&#1086;&#1079;.ppt" TargetMode="External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0488-08F1-4F9C-AA89-B94D1906742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2000" y="2493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 ПРАВИЛЬНОЙ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АНКИ В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ДЕЯТЕЛЬНОСТИ ЧЕЛОВЕ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0" y="3789000"/>
            <a:ext cx="395928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Составила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Плюхина Е.О., учитель физической культуры МОУ «Средняя общеобразовательная школа №121» г.Снежинс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A1FA-DBE6-4571-A9BD-0162E1E05BB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рушение осанки может исправить система целостного движения с помощью простейших упражнений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5" descr="YOG2053L"/>
          <p:cNvPicPr/>
          <p:nvPr/>
        </p:nvPicPr>
        <p:blipFill>
          <a:blip r:embed="rId1"/>
          <a:stretch/>
        </p:blipFill>
        <p:spPr>
          <a:xfrm>
            <a:off x="6516720" y="2276640"/>
            <a:ext cx="2627280" cy="1996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YOG2066L"/>
          <p:cNvPicPr/>
          <p:nvPr/>
        </p:nvPicPr>
        <p:blipFill>
          <a:blip r:embed="rId2"/>
          <a:stretch/>
        </p:blipFill>
        <p:spPr>
          <a:xfrm>
            <a:off x="1187280" y="4292640"/>
            <a:ext cx="2953080" cy="2352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0" descr="YOG2029L"/>
          <p:cNvPicPr/>
          <p:nvPr/>
        </p:nvPicPr>
        <p:blipFill>
          <a:blip r:embed="rId3"/>
          <a:stretch/>
        </p:blipFill>
        <p:spPr>
          <a:xfrm>
            <a:off x="2195640" y="2349360"/>
            <a:ext cx="2989080" cy="2048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YOG2067L"/>
          <p:cNvPicPr/>
          <p:nvPr/>
        </p:nvPicPr>
        <p:blipFill>
          <a:blip r:embed="rId4"/>
          <a:stretch/>
        </p:blipFill>
        <p:spPr>
          <a:xfrm>
            <a:off x="5292720" y="4437000"/>
            <a:ext cx="2743200" cy="20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388C-8AEE-4A1E-8AE9-743F0F0F880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11000" y="433080"/>
            <a:ext cx="787608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8 причин иметь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вильную и здоровую осанку</a:t>
            </a: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7" name="Picture 2" descr="14"/>
          <p:cNvPicPr/>
          <p:nvPr/>
        </p:nvPicPr>
        <p:blipFill>
          <a:blip r:embed="rId1"/>
          <a:stretch/>
        </p:blipFill>
        <p:spPr>
          <a:xfrm>
            <a:off x="6054840" y="4149720"/>
            <a:ext cx="961920" cy="122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0" descr="AHA0001L"/>
          <p:cNvPicPr/>
          <p:nvPr/>
        </p:nvPicPr>
        <p:blipFill>
          <a:blip r:embed="rId2"/>
          <a:stretch/>
        </p:blipFill>
        <p:spPr>
          <a:xfrm>
            <a:off x="826920" y="2349360"/>
            <a:ext cx="4007160" cy="401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CD04-DE25-4259-955D-E7FAE229A61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. Чем красивее спина, тем увереннее личность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Хорошая осанка повысит уверенность в себ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вое, на что вы обращаете внимание при виде нового человека, — не его глаза, волосы и даже не одежда. Главное — осанка. И она говорит о том, кто о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от, у кого прямая спина, кажется гордым и уверенным в себ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 кто горбится, кажется, что стыдится самого себ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1708200" cy="3527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"/>
          <p:cNvPicPr/>
          <p:nvPr/>
        </p:nvPicPr>
        <p:blipFill>
          <a:blip r:embed="rId2"/>
          <a:stretch/>
        </p:blipFill>
        <p:spPr>
          <a:xfrm>
            <a:off x="6732720" y="2708280"/>
            <a:ext cx="1939680" cy="381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0E9A-9593-45EA-A718-D04AB694F3C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Picture 0" descr="STL0025L"/>
          <p:cNvPicPr/>
          <p:nvPr/>
        </p:nvPicPr>
        <p:blipFill>
          <a:blip r:embed="rId1"/>
          <a:stretch/>
        </p:blipFill>
        <p:spPr>
          <a:xfrm>
            <a:off x="6620040" y="620640"/>
            <a:ext cx="2523960" cy="3659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2. Дыхание становится легким и более глубоким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6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пробуйте сделать следующее: сядьте и сгорбитесь. Попробуйте сделать вдох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метьте, что так тяжелее дышать. Это пример того, как наши мышцы и сухожилия сковываются и вызывают затруднения в дыхан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орошая осанка увеличивает вместимость легких, помогая обращению кислор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Picture 0" descr="CRCTR011"/>
          <p:cNvPicPr/>
          <p:nvPr/>
        </p:nvPicPr>
        <p:blipFill>
          <a:blip r:embed="rId2"/>
          <a:stretch/>
        </p:blipFill>
        <p:spPr>
          <a:xfrm>
            <a:off x="6227640" y="4005360"/>
            <a:ext cx="1617840" cy="285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BD79-BE92-4CE9-8067-3D3237AB8A7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56360" y="1124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3. Вы выглядите более стройными и молодым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0942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мея хорошую осанку, вы будете казаться 2-2,5 см. стройнее, моложе и одежда будет лучше на вас сидет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4" descr="WOMAN4"/>
          <p:cNvPicPr/>
          <p:nvPr/>
        </p:nvPicPr>
        <p:blipFill>
          <a:blip r:embed="rId1"/>
          <a:stretch/>
        </p:blipFill>
        <p:spPr>
          <a:xfrm>
            <a:off x="7380360" y="1197000"/>
            <a:ext cx="1449360" cy="506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0" descr="BIZMAN2"/>
          <p:cNvPicPr/>
          <p:nvPr/>
        </p:nvPicPr>
        <p:blipFill>
          <a:blip r:embed="rId2"/>
          <a:stretch/>
        </p:blipFill>
        <p:spPr>
          <a:xfrm>
            <a:off x="5148360" y="1413000"/>
            <a:ext cx="1960560" cy="503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BD42-9A3C-4B56-AC03-983B584C2ED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4. Улучшается и пищеварение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ильная осанка важна не только для сохранения фигуры: она существенно разгружает внутренние органы и мышцы спины, способствует правильному пищеварени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лучшается здоровье, органы функционируют лучш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0" descr="FOO0404L"/>
          <p:cNvPicPr/>
          <p:nvPr/>
        </p:nvPicPr>
        <p:blipFill>
          <a:blip r:embed="rId1"/>
          <a:stretch/>
        </p:blipFill>
        <p:spPr>
          <a:xfrm>
            <a:off x="5214960" y="2714760"/>
            <a:ext cx="3699000" cy="292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B5B0-30E9-49E9-AA22-643A60C3472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5. Голос будет казаться лучш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85880" y="2286000"/>
            <a:ext cx="37749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гда вы держите осанку, диафрагма открывает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 результате этого ваш голос лучше звучи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1" name="Picture 4" descr="GUITAR3"/>
          <p:cNvPicPr/>
          <p:nvPr/>
        </p:nvPicPr>
        <p:blipFill>
          <a:blip r:embed="rId1"/>
          <a:stretch/>
        </p:blipFill>
        <p:spPr>
          <a:xfrm>
            <a:off x="6568920" y="1989000"/>
            <a:ext cx="2575080" cy="324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RCTR084"/>
          <p:cNvPicPr/>
          <p:nvPr/>
        </p:nvPicPr>
        <p:blipFill>
          <a:blip r:embed="rId2"/>
          <a:stretch/>
        </p:blipFill>
        <p:spPr>
          <a:xfrm>
            <a:off x="4500720" y="2349360"/>
            <a:ext cx="1949400" cy="412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14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1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315D-027C-47F7-821C-39FB080E908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4" name="Picture 4" descr="AMERI214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216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711000" y="353880"/>
            <a:ext cx="77878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6. Помогает мышцам и сустава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орошая осанка помогает нам держать скелет и суставы в правильном положении так, чтобы наши мышцы работали правильно, уменьшая возможность таких последствий, которые могли бы привести к артриту и болях в суставах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акже уменьшает напряжение на связках, скрепляющих спинные суставы, уменьшая вероятность трав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орошее положение позволяет мышцам работать более эффективн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C -0.18212 -0.0037 -0.37031 0.00695 -0.55069 -0.00879 C -0.62517 -0.00625 -0.59462 -0.01898 -0.62656 0.01135 C -0.63524 0.02871 -0.62396 0.00857 -0.63524 0.02246 C -0.64218 0.03125 -0.64566 0.04352 -0.65104 0.05348 C -0.65173 0.05579 -0.65278 0.05787 -0.65278 0.06019 C -0.65278 0.07431 -0.65347 0.08889 -0.65104 0.10278 C -0.65052 0.10625 -0.64653 0.10718 -0.64409 0.10926 C -0.63559 0.11551 -0.62361 0.11644 -0.61423 0.11829 C -0.60781 0.12107 -0.60156 0.12639 -0.59462 0.12709 C -0.58871 0.12801 -0.58316 0.12315 -0.57725 0.12269 C -0.5467 0.12061 -0.51614 0.12107 -0.48559 0.12037 C -0.32552 0.12223 -0.16753 0.12037 -0.00729 0.12037 E">
                                      <p:cBhvr>
                                        <p:cTn id="12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04D3-CBF7-4BCD-AF91-A10A0304505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Picture 4" descr="YOG1000L"/>
          <p:cNvPicPr/>
          <p:nvPr/>
        </p:nvPicPr>
        <p:blipFill>
          <a:blip r:embed="rId1"/>
          <a:stretch/>
        </p:blipFill>
        <p:spPr>
          <a:xfrm>
            <a:off x="7451640" y="4908600"/>
            <a:ext cx="1514520" cy="1949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20800" y="392040"/>
            <a:ext cx="7806600" cy="81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7. Улучшается мышл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267920"/>
            <a:ext cx="5894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анка также затрагивает ваш у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 настроение может отразиться на осанке. Когда вы счастливы и хорошо себя чувствуете — осанка пряма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 вот унылые люди с хроническими болями, часто сидят или стоят ссутуливши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следующий раз, когда вы почувствуете себя угнетенными или обеспокоенным, пробуйте выпрямиться и глубоко вздохнуть. Хорошая осанка облегчает дыхание, помогая расслабиться и сконцентрировать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ногие восточные методы, например йога, улучшают осан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Picture 4" descr="CRCTR094"/>
          <p:cNvPicPr/>
          <p:nvPr/>
        </p:nvPicPr>
        <p:blipFill>
          <a:blip r:embed="rId2"/>
          <a:stretch/>
        </p:blipFill>
        <p:spPr>
          <a:xfrm>
            <a:off x="6286680" y="3286080"/>
            <a:ext cx="1087200" cy="212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GRD"/>
          <p:cNvPicPr/>
          <p:nvPr/>
        </p:nvPicPr>
        <p:blipFill>
          <a:blip r:embed="rId3"/>
          <a:stretch/>
        </p:blipFill>
        <p:spPr>
          <a:xfrm>
            <a:off x="7253280" y="333360"/>
            <a:ext cx="1890720" cy="34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0.12188 0.01297 E">
                                      <p:cBhvr>
                                        <p:cTn id="13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11614 -4.44444E-006 E">
                                      <p:cBhvr>
                                        <p:cTn id="134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6662-D484-4C04-9847-841FCA6217B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8. Здоровый позвоночни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2630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авильная осанка — простой, но очень важный способ для поддержания здорового позвоночник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доровая спина особенно важна для людей, которые много стоят в течение дня или сидят в офи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тобы иметь правильную осанку, у вас должно войти в привычку правильно держать плечи, втягивать живот, приподнимать голову и подбородок параллельно тел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18CD-607B-4089-BB7C-6F707F669A8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2360" y="261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еликие об осан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427280" y="227628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ть такая поговорка: «Человек настолько молод, насколько молод и здоров его позвоночник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706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 «Толкового словаря» В. Даля: «...под осанкой разумеют стройность, величавость, приличие к красоте»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A587-7B70-4AF6-8FE3-C4041A42C1B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9160" y="266400"/>
            <a:ext cx="7831800" cy="10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Плоскостопие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51850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лоскостопие у детей и взрослых — следствие врожденных дефектов опорно-двигательного аппарата, а также результат воздействия длительной работы в положении стоя, хождения на высоких каблуках и в узких туфлях, избыточного ве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Picture 3" descr="FEET_02"/>
          <p:cNvPicPr/>
          <p:nvPr/>
        </p:nvPicPr>
        <p:blipFill>
          <a:blip r:embed="rId1"/>
          <a:stretch/>
        </p:blipFill>
        <p:spPr>
          <a:xfrm>
            <a:off x="6357960" y="2857680"/>
            <a:ext cx="2390760" cy="294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09259 C 0.0974 -0.27222 0.17396 -0.45162 0.11771 -0.38935 C 0.06146 -0.32708 -0.28732 0.19468 -0.31632 0.28125 C -0.34531 0.36875 -0.10087 0.16134 -0.0566 0.13287 C -0.01232 0.10532 -0.03125 0.10903 -0.05017 0.11343 E">
                                      <p:cBhvr>
                                        <p:cTn id="15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5695-AADE-4584-8625-96BA71F06BC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86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лоскостопие изменяет походку, вызывает развитие утомления, при незначительных пеших нагрузках, вследствие чего ухудшается кровоснабжение в мелких суставах стопы, мышцах голени и способствует нарушению осанки, развитию остеохондроз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2" name="Group 2"/>
          <p:cNvGrpSpPr/>
          <p:nvPr/>
        </p:nvGrpSpPr>
        <p:grpSpPr>
          <a:xfrm>
            <a:off x="5435640" y="260280"/>
            <a:ext cx="3495600" cy="1657440"/>
            <a:chOff x="5435640" y="260280"/>
            <a:chExt cx="3495600" cy="1657440"/>
          </a:xfrm>
        </p:grpSpPr>
        <p:graphicFrame>
          <p:nvGraphicFramePr>
            <p:cNvPr id="253" name="Object 10"/>
            <p:cNvGraphicFramePr/>
            <p:nvPr/>
          </p:nvGraphicFramePr>
          <p:xfrm>
            <a:off x="7380360" y="260280"/>
            <a:ext cx="1550880" cy="165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4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80360" y="260280"/>
                      <a:ext cx="15508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6372000" y="260280"/>
            <a:ext cx="901800" cy="159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72000" y="260280"/>
                      <a:ext cx="901800" cy="15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3"/>
            <p:cNvGraphicFramePr/>
            <p:nvPr/>
          </p:nvGraphicFramePr>
          <p:xfrm>
            <a:off x="5435640" y="333360"/>
            <a:ext cx="855720" cy="153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35640" y="333360"/>
                      <a:ext cx="855720" cy="15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59" name="Picture 0" descr="YOG0102S"/>
          <p:cNvPicPr/>
          <p:nvPr/>
        </p:nvPicPr>
        <p:blipFill>
          <a:blip r:embed="rId7"/>
          <a:stretch/>
        </p:blipFill>
        <p:spPr>
          <a:xfrm>
            <a:off x="5076720" y="2492280"/>
            <a:ext cx="2135160" cy="237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" descr="YOG1245S"/>
          <p:cNvPicPr/>
          <p:nvPr/>
        </p:nvPicPr>
        <p:blipFill>
          <a:blip r:embed="rId8"/>
          <a:stretch/>
        </p:blipFill>
        <p:spPr>
          <a:xfrm>
            <a:off x="7164360" y="2781360"/>
            <a:ext cx="1747800" cy="1944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9"/>
          <a:stretch/>
        </p:blipFill>
        <p:spPr>
          <a:xfrm>
            <a:off x="3203640" y="189000"/>
            <a:ext cx="236844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10"/>
          <a:stretch/>
        </p:blipFill>
        <p:spPr>
          <a:xfrm>
            <a:off x="4932360" y="5300640"/>
            <a:ext cx="1724040" cy="1362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11"/>
          <a:stretch/>
        </p:blipFill>
        <p:spPr>
          <a:xfrm>
            <a:off x="6804000" y="4797360"/>
            <a:ext cx="1752480" cy="135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C8F4-60F0-4C38-B917-32B699CC8AE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71280" y="2349360"/>
            <a:ext cx="76928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он на жесткой постели в положении лежа на животе или сп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авильная и точная коррекция обуви : (плоскостопие, косолапость)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рганизация и строгое соблюдение правильного режима дня ( время сна, бодрствования, питания и т.д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стоянная двигательная активность , включающая прогулки, занятия физическими упражнениями, спортом, туризмом, плава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каз от таких вредных привычек  как : стояние на одной ноге, неправильное положение тела во время сидения ( за партой, рабочим столом, дома в кресле и т.д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онтроль за правильной, равномерной нагрузкой на позвоночник при ношении рюкзаков , сумок, портфелей и д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476360" y="620640"/>
            <a:ext cx="71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рофилактика развития нарушений осанки и сколиозов должна быть комплексной и включать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DDFD-533B-4E8A-BE3E-EAA12A4E7CF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Помните! Правильная осанка придает человеку достойный внешний вид, способствует нормальной деятельности всего организма»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верить осанку у все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оей семь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5BF2-DBEE-4217-830B-449CD93C9F5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такое осанка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анка – это непринужденная обычная поза человека в различных положениях: стоя, сидя, при ходьбе, во время игр, развлечений, в процессе тру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6" descr="CMPTRTCH"/>
          <p:cNvPicPr/>
          <p:nvPr/>
        </p:nvPicPr>
        <p:blipFill>
          <a:blip r:embed="rId1"/>
          <a:stretch/>
        </p:blipFill>
        <p:spPr>
          <a:xfrm>
            <a:off x="1187280" y="2852640"/>
            <a:ext cx="2179800" cy="2398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JACKHMR"/>
          <p:cNvPicPr/>
          <p:nvPr/>
        </p:nvPicPr>
        <p:blipFill>
          <a:blip r:embed="rId2"/>
          <a:stretch/>
        </p:blipFill>
        <p:spPr>
          <a:xfrm>
            <a:off x="7740720" y="260280"/>
            <a:ext cx="1112760" cy="2567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JOGGER1"/>
          <p:cNvPicPr/>
          <p:nvPr/>
        </p:nvPicPr>
        <p:blipFill>
          <a:blip r:embed="rId3"/>
          <a:stretch/>
        </p:blipFill>
        <p:spPr>
          <a:xfrm>
            <a:off x="2987640" y="3933720"/>
            <a:ext cx="1739880" cy="264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01D4-44DF-4EAF-9928-AA88B32058C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вильная оса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39290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олова приподнята, грудная клетка развернута, плечи- на одном уровн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если смотреть сзади, голова, шея и позвоночник составляют прямую вертикальную ли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если смотреть сбоку, позвоночник имеет небольшие углубления в  шейном и поясничном отделах (лордозы) и небольшую выпуклость в грудном отделе (кифоз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411280" y="1989000"/>
            <a:ext cx="4105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знаки правильной осанк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743120" cy="5721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2022480" cy="361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5E41-7CE1-4873-98E3-BF1999687FD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7" descr="AMERI04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549360"/>
            <a:ext cx="3618000" cy="487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AMERI148"/>
          <p:cNvPicPr/>
          <p:nvPr/>
        </p:nvPicPr>
        <p:blipFill>
          <a:blip r:embed="rId3"/>
          <a:stretch/>
        </p:blipFill>
        <p:spPr>
          <a:xfrm>
            <a:off x="5786280" y="285840"/>
            <a:ext cx="2298960" cy="1697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DANCING"/>
          <p:cNvPicPr/>
          <p:nvPr/>
        </p:nvPicPr>
        <p:blipFill>
          <a:blip r:embed="rId4"/>
          <a:stretch/>
        </p:blipFill>
        <p:spPr>
          <a:xfrm>
            <a:off x="3995640" y="2637000"/>
            <a:ext cx="1671840" cy="377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SPO071"/>
          <p:cNvPicPr/>
          <p:nvPr/>
        </p:nvPicPr>
        <p:blipFill>
          <a:blip r:embed="rId5"/>
          <a:stretch/>
        </p:blipFill>
        <p:spPr>
          <a:xfrm>
            <a:off x="3780000" y="189000"/>
            <a:ext cx="1604880" cy="177804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3"/>
          <p:cNvGrpSpPr/>
          <p:nvPr/>
        </p:nvGrpSpPr>
        <p:grpSpPr>
          <a:xfrm>
            <a:off x="6804000" y="2205000"/>
            <a:ext cx="1870200" cy="3449520"/>
            <a:chOff x="6804000" y="2205000"/>
            <a:chExt cx="1870200" cy="3449520"/>
          </a:xfrm>
        </p:grpSpPr>
        <p:sp>
          <p:nvSpPr>
            <p:cNvPr id="120" name="AutoShape 2"/>
            <p:cNvSpPr/>
            <p:nvPr/>
          </p:nvSpPr>
          <p:spPr>
            <a:xfrm>
              <a:off x="6804000" y="2205000"/>
              <a:ext cx="1870200" cy="34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6838920" y="2257560"/>
              <a:ext cx="1704960" cy="335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7365960" y="5524560"/>
              <a:ext cx="370080" cy="7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6865920" y="5432400"/>
              <a:ext cx="363600" cy="15876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Freeform 7"/>
            <p:cNvSpPr/>
            <p:nvPr/>
          </p:nvSpPr>
          <p:spPr>
            <a:xfrm>
              <a:off x="7848720" y="4471920"/>
              <a:ext cx="785520" cy="110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8272440" y="4908600"/>
              <a:ext cx="320760" cy="64908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8354880" y="5500800"/>
              <a:ext cx="2232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7345440" y="5062680"/>
              <a:ext cx="423720" cy="479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8199360" y="5132520"/>
              <a:ext cx="119160" cy="4064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6885000" y="5086440"/>
              <a:ext cx="560520" cy="447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7504200" y="5265720"/>
              <a:ext cx="108000" cy="60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7132680" y="5230800"/>
              <a:ext cx="103320" cy="6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7486560" y="5151600"/>
              <a:ext cx="1652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7508880" y="5164200"/>
              <a:ext cx="119160" cy="572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8124840" y="4932360"/>
              <a:ext cx="176040" cy="27288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7130880" y="5140440"/>
              <a:ext cx="106560" cy="50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7058160" y="4444920"/>
              <a:ext cx="745920" cy="66204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8559720" y="4761000"/>
              <a:ext cx="60480" cy="21564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862760" y="4756320"/>
              <a:ext cx="433440" cy="19044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881840" y="4795920"/>
              <a:ext cx="73080" cy="22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7988400" y="4610160"/>
              <a:ext cx="156960" cy="19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020080" y="4735440"/>
              <a:ext cx="6012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921800" y="4487760"/>
              <a:ext cx="420480" cy="26856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6983280" y="4324320"/>
              <a:ext cx="106560" cy="21600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015320" y="3441600"/>
              <a:ext cx="826920" cy="103824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>
              <a:off x="7556400" y="4094280"/>
              <a:ext cx="274680" cy="2617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Freeform 29"/>
            <p:cNvSpPr/>
            <p:nvPr/>
          </p:nvSpPr>
          <p:spPr>
            <a:xfrm>
              <a:off x="7826400" y="3660840"/>
              <a:ext cx="262080" cy="67608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Freeform 30"/>
            <p:cNvSpPr/>
            <p:nvPr/>
          </p:nvSpPr>
          <p:spPr>
            <a:xfrm>
              <a:off x="6986520" y="4114800"/>
              <a:ext cx="50760" cy="18576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Freeform 31"/>
            <p:cNvSpPr/>
            <p:nvPr/>
          </p:nvSpPr>
          <p:spPr>
            <a:xfrm>
              <a:off x="7605720" y="2671920"/>
              <a:ext cx="795240" cy="154908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Freeform 32"/>
            <p:cNvSpPr/>
            <p:nvPr/>
          </p:nvSpPr>
          <p:spPr>
            <a:xfrm>
              <a:off x="6991200" y="3867120"/>
              <a:ext cx="211320" cy="22536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346880" y="3776760"/>
              <a:ext cx="260280" cy="30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Freeform 34"/>
            <p:cNvSpPr/>
            <p:nvPr/>
          </p:nvSpPr>
          <p:spPr>
            <a:xfrm>
              <a:off x="7431120" y="3876840"/>
              <a:ext cx="142920" cy="18864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Freeform 35"/>
            <p:cNvSpPr/>
            <p:nvPr/>
          </p:nvSpPr>
          <p:spPr>
            <a:xfrm>
              <a:off x="7367760" y="3836880"/>
              <a:ext cx="63360" cy="21744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Freeform 36"/>
            <p:cNvSpPr/>
            <p:nvPr/>
          </p:nvSpPr>
          <p:spPr>
            <a:xfrm>
              <a:off x="6993000" y="3751200"/>
              <a:ext cx="210960" cy="14292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Freeform 37"/>
            <p:cNvSpPr/>
            <p:nvPr/>
          </p:nvSpPr>
          <p:spPr>
            <a:xfrm>
              <a:off x="7396200" y="3786120"/>
              <a:ext cx="195120" cy="10152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Freeform 38"/>
            <p:cNvSpPr/>
            <p:nvPr/>
          </p:nvSpPr>
          <p:spPr>
            <a:xfrm>
              <a:off x="7870680" y="3552840"/>
              <a:ext cx="109800" cy="2318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Freeform 39"/>
            <p:cNvSpPr/>
            <p:nvPr/>
          </p:nvSpPr>
          <p:spPr>
            <a:xfrm>
              <a:off x="7837560" y="3476520"/>
              <a:ext cx="145800" cy="29052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Freeform 40"/>
            <p:cNvSpPr/>
            <p:nvPr/>
          </p:nvSpPr>
          <p:spPr>
            <a:xfrm>
              <a:off x="7786800" y="3467160"/>
              <a:ext cx="164880" cy="2840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Freeform 41"/>
            <p:cNvSpPr/>
            <p:nvPr/>
          </p:nvSpPr>
          <p:spPr>
            <a:xfrm>
              <a:off x="7027920" y="3451320"/>
              <a:ext cx="212760" cy="29052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Freeform 42"/>
            <p:cNvSpPr/>
            <p:nvPr/>
          </p:nvSpPr>
          <p:spPr>
            <a:xfrm>
              <a:off x="7402680" y="3511440"/>
              <a:ext cx="274320" cy="12708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Freeform 43"/>
            <p:cNvSpPr/>
            <p:nvPr/>
          </p:nvSpPr>
          <p:spPr>
            <a:xfrm>
              <a:off x="7331040" y="3495600"/>
              <a:ext cx="115920" cy="11124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7709040" y="3478320"/>
              <a:ext cx="153720" cy="10008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Freeform 45"/>
            <p:cNvSpPr/>
            <p:nvPr/>
          </p:nvSpPr>
          <p:spPr>
            <a:xfrm>
              <a:off x="7974000" y="3505320"/>
              <a:ext cx="22320" cy="36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Freeform 46"/>
            <p:cNvSpPr/>
            <p:nvPr/>
          </p:nvSpPr>
          <p:spPr>
            <a:xfrm>
              <a:off x="7093080" y="2797200"/>
              <a:ext cx="890280" cy="7239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Freeform 47"/>
            <p:cNvSpPr/>
            <p:nvPr/>
          </p:nvSpPr>
          <p:spPr>
            <a:xfrm>
              <a:off x="7926480" y="2763720"/>
              <a:ext cx="379440" cy="72396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Freeform 48"/>
            <p:cNvSpPr/>
            <p:nvPr/>
          </p:nvSpPr>
          <p:spPr>
            <a:xfrm>
              <a:off x="7381800" y="3330720"/>
              <a:ext cx="4788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Freeform 49"/>
            <p:cNvSpPr/>
            <p:nvPr/>
          </p:nvSpPr>
          <p:spPr>
            <a:xfrm>
              <a:off x="7888320" y="3114720"/>
              <a:ext cx="4428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Freeform 50"/>
            <p:cNvSpPr/>
            <p:nvPr/>
          </p:nvSpPr>
          <p:spPr>
            <a:xfrm>
              <a:off x="7148520" y="2392200"/>
              <a:ext cx="917640" cy="68580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Freeform 51"/>
            <p:cNvSpPr/>
            <p:nvPr/>
          </p:nvSpPr>
          <p:spPr>
            <a:xfrm>
              <a:off x="7400880" y="2844720"/>
              <a:ext cx="21132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Freeform 52"/>
            <p:cNvSpPr/>
            <p:nvPr/>
          </p:nvSpPr>
          <p:spPr>
            <a:xfrm>
              <a:off x="7540560" y="2982960"/>
              <a:ext cx="6192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Freeform 53"/>
            <p:cNvSpPr/>
            <p:nvPr/>
          </p:nvSpPr>
          <p:spPr>
            <a:xfrm>
              <a:off x="7329600" y="2951280"/>
              <a:ext cx="205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Freeform 54"/>
            <p:cNvSpPr/>
            <p:nvPr/>
          </p:nvSpPr>
          <p:spPr>
            <a:xfrm>
              <a:off x="7237440" y="2798640"/>
              <a:ext cx="138240" cy="17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Freeform 55"/>
            <p:cNvSpPr/>
            <p:nvPr/>
          </p:nvSpPr>
          <p:spPr>
            <a:xfrm>
              <a:off x="7191360" y="2741760"/>
              <a:ext cx="144360" cy="727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Freeform 56"/>
            <p:cNvSpPr/>
            <p:nvPr/>
          </p:nvSpPr>
          <p:spPr>
            <a:xfrm>
              <a:off x="7300800" y="2774880"/>
              <a:ext cx="42840" cy="223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Freeform 57"/>
            <p:cNvSpPr/>
            <p:nvPr/>
          </p:nvSpPr>
          <p:spPr>
            <a:xfrm>
              <a:off x="7367760" y="2752560"/>
              <a:ext cx="131760" cy="44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Freeform 58"/>
            <p:cNvSpPr/>
            <p:nvPr/>
          </p:nvSpPr>
          <p:spPr>
            <a:xfrm>
              <a:off x="8247240" y="2633760"/>
              <a:ext cx="114120" cy="1490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Freeform 59"/>
            <p:cNvSpPr/>
            <p:nvPr/>
          </p:nvSpPr>
          <p:spPr>
            <a:xfrm>
              <a:off x="8307360" y="2313000"/>
              <a:ext cx="219240" cy="3380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Freeform 60"/>
            <p:cNvSpPr/>
            <p:nvPr/>
          </p:nvSpPr>
          <p:spPr>
            <a:xfrm>
              <a:off x="8447040" y="2271600"/>
              <a:ext cx="63720" cy="84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L -0.00087 0.23241 E">
                                      <p:cBhvr>
                                        <p:cTn id="3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3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48148E-006 C -0.00156 -0.00069 -0.00382 -0.00046 -0.00486 -0.00232 C -0.00625 -0.00463 -0.00573 -0.0081 -0.00642 -0.01088 C -0.00746 -0.01458 -0.01163 -0.03148 -0.01302 -0.03449 C -0.01423 -0.03704 -0.01649 -0.03866 -0.01788 -0.04097 C -0.02187 -0.04792 -0.02569 -0.05509 -0.02916 -0.0625 C -0.03316 -0.0713 -0.03281 -0.07639 -0.04045 -0.07963 C -0.05156 -0.09468 -0.04566 -0.0912 -0.05642 -0.09468 C -0.0967 -0.13009 -0.13715 -0.11296 -0.19045 -0.11412 C -0.19861 -0.11204 -0.20243 -0.1088 -0.20972 -0.10532 C -0.21146 -0.09838 -0.21788 -0.08611 -0.21788 -0.08611 C -0.221 -0.07315 -0.225 -0.06528 -0.23073 -0.05394 C -0.23177 -0.05185 -0.23281 -0.04954 -0.23385 -0.04745 C -0.23489 -0.04537 -0.23611 -0.04306 -0.23715 -0.04097 C -0.23819 -0.03889 -0.24045 -0.03449 -0.24045 -0.03449 C -0.24218 -0.02755 -0.24496 -0.02199 -0.24687 -0.01505 C -0.24878 0.02546 -0.25208 0.09583 -0.21458 0.11181 C -0.20937 0.12199 -0.21319 0.11736 -0.20173 0.12245 C -0.18837 0.12824 -0.20104 0.12546 -0.19045 0.12893 C -0.18298 0.13125 -0.17534 0.13356 -0.16788 0.13542 C -0.15069 0.14468 -0.13142 0.14421 -0.11458 0.13333 C -0.10989 0.12708 -0.10642 0.12014 -0.10173 0.11389 C -0.09982 0.1044 -0.09705 0.09537 -0.09514 0.08588 C -0.09566 0.07222 -0.09496 0.05856 -0.09687 0.04514 C -0.09722 0.04259 -0.10034 0.04259 -0.10173 0.04074 C -0.10833 0.03171 -0.10625 0.03194 -0.11614 0.02801 C -0.11944 0.02662 -0.12587 0.02361 -0.12587 0.02361 C -0.16198 0.025 -0.17604 0.00625 -0.18229 0.04074 C -0.18212 0.0419 -0.18055 0.05532 -0.17916 0.0581 C -0.175 0.06643 -0.16493 0.07431 -0.15816 0.07731 C -0.15538 0.07662 -0.15 0.07523 -0.15 0.07523 E">
                                      <p:cBhvr>
                                        <p:cTn id="3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3217 L -4.16667E-006 0.17569 E">
                                      <p:cBhvr>
                                        <p:cTn id="40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38FA-BC6A-4EFE-9BC1-EDDDFC557E8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01000" y="30600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правильная оса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488628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Нарушение осанки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- 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это отклонения в положении позвоночни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Признаки неправильной оса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голова выдвинута за продольную ось тела (опущенная голова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плечи сведены вперед, поднят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 ( или ассиметричное положение плеч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круглая спина, запавшая грудная клетк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живот выпячен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таз отставлен назад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излишне увелич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 поясничный изгиб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.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5"/>
          <a:stretch/>
        </p:blipFill>
        <p:spPr>
          <a:xfrm>
            <a:off x="3492360" y="4149720"/>
            <a:ext cx="1882800" cy="270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16"/>
          <a:stretch/>
        </p:blipFill>
        <p:spPr>
          <a:xfrm>
            <a:off x="7350120" y="1413000"/>
            <a:ext cx="1490760" cy="5157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17"/>
          <a:stretch/>
        </p:blipFill>
        <p:spPr>
          <a:xfrm>
            <a:off x="5508720" y="1484280"/>
            <a:ext cx="1687320" cy="517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F7FC-A79A-4DCA-B8F4-15FB115C057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7" descr="image002"/>
          <p:cNvPicPr/>
          <p:nvPr/>
        </p:nvPicPr>
        <p:blipFill>
          <a:blip r:embed="rId1"/>
          <a:stretch/>
        </p:blipFill>
        <p:spPr>
          <a:xfrm>
            <a:off x="4932360" y="1268280"/>
            <a:ext cx="3816360" cy="502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image001"/>
          <p:cNvPicPr/>
          <p:nvPr/>
        </p:nvPicPr>
        <p:blipFill>
          <a:blip r:embed="rId2"/>
          <a:stretch/>
        </p:blipFill>
        <p:spPr>
          <a:xfrm>
            <a:off x="971640" y="2276640"/>
            <a:ext cx="3349440" cy="43923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42920" y="981000"/>
            <a:ext cx="763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Такие позы способствуют формированию неправильной осанки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214880" y="5500800"/>
            <a:ext cx="4929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рушение осанки может произойти в любом возрас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5019-0745-4F0C-B8F8-EBD31F6D924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0800" y="392040"/>
            <a:ext cx="7806600" cy="81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азновидности нарушения оса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905440" cy="31194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8"/>
          <p:cNvSpPr/>
          <p:nvPr/>
        </p:nvSpPr>
        <p:spPr>
          <a:xfrm>
            <a:off x="1619280" y="5516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сп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3997440" y="544500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ая сп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6300720" y="5373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длообразна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угловогнутая) сп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08CB-0ECB-4C73-BFDD-3B50CDB4959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34080" y="46440"/>
            <a:ext cx="768384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РАВЛЕНИЕ ОСА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26560" y="765000"/>
            <a:ext cx="7705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ы рассмотрели те недостатки, которые наиболее характерны для современного челове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Picture 0" descr="04_01_00"/>
          <p:cNvPicPr/>
          <p:nvPr/>
        </p:nvPicPr>
        <p:blipFill>
          <a:blip r:embed="rId1"/>
          <a:stretch/>
        </p:blipFill>
        <p:spPr>
          <a:xfrm>
            <a:off x="1835280" y="2349360"/>
            <a:ext cx="5927760" cy="431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4:14:39Z</dcterms:created>
  <dc:creator>USER</dc:creator>
  <dc:description/>
  <dc:language>en-US</dc:language>
  <cp:lastModifiedBy>Home</cp:lastModifiedBy>
  <dcterms:modified xsi:type="dcterms:W3CDTF">2010-02-12T04:09:29Z</dcterms:modified>
  <cp:revision>21</cp:revision>
  <dc:subject/>
  <dc:title>ЗНАЧЕНИЕ ПРАВИЛЬНОЙ ОСАНКИ В ЖИЗНЕДЕЯТЕЛЬНОСТИ ЧЕЛОВЕКА</dc:title>
</cp:coreProperties>
</file>