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B5A-332E-4AC5-80DD-9B2EAB2E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333-2D08-4E7D-9C55-C31F6E36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C30-3F46-41CD-9B3C-D07448EC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4F4-C3B0-4E20-876A-E06CC431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B54E-7E12-4AEC-B570-2481B0AA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1BBE-ACE4-4A78-9346-8C5E4CFF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DFE8-B5F7-479E-945E-0CBA58D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C356-6FB0-4D36-ABED-93FF1ADF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A045-ACB7-493C-94A2-B5193D13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E640-B3D1-4740-ACF1-597B1B79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823D-3866-4118-AF19-2A0ED929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475-F612-4B6E-A523-AE1C2EC8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2EB9-2B20-4D6C-8B06-301D742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D38F-1AA6-4E50-B2A1-55A980A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E219-B318-4E68-8FAE-0D301A3B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A3EE-2FEE-45AF-8120-4682C247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C668-BDD6-4921-9587-10253957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3DCD8-F99C-447E-8DB3-57C1ED48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2B06-A2C1-4FB9-BD65-B7D31143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A017-0C83-419E-98FF-C3AEDAE4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47D3-2287-4B54-BCC3-91738BB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54B7-F749-40BB-864B-7A2AA194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D91-D05F-4A25-B9D9-395F0454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FE56-E4E5-4F94-BF79-F4A81DAF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3B96-466A-4960-B584-4392CC7E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9A26-F752-4341-BE48-8954AC7A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7216-A0B2-4CF4-A2F9-8D20626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9FEC-B8EF-4462-89EE-CF4D7F2D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CBA3-010F-4DE8-97C8-522A8866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2DA3-8436-4828-865F-3358165C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B9776-C114-4FBE-A6ED-8025A927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56FD-3958-40F7-8AF4-6AD4D92F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3535-049D-44A0-B7FF-1EF059ED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9A2-76B8-41F8-AC93-257735A8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EEB9-F57E-491D-BC04-6C6EAB1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62F7-F5FB-4FBE-85A3-CBA210DF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AD7E-6917-428D-84F8-A17D5DA9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20F6-7A4E-4172-A479-C0462C09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761EB-3049-434A-900E-645EA265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A131-4AD4-4C6E-B6AC-287E28E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C380-C0B0-4E99-9CD9-52CFDDA3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FF90-3992-4D4E-B345-F51E8FF8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B73E-F080-499D-9877-8D15D0CD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C6203-CEE3-49D0-98FB-620DA1CE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9EE-8DF6-408C-89A6-C43053AA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2285F-EE16-43B9-A7E8-6895BE16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08F54-0FD7-41CC-A3C5-C78D2A00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7C756-479D-4626-A015-9ECD8C65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8F78-8EE0-4F59-A330-CF770C58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F4D52-6696-4B2B-97B3-7DF375D4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10CEF-8CBB-492C-B2B5-490C2A9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64E9-B2D4-4C38-A9FA-9D9D1F71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4363-CCD8-4022-B73B-ABD9982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98479-AEBE-4A17-AD59-FED6D2F3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0E995-D7B0-452F-A116-40E16BA1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A79-0FAF-4D21-949F-F72C156F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EABA-5A9A-4EB1-AD0C-EC4DCF03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5155E-8C50-4751-BFBF-12EEBB68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C7813-371D-45A4-B077-F3234277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5309B-41DA-4C75-BC70-43AEE700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E0D73-B14F-40F1-896C-8F9F2FCE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E4501-CC2B-485E-A86A-4CAB79B7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ED20D-6D7C-45D3-98DC-6F067E7B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754B3-7D45-4CAD-BA7A-1C0970E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A979F-2CBB-451E-9700-B6353F7A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BD578-3918-4720-B6B9-5527BDC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081-4808-41E3-A2FF-C20D4461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0C48-B29A-4331-A278-7A9842DE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84D7-9AD1-420D-8738-59111AF7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81D98-2FE7-4DF7-B529-961CDA76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28866-57EB-4F42-96DB-3C6C9260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AB770-7544-4055-B3D5-EE67F1FA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6808D-878C-4E38-AA83-83D8A9AB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62E55-B6B5-407F-B217-2395ED4D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9D25D-8BC0-4273-87CF-6CB8614D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A81F1-5D73-49E5-A5BF-9315C8C2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CE141-2149-46E7-900C-AC42AF29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F72-EBBD-4A81-9DF2-EADB5FAB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2693-DB89-48B8-81BE-A3BAD6A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D53BA-9801-4566-BB4C-E4809A56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E832-48DB-42A5-BC34-31CD622F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4AC21-F520-4A25-91AB-21D2BDB6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D850-F4A8-415E-B6A2-D78DCE3E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3B7-B29B-47D4-B142-85761A3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0CED-4CDF-4C1C-9448-1EAB3E31625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25E7-EA32-49BC-A943-D3E2A8BA21AE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685D-833F-4F5F-BAA2-6DBFBBF0B3C7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E985-FD3F-4EBA-A210-B511845C22E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BB09-48C8-4917-A5DB-B9704601158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79B9-60E1-45F9-92A1-6D79FC436AF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86BD-C6E9-4D6E-8C49-DAE31215375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294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40880" y="4437000"/>
            <a:ext cx="8021880" cy="93672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оспитатель: Стулова Н.В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146160" rIns="45720" tIns="0" bIns="0" anchor="t">
            <a:normAutofit fontScale="6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3792aa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знакомление детей с формой предметов: шар, куби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ормирование у детей способов обследования предме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бучение сравнению предметов с учетом свойств их формы; группировки предметов по форм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пражнение в правильном назывании форм: «шар», «куби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d9253e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аздаточный материал: шары и кубики, два короба с крышкам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b48200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Занятие проводится в группе;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В роли матрешки выступает сам воспитатель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3" descr="DSC00269.JPG"/>
          <p:cNvPicPr/>
          <p:nvPr/>
        </p:nvPicPr>
        <p:blipFill>
          <a:blip r:embed="rId2"/>
          <a:stretch/>
        </p:blipFill>
        <p:spPr>
          <a:xfrm>
            <a:off x="1487520" y="1774800"/>
            <a:ext cx="6168960" cy="4626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4" descr="DSC00270.JPG"/>
          <p:cNvPicPr/>
          <p:nvPr/>
        </p:nvPicPr>
        <p:blipFill>
          <a:blip r:embed="rId1"/>
          <a:srcRect l="6398" t="0" r="6398" b="0"/>
          <a:stretch/>
        </p:blipFill>
        <p:spPr>
          <a:xfrm>
            <a:off x="2903400" y="1484280"/>
            <a:ext cx="6061320" cy="51847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solidFill>
            <a:srgbClr val="479249"/>
          </a:solidFill>
          <a:ln w="0">
            <a:noFill/>
          </a:ln>
        </p:spPr>
        <p:txBody>
          <a:bodyPr lIns="54720" tIns="9144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накомство детей с  геометрическими предметами (кубик, шар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4" descr="DSC00274.JPG"/>
          <p:cNvPicPr/>
          <p:nvPr/>
        </p:nvPicPr>
        <p:blipFill>
          <a:blip r:embed="rId1"/>
          <a:srcRect l="6398" t="0" r="6398" b="0"/>
          <a:stretch/>
        </p:blipFill>
        <p:spPr>
          <a:xfrm>
            <a:off x="2903400" y="1484280"/>
            <a:ext cx="6061320" cy="51847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54720" tIns="9144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оспитатель предлагает детям самим достать из ведерка предмет (кубик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4" descr="DSC00275.JPG"/>
          <p:cNvPicPr/>
          <p:nvPr/>
        </p:nvPicPr>
        <p:blipFill>
          <a:blip r:embed="rId1"/>
          <a:srcRect l="6398" t="0" r="6398" b="0"/>
          <a:stretch/>
        </p:blipFill>
        <p:spPr>
          <a:xfrm>
            <a:off x="2903400" y="1484280"/>
            <a:ext cx="6061320" cy="51847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спитатель предлагает детям самим достать из ведерка предмет (шар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542880" y="-128520"/>
            <a:ext cx="7631280" cy="17683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DSC00279.JPG"/>
          <p:cNvPicPr/>
          <p:nvPr/>
        </p:nvPicPr>
        <p:blipFill>
          <a:blip r:embed="rId2"/>
          <a:srcRect l="6398" t="0" r="6398" b="0"/>
          <a:stretch/>
        </p:blipFill>
        <p:spPr>
          <a:xfrm>
            <a:off x="2903400" y="1484280"/>
            <a:ext cx="6061320" cy="5184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lIns="54720" tIns="91440"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конце проведенного занятия воспитатель хвалит детей за хорошо выполненное зад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04:48Z</dcterms:created>
  <dc:creator>Сеструхи</dc:creator>
  <dc:description/>
  <dc:language>en-US</dc:language>
  <cp:lastModifiedBy>1</cp:lastModifiedBy>
  <dcterms:modified xsi:type="dcterms:W3CDTF">2012-06-03T18:34:31Z</dcterms:modified>
  <cp:revision>7</cp:revision>
  <dc:subject/>
  <dc:title>Слайд 1</dc:title>
</cp:coreProperties>
</file>