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F1B-99E2-4ECB-AD0A-B7FEEC56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A9C-FD61-462F-8E1B-D936F81B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812-B4C4-4E40-B796-996A77BB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C5C-91A3-4929-A946-72FD4C20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E8B5-DAB9-4D0E-8177-C7AC8A10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B5ED-69FE-4B33-A4A1-7B6D76A6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D4F0-BF76-4606-B705-15E15246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FA2B-2DE3-4359-A65A-D779B72A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5AFD-BA0E-46CF-BD51-A7CFF4BC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21F2-0C62-4000-8834-C3713D6E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B3BD-8676-4A50-83F8-CE73A338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7D47-F081-4E21-8654-5D881E3F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E94A-7882-49DD-8790-BFD98526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79BA-6C32-45BB-9D8E-D9153F83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D184-6500-4761-96AD-E718D0B0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AF58-B0ED-42C7-83C2-733CA978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E134-8D64-46CB-B6DD-127D4E0D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A1F6-8444-4159-BFD2-865B76F7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C135E-BC50-4730-A33E-30F26CA7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797B-8D2D-4CDC-8864-4FF3081D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97530-9A9F-4A9B-B9F3-8B7339DC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214BD-4786-462A-94DE-33833A99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38A-97E4-4B85-AC13-98B9D2DA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31523-256E-454A-8260-6572340E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790F-3DD9-4423-80BC-0F560FA1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5140-5D69-4DB7-B972-7C8F1CC4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92A9-A6B7-4B13-B216-97451A69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09FB4-133B-4972-8D16-D3A87B79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4FC3-83DC-4500-9E43-483B3A59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F24A-E53A-4BB6-B893-CE097C2B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97C08-06FB-4530-94C9-E5767F30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1B273-844D-4DB0-9E00-552DD74B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866F4-5B41-46CE-AC57-BB4B900B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37E-EB72-4340-A658-BAACADF9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7414A-AFF5-4B54-8F98-1BE9F1F2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42116-B4F0-4CCF-9F27-0154BAFC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96C82-EA42-435B-BC5F-FC66CDCD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3074-74E7-40D6-B8B7-6DBE201B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14F5F-DBA3-4E5B-9AF9-844A9E50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3A0C0-3041-429A-8787-B6127A17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4AC0-31E8-46E9-A2A5-EECCABB1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71C5-999B-43AA-A126-8D8243AC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19D5A-7D0F-46C2-85FA-553EA2F3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8FD74-2DC0-4322-ABC1-CB399798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24E-46EC-4481-A9F3-FF991702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80E43-C97C-448F-8D2D-6D262AE3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1B4E1-3B6E-42D5-9EDE-85F48548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7DEEC-C0AD-4A4F-94E8-1257239A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17D74-1B1F-43CC-98E5-FBD66475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EF335-8A59-48A3-A9E5-67DFFF56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C2700-0A91-4A75-BA2B-322018DB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7D74-A1A9-4DA2-B8F5-B94C8B18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1DF67-F88B-4E6A-A555-9FEC049D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BBD52-DA86-47CD-B014-2A63AA2E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A9398-3AB0-47B4-BDF4-E8D61228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B7FA-5FCA-477A-8580-86A6D339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7299B-BF55-4836-831D-1C8D0000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1B34D-28D7-401B-A502-2A6C3157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08B6D-F849-4687-9F30-AAA55617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82435-5158-41E9-8463-5AA98AEF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6B634-D7A9-471D-8587-971F00A8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93CF3-C475-4B58-A636-BA0BA81A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7FD8C-6F29-44DE-A2A6-46AF4AD6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4E631-6D9E-4C43-8C26-F4D1E6AF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9102D-ABDE-42B9-8F15-CF6E4E64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9CF13-3140-4E6C-B7E4-3454D69C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E08-7410-4947-B611-0669E912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35C7B-E92A-4FEE-B745-A85E6ECF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D6AC7-01E5-41CA-A1FA-98BE8D84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B365B-35C3-44A4-A7EE-2615A993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EC482-09DB-40A4-8B59-CD1E4658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C4723-9B5C-46DB-AC8D-82DED6F1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39D2E-838B-44BF-9D0C-0A7D57BF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A91EB-ECB3-4301-B2D2-9017AC0C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6004F-E6E5-4420-BB16-52A5AB57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271F5-E591-4087-9273-C5FE0C3C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37C5B-1637-4E14-B065-77BC2278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F84-A63A-463B-8A16-D65C09A0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B6A38-E022-4D87-8304-79D716E3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1F30C-CC34-4A78-A0AF-2C5D182A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4172D-D380-447F-A181-1018992C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CC1BC-2BB9-4BE6-954C-0A96982D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89E69-CEE7-4BF8-86A2-F663A7F9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50D9-743C-48A2-A928-A1B65591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0765-5EBE-4DED-B9BF-6B87C5194C9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823B-80B6-41B5-8D94-6DC770352F4C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9326-8ADB-49AA-93D3-674210B88E9C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6405-A9DF-4C2B-B50F-F7415FD7D1D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DFD0-4979-4DB0-A549-885B9C0A6C5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A1FB-BE20-48F2-B42E-05B6D4737FD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8BA2-B255-4F3F-9D92-4DEE217FF3D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749160" y="122400"/>
            <a:ext cx="8016840" cy="294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40880" y="4437000"/>
            <a:ext cx="8021880" cy="93672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оспитатель: Стулова Н.В.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lIns="146160" rIns="45720" tIns="0" bIns="0" anchor="t">
            <a:normAutofit fontScale="61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newsflash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3792aa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знакомление детей с формой предметов: шар, кубик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Формирование у детей способов обследования предмет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бучение сравнению предметов с учетом свойств их формы; группировки предметов по форм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пражнение в правильном назывании форм: «шар», «куби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d9253e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Раздаточный материал: шары и кубики, два короба с крышками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solidFill>
            <a:srgbClr val="b48200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Занятие проводится в группе;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В роли матрешки выступает сам воспитатель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3" descr="DSC00269.JPG"/>
          <p:cNvPicPr/>
          <p:nvPr/>
        </p:nvPicPr>
        <p:blipFill>
          <a:blip r:embed="rId2"/>
          <a:stretch/>
        </p:blipFill>
        <p:spPr>
          <a:xfrm>
            <a:off x="1487520" y="1774800"/>
            <a:ext cx="6168960" cy="4626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4" descr="DSC00270.JPG"/>
          <p:cNvPicPr/>
          <p:nvPr/>
        </p:nvPicPr>
        <p:blipFill>
          <a:blip r:embed="rId1"/>
          <a:srcRect l="6398" t="0" r="6398" b="0"/>
          <a:stretch/>
        </p:blipFill>
        <p:spPr>
          <a:xfrm>
            <a:off x="2903400" y="1484280"/>
            <a:ext cx="6061320" cy="51847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solidFill>
            <a:srgbClr val="479249"/>
          </a:solidFill>
          <a:ln w="0">
            <a:noFill/>
          </a:ln>
        </p:spPr>
        <p:txBody>
          <a:bodyPr lIns="54720" tIns="9144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накомство детей с  геометрическими предметами (кубик, шар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4" descr="DSC00274.JPG"/>
          <p:cNvPicPr/>
          <p:nvPr/>
        </p:nvPicPr>
        <p:blipFill>
          <a:blip r:embed="rId1"/>
          <a:srcRect l="6398" t="0" r="6398" b="0"/>
          <a:stretch/>
        </p:blipFill>
        <p:spPr>
          <a:xfrm>
            <a:off x="2903400" y="1484280"/>
            <a:ext cx="6061320" cy="51847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54720" tIns="9144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оспитатель предлагает детям самим достать из ведерка предмет (кубик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4" descr="DSC00275.JPG"/>
          <p:cNvPicPr/>
          <p:nvPr/>
        </p:nvPicPr>
        <p:blipFill>
          <a:blip r:embed="rId1"/>
          <a:srcRect l="6398" t="0" r="6398" b="0"/>
          <a:stretch/>
        </p:blipFill>
        <p:spPr>
          <a:xfrm>
            <a:off x="2903400" y="1484280"/>
            <a:ext cx="6061320" cy="51847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solidFill>
            <a:srgbClr val="60b5cc"/>
          </a:solidFill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оспитатель предлагает детям самим достать из ведерка предмет (шар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542880" y="-128520"/>
            <a:ext cx="7631280" cy="176832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DSC00279.JPG"/>
          <p:cNvPicPr/>
          <p:nvPr/>
        </p:nvPicPr>
        <p:blipFill>
          <a:blip r:embed="rId2"/>
          <a:srcRect l="6398" t="0" r="6398" b="0"/>
          <a:stretch/>
        </p:blipFill>
        <p:spPr>
          <a:xfrm>
            <a:off x="2903400" y="1484280"/>
            <a:ext cx="6061320" cy="5184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164880" y="1728720"/>
            <a:ext cx="2468520" cy="457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lIns="54720" tIns="91440" anchor="t">
            <a:normAutofit fontScale="91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конце проведенного занятия воспитатель хвалит детей за хорошо выполненное зада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amond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7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-70,-117,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5:04:48Z</dcterms:created>
  <dc:creator>Сеструхи</dc:creator>
  <dc:description/>
  <dc:language>en-US</dc:language>
  <cp:lastModifiedBy>1</cp:lastModifiedBy>
  <dcterms:modified xsi:type="dcterms:W3CDTF">2012-06-03T18:34:31Z</dcterms:modified>
  <cp:revision>7</cp:revision>
  <dc:subject/>
  <dc:title>Слайд 1</dc:title>
</cp:coreProperties>
</file>