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2E24-962E-4D8A-8969-BAF261760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D486-5CF5-4CDE-A8AB-C6DE863F9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68C860-97DC-4662-8890-CE4229BF2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296902-2018-4166-A515-189C52E02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CC7E63-04BE-46F7-ABC6-CE10ABA74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4DEECF-8F93-48E0-9AA7-28DF5EE45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DC2C27-F12F-4F66-A005-91D29A716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18B4C2-B9B8-4598-8BA5-86DE4AAA1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5723DC-5DBB-4E6E-BFAB-FA82319CB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DE14B7-61D3-4983-B01D-69F0093A4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E911AE-04A0-4D76-9A65-39B75741C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BA0824-F71D-4F40-ABDD-1385A88B5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96B0-93ED-4727-9521-EAF2A1EE1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648780-43C4-4EC6-9683-E72529110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FB2826-E910-46F2-B79E-273E930AD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C2BCFF-AE41-4F21-8B85-C88743FC1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9F3653-644F-44DC-98B7-3F8AF6F4D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FED773-8370-482B-A6F6-E2A6A720E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D0B1E6-164C-4577-B2CC-01E21F138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86A84F-CD32-4576-978C-3993A5B73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2A677A-CCF8-42FE-9635-38BE480AF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EFC6C2-D2E5-4F41-92C2-C82304E7A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DA4C71-94F3-44FC-B921-A59FE1503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B941-9BFD-494F-BE66-77E849EF8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7C88CF-89C2-4293-9983-EE0D5AA21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DEE137-6F79-4422-B2B3-3943E348F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9D4835-B9A6-4AF0-889A-E21C50BF7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CDDC41-29B5-4852-8E5B-A04AAC996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1B75F0-F79F-4A92-AB96-108599066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C220B8-45C6-41D9-9937-5F1395FBB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58A022-7C04-47DE-B708-C650BCB14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D4357A-CBA6-408D-8CD7-A43A0948A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1A53C0-847D-410C-A42D-2E44CD225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CE2A7B-1D64-47AF-B32F-581761584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102C8-298A-4E79-BB9C-6D80E831D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BD23BF-0E14-49BD-8266-FE6C400B4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54950D-5B3F-4630-B7E8-6E61F18BB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F60974-7AE1-42BB-8B35-81E20A8C9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D2A8C4-0EFF-4ABE-BE5A-8FD789CD1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0B25E4-9095-4E00-A5D8-41F9AFB02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D33232-A268-4A70-9ECC-9A4100C7C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B0CB9F-3B43-4C8E-AB5C-43A4E598D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55919E-4E2B-464E-83B1-003962274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488AAD-9F9B-4BF1-84D1-3D3627BA2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4FB46E-F56E-4D00-A601-7CF4EDE0B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F5A95-4410-45DA-B2C8-A25B39CDA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FF803C-205D-4729-B23E-7ECC90693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53AC02-D448-4B6F-B12C-5B14573B1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7C54AF-4A2F-46AF-99B2-C126BFC31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0C643E-7B89-437C-9CA2-A886B7279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2563BF-10C7-42D7-A62C-3A4F5B9C7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198580-079E-4565-A103-4FA86CC80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E5F4D3-B230-47C8-9560-EC0D64392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AFB2B3-120E-4A68-8803-81EDA0C36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FA57CF-F3A0-4674-84D3-43A815D08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D367D0-05FA-4C4F-95EC-2BD8F61B0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EF266-DAA3-455B-8E23-EEA0ACCCD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D76DF1-6573-4AE3-939C-2201DE939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5DA3FD-039C-4099-BF05-5C68478FE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5E9A82-28D1-4389-AC26-F13F014E6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E3798B-4E91-4D9C-9EC0-43DCA8F28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7B5090-36D4-42F8-9BEA-6B9BBB8E0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F6369F-14A7-4ED8-82A2-8C3A375CE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FE13FE-6584-431F-84FB-142B3AF68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4FE38-C5CE-4DEC-AB1B-6E323BDD2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B44E2-48AA-4910-9430-8FB646F0C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34976-3F37-4603-84D9-5686CAFA5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0379B-BE66-44A4-BA96-F0DCE990D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384B-F99A-4C56-BE3E-0A1601427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ACE63-967A-4E76-AF4B-CF6399997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9F301-A84D-4855-A8F2-5D96077D0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3D828-AE85-427B-8AF8-2924F1FA8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8402B-9505-4FE3-9510-D2361A21A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F4AE8-01DA-4B2C-B0CE-5FA5C3958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E0FED-EDC3-448D-A199-019206D9A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71E10-191F-4EB9-8FDC-D74518F3D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82D54-BCF6-4CFA-8844-A49B467D3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08AEC-9358-41B2-B8B1-71CAA7C49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2FCDE-4F7E-4F76-A5B2-196A0F294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17FA-C0C2-4EF6-B8FE-E44C2D34E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7961B-7E9A-4AD9-B917-3B66DD810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1BCCF-7D0A-4E4E-930D-782847A32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2D21E-14A1-4641-9821-A82417098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7D317-FB09-4948-9B86-E80D6854E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86723-33C6-45A6-9683-E78BED482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4003D-7376-4EF5-ADE5-4D43B4C49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03FD3-B4AC-4AB8-A443-37FBEBD1D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34B03-7BF5-4BAB-B59C-B75E26C37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05268-D377-47FE-B829-A4FDECBBD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043E6-6EFB-4CB1-97FC-7732B4AB0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E104-FAE1-4CDF-ABFA-E7244BB90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F5A8C-2368-4CB5-99B8-2B8D2F629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52509-4BF5-4BA1-AC04-F59013909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9762F-6F00-476B-B475-F54963186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B833B-D7A7-4455-8166-46E65193C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615C9B-986B-42A2-99B8-28D8641D0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0E0A89-DB17-477B-A667-59EA82AD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9A225-5A3C-413A-838E-E977A9E57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514F6-9317-48B6-B514-D987FF596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97F48-7444-406C-8A61-B6FD00336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00619D-42DE-428B-A55D-DFFCB29CF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5BD7-2DE4-48AB-9E66-953809409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E65EC8-D7CD-485C-8F8E-5FF139176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E63CCC-9545-429A-ADC7-969DFF845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305E5F-DD50-4837-A15B-366CECE2C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49C966-5A03-4AF9-A277-2C962D29A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66D3A5-098E-4DC4-85B4-7523E23C7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E4FD57-86E3-447E-BC04-BE17541E3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833EC5-43FD-45F5-9C16-497BFE05C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1FA486-6650-47A1-94E5-061CB8A8A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67E3F8-AC99-428B-8C08-24304A6F9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E75A11-A87C-46A4-8073-DF908DA5F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1E04-4470-4024-A4FF-9B75A100D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94E244-9675-45AD-9E5C-F29464F60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54D88D-012C-4EAD-B41F-9A4AA0CBC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26CC66-FF3F-411B-B6F2-501FA8E8B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E5DC09-2FBC-4AD5-A487-FC466BFE8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D5076C-81AA-4FF5-B00F-3238CBD26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08EF8D-73E2-4EAF-9973-87DA18CEE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C5B930-3383-477A-9ECF-E750945D8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0EA936-5AEA-400A-BF33-6EB8488A1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8B2F2C-3ADB-4097-8642-2F1135858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745D38-666A-4448-9E16-618A26380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2062-3DB5-48DD-8D7B-B329AA5E0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A661E6-D3DD-407C-B42A-D9063E5E2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622619-59DB-493D-8A32-971524CEC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4B62A5-DC85-4D42-A378-06A90B656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EC6806-2A73-47BB-8EE8-6F8C57F19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834619-8311-442D-A8A6-81F84DBB5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052F95-5E0F-43B4-836F-84C74AB5C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D15D4F-34CD-403E-B44C-B42143D1A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E0C25E-62E7-4732-AFBE-B18D847A6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9EF5DE-4FB3-4A3C-A081-5D4B5F7A8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D6651F-5E19-44CF-8B46-538FF9A6D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7991-7A58-4005-9E51-5484D1E4D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A872A8-AB6F-4C40-8948-05B320845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05FC63-C85E-4C30-B5EA-FF4AAC6B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892F39-EAB5-4912-B989-CBF0E52C1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1D81E0-788F-4D2C-B6FF-86B318A6C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9CFDF3-D68E-4AD2-88EA-BB8814DA2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C98821-5683-47BF-A359-F21A19162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1B5EDA-2808-4D4B-BEFA-B1B29729B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2F69CD-10C2-41DE-8D44-6DB0DCB0D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C65E3E-CC09-414E-8D49-52F85D866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7AA565-5ED5-416C-BAA9-ED8A2B3DB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A15C-1C0D-4A95-82CF-6EC74B0D3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FF6E04-606A-4555-B885-DCBA4CE24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9FF0ED-58E9-4A48-91B6-EC80B8306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44C106-5485-4A5C-A1D4-C6F067AC3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C318E1-F41E-4268-86D0-DC0AC4B83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A582CB-DBD8-4944-AB83-E7EF426AF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6BA94F-48C2-46DC-8C13-04E87EB00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E9740F-12C8-40EE-BD6C-09F586570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A02980-8822-45B2-8F10-91E9E1BC2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D6D68F-5532-40C6-A216-F27689BE5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65726E-C601-48C5-85EC-C6E6ED3D1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49.xml"/><Relationship Id="rId35" Type="http://schemas.openxmlformats.org/officeDocument/2006/relationships/slideLayout" Target="../slideLayouts/slideLayout50.xml"/><Relationship Id="rId36" Type="http://schemas.openxmlformats.org/officeDocument/2006/relationships/slideLayout" Target="../slideLayouts/slideLayout51.xml"/><Relationship Id="rId37" Type="http://schemas.openxmlformats.org/officeDocument/2006/relationships/slideLayout" Target="../slideLayouts/slideLayout52.xml"/><Relationship Id="rId38" Type="http://schemas.openxmlformats.org/officeDocument/2006/relationships/slideLayout" Target="../slideLayouts/slideLayout53.xml"/><Relationship Id="rId39" Type="http://schemas.openxmlformats.org/officeDocument/2006/relationships/slideLayout" Target="../slideLayouts/slideLayout54.xml"/><Relationship Id="rId40" Type="http://schemas.openxmlformats.org/officeDocument/2006/relationships/slideLayout" Target="../slideLayouts/slideLayout55.xml"/><Relationship Id="rId41" Type="http://schemas.openxmlformats.org/officeDocument/2006/relationships/slideLayout" Target="../slideLayouts/slideLayout56.xml"/><Relationship Id="rId42" Type="http://schemas.openxmlformats.org/officeDocument/2006/relationships/slideLayout" Target="../slideLayouts/slideLayout57.xml"/><Relationship Id="rId43" Type="http://schemas.openxmlformats.org/officeDocument/2006/relationships/slideLayout" Target="../slideLayouts/slideLayout58.xml"/><Relationship Id="rId44" Type="http://schemas.openxmlformats.org/officeDocument/2006/relationships/slideLayout" Target="../slideLayouts/slideLayout59.xml"/><Relationship Id="rId4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61.xml"/><Relationship Id="rId32" Type="http://schemas.openxmlformats.org/officeDocument/2006/relationships/slideLayout" Target="../slideLayouts/slideLayout62.xml"/><Relationship Id="rId33" Type="http://schemas.openxmlformats.org/officeDocument/2006/relationships/slideLayout" Target="../slideLayouts/slideLayout63.xml"/><Relationship Id="rId34" Type="http://schemas.openxmlformats.org/officeDocument/2006/relationships/slideLayout" Target="../slideLayouts/slideLayout64.xml"/><Relationship Id="rId35" Type="http://schemas.openxmlformats.org/officeDocument/2006/relationships/slideLayout" Target="../slideLayouts/slideLayout65.xml"/><Relationship Id="rId36" Type="http://schemas.openxmlformats.org/officeDocument/2006/relationships/slideLayout" Target="../slideLayouts/slideLayout66.xml"/><Relationship Id="rId37" Type="http://schemas.openxmlformats.org/officeDocument/2006/relationships/slideLayout" Target="../slideLayouts/slideLayout67.xml"/><Relationship Id="rId38" Type="http://schemas.openxmlformats.org/officeDocument/2006/relationships/slideLayout" Target="../slideLayouts/slideLayout68.xml"/><Relationship Id="rId39" Type="http://schemas.openxmlformats.org/officeDocument/2006/relationships/slideLayout" Target="../slideLayouts/slideLayout69.xml"/><Relationship Id="rId40" Type="http://schemas.openxmlformats.org/officeDocument/2006/relationships/slideLayout" Target="../slideLayouts/slideLayout70.xml"/><Relationship Id="rId41" Type="http://schemas.openxmlformats.org/officeDocument/2006/relationships/slideLayout" Target="../slideLayouts/slideLayout71.xml"/><Relationship Id="rId42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7C828-F60C-4332-94AF-ED68388E86C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7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568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69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570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581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82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600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601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618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619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grpSp>
            <p:nvGrpSpPr>
              <p:cNvPr id="626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27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56A19-D2D5-4558-8781-B234ABCEC1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51427-4EA8-4720-B543-A7923C6C0D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 type="dt" idx="3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 type="ftr" idx="3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 type="sldNum" idx="3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ECC56-4698-4F2A-B150-981A53098F3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720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721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730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731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732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5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grpSp>
            <p:nvGrpSpPr>
              <p:cNvPr id="738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739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47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48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750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751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752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grpSp>
            <p:nvGrpSpPr>
              <p:cNvPr id="753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754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62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90442-82D7-4E9B-9B09-59D69FD5565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4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05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808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809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814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815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818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819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824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B335B-642B-4050-AEAC-B126A30EF0C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95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6D02D-F83F-4AD6-9BB8-AA6812CC9E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140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11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A9F05-8997-46D1-8A80-687DCD4F6C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85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89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90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91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92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94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00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1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2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3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4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5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6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7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08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09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0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1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2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3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4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5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6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7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8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9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0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1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2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3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4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5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6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7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28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3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4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5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62974-E19C-4370-A72C-DE51C18B41F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4"/>
    <p:sldLayoutId id="2147483702" r:id="rId35"/>
    <p:sldLayoutId id="2147483703" r:id="rId36"/>
    <p:sldLayoutId id="2147483704" r:id="rId37"/>
    <p:sldLayoutId id="2147483705" r:id="rId38"/>
    <p:sldLayoutId id="2147483706" r:id="rId39"/>
    <p:sldLayoutId id="2147483707" r:id="rId40"/>
    <p:sldLayoutId id="2147483708" r:id="rId41"/>
    <p:sldLayoutId id="2147483709" r:id="rId42"/>
    <p:sldLayoutId id="2147483710" r:id="rId43"/>
    <p:sldLayoutId id="2147483711" r:id="rId44"/>
    <p:sldLayoutId id="2147483712" r:id="rId4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28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8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28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28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28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28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9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9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0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30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32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dt" idx="16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ftr" idx="17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8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756A7-80E1-48C0-B6FD-C2FAA4F062E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1"/>
    <p:sldLayoutId id="2147483715" r:id="rId32"/>
    <p:sldLayoutId id="2147483716" r:id="rId33"/>
    <p:sldLayoutId id="2147483717" r:id="rId34"/>
    <p:sldLayoutId id="2147483718" r:id="rId35"/>
    <p:sldLayoutId id="2147483719" r:id="rId36"/>
    <p:sldLayoutId id="2147483720" r:id="rId37"/>
    <p:sldLayoutId id="2147483721" r:id="rId38"/>
    <p:sldLayoutId id="2147483722" r:id="rId39"/>
    <p:sldLayoutId id="2147483723" r:id="rId40"/>
    <p:sldLayoutId id="2147483724" r:id="rId41"/>
    <p:sldLayoutId id="2147483725" r:id="rId42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377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pic>
          <p:nvPicPr>
            <p:cNvPr id="378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19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21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CA485-8AAE-499A-A817-5387ACDE11B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dt" idx="22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sldNum" idx="2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25503-F83C-47E0-8281-C246E0F54C7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63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64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65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477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95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496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513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14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grpSp>
            <p:nvGrpSpPr>
              <p:cNvPr id="521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522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EF6E6-8AB2-4F97-9FEA-A3035AE18E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Презентация проекта</a:t>
            </a:r>
            <a:br>
              <a:rPr sz="4000"/>
            </a:b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«Незабудки для Анютки»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258560" y="3860280"/>
            <a:ext cx="6108840" cy="17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Автор-разработчик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Асташова Елена Анатольевна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Воспитатель высшей категории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МДОУ «Детский сад комбинированного вида № 230»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Администрации Ленинского района г. Саратова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Этапы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7" name=""/>
          <p:cNvGraphicFramePr/>
          <p:nvPr/>
        </p:nvGraphicFramePr>
        <p:xfrm>
          <a:off x="457200" y="1600200"/>
          <a:ext cx="8578800" cy="4525920"/>
        </p:xfrm>
        <a:graphic>
          <a:graphicData uri="http://schemas.openxmlformats.org/drawingml/2006/table">
            <a:tbl>
              <a:tblPr/>
              <a:tblGrid>
                <a:gridCol w="1954080"/>
                <a:gridCol w="2160720"/>
                <a:gridCol w="1152360"/>
                <a:gridCol w="1079640"/>
                <a:gridCol w="223200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исование и изготовление поделок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ть отражать в рисунках сюжеты или эпизоды из сказок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ечение год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и2 половина дн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та в кружке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Солнышко в ладошках»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готовление журнала «Незабудки для Анютки»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влечение родителей к работе над проектом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женедельн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половина дн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та с детьми и родителями над журналом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Вечер сказок»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подведение итогов работы)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азать результаты проекта через театрализованную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ятельность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й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половина дн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крытый показ театрализованного занятия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Образовательная область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знакомление с окружающим и развитие речи детей старшего дошкольного возраста с использованием сказкотерап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6" name="" descr=""/>
          <p:cNvPicPr/>
          <p:nvPr/>
        </p:nvPicPr>
        <p:blipFill>
          <a:blip r:embed="rId1"/>
          <a:stretch/>
        </p:blipFill>
        <p:spPr>
          <a:xfrm>
            <a:off x="2124000" y="3860640"/>
            <a:ext cx="3670200" cy="236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Цель проекта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азвивать у детей навыки связной речи,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бучать творческому рассказыванию. Развивать устойчивый интерес к сказкам и окружающему миру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иобщить родителей к работе по реализации данного проект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Задачи проекта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чить составлять небольшие рассказы и сказки по теме,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едложенной воспитателем, по плану и образцу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азвивать и совершенствовать диалогическую и монологическую формы речи, конструктивные и творческие способности детей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оспитывать доброжелательность, умение правильно оценивать действия и поступки герое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Возраст участников проекта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 лет-дети подготовительной групп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3" name="" descr=""/>
          <p:cNvPicPr/>
          <p:nvPr/>
        </p:nvPicPr>
        <p:blipFill>
          <a:blip r:embed="rId1"/>
          <a:stretch/>
        </p:blipFill>
        <p:spPr>
          <a:xfrm>
            <a:off x="1476360" y="2492280"/>
            <a:ext cx="5559480" cy="355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Продолжительность проекта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 сентября по май- учебный г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6" name="" descr=""/>
          <p:cNvPicPr/>
          <p:nvPr/>
        </p:nvPicPr>
        <p:blipFill>
          <a:blip r:embed="rId1"/>
          <a:stretch/>
        </p:blipFill>
        <p:spPr>
          <a:xfrm>
            <a:off x="2843280" y="3068640"/>
            <a:ext cx="5408640" cy="354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Основные формы реализации проекта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878" name=""/>
          <p:cNvGrpSpPr/>
          <p:nvPr/>
        </p:nvGrpSpPr>
        <p:grpSpPr>
          <a:xfrm>
            <a:off x="2002680" y="1494000"/>
            <a:ext cx="5284800" cy="5225040"/>
            <a:chOff x="2002680" y="1494000"/>
            <a:chExt cx="5284800" cy="5225040"/>
          </a:xfrm>
        </p:grpSpPr>
        <p:sp>
          <p:nvSpPr>
            <p:cNvPr id="879" name="_s8227"/>
            <p:cNvSpPr/>
            <p:nvPr/>
          </p:nvSpPr>
          <p:spPr>
            <a:xfrm flipH="1" flipV="1">
              <a:off x="3366360" y="3450240"/>
              <a:ext cx="642600" cy="331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0" name="_s8226"/>
            <p:cNvSpPr/>
            <p:nvPr/>
          </p:nvSpPr>
          <p:spPr>
            <a:xfrm>
              <a:off x="2002680" y="2476080"/>
              <a:ext cx="1467360" cy="1304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6600cc"/>
                  </a:solidFill>
                  <a:latin typeface="Arial"/>
                </a:rPr>
                <a:t>Театрализованная</a:t>
              </a:r>
              <a:endParaRPr b="0" lang="en-US" sz="13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6600cc"/>
                  </a:solidFill>
                  <a:latin typeface="Arial"/>
                </a:rPr>
                <a:t>деятельность</a:t>
              </a:r>
              <a:endParaRPr b="0" lang="en-US" sz="13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1" name="_s8225"/>
            <p:cNvSpPr/>
            <p:nvPr/>
          </p:nvSpPr>
          <p:spPr>
            <a:xfrm flipH="1">
              <a:off x="3366720" y="4431960"/>
              <a:ext cx="644400" cy="3286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2" name="_s8224"/>
            <p:cNvSpPr/>
            <p:nvPr/>
          </p:nvSpPr>
          <p:spPr>
            <a:xfrm>
              <a:off x="2002680" y="4434480"/>
              <a:ext cx="1467360" cy="13046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3366"/>
                  </a:solidFill>
                  <a:latin typeface="Arial"/>
                </a:rPr>
                <a:t>Занятия и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3366"/>
                  </a:solidFill>
                  <a:latin typeface="Arial"/>
                </a:rPr>
                <a:t>игровая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3366"/>
                  </a:solidFill>
                  <a:latin typeface="Arial"/>
                </a:rPr>
                <a:t>деятельность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3" name="_s8223"/>
            <p:cNvSpPr/>
            <p:nvPr/>
          </p:nvSpPr>
          <p:spPr>
            <a:xfrm>
              <a:off x="4643280" y="4754880"/>
              <a:ext cx="1800" cy="660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4" name="_s8222"/>
            <p:cNvSpPr/>
            <p:nvPr/>
          </p:nvSpPr>
          <p:spPr>
            <a:xfrm>
              <a:off x="3910320" y="5414400"/>
              <a:ext cx="1467360" cy="13046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600cc"/>
                  </a:solidFill>
                  <a:latin typeface="Arial"/>
                </a:rPr>
                <a:t>Развлечения 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5" name="_s8221"/>
            <p:cNvSpPr/>
            <p:nvPr/>
          </p:nvSpPr>
          <p:spPr>
            <a:xfrm>
              <a:off x="5276880" y="4430160"/>
              <a:ext cx="641880" cy="3304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6" name="_s8220"/>
            <p:cNvSpPr/>
            <p:nvPr/>
          </p:nvSpPr>
          <p:spPr>
            <a:xfrm>
              <a:off x="5820120" y="4434480"/>
              <a:ext cx="1467360" cy="1304640"/>
            </a:xfrm>
            <a:prstGeom prst="ellipse">
              <a:avLst/>
            </a:prstGeom>
            <a:solidFill>
              <a:srgbClr val="6600cc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3366"/>
                  </a:solidFill>
                  <a:latin typeface="Arial"/>
                </a:rPr>
                <a:t>Кружковая 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3366"/>
                  </a:solidFill>
                  <a:latin typeface="Arial"/>
                </a:rPr>
                <a:t>работа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7" name="_s8219"/>
            <p:cNvSpPr/>
            <p:nvPr/>
          </p:nvSpPr>
          <p:spPr>
            <a:xfrm flipV="1">
              <a:off x="5276880" y="3451680"/>
              <a:ext cx="641880" cy="3286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8" name="_s8218"/>
            <p:cNvSpPr/>
            <p:nvPr/>
          </p:nvSpPr>
          <p:spPr>
            <a:xfrm>
              <a:off x="5820120" y="2473920"/>
              <a:ext cx="1467360" cy="13050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ffff"/>
                  </a:solidFill>
                  <a:latin typeface="Arial"/>
                </a:rPr>
                <a:t>Работа с 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ffff"/>
                  </a:solidFill>
                  <a:latin typeface="Arial"/>
                </a:rPr>
                <a:t>родителями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9" name="_s8217"/>
            <p:cNvSpPr/>
            <p:nvPr/>
          </p:nvSpPr>
          <p:spPr>
            <a:xfrm flipV="1">
              <a:off x="4643280" y="2796480"/>
              <a:ext cx="0" cy="659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0" name="_s8216"/>
            <p:cNvSpPr/>
            <p:nvPr/>
          </p:nvSpPr>
          <p:spPr>
            <a:xfrm>
              <a:off x="3910320" y="1494000"/>
              <a:ext cx="1467360" cy="1304640"/>
            </a:xfrm>
            <a:prstGeom prst="ellipse">
              <a:avLst/>
            </a:prstGeom>
            <a:solidFill>
              <a:srgbClr val="99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6600cc"/>
                  </a:solidFill>
                  <a:latin typeface="Arial"/>
                </a:rPr>
                <a:t>Оснащение 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6600cc"/>
                  </a:solidFill>
                  <a:latin typeface="Arial"/>
                </a:rPr>
                <a:t>развивающей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6600cc"/>
                  </a:solidFill>
                  <a:latin typeface="Arial"/>
                </a:rPr>
                <a:t>среды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1" name="_s8215"/>
            <p:cNvSpPr/>
            <p:nvPr/>
          </p:nvSpPr>
          <p:spPr>
            <a:xfrm>
              <a:off x="3910320" y="3456000"/>
              <a:ext cx="1467360" cy="130464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Формы работы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Этапы работы над проектом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«Незабудки для Анютк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3" name=""/>
          <p:cNvGraphicFramePr/>
          <p:nvPr/>
        </p:nvGraphicFramePr>
        <p:xfrm>
          <a:off x="539640" y="1628640"/>
          <a:ext cx="8496360" cy="4622760"/>
        </p:xfrm>
        <a:graphic>
          <a:graphicData uri="http://schemas.openxmlformats.org/drawingml/2006/table">
            <a:tbl>
              <a:tblPr/>
              <a:tblGrid>
                <a:gridCol w="2303640"/>
                <a:gridCol w="2089080"/>
                <a:gridCol w="1079640"/>
                <a:gridCol w="1028520"/>
                <a:gridCol w="1995480"/>
              </a:tblGrid>
              <a:tr h="15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сказывание сказок от 1 и 3 лица,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думывание продолжения сказок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ировать умения составлять сказки и продолжение сказок по плану и образцу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ечение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и 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овина дн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нятия и вне занятий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в игровой деятельности)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чинение сказок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ить сочинять сказки по теме предложенной воспитателем об Анютке и ее друзьях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ечение год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и 2 половина дн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нятия и вне занятий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в игровой деятельности)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клотерапия 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пальчиковые,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чаточные)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витие мелкой моторики,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ворчества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ечение год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половина дн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е занятий-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игровой деятельности и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дивидуальнойработе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Этапы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5" name=""/>
          <p:cNvGraphicFramePr/>
          <p:nvPr/>
        </p:nvGraphicFramePr>
        <p:xfrm>
          <a:off x="108000" y="1628640"/>
          <a:ext cx="9036000" cy="4622760"/>
        </p:xfrm>
        <a:graphic>
          <a:graphicData uri="http://schemas.openxmlformats.org/drawingml/2006/table">
            <a:tbl>
              <a:tblPr/>
              <a:tblGrid>
                <a:gridCol w="2663640"/>
                <a:gridCol w="2266920"/>
                <a:gridCol w="973440"/>
                <a:gridCol w="1296720"/>
                <a:gridCol w="1835280"/>
              </a:tblGrid>
              <a:tr h="15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делирование сказок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по схемам и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сказочным кубикам»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витие мышления и памяти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ечение год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и 2 половина дн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нятия и игровая деятельность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ановка и разыгрывание сказок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ть при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сценировании сказок пользоваться прямой и косвенной речью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ечение год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половина дн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чера развлечений, игры-инсценировки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идж-терапия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мгновенное преображение с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мощью костюмов)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витие творческой деятельности, психологической раскрепощенности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ечение год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половина дн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гровая деятельность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8T14:24:43Z</dcterms:created>
  <dc:creator>north1</dc:creator>
  <dc:description/>
  <dc:language>en-US</dc:language>
  <cp:lastModifiedBy>Customer</cp:lastModifiedBy>
  <dcterms:modified xsi:type="dcterms:W3CDTF">2002-01-01T02:41:21Z</dcterms:modified>
  <cp:revision>5</cp:revision>
  <dc:subject/>
  <dc:title>Презентация проекта «Незабудки для Анютки»</dc:title>
</cp:coreProperties>
</file>