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859-49CA-4369-ABFF-0A5BDF12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E27-C06B-41DD-8847-E5C1AEC2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1F2E1-0EEC-4E48-BED7-F04C9D00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30D54-CB06-442B-AB40-F24CEB8E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B9569-A12A-4674-B829-622BD474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57F4F-22EB-4BFC-97DE-4056B7B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F6539-B8A0-4FCC-94F2-59B2CB3B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48BCE-C9ED-478C-AACE-F005C36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40B1D-1B8E-4DD4-B9F1-492DEF3C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6027-5CE1-4504-AAA9-988B942C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EEA75-AF7D-4BAE-800D-7F595E4D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71C4-4F4C-4B4C-8EC1-E7128CB8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7B1-E562-4724-878F-4F5DC562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50554-12BF-4AAE-B959-3772B67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6FB38-C802-4785-8CB1-D91D2E8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A0983-B498-42D4-B141-62FECCB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FDB56-DCA9-4067-ABD6-ECEBE9C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BD7C-3526-4AE9-92E6-3F6E421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D2EED-2661-4C17-9441-FE8189AA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C5258-205B-4EC0-80C2-F686747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1C23C-05AC-4E2B-914E-25A74D57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9252-C609-47EA-9458-67B030A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6C7E7-F154-4F20-868A-65CBBDBE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FA3-B62B-49FB-8452-2DE00F42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AEFA4-5C70-42F1-B596-C0170C32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AC804-72DB-44BA-98DF-C4FB0681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51BEB-3076-4ABE-A541-5735A4AC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4C293-27E2-4827-9E6A-10DB4DCF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4002B-BF59-4C8C-896B-8E37AB21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5FA27-C77A-4852-A438-60E974DE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6297D-B103-493F-9BAE-6781B9AF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86C2-29B9-4005-B9BC-0A694FAA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E7DE5-4AA4-4CC3-B30E-3B2BEC2D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A41BE-2A46-45AB-98B4-1AFBCC44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76CF-2A87-44B7-867D-C320454A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91AA1-3D12-4C52-80BE-201A58F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22A7-6ADC-4E40-9A17-C696C31F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56CF6-EF66-4DFF-8DBA-5B6AD639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B9E1B-BBF7-47AF-8891-17743FCC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AEA64-0A0A-4874-BBA3-257C1C83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008AC-78CC-47B8-9D85-D689EEB6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193E-CE4D-4084-A2D4-22DEC5D7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48A4C-55D3-4D70-AC44-B6EB8DDF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FAD47-98F9-405F-BD61-D57D344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A3537-D4B4-48A7-BFDA-E646848A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D3BC-5AEC-4F40-AB22-2A978D00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CCCB4-3096-43E9-A56B-A1D1F44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00026-3160-4D14-A3EA-4494D77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B9069-0BED-46DF-AEE1-440F14B0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F8F3A-C4E5-4C2D-88D5-76D36221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558C6-914F-4076-A7B2-44C3A6DD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09A53-34C7-4B90-83C8-872A7B16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5C2220-F6F1-4B70-97C7-6DF605D0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274DD-12E7-4299-9E9C-4EA2E14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1C225-089E-4CDD-B2C4-1382F43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CE613-4DCD-4E1A-BFB5-DE732BE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979E-6553-4EB5-8380-64FA0D8F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86A42-0656-4968-A27A-570A2DB2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022BC-BD9D-442A-8347-7E93AC2B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6BD22-2CDC-4884-B7F5-F406524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E4005-81D7-40FA-8605-7F483485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D0BE8-63BA-4584-91F6-1FB2A3D3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2E41D-F140-4F4F-85E6-CFEADB8B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F8B9-3CE1-462D-933A-CB033FD9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432-CABA-406B-B7CF-2299361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8FCA-8CA0-491F-91BE-A3002562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938D-EC7C-423D-88F5-66768585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F314-B5B4-4530-9236-FF38E04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1D7-12FC-465F-A635-A11EE87D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DA20-071F-484E-8148-3DE776CB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6E1-0C67-4DA4-8A34-1886B29B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F7E-7899-4F5C-8C7F-952BA2EA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3F2-2CB9-40AB-BC9B-61D752D9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1389-3BF3-4E3E-82CF-A673047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7EE9-1E88-4DB3-9150-DAB87215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29BF-3694-434A-B385-5E69D623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034F2-72C7-4CB8-9742-95A3A0B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2F06-00FF-48E1-B20A-6D82B4F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2CB5-6947-4341-BCDE-423C75D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4B6-917D-4C43-AAA4-5B8CEE3F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ED63-DEB1-40DA-9D00-E279886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E0719-FCC9-458B-80AA-0A1B3A01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F9AC-2B6B-4CE1-96A2-501699A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D284A-F0D8-4F96-B6FC-0ABE42F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6D6F-DC97-42AC-9572-208FC22B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374F-3C6E-40A4-B09D-1B06F1CB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7FCF3-DF57-48A2-86D5-D9FC3E64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8E0C-0C6E-4068-BD01-B3DB3510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01989-5BF8-4DD7-96EE-90B1B391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C584C-D9CB-49EB-937A-639202A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A43-9BB5-44DD-BC6C-A74A3F18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3C84-8319-4F76-8761-62778C99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4593-B3B9-476D-9BC6-A26B0C2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0C42-25D5-4003-BE2C-760A192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F11F-AE30-429A-ADB4-94BB3D4F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15018-213F-480E-85C2-6F07087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D14D-8706-4421-8731-D84410DA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B31A-4FEF-4B84-BF8F-1CEA6B31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D1896-4A6C-4C86-8364-10A2CCB0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2F48F-BC39-4582-BB75-998CBC7A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8934-A7A8-46A0-8C3F-BD5DFC6C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CDD-3294-439E-9F04-5838A01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7DADB-C324-4FD1-9F10-DECF7C44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9CB82-2EDE-426F-B1F7-ABC179E9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B7EB-039A-43FF-A78E-14CC0C18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F401-F582-42C7-87E6-3AAF9016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12AF-5844-41DD-B94D-A03910F6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3CDA1-16CA-4954-A709-1EDC51E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4495-ED4C-473C-B2AA-BC0E8D7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AA92-6F43-4EAB-8319-CAE8339B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E333C-B5CD-4CE2-98C1-1675E06B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34C8F-1568-4526-8D43-7DFED3DC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296-BD05-45BD-A391-CDAD1A7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577E-BBCE-4822-A53B-8A94CA43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FF87-B48F-4D90-9B0F-CF32002C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7CF7B-4953-41D9-9B37-A6CD63A1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D6A94-F43E-4538-BE23-E31EB732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849A6-7B79-462C-8443-4CDACDAB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02CC8-0EC7-41DF-9FDF-87156581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9AF4-CDD4-43D5-8C7E-B9D637BE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FCC1-CD81-4E83-8EF3-63C1338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F57B1-A677-4E3D-9F4E-5F9789F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1B8D2-4539-4092-86FD-81D0D93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9E3-4BCF-4A3F-BE54-FDFFF19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54524-8A22-4F8C-90ED-DE744E1C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D8500-3553-474B-B560-E7F54FCA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B7B69-88E4-4A33-8B01-9FB0DE1A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280C-6250-439E-B198-F70A5CCE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7DAD-2DFB-4587-8FB6-3C4F69C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6016-F275-4081-ACAA-5B041EC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DB303-F6C0-49BF-9B31-03BF9BEC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23CD-810F-4E91-A53D-48EE7599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BF6D-6FA9-4FFF-B2AD-2BA25F6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53D5-C571-4EB7-B2F5-60C015BC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183-61C6-4F56-88C1-DAD8B9F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FFE5-0BF6-4B23-85B3-36972D5C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7FC02-DFBC-4FCB-868E-DF49BEF8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BE6BE-4060-4A73-BBB2-1E2EF0B1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2C444-530F-477F-9F85-10B307A5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D334-6A2C-4F5A-BB74-2C72F960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A8FF3-2E4C-4B10-94AE-CB8AA91D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4720-D86D-4EA7-84C0-483D554D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7BFB2-0DAA-4842-8FCB-E82A336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671B2-B3E5-4B37-8BF7-78B91564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2842-BA49-4D21-B55E-2E691370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34A-BDD2-445B-B42A-F249017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EE455-040D-4687-A8EE-DCE3566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0509C-17B7-4CF3-805A-BFCFFB33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9B60-E904-4803-879E-A5AA7E9B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E109-7340-457B-8BA4-C0299783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00D9-3147-489B-BF90-6046DEF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67E98-B266-4BEF-9E78-7FD1D187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6DED9-F1C0-4C31-87DA-11F514E0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46B5B-A32D-47F1-AC66-AD52CCD2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FFA6C-4743-4620-80C8-CEF2A02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2D30-31D9-4FD8-85F6-680A6A3B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C4DB-C2B2-471E-AF37-A766018217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6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7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0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1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7133-DD57-41C8-86E2-58E6330D1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D8E8-CCBE-4BF4-A9A8-300CC8B16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093-179E-44B7-9B47-10835C2303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2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4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5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5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75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5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28A-9E8B-424D-9EA8-64CF550954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0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0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81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81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B3AF-20BE-4726-8368-9170EC31A4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5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237-408C-4B35-8D63-4BC4C3839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40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1FFD-CEA6-4756-BC0B-202E76968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85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8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9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8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7DB-10B5-48B0-BA4A-874A6563CF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AD11-3F9C-4912-9C64-EDE6AF519A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77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709-B9A8-407F-B562-A2F1605399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dt" idx="2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43D7-301C-4373-A025-E79F8CDCE2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6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7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9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1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767B-13E3-453A-A956-A4ECC159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проекта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«Незабудки для Анютки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258560" y="3860280"/>
            <a:ext cx="61088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втор-разработчик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сташова Елена Анатолье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оспита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МДОУ «Детский сад комбинированного вида № 230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Администрации Ленинского района г. Сарато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7" name=""/>
          <p:cNvGraphicFramePr/>
          <p:nvPr/>
        </p:nvGraphicFramePr>
        <p:xfrm>
          <a:off x="457200" y="1600200"/>
          <a:ext cx="8578800" cy="4525920"/>
        </p:xfrm>
        <a:graphic>
          <a:graphicData uri="http://schemas.openxmlformats.org/drawingml/2006/table">
            <a:tbl>
              <a:tblPr/>
              <a:tblGrid>
                <a:gridCol w="1954080"/>
                <a:gridCol w="2160720"/>
                <a:gridCol w="1152360"/>
                <a:gridCol w="1079640"/>
                <a:gridCol w="22320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ование и изготовление подел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отражать в рисунках сюжеты или эпизоды из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кружк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лнышко в ладошках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журнала «Незабудки для Анютки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работе над проекто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недельн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 детьми и родителями над журналом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чер сказок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дведение итогов работы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ь результаты проекта через театрализованну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рытый показ театрализованного занят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бразовательная обла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знакомление с окружающим и развитие речи детей старшего дошкольного возраста с использованием сказк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367020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проект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вать у детей навыки связной речи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учать творческому рассказыванию. Развивать устойчивый интерес к сказкам и окружающему миру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общить родителей к работе по реализации данного проек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и проект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ь составлять небольшие рассказы и сказки по теме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оженной воспитателем, по плану и образцу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вать и совершенствовать диалогическую и монологическую формы речи, конструктивные и творческие способности дет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спитывать доброжелательность, умение правильно оценивать действия и поступки геро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озраст участников проект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лет-дети подготовительно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555948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должительность проект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ентября по май- учебны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54086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сновные формы реализации проект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2002680" y="1494000"/>
            <a:ext cx="5284800" cy="5225040"/>
            <a:chOff x="2002680" y="1494000"/>
            <a:chExt cx="5284800" cy="5225040"/>
          </a:xfrm>
        </p:grpSpPr>
        <p:sp>
          <p:nvSpPr>
            <p:cNvPr id="879" name="_s8227"/>
            <p:cNvSpPr/>
            <p:nvPr/>
          </p:nvSpPr>
          <p:spPr>
            <a:xfrm flipH="1" flipV="1">
              <a:off x="3366360" y="3450240"/>
              <a:ext cx="642600" cy="33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_s8226"/>
            <p:cNvSpPr/>
            <p:nvPr/>
          </p:nvSpPr>
          <p:spPr>
            <a:xfrm>
              <a:off x="2002680" y="2476080"/>
              <a:ext cx="1467360" cy="1304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cc"/>
                  </a:solidFill>
                  <a:latin typeface="Arial"/>
                </a:rPr>
                <a:t>Театрализованная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6600cc"/>
                  </a:solidFill>
                  <a:latin typeface="Arial"/>
                </a:rPr>
                <a:t>деятельность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_s8225"/>
            <p:cNvSpPr/>
            <p:nvPr/>
          </p:nvSpPr>
          <p:spPr>
            <a:xfrm flipH="1">
              <a:off x="3366720" y="4431960"/>
              <a:ext cx="64440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_s8224"/>
            <p:cNvSpPr/>
            <p:nvPr/>
          </p:nvSpPr>
          <p:spPr>
            <a:xfrm>
              <a:off x="2002680" y="4434480"/>
              <a:ext cx="1467360" cy="1304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Занятия 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игровая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_s8223"/>
            <p:cNvSpPr/>
            <p:nvPr/>
          </p:nvSpPr>
          <p:spPr>
            <a:xfrm>
              <a:off x="4643280" y="4754880"/>
              <a:ext cx="1800" cy="660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_s8222"/>
            <p:cNvSpPr/>
            <p:nvPr/>
          </p:nvSpPr>
          <p:spPr>
            <a:xfrm>
              <a:off x="3910320" y="5414400"/>
              <a:ext cx="1467360" cy="13046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00cc"/>
                  </a:solidFill>
                  <a:latin typeface="Arial"/>
                </a:rPr>
                <a:t>Развлечени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_s8221"/>
            <p:cNvSpPr/>
            <p:nvPr/>
          </p:nvSpPr>
          <p:spPr>
            <a:xfrm>
              <a:off x="5276880" y="4430160"/>
              <a:ext cx="641880" cy="33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_s8220"/>
            <p:cNvSpPr/>
            <p:nvPr/>
          </p:nvSpPr>
          <p:spPr>
            <a:xfrm>
              <a:off x="5820120" y="4434480"/>
              <a:ext cx="1467360" cy="1304640"/>
            </a:xfrm>
            <a:prstGeom prst="ellipse">
              <a:avLst/>
            </a:prstGeom>
            <a:solidFill>
              <a:srgbClr val="66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Кружковая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66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_s8219"/>
            <p:cNvSpPr/>
            <p:nvPr/>
          </p:nvSpPr>
          <p:spPr>
            <a:xfrm flipV="1">
              <a:off x="5276880" y="3451680"/>
              <a:ext cx="64188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_s8218"/>
            <p:cNvSpPr/>
            <p:nvPr/>
          </p:nvSpPr>
          <p:spPr>
            <a:xfrm>
              <a:off x="5820120" y="2473920"/>
              <a:ext cx="1467360" cy="1305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ffff"/>
                  </a:solidFill>
                  <a:latin typeface="Arial"/>
                </a:rPr>
                <a:t>Работа с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ffff"/>
                  </a:solidFill>
                  <a:latin typeface="Arial"/>
                </a:rPr>
                <a:t>родителями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_s8217"/>
            <p:cNvSpPr/>
            <p:nvPr/>
          </p:nvSpPr>
          <p:spPr>
            <a:xfrm flipV="1">
              <a:off x="4643280" y="2796480"/>
              <a:ext cx="0" cy="659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_s8216"/>
            <p:cNvSpPr/>
            <p:nvPr/>
          </p:nvSpPr>
          <p:spPr>
            <a:xfrm>
              <a:off x="3910320" y="1494000"/>
              <a:ext cx="1467360" cy="130464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Оснащение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развивающей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6600cc"/>
                  </a:solidFill>
                  <a:latin typeface="Arial"/>
                </a:rPr>
                <a:t>среды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_s8215"/>
            <p:cNvSpPr/>
            <p:nvPr/>
          </p:nvSpPr>
          <p:spPr>
            <a:xfrm>
              <a:off x="3910320" y="3456000"/>
              <a:ext cx="1467360" cy="13046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Arial"/>
                </a:rPr>
                <a:t>Формы работы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работы над проектом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езабудки для Аню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539640" y="1628640"/>
          <a:ext cx="8496360" cy="4622760"/>
        </p:xfrm>
        <a:graphic>
          <a:graphicData uri="http://schemas.openxmlformats.org/drawingml/2006/table">
            <a:tbl>
              <a:tblPr/>
              <a:tblGrid>
                <a:gridCol w="2303640"/>
                <a:gridCol w="2089080"/>
                <a:gridCol w="1079640"/>
                <a:gridCol w="1028520"/>
                <a:gridCol w="199548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казывание сказок от 1 и 3 лица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умывание продолжения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ть умения составлять сказки и продолжение сказок по плану и образц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вне занят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в игровой деятельност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чине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ь сочинять сказки по теме предложенной воспитателем об Анютке и ее друзьях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вне занятий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 игровой деятельности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клотерапия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льчиковые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чаточные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елкой моторики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тва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 занятий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игровой деятельности 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ьнойработе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"/>
          <p:cNvGraphicFramePr/>
          <p:nvPr/>
        </p:nvGraphicFramePr>
        <p:xfrm>
          <a:off x="108000" y="1628640"/>
          <a:ext cx="9036000" cy="4622760"/>
        </p:xfrm>
        <a:graphic>
          <a:graphicData uri="http://schemas.openxmlformats.org/drawingml/2006/table">
            <a:tbl>
              <a:tblPr/>
              <a:tblGrid>
                <a:gridCol w="2663640"/>
                <a:gridCol w="2266920"/>
                <a:gridCol w="973440"/>
                <a:gridCol w="1296720"/>
                <a:gridCol w="1835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рова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схемам 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казочным кубикам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мышления и памя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и 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и игровая 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и разыгрывание сказо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 пр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ценировании сказок пользоваться прямой и косвенной речь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чера развлечений, игры-инсценировки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дж-терапи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гновенное преображение с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ю костюмов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творческой деятельности, психологической раскрепощенности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ечение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оловина дн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овая деятельность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4:24:43Z</dcterms:created>
  <dc:creator>north1</dc:creator>
  <dc:description/>
  <dc:language>en-US</dc:language>
  <cp:lastModifiedBy>Customer</cp:lastModifiedBy>
  <dcterms:modified xsi:type="dcterms:W3CDTF">2002-01-01T02:41:21Z</dcterms:modified>
  <cp:revision>5</cp:revision>
  <dc:subject/>
  <dc:title>Презентация проекта «Незабудки для Анютки»</dc:title>
</cp:coreProperties>
</file>