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5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2.png" ContentType="image/png"/>
  <Override PartName="/ppt/media/image19.gif" ContentType="image/gif"/>
  <Override PartName="/ppt/media/image10.png" ContentType="image/png"/>
  <Override PartName="/ppt/media/image20.png" ContentType="image/png"/>
  <Override PartName="/ppt/media/image18.gif" ContentType="image/gif"/>
  <Override PartName="/ppt/media/image17.jpeg" ContentType="image/jpeg"/>
  <Override PartName="/ppt/media/image21.png" ContentType="image/png"/>
  <Override PartName="/ppt/media/image16.gif" ContentType="image/gif"/>
  <Override PartName="/ppt/media/image14.jpeg" ContentType="image/jpeg"/>
  <Override PartName="/ppt/media/image15.png" ContentType="image/png"/>
  <Override PartName="/ppt/media/image6.png" ContentType="image/png"/>
  <Override PartName="/ppt/media/image3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8F4-AD63-4E0E-B9CD-AB90075B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3B7-2017-4F40-875B-3C0009C2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0A34-B62A-44A0-9C68-9223A09D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A27-53FA-493E-962B-1A3FE1E2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2E4-AFA0-4BB7-B7B0-8508023A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903-2BD3-4B37-B203-7177D565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18C-557E-4C77-A004-C553300A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19AC-1B37-42E6-99F6-58D0BE55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873-5B29-4305-8821-33A1B731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C4E-D6B7-4A85-BAD8-05597DEA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C1E-A8E2-419B-BA33-D9032264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320-1F51-4667-8798-CDF00F7C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4F38-9015-49B1-8F66-93B2FA7BB0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720"/>
            <a:ext cx="8351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229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Подготовила педагог- психолог МОУ гимназия Латышева В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24000" y="1341360"/>
            <a:ext cx="860076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лементы здоровьесбережения на уроках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60093"/>
                </a:solidFill>
                <a:uFillTx/>
                <a:latin typeface="Arial"/>
              </a:rPr>
              <a:t>Техника « Как помочь ученикам почувствовать свою интеллектуальную состоятель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те ошибки нормальным и нужным яв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йте веру в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уйте внимание на уже достигнутых в прошлом успех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йте процесс обучения ощутим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чайте дост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d60093"/>
                </a:solidFill>
                <a:uFillTx/>
                <a:latin typeface="Arial"/>
              </a:rPr>
              <a:t>Техника создания у ученика субъективного переживания успе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страха- «Глаза боятся, а руки делают»; « Ты с этим справишься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ытая инструкция- « Ты же помнишь, чт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ансирование- « У тебя получится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мотива- «Нам нужно для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ое внушение- «Приступай же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оценка - «Вот эта часть 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бя получилась замечательно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Формирование веры в успе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йте  любые 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вляйте о вкладе уче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вайте ученикам их сильные стор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онстрируйте веру в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вайте трудность ваши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бомы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ие наград и мед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лодис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дости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одоб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лейки или записочки типа « Я мог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4"/>
          <p:cNvPicPr/>
          <p:nvPr/>
        </p:nvPicPr>
        <p:blipFill>
          <a:blip r:embed="rId1"/>
          <a:stretch/>
        </p:blipFill>
        <p:spPr>
          <a:xfrm>
            <a:off x="6659640" y="3716280"/>
            <a:ext cx="163188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99  Способов похвалы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усельникова 006"/>
          <p:cNvPicPr/>
          <p:nvPr/>
        </p:nvPicPr>
        <p:blipFill>
          <a:blip r:embed="rId1"/>
          <a:srcRect l="54543" t="17266" r="4421" b="45714"/>
          <a:stretch/>
        </p:blipFill>
        <p:spPr>
          <a:xfrm>
            <a:off x="2981160" y="4351320"/>
            <a:ext cx="662040" cy="4348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ейчас на правиль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олеп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пе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горжусь тем, как ты сегодня работа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близок к исти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учшее из того, что у тебя получа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плох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ничего не упусти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лич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кра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быстро учишь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знал, что ты сможешь сделать э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была  классная рабо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учше, чем всег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ой мозг поработал на  сл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делал это очень хорош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делаешь это красив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о запомни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дравля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ы сделал это лучше, чем вч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нравится ход твоих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99"/>
                </a:solidFill>
                <a:latin typeface="Arial"/>
              </a:rPr>
              <a:t>«Я- высказыва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Ко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Часть- содержи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объективное описание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лох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ое имеет место здесь и сейчас: « Когда ты шепчешься с Леной во время объяснения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Часть- называю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чув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ителя в этот момент: «..я чувствую сильное раздражени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Часть- описывае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эфф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плохого поведения: «..потому, что я теряю мысль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Часть- содержит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просьб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« пожалуйста, переста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Профилактика </a:t>
            </a:r>
            <a:br>
              <a:rPr sz="4800"/>
            </a:b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искривления позвоночника  учащихся</a:t>
            </a: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adhack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164360" y="5643720"/>
            <a:ext cx="3794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an10"/>
          <p:cNvPicPr/>
          <p:nvPr/>
        </p:nvPicPr>
        <p:blipFill>
          <a:blip r:embed="rId2"/>
          <a:stretch/>
        </p:blipFill>
        <p:spPr>
          <a:xfrm>
            <a:off x="539640" y="5715000"/>
            <a:ext cx="257400" cy="4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J0282742"/>
          <p:cNvPicPr/>
          <p:nvPr/>
        </p:nvPicPr>
        <p:blipFill>
          <a:blip r:embed="rId3"/>
          <a:stretch/>
        </p:blipFill>
        <p:spPr>
          <a:xfrm>
            <a:off x="7667640" y="1143000"/>
            <a:ext cx="264960" cy="26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роль за правильной посадкой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зкультмину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351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ИГРЫ  И КОРРЕКЦИОННЫЕ УПРАЖНЕНИЯ, ПОВЫШАЮЩИЕ УСПЕШНОСТЬ</a:t>
            </a: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УЧЕБНО-ВОСПИТАТЕЛЬНОГО ПРОЦ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shkola"/>
          <p:cNvPicPr/>
          <p:nvPr/>
        </p:nvPicPr>
        <p:blipFill>
          <a:blip r:embed="rId2"/>
          <a:stretch/>
        </p:blipFill>
        <p:spPr>
          <a:xfrm>
            <a:off x="5072040" y="5357880"/>
            <a:ext cx="398520" cy="3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white_female_teacher__a_ha"/>
          <p:cNvPicPr/>
          <p:nvPr/>
        </p:nvPicPr>
        <p:blipFill>
          <a:blip r:embed="rId1"/>
          <a:stretch/>
        </p:blipFill>
        <p:spPr>
          <a:xfrm>
            <a:off x="6877080" y="5405400"/>
            <a:ext cx="909720" cy="1452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8209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и здоровьесбережения также направлены на оказание психолого-педагогической поддержки ученика. Если учитель полагает, что главная его задача — передать некоторую сумму знаний, умений и навыков, то он ошибается. Его главное назначение- "запускать" и сопровождать саморазвитие ученика. Непростая задача может быть решена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овых формах на уро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Гимнастика для гла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 методике  профессора   В.Г.Жда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_1"/>
          <p:cNvPicPr/>
          <p:nvPr/>
        </p:nvPicPr>
        <p:blipFill>
          <a:blip r:embed="rId1"/>
          <a:stretch/>
        </p:blipFill>
        <p:spPr>
          <a:xfrm>
            <a:off x="7500960" y="5929200"/>
            <a:ext cx="858960" cy="9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0336917"/>
          <p:cNvPicPr/>
          <p:nvPr/>
        </p:nvPicPr>
        <p:blipFill>
          <a:blip r:embed="rId2"/>
          <a:stretch/>
        </p:blipFill>
        <p:spPr>
          <a:xfrm>
            <a:off x="684360" y="5857920"/>
            <a:ext cx="631800" cy="80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G00024_"/>
          <p:cNvPicPr/>
          <p:nvPr/>
        </p:nvPicPr>
        <p:blipFill>
          <a:blip r:embed="rId3"/>
          <a:stretch/>
        </p:blipFill>
        <p:spPr>
          <a:xfrm>
            <a:off x="3203640" y="6091200"/>
            <a:ext cx="725400" cy="42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Рисунок4"/>
          <p:cNvPicPr/>
          <p:nvPr/>
        </p:nvPicPr>
        <p:blipFill>
          <a:blip r:embed="rId4"/>
          <a:stretch/>
        </p:blipFill>
        <p:spPr>
          <a:xfrm>
            <a:off x="7164360" y="1285920"/>
            <a:ext cx="360360" cy="33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Рисунок4"/>
          <p:cNvPicPr/>
          <p:nvPr/>
        </p:nvPicPr>
        <p:blipFill>
          <a:blip r:embed="rId5"/>
          <a:stretch/>
        </p:blipFill>
        <p:spPr>
          <a:xfrm>
            <a:off x="857160" y="1509840"/>
            <a:ext cx="571680" cy="406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"Мордашки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и сигнализируют о своем эмоционально-психологическом состоянии с помощью карточек со стилизованными рисунками. Урок начинается с того, что ученик показывает одну из "мордашек" соответственно своему настроению. Здесь важно, что сам ученик сознает свое состояние и делится этим с учителем, что повышает его самоуправляем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рхэффект: ученики видят внимание к себе, а учителю дается возможность подкорректировать настроение, может быть двумя-тремя фразами, дополнительно настроить на работу. Может, следует дать отдохнуть. Требования к игре-отдыху следующие: она долго не надоедает, помогает главной цели — познанию, не выпадает из структуры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у с "мордашками" можно включить в завершение урока. Если улыбок станет больше — урок уд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96720" y="1052640"/>
            <a:ext cx="8207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47"/>
          <p:cNvPicPr/>
          <p:nvPr/>
        </p:nvPicPr>
        <p:blipFill>
          <a:blip r:embed="rId1">
            <a:lum contrast="30000"/>
          </a:blip>
          <a:srcRect l="9878" t="3808" r="11033" b="11581"/>
          <a:stretch/>
        </p:blipFill>
        <p:spPr>
          <a:xfrm>
            <a:off x="3357720" y="4214880"/>
            <a:ext cx="44280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"Да-нетка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игра учит связывать разрозненные факты в единую картину, систематизировать уже имеющуюся информацию, слышать и слушать соучеников. Учитель загадывает нечто, а ученики, задавая вопросы, пытаются найти ответ. Учитель лишь отвечает "да", "нет". Подобная игра на отгадывание литературного персонажа, исторического деятеля, великого ученого будет всегда уместна на уро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«Резюм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аналогии с мордашками со старшеклассниками можно использовать прием обратной связи — "резюме". Его суть в том, что ученики письменно отвечают на серию вопросов, отражающих их отношение к уроку, учебному предмету, учителю. Резюме делается раз в неделю или в меся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иповы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Что нравится,не нравится на урок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Можешь ли учиться луч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Что мешает учиться луч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Какие действия учителя считаешь не правильными, правильны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Поставь и обоснуй оценку учителю и себе по 10-балльной шк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того как резюме сдано и проанализировано, следует поблагодарить учеников, зачитать несколько интересных фраз, формулировок или оценок, иногда противоречащих друг другу. Ученики могут заполнять резюме или оставлять его без внимания. Это материал для индивидуальной работы и оказания психологической поддержки уче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оказательный 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агает использование классической формы опроса, когда один отвечает, а все слушают. Нужно стремиться демонстрировать только блестящий ответ для того, чтобы сформировать у остальных учеников образ ответа, к которому они должны стремиться, как наглядную репетицию экзамена. После такого ответа полезен краткий "разбор полетов" с уче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Защитный л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147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едко ученики приходят неподготовленными. Перед каждым уроком, всегда на одном и том же месте лежит "Лист защиты", куда каждый ученик без объяснения причины может вписать свою фамилию и быть уверенным, что его не с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Щадящи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проводит тренировочный опрос, сам не выслушивая ответов учеников. Для этого класс разбивается на две подгруппы по рядам-вариантам. Учитель задает вопрос. На него отвечает первая группа. При этом каждый ученик дает ответ на вопрос своему соседу по парте — ученику второй группы. Затем на этот же вопрос отвечает учитель или сильный ученик. Ученики второй группы, прослушав ответ учителя, сравнивают его с ответом товарища и выставляют ему оценку: "+" или "—". На следующий вопрос учителя отвечают ученики второй группы, а ребята первой их прослушивают. Теперь они в роли учителя и после ответа учителя выставляют ученикам отметку. Таким образом, задав 10 вопросов, мы добиваемся того, что каждый ученик в классе ответит на 5 вопросов, прослушает ответы учителя на все вопросы, оценит своего товарища по 5 вопросам. Каждый ученик при такой форме опроса выступает и в роли отвечающего, и в роли контролирующего. В конце они могут выставить оценки друг дру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Магнитофонны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 ученика записывается на магнитофоне с целью собственного прослушивания как бы со стороны. Отметка и все прочее здесь гораздо менее важны, так что в этом случае возникает небольшой подлог: такой опрос вовсе не опрос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БЛИЦТУРН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им каждого написать на листке бумаги по одному вопросу (по теме урока, пройденному материалу, предстоящей обсуждению теме и.т.д.), сворачиваем бумажки, складываем в коробку. Затем каждый по очереди вытаскивает листок, читает вопрос и пытается на него ответить. Другие участники могут предложить свои варианты ответов. При этом каждый из участников имеет право не отвеч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и игры определяем оригинальные вопросы и интересные от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«ОРАТ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 на листочках пишет темы выступлений. Каждый ученик берет листок с какой-либо темой. Затем через две-три минуты(с подготовкой или без нее) должен выступить с реч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Комплекс упражнений под пальмингом</a:t>
            </a:r>
            <a:br>
              <a:rPr sz="2800"/>
            </a:b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Делается не более 3–х раз в день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Локти поставили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няли 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отерли ладони до тепла, сделали пальминг, проследить, чтоб не проникал  свет в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Лицо неподвижно, работают только мышцы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Глаза поднимаем вверх, опускаем  вниз (6-7)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Скосили вправо, влево 7-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ЧТО ОБЩ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как можно больше признаков  сходства между двумя различными предметами, явлениями, событиями, признаками, эпохами, политическими событиями 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работы можно огранич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УГАД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играющих стоит спиной к группе. Кто-то подходит к нему, прикасается, издает звук, возвращается на место. Стоящий спиной поворачивается и пытается отгадать, кто подх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Зоркий гл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щий выходит за дверь. Один из игроков что-то изменяет в своем виде, например, расстегивает пиджак, снимает бант и т.д. Водящий, войдя в класс, пытается определить, в чьей внешности произошли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игры-релакс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Внутренний луч" предполагает возникновение внутри головы луча, который двигается сверху вниз, все освещая, затем снизу вверх. Ученик должен ощутить удовольствие со словами: Я стал новым, сильным, молодым, спокойным, стабильным. Я все хорошо буду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астроение". На листе рисуется что-либо с использованием цвета. На другой стороне листа пишется 5—7 слов, соответствующих настроению. Затем следует просмотреть все на листе, перечитать и разорвать, и выброс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Прием зеркала". Учитель или ученик рассказывает конкретный факт из жизни, высказывает свое отношение к нему, оценку событий и поступков. Ученики сравнивают себя со сверстниками, как бы видя себя в зеркало. Этот психологический прием часто использовал в своей педагогической практике отечественный педагог Е.Н. Иль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ЕЧЕНИЕ МУЗЫКОЙ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ayan-5"/>
          <p:cNvPicPr/>
          <p:nvPr/>
        </p:nvPicPr>
        <p:blipFill>
          <a:blip r:embed="rId1"/>
          <a:stretch/>
        </p:blipFill>
        <p:spPr>
          <a:xfrm>
            <a:off x="3276720" y="5772240"/>
            <a:ext cx="581040" cy="53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notestaffwht"/>
          <p:cNvPicPr/>
          <p:nvPr/>
        </p:nvPicPr>
        <p:blipFill>
          <a:blip r:embed="rId2"/>
          <a:stretch/>
        </p:blipFill>
        <p:spPr>
          <a:xfrm>
            <a:off x="8072280" y="852480"/>
            <a:ext cx="107172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много может музыка! Спокойная и мелодичная, она поможет быстрее и лучше отдохнуть, восстановить свои силы; бодрая и ритмичная поднимет тонус, улучшит настроение. Музыка снимает раздражение, нервное напряжение, активизирует мыслительные процессы и повышает работо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зыка устраняет ощущение страха, злости, сожаления, ненависти. Мелодии, приятные для человека, замедляют пульс, увеличивают силу сердечных сокращений, снижают артериальное давление, увеличивают активность белых кровяных шарико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перемен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зыкальные валеологические пау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изкультминутки с музыкальным фон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Arial"/>
              </a:rPr>
              <a:t>Звуковая гимнасти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gal_singing_karaoke_ha"/>
          <p:cNvPicPr/>
          <p:nvPr/>
        </p:nvPicPr>
        <p:blipFill>
          <a:blip r:embed="rId1"/>
          <a:stretch/>
        </p:blipFill>
        <p:spPr>
          <a:xfrm>
            <a:off x="0" y="6083280"/>
            <a:ext cx="5716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брация голоса очень важна для хорошего самочувствия. Она помогает укреплению здоровья. Воспроизведение некоторых гласных заставляет вибрировать гланды и понуждает их очищать организм.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ние гласных производится легко и свобод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ко, с полной энергией глубокого дыхания. Попробуйте и вы почувствуете себя вскоре полным новой энерг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к, попробуйте издать сильный и пронзительный звук </a:t>
            </a: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И-И-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раздвинув губы, как в улыбке. Делайте это не в виде пения, а, скорее, в виде крика издалека. Звук должен быть ровным и одной высоты в начале, середине и в конце. Нельзя начинать мощно, а заканчивать слабым писко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новитесь раньше, чем вам не хватит дыхания, так как перед концом звука всегда должен оставаться небольшой запас воздуха. Отдохните и повторите 2-4 раза. При этом возникают очень приятные ощущения.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Это помогает очистить мозг, глаза, нос, уши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ет впечатление выдох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звуки, которые оказывают воздействие на разные орган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лияет на мозг, зрение, слух.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горло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железы внутренней секреции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среднюю часть груди (сердце)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на живот,</a:t>
            </a:r>
            <a:br>
              <a:rPr sz="2400"/>
            </a:b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руки и ног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ое 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СУ-СУ-СУ</a:t>
            </a:r>
            <a:r>
              <a:rPr b="0" lang="ru-RU" sz="2400" spc="-1" strike="noStrike">
                <a:solidFill>
                  <a:srgbClr val="ff00ff"/>
                </a:solidFill>
                <a:latin typeface="Arial"/>
              </a:rPr>
              <a:t>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зывает резонанс в нижней части легких.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ют влияние на организм в цел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чала не рекомендуется брать более 3-4-х звуков подряд. Лучше петь в саду, лесу или в комнате с закрытой форточкой. Иначе вся улица удивится вашим пронзительным "трелям"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пражнение действует на мозг, как массаж на тело, пропуская кислород во все "уголки"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 Вправо вверх, влево вниз (6-7)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. Влево вверх, вправо вниз (6-7)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. Делаем  глазами прямоугольник. (6-7)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. Делаем часы (12, 3, 6,  9, 12)  6-7 пов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. Часы в обратную сторону (12,9, 6,3, 12) 6-7 пов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. Поморгали 7- 8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КРИЧАЛКИ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ЧЕВ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1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Еду на та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ижу коро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 шапке-ушан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С рогом здоровы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Здравствуй, кор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Как пожи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Дую  спик инглиш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Че обзы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333360"/>
            <a:ext cx="42447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Лечу в самоле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Вижу кор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а парашю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 рогом здор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Здравствуй,  кор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к пожи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Шпрехен зю дойч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Че обзыва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-56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Чика-бум – крутая пес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Будем петь ее все в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Если нужен классный ш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йте с нами Чика-б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ю я бум-чика-б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ю я бум-чика-б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Пою я бум-чика-б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Чика-рака-чика-рака-чика-б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понедель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 проснул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 во вторни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 зевну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сре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ладко потянул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 в четвер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пять засну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л я пятниц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 субботу! Не ходил я на работ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о зато уж в воскресе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пал весь де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ез пробуждень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Раз, д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Носом вдо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Три, четы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Выдох рт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Пять, шес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Дышим глубж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Семь, восемь, две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Шаг на мес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Десять, девя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Не спеш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Как по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Arial"/>
              </a:rPr>
              <a:t>Хо-ро-ш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обирайся детвора- ра-р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ачинается игра-ра-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Ты ладошки не жалей-лей-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Бей в ладошки веселей-лей-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колько времени сейчас–час-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колько будет через час–час–ч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И не правда будет два-ва-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Ходит кругом голова-ва-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ет в семье петух-ух-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Нет, не филин, а петух-ух-у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Вы уверены, что так-так-т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А на самом деле как-как-как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Крича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40384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екала р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чку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сту ов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вечки хвост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АЛЬ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охла р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валился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рла овеч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алился хвос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, два, три, четыре, пять, шесть, сем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, шесть, пять, четыре, три, два, од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не жалко р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не жалко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не жаль ов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лко только хвост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2920" y="981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, два, три, четыре, пять, шесть, сем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, шесть, пять, четыре, три, два, од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аполним р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АЛЬ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строим мост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ДЕВ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ивим ове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МАЛЬЧ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клеим хвост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: Раз, два, три, четыре, пять, шесть, сем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, шесть, пять, четыре, три, два, один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12"/>
          <p:cNvPicPr/>
          <p:nvPr/>
        </p:nvPicPr>
        <p:blipFill>
          <a:blip r:embed="rId1"/>
          <a:stretch/>
        </p:blipFill>
        <p:spPr>
          <a:xfrm>
            <a:off x="0" y="5991120"/>
            <a:ext cx="785880" cy="866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old_bizman_doing_cart_a_ha"/>
          <p:cNvPicPr/>
          <p:nvPr/>
        </p:nvPicPr>
        <p:blipFill>
          <a:blip r:embed="rId2"/>
          <a:stretch/>
        </p:blipFill>
        <p:spPr>
          <a:xfrm>
            <a:off x="8572680" y="6378480"/>
            <a:ext cx="571320" cy="4795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бучая других, мы учимся 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ен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евять десятых нашего счастья зависит от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.Шопенгау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Здоровье- это когда каждый день – луч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Я. Кор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Если не бегаешь, пока здор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придется побегать, к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заболе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cc6600"/>
                </a:solidFill>
                <a:latin typeface="Arial"/>
              </a:rPr>
              <a:t>Г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00"/>
                </a:solidFill>
                <a:latin typeface="Arial"/>
              </a:rPr>
              <a:t>ВЫХОД ИЗ ПАЛЬМИН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жмурили глазки, расслабили  (3-4)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чали головой ( да, да, да; нет ,нет, н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ерли кулаками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ргали 7- 8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ли пря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ладошками зажмурили глаза, расслабили (3-4)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х, выдох (3-4)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брали лад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ргали (6-7)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Для улучшения зр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ссаж мизинцев 2-3 мину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Гусельникова 008"/>
          <p:cNvPicPr/>
          <p:nvPr/>
        </p:nvPicPr>
        <p:blipFill>
          <a:blip r:embed="rId1">
            <a:lum contrast="36000"/>
          </a:blip>
          <a:srcRect l="58083" t="62032" r="2207" b="12025"/>
          <a:stretch/>
        </p:blipFill>
        <p:spPr>
          <a:xfrm>
            <a:off x="468360" y="5857920"/>
            <a:ext cx="1471680" cy="6667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Стопа"/>
          <p:cNvPicPr/>
          <p:nvPr/>
        </p:nvPicPr>
        <p:blipFill>
          <a:blip r:embed="rId1"/>
          <a:srcRect l="6892" t="7757" r="3818" b="2741"/>
          <a:stretch/>
        </p:blipFill>
        <p:spPr>
          <a:xfrm>
            <a:off x="1071720" y="5286240"/>
            <a:ext cx="1380960" cy="10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800" spc="-1" strike="noStrike" u="sng">
                <a:solidFill>
                  <a:srgbClr val="d60093"/>
                </a:solidFill>
                <a:uFillTx/>
                <a:latin typeface="Arial"/>
              </a:rPr>
              <a:t>Техника помощи ученикам в установлении нормальных отношений с педагогами и умения чувствовать свою коммуникативную компетентн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333360"/>
          <a:ext cx="8856720" cy="6048360"/>
        </p:xfrm>
        <a:graphic>
          <a:graphicData uri="http://schemas.openxmlformats.org/drawingml/2006/table">
            <a:tbl>
              <a:tblPr/>
              <a:tblGrid>
                <a:gridCol w="2987640"/>
                <a:gridCol w="2989440"/>
                <a:gridCol w="2879640"/>
              </a:tblGrid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говорит уч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слышит уче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ы хороши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хороши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им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вижу теб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что-то значу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Спасибо тебе за…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Мои усилия замечен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бр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Я знаю о тебе что-то замечательно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Я состоятелен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ые чув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Ты мне нравишьс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то-то заботится обо мн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4:02:45Z</dcterms:created>
  <dc:creator>Xaoc</dc:creator>
  <dc:description/>
  <dc:language>en-US</dc:language>
  <cp:lastModifiedBy>Xaoc</cp:lastModifiedBy>
  <dcterms:modified xsi:type="dcterms:W3CDTF">2012-06-02T14:27:51Z</dcterms:modified>
  <cp:revision>515</cp:revision>
  <dc:subject/>
  <dc:title>Слайд 1</dc:title>
</cp:coreProperties>
</file>