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23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29.jpeg" ContentType="image/jpeg"/>
  <Override PartName="/ppt/media/image8.jpeg" ContentType="image/jpeg"/>
  <Override PartName="/ppt/media/image35.jpeg" ContentType="image/jpeg"/>
  <Override PartName="/ppt/media/image13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7.jpeg" ContentType="image/jpeg"/>
  <Override PartName="/ppt/media/image38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1.png" ContentType="image/png"/>
  <Override PartName="/ppt/media/image10.jpeg" ContentType="image/jpeg"/>
  <Override PartName="/ppt/media/image1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6712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header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2"/>
          </p:nvPr>
        </p:nvSpPr>
        <p:spPr>
          <a:xfrm>
            <a:off x="3884400" y="-360"/>
            <a:ext cx="296676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Arial"/>
                <a:ea typeface="Arial Unicode MS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1142640" y="674280"/>
            <a:ext cx="4567320" cy="344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3"/>
          </p:nvPr>
        </p:nvSpPr>
        <p:spPr>
          <a:xfrm>
            <a:off x="0" y="8685360"/>
            <a:ext cx="296712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Arial"/>
                <a:ea typeface="Arial Unicode MS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Arial"/>
                <a:ea typeface="Arial Unicode MS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352B26-54AC-4AB4-8388-456D9F161E5C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F0B7A6-07B4-4D6A-AE3A-58CA66C7EE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34920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224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4127400"/>
            <a:ext cx="8224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77AA8C-E331-4D93-A620-295B32C972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34920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0136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980720"/>
            <a:ext cx="40136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4127400"/>
            <a:ext cx="40136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4127400"/>
            <a:ext cx="40136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9F81EE-6F32-4B2A-831B-5242425C27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34920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264816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980720"/>
            <a:ext cx="264816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980720"/>
            <a:ext cx="264816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4127400"/>
            <a:ext cx="264816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4127400"/>
            <a:ext cx="264816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4127400"/>
            <a:ext cx="264816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0BBD87-E6CB-469D-8E65-475AEE8D7B9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34920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980720"/>
            <a:ext cx="82249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B73FB2-4E9D-44E8-B46C-BA197E0510B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34920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22492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596954-07B9-4E25-9F07-A98B29BA48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34920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01364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980720"/>
            <a:ext cx="401364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DB8838-7542-4319-B8EF-78F60E30FE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34920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327CF9-1030-4566-9383-893044A383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349200"/>
            <a:ext cx="82249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3155E5-DC6A-4EA0-BF55-47A9A947D0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34920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0136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980720"/>
            <a:ext cx="401364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4127400"/>
            <a:ext cx="40136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6064E3-6AA3-426B-A256-A8F8AD97A5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34920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01364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980720"/>
            <a:ext cx="40136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4127400"/>
            <a:ext cx="40136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5336F2-F7C1-4330-9355-E925BA9482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34920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0136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980720"/>
            <a:ext cx="40136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4127400"/>
            <a:ext cx="8224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10763F-B7C8-490A-AAA8-813D80DA9B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34920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980720"/>
            <a:ext cx="822492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ffffff"/>
                </a:solidFill>
                <a:latin typeface="Arial"/>
                <a:ea typeface="Arial Unicode MS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21D8D2-54DC-4331-AF49-EBB812C67B65}" type="slidenum">
              <a:rPr b="0" lang="ru-RU" sz="1400" spc="-1" strike="noStrike">
                <a:solidFill>
                  <a:srgbClr val="ffffff"/>
                </a:solidFill>
                <a:latin typeface="Arial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-76320"/>
            <a:ext cx="82296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e5ffff"/>
                </a:solidFill>
                <a:latin typeface="Tahoma"/>
              </a:rPr>
              <a:t>Историческая память народа формирует нравственный климат, в котором живет народ. </a:t>
            </a:r>
            <a:br>
              <a:rPr sz="3600"/>
            </a:br>
            <a:r>
              <a:rPr b="0" lang="ru-RU" sz="3600" spc="-1" strike="noStrike">
                <a:solidFill>
                  <a:srgbClr val="e5ffff"/>
                </a:solidFill>
                <a:latin typeface="Tahoma"/>
              </a:rPr>
              <a:t>Д.С. Лихачёв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227664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Font typeface="Wingdings" charset="2"/>
              <a:buChar char="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ва чувства дивно близки нам —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Font typeface="Wingdings" charset="2"/>
              <a:buChar char="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них обретает сердце пищу —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Font typeface="Wingdings" charset="2"/>
              <a:buChar char="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Любовь к родному пепелищу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Font typeface="Wingdings" charset="2"/>
              <a:buChar char="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Любовь к отеческим гроба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Font typeface="Wingdings" charset="2"/>
              <a:buChar char="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Животворящая святыня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Font typeface="Wingdings" charset="2"/>
              <a:buChar char="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Земля была б без них мертв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 algn="r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Font typeface="Wingdings" charset="2"/>
              <a:buChar char="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.С. Пушкин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24000" y="6237360"/>
            <a:ext cx="304560" cy="30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Средь зол и скорби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5435640" y="1700280"/>
            <a:ext cx="2703600" cy="482436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324000" y="1700280"/>
            <a:ext cx="3600360" cy="4879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Марфо - Мариинская обитель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0" y="1413000"/>
            <a:ext cx="6350040" cy="419076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5940360" y="2060640"/>
            <a:ext cx="3024360" cy="46530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4"/>
          <a:stretch/>
        </p:blipFill>
        <p:spPr>
          <a:xfrm>
            <a:off x="2124000" y="4292640"/>
            <a:ext cx="4032360" cy="245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Великая матушка и милосердная сестра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6335640" y="1773360"/>
            <a:ext cx="2808360" cy="447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3276720" y="1773360"/>
            <a:ext cx="2881080" cy="43923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179280" y="1773360"/>
            <a:ext cx="2737080" cy="4402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Не казнены- убиты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Font typeface="Wingdings" charset="2"/>
              <a:buChar char="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следнее место заключе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4788000" y="1700280"/>
            <a:ext cx="3887640" cy="446544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395280" y="3068640"/>
            <a:ext cx="3809880" cy="273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Нижне-Селимская шахта  возле речки Межной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2666880" y="2162160"/>
            <a:ext cx="4497480" cy="3282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Мощи Елисаветы Фёдоровны, поднятые из шахты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3276720" y="2128680"/>
            <a:ext cx="2663640" cy="302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826920" y="1989000"/>
            <a:ext cx="2881440" cy="40338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932360" y="1989000"/>
            <a:ext cx="2952720" cy="396108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Преподобномученицы Елисавета и Варвар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Храм Марии Магдалины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1403280" y="1916280"/>
            <a:ext cx="5689800" cy="396216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179280" y="6381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Мощи Елисаветы и Варвары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5292720" y="1557360"/>
            <a:ext cx="3029040" cy="45370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971640" y="1628640"/>
            <a:ext cx="302904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Храм Марии Магдалины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3059280" y="1557360"/>
            <a:ext cx="302868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755640" y="189000"/>
            <a:ext cx="77724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Прославившая Бога красота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2852640"/>
            <a:ext cx="6400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Святая преподобномученица Великая Княгиня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Елизавета Федоровн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Романов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5796000" y="1700280"/>
            <a:ext cx="3171960" cy="476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Иконы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539640" y="1628640"/>
            <a:ext cx="3314880" cy="42865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4105440" y="2743200"/>
            <a:ext cx="933120" cy="13716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4"/>
          <a:stretch/>
        </p:blipFill>
        <p:spPr>
          <a:xfrm>
            <a:off x="5508720" y="1700280"/>
            <a:ext cx="3174840" cy="4165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5"/>
          <a:stretch/>
        </p:blipFill>
        <p:spPr>
          <a:xfrm>
            <a:off x="4500720" y="5516640"/>
            <a:ext cx="304560" cy="30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115920"/>
            <a:ext cx="8229600" cy="100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Святое место покаяния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4788000" y="1197000"/>
            <a:ext cx="3529080" cy="53071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684360" y="1197000"/>
            <a:ext cx="3527280" cy="54864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4"/>
          <a:stretch/>
        </p:blipFill>
        <p:spPr>
          <a:xfrm>
            <a:off x="250920" y="6308640"/>
            <a:ext cx="304560" cy="30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0"/>
            <a:ext cx="82296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e5ffff"/>
                </a:solidFill>
                <a:latin typeface="Tahoma"/>
              </a:rPr>
              <a:t>Часовня установлена на месте убиения Великой Княгини, инокини Варвары, членов дома Романовых.</a:t>
            </a:r>
            <a:br>
              <a:rPr sz="2400"/>
            </a:br>
            <a:r>
              <a:rPr b="1" lang="ru-RU" sz="2400" spc="-1" strike="noStrike">
                <a:solidFill>
                  <a:srgbClr val="e5ffff"/>
                </a:solidFill>
                <a:latin typeface="Tahoma"/>
              </a:rPr>
              <a:t> Алапаевс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lnSpc>
                <a:spcPct val="100000"/>
              </a:lnSpc>
              <a:spcBef>
                <a:spcPts val="451"/>
              </a:spcBef>
              <a:buClr>
                <a:srgbClr val="00ccff"/>
              </a:buClr>
              <a:buFont typeface="Wingdings" charset="2"/>
              <a:buChar char="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« Я недостойна той безмерной радости, какую мне даёт Господь, - идти этим путём, но я буду стараться, и Он, Который есть одна любовь, простит мои ошибки, ведь Он видит, как я хочу служить ему и /тому, что/ Его. В моей жизни было столько радости, в скорби – столько безграничного утешения, что я жажду хоть частицу этого отдать другим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51"/>
              </a:spcBef>
              <a:buClr>
                <a:srgbClr val="00ccff"/>
              </a:buClr>
              <a:buFont typeface="Wingdings" charset="2"/>
              <a:buChar char="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Вел. Кн. Елисавета Феодоровн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5219640" y="1700280"/>
            <a:ext cx="3560760" cy="497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Английские корни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Font typeface="Wingdings" charset="2"/>
              <a:buChar char="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нглийская королева Виктория и её внучки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Font typeface="Wingdings" charset="2"/>
              <a:buChar char="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рена, Элла, Алис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4500720" y="1413000"/>
            <a:ext cx="3600360" cy="518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Накануне приезда в Россию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076720" y="1844640"/>
            <a:ext cx="2735280" cy="41767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lnSpc>
                <a:spcPct val="100000"/>
              </a:lnSpc>
              <a:spcBef>
                <a:spcPts val="601"/>
              </a:spcBef>
              <a:buClr>
                <a:srgbClr val="00ccff"/>
              </a:buClr>
              <a:buFont typeface="Wingdings" charset="2"/>
              <a:buChar char="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инцесса Гессенская Элла (будущая великая княгиня Елизавета Федоровна).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Фото с дарственной надписью Сергею Александровичу.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Фотограф Александр Бассано.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Лондон, 1882 г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Невеста Сергея Александрович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2771640" y="1484280"/>
            <a:ext cx="3400560" cy="476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4500720" y="1557360"/>
            <a:ext cx="3600360" cy="49672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79280" y="33336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Красивейшая женщина Европы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1916280"/>
            <a:ext cx="40384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lnSpc>
                <a:spcPct val="100000"/>
              </a:lnSpc>
              <a:spcBef>
                <a:spcPts val="349"/>
              </a:spcBef>
              <a:buClr>
                <a:srgbClr val="00ccff"/>
              </a:buClr>
              <a:buFont typeface="Wingdings" charset="2"/>
              <a:buChar char="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Я на тебя гляжу, любуясь ежечасно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349"/>
              </a:spcBef>
              <a:buClr>
                <a:srgbClr val="00ccff"/>
              </a:buClr>
              <a:buFont typeface="Wingdings" charset="2"/>
              <a:buChar char="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Ты так невыразимо хороша!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349"/>
              </a:spcBef>
              <a:buClr>
                <a:srgbClr val="00ccff"/>
              </a:buClr>
              <a:buFont typeface="Wingdings" charset="2"/>
              <a:buChar char="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О, верно, под такой наружностью прекрасной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349"/>
              </a:spcBef>
              <a:buClr>
                <a:srgbClr val="00ccff"/>
              </a:buClr>
              <a:buFont typeface="Wingdings" charset="2"/>
              <a:buChar char="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Такая же прекрасная душа!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349"/>
              </a:spcBef>
              <a:buClr>
                <a:srgbClr val="00ccff"/>
              </a:buClr>
              <a:buFont typeface="Wingdings" charset="2"/>
              <a:buChar char="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Какой-то кротости и грусти сокровенной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349"/>
              </a:spcBef>
              <a:buClr>
                <a:srgbClr val="00ccff"/>
              </a:buClr>
              <a:buFont typeface="Wingdings" charset="2"/>
              <a:buChar char="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В твоих очах таится глубина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349"/>
              </a:spcBef>
              <a:buClr>
                <a:srgbClr val="00ccff"/>
              </a:buClr>
              <a:buFont typeface="Wingdings" charset="2"/>
              <a:buChar char="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Как ангел, ты тиха, чиста и совершенна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349"/>
              </a:spcBef>
              <a:buClr>
                <a:srgbClr val="00ccff"/>
              </a:buClr>
              <a:buFont typeface="Wingdings" charset="2"/>
              <a:buChar char="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Как женщина стыдлива и нежн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349"/>
              </a:spcBef>
              <a:buClr>
                <a:srgbClr val="00ccff"/>
              </a:buClr>
              <a:buFont typeface="Wingdings" charset="2"/>
              <a:buChar char="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Пусть на земле ничто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349"/>
              </a:spcBef>
              <a:buClr>
                <a:srgbClr val="00ccff"/>
              </a:buClr>
              <a:buFont typeface="Wingdings" charset="2"/>
              <a:buChar char="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Средь зол и скорби многой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349"/>
              </a:spcBef>
              <a:buClr>
                <a:srgbClr val="00ccff"/>
              </a:buClr>
              <a:buFont typeface="Wingdings" charset="2"/>
              <a:buChar char="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Твою не запятнает чистоту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349"/>
              </a:spcBef>
              <a:buClr>
                <a:srgbClr val="00ccff"/>
              </a:buClr>
              <a:buFont typeface="Wingdings" charset="2"/>
              <a:buChar char="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И всякий увидав тебя, прославит Бога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349"/>
              </a:spcBef>
              <a:buClr>
                <a:srgbClr val="00ccff"/>
              </a:buClr>
              <a:buFont typeface="Wingdings" charset="2"/>
              <a:buChar char="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Создавшего такую красоту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349"/>
              </a:spcBef>
              <a:buClr>
                <a:srgbClr val="00ccff"/>
              </a:buClr>
              <a:buFont typeface="Wingdings" charset="2"/>
              <a:buChar char="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1884г. Константин Романов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5724360" y="1773360"/>
            <a:ext cx="2880000" cy="48243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324000" y="1773360"/>
            <a:ext cx="4825800" cy="48132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Жена Сергея Александрович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С мужем перед переездом в Москву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2700360" y="2205000"/>
            <a:ext cx="3024000" cy="41767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108000" y="2781360"/>
            <a:ext cx="2521080" cy="360036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4"/>
          <a:stretch/>
        </p:blipFill>
        <p:spPr>
          <a:xfrm>
            <a:off x="5796000" y="1773360"/>
            <a:ext cx="313380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Смерть мужа.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1116000" y="1557360"/>
            <a:ext cx="3672000" cy="46404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5435640" y="1557360"/>
            <a:ext cx="2695680" cy="45622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2T22:30:51Z</dcterms:created>
  <dc:creator>XP GAME 2007</dc:creator>
  <dc:description/>
  <dc:language>en-US</dc:language>
  <cp:lastModifiedBy>DNS</cp:lastModifiedBy>
  <dcterms:modified xsi:type="dcterms:W3CDTF">2012-06-04T12:53:09Z</dcterms:modified>
  <cp:revision>19</cp:revision>
  <dc:subject/>
  <dc:title>Слайд 1</dc:title>
</cp:coreProperties>
</file>