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0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0" y="8685360"/>
            <a:ext cx="29671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118E5-39B4-4530-A7ED-E4479388E3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2139-95D7-49E0-92A9-CCD3A2E13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0B7C-B8B3-48FE-B307-B26D6A270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3738-713D-4351-AD34-26EEDF428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98072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127400"/>
            <a:ext cx="264816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D26A-E44E-430D-AF1E-2BD5BDFA84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36E0-03D0-42D9-A4B4-4B4846B52F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FEBF-C78E-45BF-B1E6-241FAD2CE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A84D-38CF-41DC-9752-2A2BB0B94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AC23-097C-4D68-AE6C-49E6CD10B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4920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9F90-F87A-4B36-93D2-B25CCDD39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495E-F6CB-4BEC-8DC2-D261097A0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2740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CB51-9573-4538-AA66-9F1670BB3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80720"/>
            <a:ext cx="40136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7400"/>
            <a:ext cx="8224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FFFE-E443-4375-AE4B-75F7D0D60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0720"/>
            <a:ext cx="82249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ADD0B-8EB6-479C-B87A-408E2945CE86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763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сторическая память народа формирует нравственный климат, в котором живет народ.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Д.С. Лихачё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а чувства дивно близки нам 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них обретает сердце пищу 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овь к родному пепелищ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овь к отеческим гроб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вотворящая святын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мля была б без них мер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r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С. Пушк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редь зол и скорб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2703600" cy="4824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360036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рфо - Мариинская обител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6350040" cy="4190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3024360" cy="465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124000" y="4292640"/>
            <a:ext cx="403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еликая матушка и милосердная сестр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35640" y="1773360"/>
            <a:ext cx="2808360" cy="447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76720" y="1773360"/>
            <a:ext cx="2881080" cy="4392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79280" y="1773360"/>
            <a:ext cx="273708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е казнены- убит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днее место заклю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3887640" cy="4465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068640"/>
            <a:ext cx="38098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ижне-Селимская шахта  возле речки Межн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666880" y="2162160"/>
            <a:ext cx="4497480" cy="32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Мощи Елисаветы Фёдоровны, поднятые из шах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2128680"/>
            <a:ext cx="2663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2881440" cy="4033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932360" y="1989000"/>
            <a:ext cx="295272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еподобномученицы Елисавета и Варва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рам Марии Магдали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5689800" cy="3962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щи Елисаветы и Варвар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029040" cy="4537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30290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Храм Марии Магдал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59280" y="1557360"/>
            <a:ext cx="3028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55640" y="18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славившая Бога крас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52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вятая преподобномученица Великая Княгиня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лизавета Федоров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оман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71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кон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3314880" cy="428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105440" y="2743200"/>
            <a:ext cx="93312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508720" y="1700280"/>
            <a:ext cx="3174840" cy="4165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50072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вятое место покая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529080" cy="530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527280" cy="5486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овня установлена на месте убиения Великой Княгини, инокини Варвары, членов дома Романовых.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Алапаев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 Я недостойна той безмерной радости, какую мне даёт Господь, - идти этим путём, но я буду стараться, и Он, Который есть одна любовь, простит мои ошибки, ведь Он видит, как я хочу служить ему и /тому, что/ Его. В моей жизни было столько радости, в скорби – столько безграничного утешения, что я жажду хоть частицу этого отдать другим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Вел. Кн. Елисавета Феодоро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560760" cy="49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нглийские корн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глийская королева Виктория и её внуч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рена, Элла, Али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360036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кануне приезда в Росс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2735280" cy="4176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есса Гессенская Элла (будущая великая княгиня Елизавета Федоровна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то с дарственной надписью Сергею Александровичу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тограф Александр Бассано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ондон, 1882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евеста Сергея Александрович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771640" y="1484280"/>
            <a:ext cx="34005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600360" cy="4967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расивейшая женщина Европ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Я на тебя гляжу, любуясь ежечасн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ы так невыразимо хороша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, верно, под такой наружностью прекрас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акая же прекрасная душа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ой-то кротости и грусти сокровен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твоих очах таится глубин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ангел, ты тиха, чиста и совершенн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женщина стыдлива и неж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усть на земле нич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редь зол и скорби мног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вою не запятнает чистот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всякий увидав тебя, прославит Бог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здавшего такую красот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3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1884г. Константин Роман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2880000" cy="482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4000" y="1773360"/>
            <a:ext cx="4825800" cy="4813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ена Сергея Александрович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 мужем перед переездом в Москв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00360" y="2205000"/>
            <a:ext cx="3024000" cy="417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08000" y="2781360"/>
            <a:ext cx="2521080" cy="360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796000" y="1773360"/>
            <a:ext cx="3133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мерть муж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3672000" cy="4640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2695680" cy="456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22:30:51Z</dcterms:created>
  <dc:creator>XP GAME 2007</dc:creator>
  <dc:description/>
  <dc:language>en-US</dc:language>
  <cp:lastModifiedBy>DNS</cp:lastModifiedBy>
  <dcterms:modified xsi:type="dcterms:W3CDTF">2012-06-04T12:53:09Z</dcterms:modified>
  <cp:revision>19</cp:revision>
  <dc:subject/>
  <dc:title>Слайд 1</dc:title>
</cp:coreProperties>
</file>