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477-1066-414C-83CD-94486DAC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526-9D19-4B56-A09A-251281D8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F4E-1C61-4E9A-963A-2E574510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4BF-8291-41CA-8035-A84F65C7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BEB6-91CE-4BF3-A032-13C034DD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4957-C150-44A4-9AD8-02A4D359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D323-ED4C-47A6-A638-27E5CBB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114A-8588-465D-A471-309E633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5F7-846E-4D65-B978-AF1EDAC2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0849-EF40-436D-A997-5AAFDC13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1556-20E9-4ABD-A25C-50D7AB2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7A9-53AF-47A4-9E03-6346AC94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5749-C47E-41D1-A39D-2D6A2402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E0FF-4156-426B-8008-7F68504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8E3E-DF72-42EF-9B2F-C21F108C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CAB0-6325-4DF6-A9F7-50D6D099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C8F3-0F55-41B7-B42C-E6646949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D42-4170-4407-889F-7DAD6712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601-2D2C-4DF0-BC90-ADB9F7BB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8E2-993D-460E-8372-3A1712EB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8E6-2C55-4FA9-AEF0-1555FEE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538-AFD1-4B8C-B66F-E2464093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668-3A45-4D51-9BE7-1CA79AA1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BA5-D380-49D8-BBC4-C45EFF2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0F4C-93FE-4C28-90AE-3EFD864D2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257E-9974-4F9B-9A88-3626B1E6BE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4" descr="Image5"/>
          <p:cNvPicPr/>
          <p:nvPr/>
        </p:nvPicPr>
        <p:blipFill>
          <a:blip r:embed="rId1"/>
          <a:stretch/>
        </p:blipFill>
        <p:spPr>
          <a:xfrm>
            <a:off x="285840" y="142920"/>
            <a:ext cx="8572320" cy="50688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0" y="111960"/>
            <a:ext cx="900108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е: «Активизация познавательной деятельности учащихся на уроках русского языка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: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ИССЛЕДОВАТЕЛЬСКИХ УМЕН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АДШИХ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ЬНИКОВ НА УРОКАХ РУССКОГО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Цель:                        </a:t>
            </a:r>
            <a:r>
              <a:rPr b="1" lang="ru-RU" sz="1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выявить основные условия и направления формир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1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исследовательских умений младших школьник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изучить и проанализировать психолого-педагогическую, методическую литературу по дан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е с целью более эффективного внедрения её основных положений в практику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проанализировать возможности различных УМК по русскому язык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формирования исследовательских умений;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  раскрыть роль учителя в развитии исследовательских способнос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разработать поэтапные действия по формированию исследовательской культуры школьн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рассмотреть методику организации исследовательской деятельности с младшими школьни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делать выводы и умозаключе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42920" y="1043640"/>
            <a:ext cx="90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йте выводы на основе имеющихся да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пишите их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, что все глаголы изменяются по време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ть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гол. Значит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лов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тицы, концы, ножницы, молодц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ц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шется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а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ы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каждом из слов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ходится на конце слова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аю вывод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28760" y="386136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. Докажите, что данное умозаключение сделано от общего к частн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«Приставки </a:t>
            </a:r>
            <a:r>
              <a:rPr b="1" i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а-, на-, над-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сегда пишутся с гласной </a:t>
            </a:r>
            <a:r>
              <a:rPr b="1" i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.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 слове </a:t>
            </a:r>
            <a:r>
              <a:rPr b="1" i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ашёл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сть одна из этих приставок – </a:t>
            </a:r>
            <a:r>
              <a:rPr b="1" i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а-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 Поэтому…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4854960"/>
            <a:ext cx="9001080" cy="1923480"/>
          </a:xfrm>
          <a:prstGeom prst="rect">
            <a:avLst/>
          </a:prstGeom>
          <a:solidFill>
            <a:srgbClr val="86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.   Докажите, что данный вывод сделан от частных наблюдений к общ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В слове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нна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написанию двойной согласной соответствует долгий звук  [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,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слове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лла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долгий звук [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, в слове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мма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долгий  [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ледовательно, если в слове слышится долгий звук, то в нём пишетс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оответствующая двойная согласна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следовательская практика</a:t>
            </a:r>
            <a:r>
              <a:rPr b="1" lang="ru-RU" sz="4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643040"/>
            <a:ext cx="91440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видеть пробл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наблюд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выдвигать гипотез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давать определения понятия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задавать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классифициров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делать выводы и умозаклю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7" descr="sw116000"/>
          <p:cNvPicPr/>
          <p:nvPr/>
        </p:nvPicPr>
        <p:blipFill>
          <a:blip r:embed="rId1"/>
          <a:stretch/>
        </p:blipFill>
        <p:spPr>
          <a:xfrm>
            <a:off x="428760" y="285840"/>
            <a:ext cx="1201680" cy="144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0" descr="s1300000"/>
          <p:cNvPicPr/>
          <p:nvPr/>
        </p:nvPicPr>
        <p:blipFill>
          <a:blip r:embed="rId2"/>
          <a:stretch/>
        </p:blipFill>
        <p:spPr>
          <a:xfrm>
            <a:off x="6929280" y="1143000"/>
            <a:ext cx="185760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Русский язык в умелых руках и в опытных устах – красив, певуч, выразителен, гибок, послушен, ловок и вместителен.» А.И.Куприн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Image9"/>
          <p:cNvPicPr/>
          <p:nvPr/>
        </p:nvPicPr>
        <p:blipFill>
          <a:blip r:embed="rId1"/>
          <a:stretch/>
        </p:blipFill>
        <p:spPr>
          <a:xfrm rot="20190000">
            <a:off x="433440" y="1767960"/>
            <a:ext cx="2340000" cy="3067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Image10"/>
          <p:cNvPicPr/>
          <p:nvPr/>
        </p:nvPicPr>
        <p:blipFill>
          <a:blip r:embed="rId2"/>
          <a:stretch/>
        </p:blipFill>
        <p:spPr>
          <a:xfrm>
            <a:off x="3462480" y="1643040"/>
            <a:ext cx="2398680" cy="3083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Image6"/>
          <p:cNvPicPr/>
          <p:nvPr/>
        </p:nvPicPr>
        <p:blipFill>
          <a:blip r:embed="rId3"/>
          <a:stretch/>
        </p:blipFill>
        <p:spPr>
          <a:xfrm rot="19876200">
            <a:off x="2055600" y="3605040"/>
            <a:ext cx="2243160" cy="2955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mage7"/>
          <p:cNvPicPr/>
          <p:nvPr/>
        </p:nvPicPr>
        <p:blipFill>
          <a:blip r:embed="rId4"/>
          <a:stretch/>
        </p:blipFill>
        <p:spPr>
          <a:xfrm rot="1459200">
            <a:off x="6478560" y="1762200"/>
            <a:ext cx="2147760" cy="2882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Image8"/>
          <p:cNvPicPr/>
          <p:nvPr/>
        </p:nvPicPr>
        <p:blipFill>
          <a:blip r:embed="rId5"/>
          <a:stretch/>
        </p:blipFill>
        <p:spPr>
          <a:xfrm rot="979200">
            <a:off x="5257440" y="3466800"/>
            <a:ext cx="2293920" cy="30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чились рассуждать, размышлять, рассказыва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Image2222"/>
          <p:cNvPicPr/>
          <p:nvPr/>
        </p:nvPicPr>
        <p:blipFill>
          <a:blip r:embed="rId1"/>
          <a:stretch/>
        </p:blipFill>
        <p:spPr>
          <a:xfrm>
            <a:off x="3995640" y="2349360"/>
            <a:ext cx="1847880" cy="216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age4"/>
          <p:cNvPicPr/>
          <p:nvPr/>
        </p:nvPicPr>
        <p:blipFill>
          <a:blip r:embed="rId2"/>
          <a:stretch/>
        </p:blipFill>
        <p:spPr>
          <a:xfrm rot="21044400">
            <a:off x="394920" y="1268280"/>
            <a:ext cx="1741320" cy="2305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Image5"/>
          <p:cNvPicPr/>
          <p:nvPr/>
        </p:nvPicPr>
        <p:blipFill>
          <a:blip r:embed="rId3"/>
          <a:stretch/>
        </p:blipFill>
        <p:spPr>
          <a:xfrm rot="16642200">
            <a:off x="6312600" y="824400"/>
            <a:ext cx="1847880" cy="259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mage6"/>
          <p:cNvPicPr/>
          <p:nvPr/>
        </p:nvPicPr>
        <p:blipFill>
          <a:blip r:embed="rId4"/>
          <a:stretch/>
        </p:blipFill>
        <p:spPr>
          <a:xfrm rot="20729400">
            <a:off x="2371320" y="1297080"/>
            <a:ext cx="2067120" cy="208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mage8"/>
          <p:cNvPicPr/>
          <p:nvPr/>
        </p:nvPicPr>
        <p:blipFill>
          <a:blip r:embed="rId5"/>
          <a:stretch/>
        </p:blipFill>
        <p:spPr>
          <a:xfrm rot="3942000">
            <a:off x="1279800" y="3048480"/>
            <a:ext cx="1905120" cy="2665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Image9"/>
          <p:cNvPicPr/>
          <p:nvPr/>
        </p:nvPicPr>
        <p:blipFill>
          <a:blip r:embed="rId6"/>
          <a:stretch/>
        </p:blipFill>
        <p:spPr>
          <a:xfrm rot="19414800">
            <a:off x="1332000" y="4336560"/>
            <a:ext cx="1314360" cy="2521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Image10"/>
          <p:cNvPicPr/>
          <p:nvPr/>
        </p:nvPicPr>
        <p:blipFill>
          <a:blip r:embed="rId7"/>
          <a:stretch/>
        </p:blipFill>
        <p:spPr>
          <a:xfrm rot="1357200">
            <a:off x="6659280" y="2637000"/>
            <a:ext cx="1827000" cy="2592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Image11"/>
          <p:cNvPicPr/>
          <p:nvPr/>
        </p:nvPicPr>
        <p:blipFill>
          <a:blip r:embed="rId8"/>
          <a:stretch/>
        </p:blipFill>
        <p:spPr>
          <a:xfrm>
            <a:off x="4356000" y="4149720"/>
            <a:ext cx="1719360" cy="244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Image7"/>
          <p:cNvPicPr/>
          <p:nvPr/>
        </p:nvPicPr>
        <p:blipFill>
          <a:blip r:embed="rId9"/>
          <a:stretch/>
        </p:blipFill>
        <p:spPr>
          <a:xfrm rot="989400">
            <a:off x="6588000" y="5084640"/>
            <a:ext cx="2065320" cy="14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видеть проблем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856800"/>
            <a:ext cx="84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смотри на мир чужими глазам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9403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Как ты отнесешься к появлению первого сне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редставь, что ты водитель грузовика.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ты отнесешься к появлению первого снег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редставь, что ты щенок.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ты отнесешься к появлению первого снег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14200" y="364464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«Составь рассказ, используя данную концовк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28760" y="4294440"/>
            <a:ext cx="8358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оставь рассказ от имени другого персонажа»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иши расказ об одном дне воображаемой жизни, если ты игрушка, писменный стол, дерево или лётчик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4. Игра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«Вырази мысль другими словами».  (Развивает речь, учит выражать свои мысли, четко и точно передавать чужие мысли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4200" y="3714480"/>
            <a:ext cx="84297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Шёл крупный, пушистый снег и красил         в белое мостовую, лошадиные спины,   шапки извоз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Шёл крупный, пушистый снег и красил               в белое всё: мостовую ,лошадиные спины,                  шапки извоз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214200" y="1571760"/>
            <a:ext cx="921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пример:      Урок по теме «Обобщающие слова при однородных членах предложения». Сравните два предложения.  Объясните  пунктограммы.     Чем объяснить различие в постановке знаков препина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наблюда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ъехал                        вью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ъехал                     ко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ъехал                         ул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ъехал                    варен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выдвигать гипотез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0" y="3571920"/>
            <a:ext cx="89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давать определени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нятия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285840" y="48578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Составьте пары по схем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овое понятие – родовое по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за, ягода, щука, дерево, ландыш, рыба, малина, птица, ворона, цвет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357120" y="44784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Определите общее поня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.ртофель, к.пуста, п.мидор, .гурец, р.ди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в.рец, с.л.вей, в.р.на, с.рока, в.р.б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.дведь, за.ц, л.сица, .безьяна, к.ба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.рась; п.скарь, щ.ка, пл.тва, .ку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По данным определениям запишите понят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на – хвойное дерево с длинными игол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……. – время года после ос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……. – дом для птиц на дерев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……. – человек, который учится в шко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……. – верхняя часть г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задавать вопрос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а – нет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643040" y="919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опросы могут содержать ошибочный вариант.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ществительные обозначают признак предмета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ет)         - существительные обозначают предмет? (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ществительные изменяются по родам? (н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ществительные изменяются по числам? (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 существительных 5 падежей? (н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 существительных 6 падежей? (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3342600"/>
            <a:ext cx="90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до ли проверять безударную гласную в корне слова? Как?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до ли проверять гласную под ударением? Почему?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верно ли, что приставки и суффиксы служат для образования новых сл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42920" y="449856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и слова, обозначают предмет? – Нет.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и слова, обозначают действие предмета? – 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и слова, изменяются по временам? – 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ни отвечают на вопрос, что будет делать? – Нет.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чимся классифицироват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еделить слова в две группы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леко, дружный, тихий, жалобно, хитрый, хорошо, изредк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42920" y="1913040"/>
            <a:ext cx="528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 расположены в два столб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хо                     гри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о                   ст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за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14200" y="407700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 </a:t>
            </a:r>
            <a:r>
              <a:rPr b="0" i="1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яблонька, кольцо, стулья, день, подъ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 мальчик, польза, крылья, мебель, ельник;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                                   - певунья, деньки, январь, пень, объ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572080" y="1922760"/>
            <a:ext cx="331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лошадка    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 кровать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дочка        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 м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кроватка    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доч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мама               ноч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ночка              лоша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0" y="3573360"/>
            <a:ext cx="9144000" cy="520560"/>
          </a:xfrm>
          <a:prstGeom prst="rect">
            <a:avLst/>
          </a:prstGeom>
          <a:solidFill>
            <a:srgbClr val="c2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ы слова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онит, ловили, кричит, выбросил, нагревает, встреч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42920" y="578988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ндыш, одуванчик, малина, смородина, колокольчик, крыжовник, клубника, гвозд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2786040" y="53593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: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 ,б, о, и, к, л, е, п,  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5:57:02Z</dcterms:created>
  <dc:creator>123</dc:creator>
  <dc:description/>
  <dc:language>en-US</dc:language>
  <cp:lastModifiedBy>Admin</cp:lastModifiedBy>
  <dcterms:modified xsi:type="dcterms:W3CDTF">2012-06-04T16:56:32Z</dcterms:modified>
  <cp:revision>82</cp:revision>
  <dc:subject/>
  <dc:title>Участник конкурса «Самый классный классный-2007» Учитель начальных классов Порецкой СОШ Глухова Надежда Алексеевна</dc:title>
</cp:coreProperties>
</file>