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8.jpeg" ContentType="image/jpeg"/>
  <Override PartName="/ppt/media/image18.gif" ContentType="image/gif"/>
  <Override PartName="/ppt/media/image17.gif" ContentType="image/gif"/>
  <Override PartName="/ppt/media/image2.jpeg" ContentType="image/jpeg"/>
  <Override PartName="/ppt/media/image16.jpeg" ContentType="image/jpe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4.jpeg" ContentType="image/jpeg"/>
  <Override PartName="/ppt/media/image13.png" ContentType="image/png"/>
  <Override PartName="/ppt/media/image7.jpeg" ContentType="image/jpe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60C2E-60F0-40E2-9693-DD8CE33AB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4571A-C942-491F-AF54-B3C1D43C5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F53A6-F17B-421B-A8DC-155783270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80B82-9C1F-400B-AF18-75E0567EA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EA2D1-92C3-4C14-BC10-F76E79977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94852-9F37-486A-9DB0-D9F2B6F6A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257AD-A1CC-4707-ACFC-B50DA935A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30D1F-9B63-4C0E-B78A-3AB82B3B6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4413A-2CE1-4F04-B4B3-927516DB7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AE068-E04A-4BF2-B450-7EBF0EF44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28D1E-B7B0-4960-94CE-DEBC2A73E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CB361-F63A-4F95-BEE7-16F53C4CA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8183C-86CD-400B-A76E-81644A8A4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6808E-6F91-43C3-B5CE-CFA3B2D81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AED35-72D7-49E2-BC56-BF170A490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33EDB-8CE4-456E-AF3B-1BBE32F12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15E1B-AC44-44D6-B4AB-4B4DFFFB2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D0257-D6F0-439B-9517-C772DD643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22535-EE6C-49D9-A4D4-CE65FB28C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AA086-535F-41D7-A8C4-4B18DCFA9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BC847-7AB9-420C-80D3-389921BEA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137BF-8437-4FFF-A0D5-EB0576EE9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DC88C-9C77-46EA-956A-B78BF5539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98B11-38F7-4CF3-88BD-25C3E344D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prstGeom prst="pie">
            <a:avLst/>
          </a:pr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5B93D-9C11-4201-89F0-3B07AAD5362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B3C01-32F2-4C2C-A0A2-D26428733246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jpe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2" name="Picture 4" descr="Image5"/>
          <p:cNvPicPr/>
          <p:nvPr/>
        </p:nvPicPr>
        <p:blipFill>
          <a:blip r:embed="rId1"/>
          <a:stretch/>
        </p:blipFill>
        <p:spPr>
          <a:xfrm>
            <a:off x="285840" y="142920"/>
            <a:ext cx="8572320" cy="5068800"/>
          </a:xfrm>
          <a:prstGeom prst="rect">
            <a:avLst/>
          </a:prstGeom>
          <a:ln w="0">
            <a:noFill/>
          </a:ln>
        </p:spPr>
      </p:pic>
      <p:sp>
        <p:nvSpPr>
          <p:cNvPr id="213" name="Rectangle 5"/>
          <p:cNvSpPr/>
          <p:nvPr/>
        </p:nvSpPr>
        <p:spPr>
          <a:xfrm>
            <a:off x="0" y="111960"/>
            <a:ext cx="9001080" cy="66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 </a:t>
            </a:r>
            <a:r>
              <a:rPr b="1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еме: «Активизация познавательной деятельности учащихся на уроках русского языка»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   </a:t>
            </a:r>
            <a:r>
              <a:rPr b="1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облема: </a:t>
            </a:r>
            <a:r>
              <a:rPr b="1" lang="en-US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ФОРМИРОВАНИЕ ИССЛЕДОВАТЕЛЬСКИХ УМЕНИЙ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</a:t>
            </a:r>
            <a:r>
              <a:rPr b="1" lang="en-US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ЛАДШИХ</a:t>
            </a:r>
            <a:r>
              <a:rPr b="1" lang="en-US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</a:t>
            </a:r>
            <a:r>
              <a:rPr b="1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ШКОЛЬНИКОВ НА УРОКАХ РУССКОГО ЯЗЫКА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1d2e"/>
                </a:solidFill>
                <a:latin typeface="Times New Roman"/>
                <a:ea typeface="Times New Roman"/>
              </a:rPr>
              <a:t>              </a:t>
            </a:r>
            <a:r>
              <a:rPr b="1" lang="ru-RU" sz="1600" spc="-1" strike="noStrike">
                <a:solidFill>
                  <a:srgbClr val="001d2e"/>
                </a:solidFill>
                <a:latin typeface="Times New Roman"/>
                <a:ea typeface="Times New Roman"/>
              </a:rPr>
              <a:t>Цель:                        </a:t>
            </a:r>
            <a:r>
              <a:rPr b="1" lang="ru-RU" sz="1400" spc="-1" strike="noStrike">
                <a:solidFill>
                  <a:srgbClr val="001d2e"/>
                </a:solidFill>
                <a:latin typeface="Times New Roman"/>
                <a:ea typeface="Times New Roman"/>
              </a:rPr>
              <a:t>выявить основные условия и направления формирования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1d2e"/>
                </a:solidFill>
                <a:latin typeface="Times New Roman"/>
                <a:ea typeface="Times New Roman"/>
              </a:rPr>
              <a:t>                                                        </a:t>
            </a:r>
            <a:r>
              <a:rPr b="1" lang="ru-RU" sz="1400" spc="-1" strike="noStrike">
                <a:solidFill>
                  <a:srgbClr val="001d2e"/>
                </a:solidFill>
                <a:latin typeface="Times New Roman"/>
                <a:ea typeface="Times New Roman"/>
              </a:rPr>
              <a:t>исследовательских умений младших школьников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1d2e"/>
                </a:solidFill>
                <a:latin typeface="Times New Roman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</a:t>
            </a:r>
            <a:r>
              <a:rPr b="1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Задачи: </a:t>
            </a:r>
            <a:r>
              <a:rPr b="1" lang="ru-RU" sz="1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) изучить и проанализировать психолого-педагогическую, методическую литературу по данной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          </a:t>
            </a:r>
            <a:r>
              <a:rPr b="1" lang="ru-RU" sz="1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роблеме с целью более эффективного внедрения её основных положений в практику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</a:t>
            </a:r>
            <a:r>
              <a:rPr b="1" lang="en-US" sz="1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</a:t>
            </a:r>
            <a:r>
              <a:rPr b="1" lang="ru-RU" sz="1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) проанализировать возможности различных УМК по русскому языку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   </a:t>
            </a:r>
            <a:r>
              <a:rPr b="1" lang="ru-RU" sz="1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ля формирования исследовательских умений;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</a:t>
            </a:r>
            <a:r>
              <a:rPr b="1" lang="en-US" sz="1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</a:t>
            </a:r>
            <a:r>
              <a:rPr b="1" lang="ru-RU" sz="1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3)   раскрыть роль учителя в развитии исследовательских способностей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</a:t>
            </a:r>
            <a:r>
              <a:rPr b="1" lang="en-US" sz="1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</a:t>
            </a:r>
            <a:r>
              <a:rPr b="1" lang="ru-RU" sz="1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4) разработать поэтапные действия по формированию исследовательской культуры школьников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   </a:t>
            </a:r>
            <a:r>
              <a:rPr b="1" lang="ru-RU" sz="1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5) рассмотреть методику организации исследовательской деятельности с младшими школьниками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77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" dur="770" fill="hold"/>
                                        <p:tgtEl>
                                          <p:spTgt spid="21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9" dur="77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1" dur="77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algn="ctr"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Умение делать выводы и умозаключения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9" name="Rectangle 4"/>
          <p:cNvSpPr/>
          <p:nvPr/>
        </p:nvSpPr>
        <p:spPr>
          <a:xfrm>
            <a:off x="142920" y="1043640"/>
            <a:ext cx="9001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делайте выводы на основе имеющихся данных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 запишите их.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Я знаю, что все глаголы изменяются по времена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лово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играть –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лагол. Значит…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словах 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тицы, концы, ножницы, молодцы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сле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ц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ишется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уква 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ы.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В каждом из слов 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цы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находится на конце слова.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елаю вывод…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Rectangle 5"/>
          <p:cNvSpPr/>
          <p:nvPr/>
        </p:nvSpPr>
        <p:spPr>
          <a:xfrm>
            <a:off x="428760" y="3861360"/>
            <a:ext cx="8572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2. Докажите, что данное умозаключение сделано от общего к частному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«Приставки </a:t>
            </a:r>
            <a:r>
              <a:rPr b="1" i="1" lang="ru-RU" sz="2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за-, на-, над- </a:t>
            </a:r>
            <a:r>
              <a:rPr b="1" lang="ru-RU" sz="2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всегда пишутся с гласной </a:t>
            </a:r>
            <a:r>
              <a:rPr b="1" i="1" lang="ru-RU" sz="2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а.</a:t>
            </a:r>
            <a:r>
              <a:rPr b="1" lang="ru-RU" sz="2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В слове </a:t>
            </a:r>
            <a:r>
              <a:rPr b="1" i="1" lang="ru-RU" sz="2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зашёл </a:t>
            </a:r>
            <a:r>
              <a:rPr b="1" lang="ru-RU" sz="2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есть одна из этих приставок – </a:t>
            </a:r>
            <a:r>
              <a:rPr b="1" i="1" lang="ru-RU" sz="2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за-</a:t>
            </a:r>
            <a:r>
              <a:rPr b="1" lang="ru-RU" sz="2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. Поэтому….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Rectangle 6"/>
          <p:cNvSpPr/>
          <p:nvPr/>
        </p:nvSpPr>
        <p:spPr>
          <a:xfrm>
            <a:off x="142920" y="4854960"/>
            <a:ext cx="9001080" cy="1923480"/>
          </a:xfrm>
          <a:prstGeom prst="rect">
            <a:avLst/>
          </a:prstGeom>
          <a:solidFill>
            <a:srgbClr val="86c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3.   Докажите, что данный вывод сделан от частных наблюдений к общему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«В слове </a:t>
            </a:r>
            <a:r>
              <a:rPr b="1" i="1" lang="ru-RU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Анна</a:t>
            </a:r>
            <a:r>
              <a:rPr b="1" lang="ru-RU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написанию двойной согласной соответствует долгий звук  [</a:t>
            </a:r>
            <a:r>
              <a:rPr b="1" i="1" lang="ru-RU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н</a:t>
            </a:r>
            <a:r>
              <a:rPr b="1" lang="ru-RU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],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в слове </a:t>
            </a:r>
            <a:r>
              <a:rPr b="1" i="1" lang="ru-RU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Алла </a:t>
            </a:r>
            <a:r>
              <a:rPr b="1" lang="ru-RU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– долгий звук [</a:t>
            </a:r>
            <a:r>
              <a:rPr b="1" i="1" lang="ru-RU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л</a:t>
            </a:r>
            <a:r>
              <a:rPr b="1" lang="ru-RU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], в слове </a:t>
            </a:r>
            <a:r>
              <a:rPr b="1" i="1" lang="ru-RU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сумма</a:t>
            </a:r>
            <a:r>
              <a:rPr b="1" lang="ru-RU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– долгий  [</a:t>
            </a:r>
            <a:r>
              <a:rPr b="1" i="1" lang="ru-RU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м</a:t>
            </a:r>
            <a:r>
              <a:rPr b="1" lang="ru-RU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]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Следовательно, если в слове слышится долгий звук, то в нём пишется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соответствующая двойная согласная»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2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2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23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сследовательская практика</a:t>
            </a:r>
            <a:r>
              <a:rPr b="1" lang="ru-RU" sz="48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.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0" y="1643040"/>
            <a:ext cx="9144000" cy="45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901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умение видеть проблем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901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умение наблюдат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901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умение выдвигать гипотез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901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умение давать определения понятиям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901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умение задавать вопрос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901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умение классифицироват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901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умение делать выводы и умозаключени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4" name="Picture 17" descr="sw116000"/>
          <p:cNvPicPr/>
          <p:nvPr/>
        </p:nvPicPr>
        <p:blipFill>
          <a:blip r:embed="rId1"/>
          <a:stretch/>
        </p:blipFill>
        <p:spPr>
          <a:xfrm>
            <a:off x="428760" y="285840"/>
            <a:ext cx="1201680" cy="144288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100" descr="s1300000"/>
          <p:cNvPicPr/>
          <p:nvPr/>
        </p:nvPicPr>
        <p:blipFill>
          <a:blip r:embed="rId2"/>
          <a:stretch/>
        </p:blipFill>
        <p:spPr>
          <a:xfrm>
            <a:off x="6929280" y="1143000"/>
            <a:ext cx="1857600" cy="20001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«Русский язык в умелых руках и в опытных устах – красив, певуч, выразителен, гибок, послушен, ловок и вместителен.» А.И.Куприн.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6" name="Picture 4" descr="Image9"/>
          <p:cNvPicPr/>
          <p:nvPr/>
        </p:nvPicPr>
        <p:blipFill>
          <a:blip r:embed="rId1"/>
          <a:stretch/>
        </p:blipFill>
        <p:spPr>
          <a:xfrm rot="20190000">
            <a:off x="433440" y="1767960"/>
            <a:ext cx="2340000" cy="306720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5" descr="Image10"/>
          <p:cNvPicPr/>
          <p:nvPr/>
        </p:nvPicPr>
        <p:blipFill>
          <a:blip r:embed="rId2"/>
          <a:stretch/>
        </p:blipFill>
        <p:spPr>
          <a:xfrm>
            <a:off x="3462480" y="1643040"/>
            <a:ext cx="2398680" cy="308304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6" descr="Image6"/>
          <p:cNvPicPr/>
          <p:nvPr/>
        </p:nvPicPr>
        <p:blipFill>
          <a:blip r:embed="rId3"/>
          <a:stretch/>
        </p:blipFill>
        <p:spPr>
          <a:xfrm rot="19876200">
            <a:off x="2055600" y="3605040"/>
            <a:ext cx="2243160" cy="295596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7" descr="Image7"/>
          <p:cNvPicPr/>
          <p:nvPr/>
        </p:nvPicPr>
        <p:blipFill>
          <a:blip r:embed="rId4"/>
          <a:stretch/>
        </p:blipFill>
        <p:spPr>
          <a:xfrm rot="1459200">
            <a:off x="6478560" y="1762200"/>
            <a:ext cx="2147760" cy="288288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8" descr="Image8"/>
          <p:cNvPicPr/>
          <p:nvPr/>
        </p:nvPicPr>
        <p:blipFill>
          <a:blip r:embed="rId5"/>
          <a:stretch/>
        </p:blipFill>
        <p:spPr>
          <a:xfrm rot="979200">
            <a:off x="5257440" y="3466800"/>
            <a:ext cx="2293920" cy="30337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4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94920" y="260280"/>
            <a:ext cx="8280360" cy="504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Учились рассуждать, размышлять, рассказывать!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0728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3" name="Picture 4" descr="Image2222"/>
          <p:cNvPicPr/>
          <p:nvPr/>
        </p:nvPicPr>
        <p:blipFill>
          <a:blip r:embed="rId1"/>
          <a:stretch/>
        </p:blipFill>
        <p:spPr>
          <a:xfrm>
            <a:off x="3995640" y="2349360"/>
            <a:ext cx="1847880" cy="216072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5" descr="Image4"/>
          <p:cNvPicPr/>
          <p:nvPr/>
        </p:nvPicPr>
        <p:blipFill>
          <a:blip r:embed="rId2"/>
          <a:stretch/>
        </p:blipFill>
        <p:spPr>
          <a:xfrm rot="21044400">
            <a:off x="394920" y="1268280"/>
            <a:ext cx="1741320" cy="230508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6" descr="Image5"/>
          <p:cNvPicPr/>
          <p:nvPr/>
        </p:nvPicPr>
        <p:blipFill>
          <a:blip r:embed="rId3"/>
          <a:stretch/>
        </p:blipFill>
        <p:spPr>
          <a:xfrm rot="16642200">
            <a:off x="6312600" y="824400"/>
            <a:ext cx="1847880" cy="259236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7" descr="Image6"/>
          <p:cNvPicPr/>
          <p:nvPr/>
        </p:nvPicPr>
        <p:blipFill>
          <a:blip r:embed="rId4"/>
          <a:stretch/>
        </p:blipFill>
        <p:spPr>
          <a:xfrm rot="20729400">
            <a:off x="2371320" y="1297080"/>
            <a:ext cx="2067120" cy="208764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8" descr="Image8"/>
          <p:cNvPicPr/>
          <p:nvPr/>
        </p:nvPicPr>
        <p:blipFill>
          <a:blip r:embed="rId5"/>
          <a:stretch/>
        </p:blipFill>
        <p:spPr>
          <a:xfrm rot="3942000">
            <a:off x="1279800" y="3048480"/>
            <a:ext cx="1905120" cy="266544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9" descr="Image9"/>
          <p:cNvPicPr/>
          <p:nvPr/>
        </p:nvPicPr>
        <p:blipFill>
          <a:blip r:embed="rId6"/>
          <a:stretch/>
        </p:blipFill>
        <p:spPr>
          <a:xfrm rot="19414800">
            <a:off x="1332000" y="4336560"/>
            <a:ext cx="1314360" cy="252108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10" descr="Image10"/>
          <p:cNvPicPr/>
          <p:nvPr/>
        </p:nvPicPr>
        <p:blipFill>
          <a:blip r:embed="rId7"/>
          <a:stretch/>
        </p:blipFill>
        <p:spPr>
          <a:xfrm rot="1357200">
            <a:off x="6659280" y="2637000"/>
            <a:ext cx="1827000" cy="259236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11" descr="Image11"/>
          <p:cNvPicPr/>
          <p:nvPr/>
        </p:nvPicPr>
        <p:blipFill>
          <a:blip r:embed="rId8"/>
          <a:stretch/>
        </p:blipFill>
        <p:spPr>
          <a:xfrm>
            <a:off x="4356000" y="4149720"/>
            <a:ext cx="1719360" cy="244800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12" descr="Image7"/>
          <p:cNvPicPr/>
          <p:nvPr/>
        </p:nvPicPr>
        <p:blipFill>
          <a:blip r:embed="rId9"/>
          <a:stretch/>
        </p:blipFill>
        <p:spPr>
          <a:xfrm rot="989400">
            <a:off x="6588000" y="5084640"/>
            <a:ext cx="2065320" cy="14734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2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7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13840" y="277920"/>
            <a:ext cx="8472600" cy="558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algn="ctr"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Умение видеть проблемы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856800"/>
            <a:ext cx="840096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Посмотри на мир чужими глазами»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Rectangle 4"/>
          <p:cNvSpPr/>
          <p:nvPr/>
        </p:nvSpPr>
        <p:spPr>
          <a:xfrm>
            <a:off x="0" y="940320"/>
            <a:ext cx="9144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) Как ты отнесешься к появлению первого снега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) Представь, что ты водитель грузовика.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к ты отнесешься к появлению первого снега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) Представь, что ты щенок.       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к ты отнесешься к появлению первого снега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Rectangle 5"/>
          <p:cNvSpPr/>
          <p:nvPr/>
        </p:nvSpPr>
        <p:spPr>
          <a:xfrm>
            <a:off x="214200" y="3644640"/>
            <a:ext cx="871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  </a:t>
            </a:r>
            <a:r>
              <a:rPr b="1" lang="ru-RU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2. </a:t>
            </a:r>
            <a:r>
              <a:rPr b="1" lang="ru-RU" sz="28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«Составь рассказ, используя данную концовку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Rectangle 6"/>
          <p:cNvSpPr/>
          <p:nvPr/>
        </p:nvSpPr>
        <p:spPr>
          <a:xfrm>
            <a:off x="428760" y="4294440"/>
            <a:ext cx="835812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3.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Составь рассказ от имени другого персонажа»</a:t>
            </a:r>
            <a:r>
              <a:rPr b="1" lang="ru-RU" sz="28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пиши расказ об одном дне воображаемой жизни, если ты игрушка, писменный стол, дерево или лётчик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8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4. Игра </a:t>
            </a:r>
            <a:r>
              <a:rPr b="1" lang="ru-RU" sz="28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«Вырази мысль другими словами».  (Развивает речь, учит выражать свои мысли, четко и точно передавать чужие мысли).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214200" y="3714480"/>
            <a:ext cx="84297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            </a:t>
            </a:r>
            <a:r>
              <a:rPr b="1" i="1" lang="ru-RU" sz="28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Шёл крупный, пушистый снег и красил         в белое мостовую, лошадиные спины,   шапки извозчико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           </a:t>
            </a:r>
            <a:r>
              <a:rPr b="1" i="1" lang="ru-RU" sz="28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Шёл крупный, пушистый снег и красил               в белое всё: мостовую ,лошадиные спины,                  шапки извозчико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Прямоугольник 3"/>
          <p:cNvSpPr/>
          <p:nvPr/>
        </p:nvSpPr>
        <p:spPr>
          <a:xfrm>
            <a:off x="214200" y="1571760"/>
            <a:ext cx="9215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Например:      Урок по теме «Обобщающие слова при однородных членах предложения». Сравните два предложения.  Объясните  пунктограммы.     Чем объяснить различие в постановке знаков препинания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2" dur="10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9" dur="1000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Умение наблюдать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ъехал                        вьюг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тъехал                     коль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ъехал                         уль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дъехал                    варень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Умение выдвигать гипотезы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Прямоугольник 3"/>
          <p:cNvSpPr/>
          <p:nvPr/>
        </p:nvSpPr>
        <p:spPr>
          <a:xfrm>
            <a:off x="0" y="3571920"/>
            <a:ext cx="8929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Умение давать определения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</a:t>
            </a:r>
            <a:r>
              <a:rPr b="1" lang="ru-RU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онятиям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Прямоугольник 4"/>
          <p:cNvSpPr/>
          <p:nvPr/>
        </p:nvSpPr>
        <p:spPr>
          <a:xfrm>
            <a:off x="285840" y="4857840"/>
            <a:ext cx="8429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.  Составьте пары по схеме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идовое понятие – родовое понят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ереза, ягода, щука, дерево, ландыш, рыба, малина, птица, ворона, цветок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6" dur="20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1" dur="2000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6" dur="2000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1" dur="2000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6" dur="2000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1" dur="2000"/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6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357120" y="447840"/>
            <a:ext cx="87868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. Определите общее поняти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к.ртофель, к.пуста, п.мидор, .гурец, р.дис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скв.рец, с.л.вей, в.р.на, с.рока, в.р.бей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м.дведь, за.ц, л.сица, .безьяна, к.бан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к.рась; п.скарь, щ.ка, пл.тва, .кул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3. По данным определениям запишите понятия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сна – хвойное дерево с длинными иголками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……. – время года после осени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……. – дом для птиц на дереве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……. – человек, который учится в школе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……. – верхняя часть гор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342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algn="ctr"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Умение задавать вопросы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0" y="764640"/>
            <a:ext cx="8229600" cy="44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гр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Да – нет»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1643040" y="919800"/>
            <a:ext cx="75009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ru-RU" sz="24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Вопросы могут содержать ошибочный вариант.</a:t>
            </a:r>
            <a:r>
              <a:rPr b="1" lang="en-US" sz="24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      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существительные обозначают признак предмета?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нет)         - существительные обозначают предмет? (да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существительные изменяются по родам? (нет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существительные изменяются по числам? (да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у существительных 5 падежей? (нет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у существительных 6 падежей? (да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0" y="3342600"/>
            <a:ext cx="900108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Например</a:t>
            </a:r>
            <a:r>
              <a:rPr b="0" lang="ru-RU" sz="2000" spc="-1" strike="noStrike">
                <a:solidFill>
                  <a:srgbClr val="00ff00"/>
                </a:solidFill>
                <a:latin typeface="Arial"/>
              </a:rPr>
              <a:t>: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 надо ли проверять безударную гласную в корне слова? Как?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    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 надо ли проверять гласную под ударением? Почему?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                            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 верно ли, что приставки и суффиксы служат для образования новых слов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Rectangle 6"/>
          <p:cNvSpPr/>
          <p:nvPr/>
        </p:nvSpPr>
        <p:spPr>
          <a:xfrm>
            <a:off x="142920" y="4498560"/>
            <a:ext cx="8858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просы: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эти слова, обозначают предмет? – Нет.    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эти слова, обозначают действие предмета? – Д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эти слова, изменяются по временам? – Д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ни отвечают на вопрос, что будет делать? – Нет. И т. д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0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algn="ctr">
              <a:lnSpc>
                <a:spcPct val="100000"/>
              </a:lnSpc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Учимся классифицировать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24000" y="980640"/>
            <a:ext cx="849600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спределить слова в две группы: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далеко, дружный, тихий, жалобно, хитрый, хорошо, изредка.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Rectangle 4"/>
          <p:cNvSpPr/>
          <p:nvPr/>
        </p:nvSpPr>
        <p:spPr>
          <a:xfrm>
            <a:off x="142920" y="1913040"/>
            <a:ext cx="5286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лова расположены в два столбика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хо                     гриб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еро                   сто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аза              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ел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Rectangle 5"/>
          <p:cNvSpPr/>
          <p:nvPr/>
        </p:nvSpPr>
        <p:spPr>
          <a:xfrm>
            <a:off x="214200" y="4077000"/>
            <a:ext cx="8715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99ff99"/>
                </a:solidFill>
                <a:latin typeface="Times New Roman"/>
                <a:ea typeface="Times New Roman"/>
              </a:rPr>
              <a:t>- </a:t>
            </a:r>
            <a:r>
              <a:rPr b="0" i="1" lang="ru-RU" sz="2800" spc="-1" strike="noStrike">
                <a:solidFill>
                  <a:srgbClr val="99ff99"/>
                </a:solidFill>
                <a:latin typeface="Times New Roman"/>
                <a:ea typeface="Times New Roman"/>
              </a:rPr>
              <a:t>яблонька, кольцо, стулья, день, подъем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99ff99"/>
                </a:solidFill>
                <a:latin typeface="Times New Roman"/>
                <a:ea typeface="Times New Roman"/>
              </a:rPr>
              <a:t> </a:t>
            </a:r>
            <a:r>
              <a:rPr b="0" i="1" lang="ru-RU" sz="2800" spc="-1" strike="noStrike">
                <a:solidFill>
                  <a:srgbClr val="99ff99"/>
                </a:solidFill>
                <a:latin typeface="Times New Roman"/>
                <a:ea typeface="Times New Roman"/>
              </a:rPr>
              <a:t>- мальчик, польза, крылья, мебель, ельник;</a:t>
            </a:r>
            <a:r>
              <a:rPr b="0" lang="ru-RU" sz="2800" spc="-1" strike="noStrike">
                <a:solidFill>
                  <a:srgbClr val="99ff99"/>
                </a:solidFill>
                <a:latin typeface="Times New Roman"/>
                <a:ea typeface="Times New Roman"/>
              </a:rPr>
              <a:t>  </a:t>
            </a:r>
            <a:r>
              <a:rPr b="0" i="1" lang="ru-RU" sz="2800" spc="-1" strike="noStrike">
                <a:solidFill>
                  <a:srgbClr val="99ff99"/>
                </a:solidFill>
                <a:latin typeface="Times New Roman"/>
                <a:ea typeface="Times New Roman"/>
              </a:rPr>
              <a:t>                                      - певунья, деньки, январь, пень, объем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Rectangle 6"/>
          <p:cNvSpPr/>
          <p:nvPr/>
        </p:nvSpPr>
        <p:spPr>
          <a:xfrm>
            <a:off x="5572080" y="1922760"/>
            <a:ext cx="33195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ff"/>
                </a:solidFill>
                <a:latin typeface="Arial"/>
              </a:rPr>
              <a:t>лошадка      </a:t>
            </a:r>
            <a:r>
              <a:rPr b="1" i="1" lang="en-US" sz="2000" spc="-1" strike="noStrike">
                <a:solidFill>
                  <a:srgbClr val="ff00ff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ff00ff"/>
                </a:solidFill>
                <a:latin typeface="Arial"/>
              </a:rPr>
              <a:t> кровать</a:t>
            </a:r>
            <a:r>
              <a:rPr b="1" i="1" lang="en-US" sz="2000" spc="-1" strike="noStrike">
                <a:solidFill>
                  <a:srgbClr val="ff00ff"/>
                </a:solidFill>
                <a:latin typeface="Arial"/>
              </a:rPr>
              <a:t>   </a:t>
            </a:r>
            <a:r>
              <a:rPr b="1" i="1" lang="ru-RU" sz="2000" spc="-1" strike="noStrike">
                <a:solidFill>
                  <a:srgbClr val="ff00ff"/>
                </a:solidFill>
                <a:latin typeface="Arial"/>
              </a:rPr>
              <a:t>дочка          </a:t>
            </a:r>
            <a:r>
              <a:rPr b="1" i="1" lang="en-US" sz="2000" spc="-1" strike="noStrike">
                <a:solidFill>
                  <a:srgbClr val="ff00ff"/>
                </a:solidFill>
                <a:latin typeface="Arial"/>
              </a:rPr>
              <a:t>   </a:t>
            </a:r>
            <a:r>
              <a:rPr b="1" i="1" lang="ru-RU" sz="2000" spc="-1" strike="noStrike">
                <a:solidFill>
                  <a:srgbClr val="ff00ff"/>
                </a:solidFill>
                <a:latin typeface="Arial"/>
              </a:rPr>
              <a:t> мат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ff"/>
                </a:solidFill>
                <a:latin typeface="Arial"/>
              </a:rPr>
              <a:t>кроватка      </a:t>
            </a:r>
            <a:r>
              <a:rPr b="1" i="1" lang="en-US" sz="2000" spc="-1" strike="noStrike">
                <a:solidFill>
                  <a:srgbClr val="ff00ff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ff00ff"/>
                </a:solidFill>
                <a:latin typeface="Arial"/>
              </a:rPr>
              <a:t>доч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ff"/>
                </a:solidFill>
                <a:latin typeface="Arial"/>
              </a:rPr>
              <a:t>мама               ноч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ff"/>
                </a:solidFill>
                <a:latin typeface="Arial"/>
              </a:rPr>
              <a:t>ночка              лошад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Rectangle 7"/>
          <p:cNvSpPr/>
          <p:nvPr/>
        </p:nvSpPr>
        <p:spPr>
          <a:xfrm>
            <a:off x="0" y="3573360"/>
            <a:ext cx="9144000" cy="520560"/>
          </a:xfrm>
          <a:prstGeom prst="rect">
            <a:avLst/>
          </a:prstGeom>
          <a:solidFill>
            <a:srgbClr val="c2e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ны слова: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гонит, ловили, кричит, выбросил, нагревает, встречает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Rectangle 8"/>
          <p:cNvSpPr/>
          <p:nvPr/>
        </p:nvSpPr>
        <p:spPr>
          <a:xfrm>
            <a:off x="142920" y="5789880"/>
            <a:ext cx="8858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Ландыш, одуванчик, малина, смородина, колокольчик, крыжовник, клубника, гвоздик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Rectangle 9"/>
          <p:cNvSpPr/>
          <p:nvPr/>
        </p:nvSpPr>
        <p:spPr>
          <a:xfrm>
            <a:off x="2786040" y="5359320"/>
            <a:ext cx="557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пример: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а ,б, о, и, к, л, е, п,  т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5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0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5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1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0T15:57:02Z</dcterms:created>
  <dc:creator>123</dc:creator>
  <dc:description/>
  <dc:language>en-US</dc:language>
  <cp:lastModifiedBy>Admin</cp:lastModifiedBy>
  <dcterms:modified xsi:type="dcterms:W3CDTF">2012-06-04T16:56:32Z</dcterms:modified>
  <cp:revision>82</cp:revision>
  <dc:subject/>
  <dc:title>Участник конкурса «Самый классный классный-2007» Учитель начальных классов Порецкой СОШ Глухова Надежда Алексеевна</dc:title>
</cp:coreProperties>
</file>