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6DE-83D4-403B-893A-A292189E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6F4-D751-4AF1-B04D-B231CA28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417-B338-42AD-A7AB-E1F19315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0F0-C7AA-48A7-83B6-7655D01C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28201-9842-4EB6-A0E6-A115BE70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C7C3A-95DC-4A83-84DA-59448E03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DCA2B-36BC-45A6-94D6-F1FBDE48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F8531-19C7-4DA7-8B75-FADD2EF9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3E27F-55FA-43F3-9429-8BCD9E7A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421FB-B835-4516-9883-6B3A3B30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F391F-0D63-4A08-8138-CA6880C1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C1D-6E3A-4A55-BCDA-A8B74D2A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A6E40-B130-4EA4-A404-74E43260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330F2-980E-42DA-84C3-A825C8B9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D6374-7583-4C3E-8FED-305BDD2D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CB480-D112-4239-9B91-E63EC788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DE93B-75CF-445E-BDF5-D670F0BD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A025-39B0-4309-8043-D23BD12E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2F97-227B-4EF2-A596-97A236B9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615F0-C059-4122-9284-DDD351E1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637B4-6FF7-4F03-BAFD-797CB512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385F4-EB8B-40F3-9B77-9D21DEB9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951E-4A00-4EB4-B183-71E07572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54918-F1C7-4E66-921B-E79303DB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DC96B-919A-463F-8241-83C91274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5C4D0-B1F3-4F27-9F1C-7EB3A0BF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E48AE-81E5-460E-8D11-7E65B0F0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34A2B-1A90-46A9-BBD8-1F0CE13E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0C7C0-999B-45CB-895D-2C1C5F52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E1F3-47F1-4798-937E-C413DB09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43CAF-3669-4631-B72C-1805E10B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FDE3D-10A0-4756-A4A8-5E9E3006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72A76A-2EDB-46FB-821E-FA007619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914-1A39-48BE-A495-C11F832B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22EF4D-9FCF-4CAD-A364-BED73C8B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76A3DC-6A57-4A9F-8104-A1FF6176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982281-69C9-43A3-A67C-9C0A6817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198773-20AD-42FE-8DD3-F1F827EF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FB8B77-D399-47DE-A253-8BF8B997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444C9-DA37-4944-81EB-9495DB2C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2548DA-8374-4752-AAB5-F2D349EF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BFEAE9-DCEF-43EF-9213-4662B3610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5FD98F-8014-44EC-936A-27833C94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02B-64DD-414A-9A8A-89C3A904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FE4-D4F5-477C-AC79-69F80FB4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9AF-BB1F-417D-A60A-79AD9CA4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021-C607-44F3-8664-B421DC5C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2D4-0083-4BE1-8E57-5CACB2C9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9C52-A506-46B0-A9F7-A79B33A2037F}" type="slidenum">
              <a:rPr b="0" lang="ru-RU" sz="16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7B6B-3FF1-41AC-BA7A-222C2B4A83A8}" type="slidenum">
              <a:rPr b="0" lang="ru-RU" sz="16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4C27-AD3C-4BE7-8D72-B8EF76B7F3C7}" type="slidenum">
              <a:rPr b="0" lang="ru-RU" sz="16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FA2B-4A83-41D2-86D8-0DC479711D4D}" type="slidenum">
              <a:rPr b="0" lang="ru-RU" sz="1600" spc="-1" strike="noStrike">
                <a:solidFill>
                  <a:srgbClr val="444d2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385920" y="333360"/>
            <a:ext cx="806436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 гости к дедушке Корне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йонный литературный конкур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еликий хулиган, фантазёр и мечта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ученик 2 в класса МБОУ «СОШ №3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нгельса Сарат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ригин Макс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: Колесниченко Ольг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4"/>
          <p:cNvSpPr/>
          <p:nvPr/>
        </p:nvSpPr>
        <p:spPr>
          <a:xfrm>
            <a:off x="3995640" y="1089000"/>
            <a:ext cx="48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ней Иванович Чуковс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 самом деле его звали Николай Васильевич Корнейчуков) иногда говорил: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Называйте меня просто Кол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179280" y="4292640"/>
            <a:ext cx="60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ней Иванович Чу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(31) марта 1882 – 28 октября 1969 г.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96800" y="620640"/>
            <a:ext cx="3470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4"/>
          <p:cNvSpPr/>
          <p:nvPr/>
        </p:nvSpPr>
        <p:spPr>
          <a:xfrm>
            <a:off x="743040" y="4221000"/>
            <a:ext cx="77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а—Мария Борисовна Чуковская. Детей у К.И. Чуковского было  трое, двое из них, Лидия и Николай, стали писателями. А еще у него была младшая дочка Мурочка, умершая в 11 лет. Некоторые стихи и сказки были написаны специально для нее. После смерти дочери он не написал ни одной ск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семья Чуковского"/>
          <p:cNvPicPr/>
          <p:nvPr/>
        </p:nvPicPr>
        <p:blipFill>
          <a:blip r:embed="rId1"/>
          <a:stretch/>
        </p:blipFill>
        <p:spPr>
          <a:xfrm>
            <a:off x="1992240" y="404640"/>
            <a:ext cx="4762440" cy="3343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468360" y="393372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м поэтом-сказочником Корней Иванович стал случайно. А вышло это так. Заболел его сын. Чтоб его развлечь, Корней Иванович стал рассказывать ему сказ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л да был крокодил, он по улицам ходил…». Мальчик перестал плакать и заснул. А наутро, проснувшись, он попросил рассказать ему новую сказку. Так появился «Крокодил». Эта сказка была самой перв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193840" y="260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684360" y="45813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ой случай. Утром плакала дочка, она не хотела умываться. Он вышел из своего кабинета, взял ее на руки и сказал: «Надо, надо умываться по утрам и вечерам. А нечистым трубочистам стыд и срам!» Так появился его знаменитый «Мойдодыр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843280" y="476280"/>
            <a:ext cx="2940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539640" y="189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обще, Корней Иванович был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льшим фантазёр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ие интересные имена он давал своим героям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как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:\Users\user\Documents\Викторина по Чуковскому\Bibigon0001.JPG"/>
          <p:cNvPicPr/>
          <p:nvPr/>
        </p:nvPicPr>
        <p:blipFill>
          <a:blip r:embed="rId1"/>
          <a:stretch/>
        </p:blipFill>
        <p:spPr>
          <a:xfrm>
            <a:off x="684360" y="2476440"/>
            <a:ext cx="1538280" cy="22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2484360" y="3284640"/>
            <a:ext cx="1704960" cy="190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C:\Users\user\Documents\Викторина по Чуковскому\imgu419.jpg"/>
          <p:cNvPicPr/>
          <p:nvPr/>
        </p:nvPicPr>
        <p:blipFill>
          <a:blip r:embed="rId3"/>
          <a:stretch/>
        </p:blipFill>
        <p:spPr>
          <a:xfrm>
            <a:off x="4356000" y="3860640"/>
            <a:ext cx="1687680" cy="18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Picture 6" descr="C:\Users\user\Documents\Викторина по Чуковскому\40144_61646-700x500.jpg"/>
          <p:cNvPicPr/>
          <p:nvPr/>
        </p:nvPicPr>
        <p:blipFill>
          <a:blip r:embed="rId4"/>
          <a:stretch/>
        </p:blipFill>
        <p:spPr>
          <a:xfrm>
            <a:off x="6227640" y="5068800"/>
            <a:ext cx="2630520" cy="140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5" name="Прямоугольник 5"/>
          <p:cNvSpPr/>
          <p:nvPr/>
        </p:nvSpPr>
        <p:spPr>
          <a:xfrm>
            <a:off x="861120" y="1959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биг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6"/>
          <p:cNvSpPr/>
          <p:nvPr/>
        </p:nvSpPr>
        <p:spPr>
          <a:xfrm>
            <a:off x="2737800" y="280368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ра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4591080" y="3389400"/>
            <a:ext cx="14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ма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>
            <a:off x="6664320" y="4543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аб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395280" y="336600"/>
            <a:ext cx="77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ьте, как появился  однажды  перед гостями Корней Иванович – высокий-превысокий, с большим добрым носом, в длинном головном уборе индейского вождя из красивых перьев. Ребята – а тогда многие играли в индейцев – наверное, встретили Чуковского восхищённым оглушительным криком. А Корней Иванович, должно быть, встал перед костром, воздел к небу руки – и все сделали то же самое. Потом он взял за руки ближайших мальчишек, и все взялись за руки и заплясали вокруг огня, как взаправдашние индей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каждый – и Чуковский тоже – бросил в костёр по шишке, как дань огненному дух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в нем сидел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ликий хулига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5580000" y="3429000"/>
            <a:ext cx="30765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684360" y="2667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 писателем, он всегда стремился, чтобы в детскую литературу «ворвалось  что-нибудь удалое, лихое, бесшабашное, закружило бы, увлекло бы» юных читателей, сделало бы их жизнь интересной и увлекательной. И, надо сказать, ему это удало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5715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16:34:09Z</dcterms:created>
  <dc:creator>Admin</dc:creator>
  <dc:description/>
  <dc:language>en-US</dc:language>
  <cp:lastModifiedBy>user1</cp:lastModifiedBy>
  <dcterms:modified xsi:type="dcterms:W3CDTF">2012-03-12T15:00:53Z</dcterms:modified>
  <cp:revision>35</cp:revision>
  <dc:subject/>
  <dc:title>«Великий хулиган,фантазер и мечтатель»</dc:title>
</cp:coreProperties>
</file>