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FAE-565D-4657-B9A8-19D16610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4A9-E40B-4E65-8112-B473E349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297-CF24-42FB-A087-8F9DA5F6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90A-251D-405E-8004-F56D80C7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83BA-DE60-4CCD-A1D9-DFC8763A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974B5-AA58-4733-97E1-F19DB38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9EDDA-DDBA-4ED0-903A-9EC0078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AAAD1-E771-4832-94E4-35D24F5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34BCB-4196-432C-AFB9-5E7ECC9F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F73F-8D0D-425B-A560-3531CB62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727C-BFEB-4F73-B3F5-A4DB6CC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B2D-30E4-43CA-9EEA-70B2B2C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E14E2-50DE-4673-9FCC-0CB5950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6515-21AC-41C8-AD05-8E093F3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2A781-8491-448C-9C41-DD591EBC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D9C14-D3C3-477D-A7AB-048C3C6C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1ACA8-1DB0-4976-AF4D-3DB06ED6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0242-8EB5-4BCC-A7B1-617300FB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45F9-799D-4E6E-AA02-780B444C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7F4A-A73C-40D6-8AC2-D314165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533B-822A-434B-A576-A50677C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61C5-7442-4DC3-AE36-C18B7548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6EA-DD24-4C1B-B733-2C38ECE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98B5-BD5B-4507-9925-351D67C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57D0-65C2-4099-B90D-9DBAC74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F9B9-4842-418F-B22C-8278683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DFFF-F22A-40C8-8413-9CDADAD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DEF0-8EF1-4D81-BD48-3B077B2D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FCD1-DFFB-4440-B2FE-10B5DA29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F309-0480-45C7-A349-C8280BB3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8C205-BCE9-4B5B-83CD-E2B1C741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21CA6-0B62-4D37-B6E8-74E4A7B3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3983D-90E6-4D00-B704-C2AED18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505-CC92-4A12-899D-14728A70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2C6B5-14A8-4265-96AB-F63B514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CC6C8-FB62-4991-92CB-AFBD814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74E0A-9024-4881-84CD-0FA6D39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5EC58-21D3-4CBE-A822-E0E28953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B3EC6-9DD3-453E-88E9-026BB850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17A6D-96FD-4469-8A79-8AE643B2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2DF67-5853-4E62-8D60-EF0074E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CA593-5B50-48F5-94E4-70302DAF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FFCB1-0B74-4248-9AD8-ED764103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F03-2039-4FB2-861B-BBBFAB7D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0EA-834F-4A0F-9D0D-77CCD50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C7C-0EDA-402A-A8DD-4A091BC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E10-3895-4725-951D-0BA5BC8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C99-B20F-4B93-BAC9-658CFA31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FA78-5410-4417-8ABA-0DF68ADC5F17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0E7B-006F-47FA-B7F6-D2AC7A376455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FAB2-1A76-46AA-B933-EBB333EA3D4D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B0B2-174B-4758-81E4-93393C4DF7B6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85920" y="333360"/>
            <a:ext cx="806436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гости к дедушке Корне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йонный литературный конкур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ликий хулиган, фантазёр и мечт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2 в класса МБОУ «СОШ №3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нгельса Сара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ригин М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: Колесниченко Ольг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3995640" y="1089000"/>
            <a:ext cx="48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ней Иванович Чуков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самом деле его звали Николай Васильевич Корнейчуков) иногда говорил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Называйте меня просто Кол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79280" y="4292640"/>
            <a:ext cx="60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й Иванович Чу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(31) марта 1882 – 28 октября 1969 г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96800" y="620640"/>
            <a:ext cx="347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4"/>
          <p:cNvSpPr/>
          <p:nvPr/>
        </p:nvSpPr>
        <p:spPr>
          <a:xfrm>
            <a:off x="743040" y="4221000"/>
            <a:ext cx="77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а—Мария Борисовна Чуковская. Детей у К.И. Чуковского было  трое, двое из них, Лидия и Николай, стали писателями. А еще у него была младшая дочка Мурочка, умершая в 11 лет. Некоторые стихи и сказки были написаны специально для нее. После смерти дочери он не написал ни одной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семья Чуковского"/>
          <p:cNvPicPr/>
          <p:nvPr/>
        </p:nvPicPr>
        <p:blipFill>
          <a:blip r:embed="rId1"/>
          <a:stretch/>
        </p:blipFill>
        <p:spPr>
          <a:xfrm>
            <a:off x="1992240" y="404640"/>
            <a:ext cx="4762440" cy="3343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468360" y="39337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м поэтом-сказочником Корней Иванович стал случайно. А вышло это так. Заболел его сын. Чтоб его развлечь, Корней Иванович стал рассказывать ему сказ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л да был крокодил, он по улицам ходил…». Мальчик перестал плакать и заснул. А наутро, проснувшись, он попросил рассказать ему новую сказку. Так появился «Крокодил». Эта сказка была самой пер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93840" y="26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684360" y="4581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ой случай. Утром плакала дочка, она не хотела умываться. Он вышел из своего кабинета, взял ее на руки и сказал: «Надо, надо умываться по утрам и вечерам. А нечистым трубочистам стыд и срам!» Так появился его знаменитый «Мойдоды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2940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9640" y="18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, Корней Иванович был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им фантазё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интересные имена он давал своим героя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как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user\Documents\Викторина по Чуковскому\Bibigon0001.JPG"/>
          <p:cNvPicPr/>
          <p:nvPr/>
        </p:nvPicPr>
        <p:blipFill>
          <a:blip r:embed="rId1"/>
          <a:stretch/>
        </p:blipFill>
        <p:spPr>
          <a:xfrm>
            <a:off x="684360" y="2476440"/>
            <a:ext cx="153828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1704960" cy="19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user\Documents\Викторина по Чуковскому\imgu419.jpg"/>
          <p:cNvPicPr/>
          <p:nvPr/>
        </p:nvPicPr>
        <p:blipFill>
          <a:blip r:embed="rId3"/>
          <a:stretch/>
        </p:blipFill>
        <p:spPr>
          <a:xfrm>
            <a:off x="4356000" y="3860640"/>
            <a:ext cx="1687680" cy="18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6" descr="C:\Users\user\Documents\Викторина по Чуковскому\40144_61646-700x500.jpg"/>
          <p:cNvPicPr/>
          <p:nvPr/>
        </p:nvPicPr>
        <p:blipFill>
          <a:blip r:embed="rId4"/>
          <a:stretch/>
        </p:blipFill>
        <p:spPr>
          <a:xfrm>
            <a:off x="6227640" y="5068800"/>
            <a:ext cx="2630520" cy="14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" name="Прямоугольник 5"/>
          <p:cNvSpPr/>
          <p:nvPr/>
        </p:nvSpPr>
        <p:spPr>
          <a:xfrm>
            <a:off x="861120" y="1959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би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2737800" y="28036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4591080" y="33894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м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6664320" y="4543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а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95280" y="33660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, как появился  однажды  перед гостями Корней Иванович – высокий-превысокий, с большим добрым носом, в длинном головном уборе индейского вождя из красивых перьев. Ребята – а тогда многие играли в индейцев – наверное, встретили Чуковского восхищённым оглушительным криком. А Корней Иванович, должно быть, встал перед костром, воздел к небу руки – и все сделали то же самое. Потом он взял за руки ближайших мальчишек, и все взялись за руки и заплясали вокруг огня, как взаправдашние индей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каждый – и Чуковский тоже – бросил в костёр по шишке, как дань огненному ду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 нем сидел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хулиг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3076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684360" y="2667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 писателем, он всегда стремился, чтобы в детскую литературу «ворвалось  что-нибудь удалое, лихое, бесшабашное, закружило бы, увлекло бы» юных читателей, сделало бы их жизнь интересной и увлекательной. И, надо сказать, ему это уд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6:34:09Z</dcterms:created>
  <dc:creator>Admin</dc:creator>
  <dc:description/>
  <dc:language>en-US</dc:language>
  <cp:lastModifiedBy>user1</cp:lastModifiedBy>
  <dcterms:modified xsi:type="dcterms:W3CDTF">2012-03-12T15:00:53Z</dcterms:modified>
  <cp:revision>35</cp:revision>
  <dc:subject/>
  <dc:title>«Великий хулиган,фантазер и мечтатель»</dc:title>
</cp:coreProperties>
</file>