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C16E-AB0C-4DAE-B982-AB8B989542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521B-AACB-4418-9764-C8EA4FF4EE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F3C7-40A9-4574-90BE-000966AF92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43E7-C2DD-4ACF-94DE-C98775DF69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8394-6957-46B7-B195-84BCBD53FB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2942-1719-46EB-BEEF-2B2732C8AC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DF05-60C1-46DB-B7CB-145F37AF76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21B3D-BAE4-4B86-96AD-7764DD4E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3965-E787-4BC4-A9D7-88A26ADA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54C8-7723-4B7A-B294-F5E23529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4B2C-D9F5-4907-B2D5-949D0B23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B116-8B5B-4FF4-9428-1D754B3E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7B0E-5CFD-4D7C-A672-5B9F9FF2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D7F5-7843-4D29-AAC8-2A278E7D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DAD5-EEDD-4AFB-9B56-36CFB187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2245-305C-4E70-A731-6B2B3EDD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B641-B484-49F5-B40C-17A3FD40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8BFE-68B7-47B3-B5D2-6FE18B9D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13975-8FF9-41BD-B00E-3F6BF19F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55E0-928B-4585-A0A5-D3C38DC5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5C40-061A-4DA7-B493-65FD26E9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733E-C064-44D6-839E-768F6D07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FB25-90E7-476A-B0E6-7AF50E4F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4181-E802-497F-8153-268D1220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13357-1C7E-49E1-B8ED-FE0469C7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D503-45AE-4EE2-B0A9-04310E85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3C3D5-AFBD-44DE-BCD0-E6945C68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C8C6-7C25-4AC6-A200-7D830850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5BDA-53AC-4AD6-93E0-61A78A08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6CF7-EA28-4BF2-A05C-64E80802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693C-9580-4529-8E63-AE02E91E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86CE-D3F0-4D1B-A149-1C6F13CF7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099D-0A2A-497D-ADAE-7F77429A1A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hyperlink" Target="F:\&#1058;&#1074;&#1086;&#1088;&#1095;&#1077;&#1089;&#1082;&#1072;&#1103; &#1075;&#1088;&#1091;&#1087;&#1087;&#1072;\&#1054;&#1073;&#1097;&#1077;&#1089;&#1090;&#1074;&#1077;&#1085;&#1085;&#1072;&#1103; &#1078;&#1080;&#1079;&#1085;&#1100; &#1074; &#1089;. 60-&#1093;\&#1057;&#1086;&#1083;&#1078;&#1077;&#1085;&#1080;&#1094;&#1080;&#1085;.avi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Брежнев"/>
          <p:cNvPicPr/>
          <p:nvPr/>
        </p:nvPicPr>
        <p:blipFill>
          <a:blip r:embed="rId1"/>
          <a:srcRect l="4558" t="2901" r="4558" b="3836"/>
          <a:stretch/>
        </p:blipFill>
        <p:spPr>
          <a:xfrm>
            <a:off x="971640" y="1557360"/>
            <a:ext cx="2879640" cy="45943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Общественная жизнь в середине 60-х- середине 80-х г.г.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88000" y="1557360"/>
            <a:ext cx="403848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 речи Л.И.Брежн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м необходимо всегда и повсюду… хранить нерушимую верность принципам марксизма-ленинизма, проявлять чёткий классовый, партийный подход ко всем общественным явлениям, давать решительный отпор империализму на идейном фронте, не делая никаких уступок буржуазной идеолог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Выделите основные особенности идеологии брежневского пери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5" descr="В"/>
          <p:cNvPicPr/>
          <p:nvPr/>
        </p:nvPicPr>
        <p:blipFill>
          <a:blip r:embed="rId1"/>
          <a:stretch/>
        </p:blipFill>
        <p:spPr>
          <a:xfrm>
            <a:off x="539640" y="1413000"/>
            <a:ext cx="4000680" cy="5229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ВЫсоцкий В"/>
          <p:cNvPicPr/>
          <p:nvPr/>
        </p:nvPicPr>
        <p:blipFill>
          <a:blip r:embed="rId2"/>
          <a:stretch/>
        </p:blipFill>
        <p:spPr>
          <a:xfrm>
            <a:off x="5292720" y="1341360"/>
            <a:ext cx="3641760" cy="525636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Владимир Высоцкий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7" name="vladimir_visockiy_-_pesnya_o_druge.mp3" descr=""/>
          <p:cNvPicPr/>
          <p:nvPr/>
        </p:nvPicPr>
        <p:blipFill>
          <a:blip r:embed="rId3"/>
          <a:stretch/>
        </p:blipFill>
        <p:spPr>
          <a:xfrm>
            <a:off x="4716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1940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А. Галич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9" name="Picture 7" descr="А"/>
          <p:cNvPicPr/>
          <p:nvPr/>
        </p:nvPicPr>
        <p:blipFill>
          <a:blip r:embed="rId1"/>
          <a:stretch/>
        </p:blipFill>
        <p:spPr>
          <a:xfrm>
            <a:off x="755640" y="1268280"/>
            <a:ext cx="3816360" cy="48974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8" descr="Могила галича"/>
          <p:cNvPicPr/>
          <p:nvPr/>
        </p:nvPicPr>
        <p:blipFill>
          <a:blip r:embed="rId2"/>
          <a:stretch/>
        </p:blipFill>
        <p:spPr>
          <a:xfrm>
            <a:off x="4859280" y="1341360"/>
            <a:ext cx="4033800" cy="4751640"/>
          </a:xfrm>
          <a:prstGeom prst="rect">
            <a:avLst/>
          </a:prstGeom>
          <a:ln w="0">
            <a:noFill/>
          </a:ln>
        </p:spPr>
      </p:pic>
      <p:pic>
        <p:nvPicPr>
          <p:cNvPr id="531" name="8band1wh82iltdybb4ssf7mg8.mp3" descr=""/>
          <p:cNvPicPr/>
          <p:nvPr/>
        </p:nvPicPr>
        <p:blipFill>
          <a:blip r:embed="rId3"/>
          <a:stretch/>
        </p:blipFill>
        <p:spPr>
          <a:xfrm>
            <a:off x="457200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1462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Булат Окуджава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3" name="okudzhava,_bulat-molitva.mp3" descr=""/>
          <p:cNvPicPr/>
          <p:nvPr/>
        </p:nvPicPr>
        <p:blipFill>
          <a:blip r:embed="rId1"/>
          <a:stretch/>
        </p:blipFill>
        <p:spPr>
          <a:xfrm>
            <a:off x="8501040" y="6286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7" descr="okudgava_z4"/>
          <p:cNvPicPr/>
          <p:nvPr/>
        </p:nvPicPr>
        <p:blipFill>
          <a:blip r:embed="rId2"/>
          <a:stretch/>
        </p:blipFill>
        <p:spPr>
          <a:xfrm>
            <a:off x="2268360" y="1268280"/>
            <a:ext cx="4319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6932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А. И Солженицын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105520" y="1628280"/>
            <a:ext cx="403848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вращение в  1994 году                          в Росс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7" name="Picture 4" descr="250px-A_solzhenitsin"/>
          <p:cNvPicPr/>
          <p:nvPr/>
        </p:nvPicPr>
        <p:blipFill>
          <a:blip r:embed="rId2"/>
          <a:stretch/>
        </p:blipFill>
        <p:spPr>
          <a:xfrm>
            <a:off x="250920" y="1628640"/>
            <a:ext cx="4390920" cy="3961080"/>
          </a:xfrm>
          <a:prstGeom prst="rect">
            <a:avLst/>
          </a:prstGeom>
          <a:ln w="0">
            <a:noFill/>
          </a:ln>
        </p:spPr>
      </p:pic>
      <p:sp>
        <p:nvSpPr>
          <p:cNvPr id="538" name="Управляющая кнопка: далее 4">
            <a:hlinkClick r:id="rId3"/>
          </p:cNvPr>
          <p:cNvSpPr/>
          <p:nvPr/>
        </p:nvSpPr>
        <p:spPr>
          <a:xfrm>
            <a:off x="5500800" y="31431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71600" y="-531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А.Д.Сахаров.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-684360" y="907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мятник в Санкт- Петербур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4" descr="Памятник Сахарову"/>
          <p:cNvPicPr/>
          <p:nvPr/>
        </p:nvPicPr>
        <p:blipFill>
          <a:blip r:embed="rId1"/>
          <a:stretch/>
        </p:blipFill>
        <p:spPr>
          <a:xfrm>
            <a:off x="611280" y="1413000"/>
            <a:ext cx="3097080" cy="45370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0" descr="Сахаров"/>
          <p:cNvPicPr/>
          <p:nvPr/>
        </p:nvPicPr>
        <p:blipFill>
          <a:blip r:embed="rId2"/>
          <a:stretch/>
        </p:blipFill>
        <p:spPr>
          <a:xfrm>
            <a:off x="4643280" y="765000"/>
            <a:ext cx="3889440" cy="23036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1" descr="Сахаров прессконференция"/>
          <p:cNvPicPr/>
          <p:nvPr/>
        </p:nvPicPr>
        <p:blipFill>
          <a:blip r:embed="rId3"/>
          <a:stretch/>
        </p:blipFill>
        <p:spPr>
          <a:xfrm>
            <a:off x="4859280" y="2852640"/>
            <a:ext cx="4103640" cy="24494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2771640" y="4365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1:28:59Z</dcterms:created>
  <dc:creator>DNS</dc:creator>
  <dc:description/>
  <dc:language>en-US</dc:language>
  <cp:lastModifiedBy>XP GAME 2007</cp:lastModifiedBy>
  <dcterms:modified xsi:type="dcterms:W3CDTF">2010-05-18T20:53:15Z</dcterms:modified>
  <cp:revision>21</cp:revision>
  <dc:subject/>
  <dc:title>Слайд 1</dc:title>
</cp:coreProperties>
</file>