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81E1-2C28-4223-BA56-CCA4DD4F0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BBC6-BA85-4B21-89A7-CDFEE6D591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E784-D3FA-4792-AE02-A1CB4FB122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DD82-E780-4884-8FC8-8849265200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D6B5-FF8B-47FC-A9BD-F5FAE4FBA8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826C-DA80-4065-864B-DF06472436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78A6-87A9-415A-BB63-E72F75C7E6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78D4-C363-4CD6-84A1-60B63F6D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571D-F2BC-4D5D-8D32-C50474B2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B909-5627-4010-8F7B-A74481B2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2DDF-11BF-4A80-B740-C7BC0247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3F6E-8159-45B6-AAB4-FC93BC1B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C49A-4810-4DED-909D-A96E721E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5414-0F8B-4C5E-8A65-442B8CB9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A0EB-82BB-4E87-B083-0264BF06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C9D6-214A-4F8F-BE88-67D059BC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E45A-6BC6-4B5A-A61C-3BBA5827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50CF-31C2-4555-805F-FA8ABF2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52F5-41EB-43CE-98E5-785D2FE8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A9DC-CB61-47C0-A363-30DA3BC4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FEF9-24E7-48D2-B599-51BB795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6BA7-F482-46CB-B302-821B9E39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8EB2-C1FA-4091-BC3D-D903D07A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A23A-1FAF-47AF-83D1-1FED4D88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13DD-EC32-4C7F-9089-2DB9FCE4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0177-D815-46D1-8DDE-1245E894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F552-0F7D-43F4-8692-84E87795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F20B-9E86-40D3-8D20-F75E6DAF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B515-C716-4520-A110-A1963955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A97C-3E0F-4D61-AA89-F2E3549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737E-07E3-4A3A-91B9-B759CF7A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D910-1329-4B85-A75B-C00EB4AD3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25E-AFD0-43F6-9070-A02281E50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hyperlink" Target="F:\&#1058;&#1074;&#1086;&#1088;&#1095;&#1077;&#1089;&#1082;&#1072;&#1103; &#1075;&#1088;&#1091;&#1087;&#1087;&#1072;\&#1054;&#1073;&#1097;&#1077;&#1089;&#1090;&#1074;&#1077;&#1085;&#1085;&#1072;&#1103; &#1078;&#1080;&#1079;&#1085;&#1100; &#1074; &#1089;. 60-&#1093;\&#1057;&#1086;&#1083;&#1078;&#1077;&#1085;&#1080;&#1094;&#1080;&#1085;.avi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Брежнев"/>
          <p:cNvPicPr/>
          <p:nvPr/>
        </p:nvPicPr>
        <p:blipFill>
          <a:blip r:embed="rId1"/>
          <a:srcRect l="4558" t="2901" r="4558" b="3836"/>
          <a:stretch/>
        </p:blipFill>
        <p:spPr>
          <a:xfrm>
            <a:off x="971640" y="1557360"/>
            <a:ext cx="2879640" cy="45943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Общественная жизнь в середине 60-х- середине 80-х г.г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речи Л.И.Брежн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м необходимо всегда и повсюду… хранить нерушимую верность принципам марксизма-ленинизма, проявлять чёткий классовый, партийный подход ко всем общественным явлениям, давать решительный отпор империализму на идейном фронте, не делая никаких уступок буржуазной идеоло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ыделите основные особенности идеологии брежневского пери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В"/>
          <p:cNvPicPr/>
          <p:nvPr/>
        </p:nvPicPr>
        <p:blipFill>
          <a:blip r:embed="rId1"/>
          <a:stretch/>
        </p:blipFill>
        <p:spPr>
          <a:xfrm>
            <a:off x="539640" y="1413000"/>
            <a:ext cx="4000680" cy="5229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ВЫсоцкий В"/>
          <p:cNvPicPr/>
          <p:nvPr/>
        </p:nvPicPr>
        <p:blipFill>
          <a:blip r:embed="rId2"/>
          <a:stretch/>
        </p:blipFill>
        <p:spPr>
          <a:xfrm>
            <a:off x="5292720" y="1341360"/>
            <a:ext cx="3641760" cy="52563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ладимир Высоцкий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vladimir_visockiy_-_pesnya_o_druge.mp3" descr=""/>
          <p:cNvPicPr/>
          <p:nvPr/>
        </p:nvPicPr>
        <p:blipFill>
          <a:blip r:embed="rId3"/>
          <a:stretch/>
        </p:blipFill>
        <p:spPr>
          <a:xfrm>
            <a:off x="4716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940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А. Галич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Picture 7" descr="А"/>
          <p:cNvPicPr/>
          <p:nvPr/>
        </p:nvPicPr>
        <p:blipFill>
          <a:blip r:embed="rId1"/>
          <a:stretch/>
        </p:blipFill>
        <p:spPr>
          <a:xfrm>
            <a:off x="755640" y="1268280"/>
            <a:ext cx="3816360" cy="4897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Могила галича"/>
          <p:cNvPicPr/>
          <p:nvPr/>
        </p:nvPicPr>
        <p:blipFill>
          <a:blip r:embed="rId2"/>
          <a:stretch/>
        </p:blipFill>
        <p:spPr>
          <a:xfrm>
            <a:off x="4859280" y="1341360"/>
            <a:ext cx="4033800" cy="4751640"/>
          </a:xfrm>
          <a:prstGeom prst="rect">
            <a:avLst/>
          </a:prstGeom>
          <a:ln w="0">
            <a:noFill/>
          </a:ln>
        </p:spPr>
      </p:pic>
      <p:pic>
        <p:nvPicPr>
          <p:cNvPr id="531" name="8band1wh82iltdybb4ssf7mg8.mp3" descr=""/>
          <p:cNvPicPr/>
          <p:nvPr/>
        </p:nvPicPr>
        <p:blipFill>
          <a:blip r:embed="rId3"/>
          <a:stretch/>
        </p:blipFill>
        <p:spPr>
          <a:xfrm>
            <a:off x="4572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1462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Булат Окуджав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okudzhava,_bulat-molitva.mp3" descr=""/>
          <p:cNvPicPr/>
          <p:nvPr/>
        </p:nvPicPr>
        <p:blipFill>
          <a:blip r:embed="rId1"/>
          <a:stretch/>
        </p:blipFill>
        <p:spPr>
          <a:xfrm>
            <a:off x="850104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" descr="okudgava_z4"/>
          <p:cNvPicPr/>
          <p:nvPr/>
        </p:nvPicPr>
        <p:blipFill>
          <a:blip r:embed="rId2"/>
          <a:stretch/>
        </p:blipFill>
        <p:spPr>
          <a:xfrm>
            <a:off x="2268360" y="1268280"/>
            <a:ext cx="4319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6932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А. И Солженицы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05520" y="162828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вращение в  1994 году                          в Росс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250px-A_solzhenitsin"/>
          <p:cNvPicPr/>
          <p:nvPr/>
        </p:nvPicPr>
        <p:blipFill>
          <a:blip r:embed="rId2"/>
          <a:stretch/>
        </p:blipFill>
        <p:spPr>
          <a:xfrm>
            <a:off x="250920" y="1628640"/>
            <a:ext cx="4390920" cy="3961080"/>
          </a:xfrm>
          <a:prstGeom prst="rect">
            <a:avLst/>
          </a:prstGeom>
          <a:ln w="0">
            <a:noFill/>
          </a:ln>
        </p:spPr>
      </p:pic>
      <p:sp>
        <p:nvSpPr>
          <p:cNvPr id="538" name="Управляющая кнопка: далее 4">
            <a:hlinkClick r:id="rId3"/>
          </p:cNvPr>
          <p:cNvSpPr/>
          <p:nvPr/>
        </p:nvSpPr>
        <p:spPr>
          <a:xfrm>
            <a:off x="5500800" y="3143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600" y="-53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А.Д.Сахаров.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-68436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мятник в Санкт- Петербур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4" descr="Памятник Сахарову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4537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Сахаров"/>
          <p:cNvPicPr/>
          <p:nvPr/>
        </p:nvPicPr>
        <p:blipFill>
          <a:blip r:embed="rId2"/>
          <a:stretch/>
        </p:blipFill>
        <p:spPr>
          <a:xfrm>
            <a:off x="4643280" y="765000"/>
            <a:ext cx="3889440" cy="23036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1" descr="Сахаров прессконференция"/>
          <p:cNvPicPr/>
          <p:nvPr/>
        </p:nvPicPr>
        <p:blipFill>
          <a:blip r:embed="rId3"/>
          <a:stretch/>
        </p:blipFill>
        <p:spPr>
          <a:xfrm>
            <a:off x="4859280" y="2852640"/>
            <a:ext cx="4103640" cy="24494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2771640" y="4365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28:59Z</dcterms:created>
  <dc:creator>DNS</dc:creator>
  <dc:description/>
  <dc:language>en-US</dc:language>
  <cp:lastModifiedBy>XP GAME 2007</cp:lastModifiedBy>
  <dcterms:modified xsi:type="dcterms:W3CDTF">2010-05-18T20:53:15Z</dcterms:modified>
  <cp:revision>21</cp:revision>
  <dc:subject/>
  <dc:title>Слайд 1</dc:title>
</cp:coreProperties>
</file>