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202B-8BC9-433A-940A-01E0D31F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A312-FEB3-46C2-B55C-1AC26E2A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388-AF10-4DA7-AB54-B9378F0F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EBA2-94E8-4B69-886F-12DD1916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05FE-0D4B-4DEA-8099-3CB411FB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76B0-8C2D-4CC1-A144-421BE47E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3D8B-E34B-4C0E-83D8-0C7F907A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5283-BBDB-49AD-AC91-A7664180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D82F-2F90-475C-88FB-A90C4A4C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2D29-EF95-44BC-82E1-7B8A0C0D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295A-1F55-45AE-A4B9-AC1746E3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A2A-C834-4C0C-BADE-AED75A6B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E711-C12D-4FBC-924E-EA3591078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izabeth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queen-elizabeth-ii2" descr="Картинка 8 из 14740"/>
          <p:cNvPicPr/>
          <p:nvPr/>
        </p:nvPicPr>
        <p:blipFill>
          <a:blip r:embed="rId1"/>
          <a:stretch/>
        </p:blipFill>
        <p:spPr>
          <a:xfrm>
            <a:off x="0" y="0"/>
            <a:ext cx="4964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инцесса Анна, дочь королевы Елизаветы II . Очередь наследования: 8-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54240" y="7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RINCESS%20ROYAL%20OFFICIAL%20PORT" descr="Картинка 25 из 46085"/>
          <p:cNvPicPr/>
          <p:nvPr/>
        </p:nvPicPr>
        <p:blipFill>
          <a:blip r:embed="rId1"/>
          <a:stretch/>
        </p:blipFill>
        <p:spPr>
          <a:xfrm>
            <a:off x="457200" y="304920"/>
            <a:ext cx="487692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181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нц Генри (Гарри) Уэльский (англ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ince Henry (Harry) of Wale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17880" y="9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rinceharry1_300" descr="Картинка 148 из 14740"/>
          <p:cNvPicPr/>
          <p:nvPr/>
        </p:nvPicPr>
        <p:blipFill>
          <a:blip r:embed="rId1"/>
          <a:stretch/>
        </p:blipFill>
        <p:spPr>
          <a:xfrm>
            <a:off x="457200" y="304920"/>
            <a:ext cx="3657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533412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нц Уильям и Кейт Миддлт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306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73836185_article13817950BD3C56D00000578927_634x449" descr="Картинка 3 из 14740"/>
          <p:cNvPicPr/>
          <p:nvPr/>
        </p:nvPicPr>
        <p:blipFill>
          <a:blip r:embed="rId1"/>
          <a:stretch/>
        </p:blipFill>
        <p:spPr>
          <a:xfrm>
            <a:off x="685800" y="-19080"/>
            <a:ext cx="754380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56240" y="12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british-620x363_db829db34ca84dd74b54e6cf44b28186_510" descr=""/>
          <p:cNvPicPr/>
          <p:nvPr/>
        </p:nvPicPr>
        <p:blipFill>
          <a:blip r:embed="rId1"/>
          <a:stretch/>
        </p:blipFill>
        <p:spPr>
          <a:xfrm>
            <a:off x="1066680" y="0"/>
            <a:ext cx="6782040" cy="3983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960" y="4132440"/>
            <a:ext cx="98582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 состав британской королевской семьи, входят: Елизавета II – королева Великобритан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нц Филипп – супруг королевы Елизаве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нц Чарльз – старший сын королевы, наследник британского престо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нц Эндрю – второй сын королевы, герцог Йоркс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нц Эдвард – младший сын королевы, герцог Эдинбургс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нцесса Анна – дочь королевы Елизаве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нцесса Кентская – жена принца Кентского Майк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ара Фергюсон – бывшая жена принца Эндр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ильям и Гарри – принцы, дети принца Чарльза и покойной Диан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милла Паркер-Боулз – супруга принца Чарль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46560" y="13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63688851_93026323o" descr=""/>
          <p:cNvPicPr/>
          <p:nvPr/>
        </p:nvPicPr>
        <p:blipFill>
          <a:blip r:embed="rId1"/>
          <a:stretch/>
        </p:blipFill>
        <p:spPr>
          <a:xfrm>
            <a:off x="1905120" y="0"/>
            <a:ext cx="581004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5181480"/>
            <a:ext cx="81532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ролева Елизавета II – королева Великобритании; полное имя  - Елизавета Александра Мария Виндз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нц Филипп, герцог Эдинбургский   – муж королевы Елизаве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81160" y="10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20110610070507" descr="Картинка 151 из 14740"/>
          <p:cNvPicPr/>
          <p:nvPr/>
        </p:nvPicPr>
        <p:blipFill>
          <a:blip r:embed="rId1"/>
          <a:stretch/>
        </p:blipFill>
        <p:spPr>
          <a:xfrm>
            <a:off x="533520" y="228600"/>
            <a:ext cx="609588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533412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следник британского трона принц Уэльский Чарль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05240" y="127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0007wqyt" descr="Картинка 2 из 47195"/>
          <p:cNvPicPr/>
          <p:nvPr/>
        </p:nvPicPr>
        <p:blipFill>
          <a:blip r:embed="rId1"/>
          <a:stretch/>
        </p:blipFill>
        <p:spPr>
          <a:xfrm>
            <a:off x="533520" y="304920"/>
            <a:ext cx="670536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10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вадьба Принца Уэльского Чарльза и принцессы Ди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22600" y="75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1362693" descr="Картинка 20 из 14740"/>
          <p:cNvPicPr/>
          <p:nvPr/>
        </p:nvPicPr>
        <p:blipFill>
          <a:blip r:embed="rId1"/>
          <a:stretch/>
        </p:blipFill>
        <p:spPr>
          <a:xfrm>
            <a:off x="533520" y="304920"/>
            <a:ext cx="61722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нц Чарльз и герцогиня Корнуоллская Камилла Паркер-Боул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9120" y="9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69321717" descr="Картинка 74 из 14740"/>
          <p:cNvPicPr/>
          <p:nvPr/>
        </p:nvPicPr>
        <p:blipFill>
          <a:blip r:embed="rId1"/>
          <a:stretch/>
        </p:blipFill>
        <p:spPr>
          <a:xfrm>
            <a:off x="380880" y="304920"/>
            <a:ext cx="807732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21240" y="13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rinc" descr=""/>
          <p:cNvPicPr/>
          <p:nvPr/>
        </p:nvPicPr>
        <p:blipFill>
          <a:blip r:embed="rId1"/>
          <a:stretch/>
        </p:blipFill>
        <p:spPr>
          <a:xfrm>
            <a:off x="571680" y="228600"/>
            <a:ext cx="4098600" cy="5486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5668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н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ндрю, Герцог Йоркский, средний сын  королевы Елизаветы 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чередь наследования: 4-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54097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нц Эдвард, Граф Уэссекский, младший сын королевы Елизаветы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чередь наследования: 7-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35200" y="131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68504991_1293628511_428pxRoyal_Wedding_Stockholm_2010KonserthusetPrince_Edward_Earl_of_Wessex" descr="Картинка 6 из 304"/>
          <p:cNvPicPr/>
          <p:nvPr/>
        </p:nvPicPr>
        <p:blipFill>
          <a:blip r:embed="rId1"/>
          <a:stretch/>
        </p:blipFill>
        <p:spPr>
          <a:xfrm>
            <a:off x="566640" y="0"/>
            <a:ext cx="3864240" cy="5410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5831280"/>
            <a:ext cx="80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митрий</cp:lastModifiedBy>
  <dcterms:modified xsi:type="dcterms:W3CDTF">2012-06-04T15:00:3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