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E038-9A65-427C-81BD-3B5A5BD0F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FB0E-18A0-4DBC-B5C9-31F035C2D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29D6-C504-4A11-B0D9-5DF2F17CA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FDB5-8756-4975-9F62-94A673734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BC85-30C8-492C-B71F-32E2F0A1F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6D2F-EA14-4356-8FCB-C552A04AD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9030-3565-42E5-ACFF-C3B815E05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9C0B-48D1-46C5-8637-20077BFD0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6015-F43B-4E73-87E1-0918866DC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100D-D925-4054-B0FB-D9F7A2BA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9D36-1D34-4702-9BA5-77E2D05A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E07B-5BB5-4833-8D56-82D777D1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B7414-5BE9-4853-AE99-B21981EA0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lizabeth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4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queen-elizabeth-ii2" descr="Картинка 8 из 14740"/>
          <p:cNvPicPr/>
          <p:nvPr/>
        </p:nvPicPr>
        <p:blipFill>
          <a:blip r:embed="rId1"/>
          <a:stretch/>
        </p:blipFill>
        <p:spPr>
          <a:xfrm>
            <a:off x="0" y="0"/>
            <a:ext cx="4964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495252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ринцесса Анна, дочь королевы Елизаветы II . Очередь наследования: 8-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54240" y="74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RINCESS%20ROYAL%20OFFICIAL%20PORT" descr="Картинка 25 из 46085"/>
          <p:cNvPicPr/>
          <p:nvPr/>
        </p:nvPicPr>
        <p:blipFill>
          <a:blip r:embed="rId1"/>
          <a:stretch/>
        </p:blipFill>
        <p:spPr>
          <a:xfrm>
            <a:off x="457200" y="304920"/>
            <a:ext cx="487692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51814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инц Генри (Гарри) Уэльский (англ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ince Henry (Harry) of Wale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17880" y="90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rinceharry1_300" descr="Картинка 148 из 14740"/>
          <p:cNvPicPr/>
          <p:nvPr/>
        </p:nvPicPr>
        <p:blipFill>
          <a:blip r:embed="rId1"/>
          <a:stretch/>
        </p:blipFill>
        <p:spPr>
          <a:xfrm>
            <a:off x="457200" y="304920"/>
            <a:ext cx="36576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120" y="5334120"/>
            <a:ext cx="8077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инц Уильям и Кейт Миддлт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30600" y="11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73836185_article13817950BD3C56D00000578927_634x449" descr="Картинка 3 из 14740"/>
          <p:cNvPicPr/>
          <p:nvPr/>
        </p:nvPicPr>
        <p:blipFill>
          <a:blip r:embed="rId1"/>
          <a:stretch/>
        </p:blipFill>
        <p:spPr>
          <a:xfrm>
            <a:off x="685800" y="-19080"/>
            <a:ext cx="7543800" cy="53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656240" y="125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british-620x363_db829db34ca84dd74b54e6cf44b28186_510" descr=""/>
          <p:cNvPicPr/>
          <p:nvPr/>
        </p:nvPicPr>
        <p:blipFill>
          <a:blip r:embed="rId1"/>
          <a:stretch/>
        </p:blipFill>
        <p:spPr>
          <a:xfrm>
            <a:off x="1066680" y="0"/>
            <a:ext cx="6782040" cy="39830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0960" y="4132440"/>
            <a:ext cx="985824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 состав британской королевской семьи, входят: Елизавета II – королева Великобритан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инц Филипп – супруг королевы Елизавет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инц Чарльз – старший сын королевы, наследник британского престол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инц Эндрю – второй сын королевы, герцог Йоркск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инц Эдвард – младший сын королевы, герцог Эдинбургск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инцесса Анна – дочь королевы Елизавет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инцесса Кентская – жена принца Кентского Майкл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ара Фергюсон – бывшая жена принца Эндр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Уильям и Гарри – принцы, дети принца Чарльза и покойной Диан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амилла Паркер-Боулз – супруга принца Чарльз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46560" y="13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63688851_93026323o" descr=""/>
          <p:cNvPicPr/>
          <p:nvPr/>
        </p:nvPicPr>
        <p:blipFill>
          <a:blip r:embed="rId1"/>
          <a:stretch/>
        </p:blipFill>
        <p:spPr>
          <a:xfrm>
            <a:off x="1905120" y="0"/>
            <a:ext cx="5810040" cy="66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5181480"/>
            <a:ext cx="81532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ролева Елизавета II – королева Великобритании; полное имя  - Елизавета Александра Мария Виндзо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инц Филипп, герцог Эдинбургский   – муж королевы Елизаве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81160" y="103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20110610070507" descr="Картинка 151 из 14740"/>
          <p:cNvPicPr/>
          <p:nvPr/>
        </p:nvPicPr>
        <p:blipFill>
          <a:blip r:embed="rId1"/>
          <a:stretch/>
        </p:blipFill>
        <p:spPr>
          <a:xfrm>
            <a:off x="533520" y="228600"/>
            <a:ext cx="609588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5334120"/>
            <a:ext cx="81532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аследник британского трона принц Уэльский Чарль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05240" y="127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0007wqyt" descr="Картинка 2 из 47195"/>
          <p:cNvPicPr/>
          <p:nvPr/>
        </p:nvPicPr>
        <p:blipFill>
          <a:blip r:embed="rId1"/>
          <a:stretch/>
        </p:blipFill>
        <p:spPr>
          <a:xfrm>
            <a:off x="533520" y="304920"/>
            <a:ext cx="6705360" cy="49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5105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вадьба Принца Уэльского Чарльза и принцессы Диа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622600" y="75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1362693" descr="Картинка 20 из 14740"/>
          <p:cNvPicPr/>
          <p:nvPr/>
        </p:nvPicPr>
        <p:blipFill>
          <a:blip r:embed="rId1"/>
          <a:stretch/>
        </p:blipFill>
        <p:spPr>
          <a:xfrm>
            <a:off x="533520" y="304920"/>
            <a:ext cx="617220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47242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инц Чарльз и герцогиня Корнуоллская Камилла Паркер-Боул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29120" y="93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69321717" descr="Картинка 74 из 14740"/>
          <p:cNvPicPr/>
          <p:nvPr/>
        </p:nvPicPr>
        <p:blipFill>
          <a:blip r:embed="rId1"/>
          <a:stretch/>
        </p:blipFill>
        <p:spPr>
          <a:xfrm>
            <a:off x="380880" y="304920"/>
            <a:ext cx="8077320" cy="44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21240" y="13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rinc" descr=""/>
          <p:cNvPicPr/>
          <p:nvPr/>
        </p:nvPicPr>
        <p:blipFill>
          <a:blip r:embed="rId1"/>
          <a:stretch/>
        </p:blipFill>
        <p:spPr>
          <a:xfrm>
            <a:off x="571680" y="228600"/>
            <a:ext cx="4098600" cy="54864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5668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инц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Эндрю, Герцог Йоркский, средний сын  королевы Елизаветы I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чередь наследования: 4-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5409720"/>
            <a:ext cx="83059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инц Эдвард, Граф Уэссекский, младший сын королевы Елизаветы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чередь наследования: 7-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35200" y="131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68504991_1293628511_428pxRoyal_Wedding_Stockholm_2010KonserthusetPrince_Edward_Earl_of_Wessex" descr="Картинка 6 из 304"/>
          <p:cNvPicPr/>
          <p:nvPr/>
        </p:nvPicPr>
        <p:blipFill>
          <a:blip r:embed="rId1"/>
          <a:stretch/>
        </p:blipFill>
        <p:spPr>
          <a:xfrm>
            <a:off x="566640" y="0"/>
            <a:ext cx="3864240" cy="54100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57200" y="5831280"/>
            <a:ext cx="80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митрий</cp:lastModifiedBy>
  <dcterms:modified xsi:type="dcterms:W3CDTF">2012-06-04T15:00:37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