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wmf" ContentType="image/x-wmf"/>
  <Override PartName="/ppt/media/image27.jpeg" ContentType="image/jpeg"/>
  <Override PartName="/ppt/media/image30.wmf" ContentType="image/x-wmf"/>
  <Override PartName="/ppt/media/image11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32.wmf" ContentType="image/x-wmf"/>
  <Override PartName="/ppt/media/image39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88C-41F7-4D95-B3BE-855FC0125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C32-AC19-4B6D-9E39-E097180381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04A-7047-46F3-8854-414C1E13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ABE-44E5-440B-A493-F5DEADF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7CF-1A88-415E-B346-145D6EF1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7D9-9472-4E8F-B4F6-6286666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455-94F8-4720-A096-9C6304B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6B6-67F1-4316-A14A-B7AA18A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D94-2653-426B-9AB9-8256923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271-24E7-4BE9-A797-CB4D812B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54F-7004-420D-8C9C-F9D30C9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EBF-AC38-4621-A566-BA5C032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C76-AD84-493C-98F2-63C4809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177-AE60-49BE-964D-3EB42BE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FE8-21E4-4B26-8775-C3318C40A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26920" y="2003400"/>
            <a:ext cx="8317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«Давайте говорить друг другу комплимен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</a:rPr>
              <a:t>Совместное родительское собрание с учениками в форме –капус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IMG_7663"/>
          <p:cNvPicPr/>
          <p:nvPr/>
        </p:nvPicPr>
        <p:blipFill>
          <a:blip r:embed="rId2"/>
          <a:stretch/>
        </p:blipFill>
        <p:spPr>
          <a:xfrm>
            <a:off x="0" y="1954080"/>
            <a:ext cx="6143760" cy="49039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286000" y="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мальчик любит мыло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И зубной порошок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Этот мальчик очень милый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поступает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000803_1052_2093_vuvv"/>
          <p:cNvPicPr/>
          <p:nvPr/>
        </p:nvPicPr>
        <p:blipFill>
          <a:blip r:embed="rId2"/>
          <a:stretch/>
        </p:blipFill>
        <p:spPr>
          <a:xfrm>
            <a:off x="5500800" y="785880"/>
            <a:ext cx="2570040" cy="55767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357120" y="21420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Если бьет дрянной драчун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лабого мальчишку,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Я такого не хочу 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даже ставить в кни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000803_1052_2101_vuvv"/>
          <p:cNvPicPr/>
          <p:nvPr/>
        </p:nvPicPr>
        <p:blipFill>
          <a:blip r:embed="rId2"/>
          <a:stretch/>
        </p:blipFill>
        <p:spPr>
          <a:xfrm>
            <a:off x="5857920" y="142920"/>
            <a:ext cx="2639880" cy="647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00803_1052_2084_vuvv"/>
          <p:cNvPicPr/>
          <p:nvPr/>
        </p:nvPicPr>
        <p:blipFill>
          <a:blip r:embed="rId3"/>
          <a:stretch/>
        </p:blipFill>
        <p:spPr>
          <a:xfrm>
            <a:off x="500040" y="3571920"/>
            <a:ext cx="3022560" cy="28702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428760" y="7142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Этот же кричит: - не трожь!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Тех, кто меньше ростом.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Этот мальчик так хорош!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Загляденье про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3" descr="000803_1052_2113_vuvv"/>
          <p:cNvPicPr/>
          <p:nvPr/>
        </p:nvPicPr>
        <p:blipFill>
          <a:blip r:embed="rId1"/>
          <a:stretch/>
        </p:blipFill>
        <p:spPr>
          <a:xfrm>
            <a:off x="285840" y="571680"/>
            <a:ext cx="4929120" cy="6003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4714920" y="42876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Если ты порвал подряд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книжицу и мячик,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ро такого говорят: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лоховаты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MPj04010700000[1]"/>
          <p:cNvPicPr/>
          <p:nvPr/>
        </p:nvPicPr>
        <p:blipFill>
          <a:blip r:embed="rId2"/>
          <a:stretch/>
        </p:blipFill>
        <p:spPr>
          <a:xfrm>
            <a:off x="0" y="1500120"/>
            <a:ext cx="5357880" cy="5357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Прямоугольник 2"/>
          <p:cNvSpPr/>
          <p:nvPr/>
        </p:nvSpPr>
        <p:spPr>
          <a:xfrm>
            <a:off x="5500800" y="357120"/>
            <a:ext cx="36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мальчик любит труд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Тычет в книжку пальчик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Про такого пишут тут: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н хороши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IMG_6751"/>
          <p:cNvPicPr/>
          <p:nvPr/>
        </p:nvPicPr>
        <p:blipFill>
          <a:blip r:embed="rId1"/>
          <a:stretch/>
        </p:blipFill>
        <p:spPr>
          <a:xfrm>
            <a:off x="5143680" y="1214280"/>
            <a:ext cx="3679560" cy="542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8" descr="crow"/>
          <p:cNvPicPr/>
          <p:nvPr/>
        </p:nvPicPr>
        <p:blipFill>
          <a:blip r:embed="rId2"/>
          <a:stretch/>
        </p:blipFill>
        <p:spPr>
          <a:xfrm>
            <a:off x="500040" y="1214280"/>
            <a:ext cx="2514600" cy="1833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14200" y="4071960"/>
            <a:ext cx="66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От вороны карапуз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Убежал, заохав.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Мальчик этот просто трус.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Это очень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MPj03961750000[1]"/>
          <p:cNvPicPr/>
          <p:nvPr/>
        </p:nvPicPr>
        <p:blipFill>
          <a:blip r:embed="rId2"/>
          <a:stretch/>
        </p:blipFill>
        <p:spPr>
          <a:xfrm>
            <a:off x="4857840" y="285840"/>
            <a:ext cx="4062240" cy="53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9" descr="crow"/>
          <p:cNvPicPr/>
          <p:nvPr/>
        </p:nvPicPr>
        <p:blipFill>
          <a:blip r:embed="rId3"/>
          <a:stretch/>
        </p:blipFill>
        <p:spPr>
          <a:xfrm>
            <a:off x="285840" y="4129200"/>
            <a:ext cx="3286080" cy="23954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35712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Этот, хоть и сам с вершок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порит с грозной птицей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Храбрый мальчик, хорошо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В жизни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MCj02326120000[1]"/>
          <p:cNvPicPr/>
          <p:nvPr/>
        </p:nvPicPr>
        <p:blipFill>
          <a:blip r:embed="rId2"/>
          <a:stretch/>
        </p:blipFill>
        <p:spPr>
          <a:xfrm>
            <a:off x="714240" y="714240"/>
            <a:ext cx="4857840" cy="5791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572080" y="285840"/>
            <a:ext cx="335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т в грязь полез и рад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Что грязна рубах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 такого говорят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 плохой, неря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928960" y="2571840"/>
            <a:ext cx="609480" cy="76176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2286000" y="3071880"/>
            <a:ext cx="609480" cy="60948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2786040" y="5214960"/>
            <a:ext cx="304920" cy="4572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MCj02321570000[1]"/>
          <p:cNvPicPr/>
          <p:nvPr/>
        </p:nvPicPr>
        <p:blipFill>
          <a:blip r:embed="rId2"/>
          <a:stretch/>
        </p:blipFill>
        <p:spPr>
          <a:xfrm>
            <a:off x="214200" y="1071720"/>
            <a:ext cx="4086360" cy="548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2793380000[1]"/>
          <p:cNvPicPr/>
          <p:nvPr/>
        </p:nvPicPr>
        <p:blipFill>
          <a:blip r:embed="rId3"/>
          <a:stretch/>
        </p:blipFill>
        <p:spPr>
          <a:xfrm>
            <a:off x="5500800" y="3786120"/>
            <a:ext cx="3362040" cy="271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4429080" y="5716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чистит вален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ет сам галош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хотя и маленьк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вполне хоро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0" descr="MPj04101660000[1]"/>
          <p:cNvPicPr/>
          <p:nvPr/>
        </p:nvPicPr>
        <p:blipFill>
          <a:blip r:embed="rId2"/>
          <a:stretch/>
        </p:blipFill>
        <p:spPr>
          <a:xfrm>
            <a:off x="0" y="2357280"/>
            <a:ext cx="5408640" cy="45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2286000" y="3571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Помни это каждый сын.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Знай любой ребенок: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Вырастет из сына свин,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Если сын – свин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ser\Desktop\школа\thumb_medium_3311p[1].jpg"/>
          <p:cNvPicPr/>
          <p:nvPr/>
        </p:nvPicPr>
        <p:blipFill>
          <a:blip r:embed="rId3"/>
          <a:stretch/>
        </p:blipFill>
        <p:spPr>
          <a:xfrm>
            <a:off x="6413400" y="285840"/>
            <a:ext cx="250056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jupiters.narod.ru/doma/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MPj04096920000[1]"/>
          <p:cNvPicPr/>
          <p:nvPr/>
        </p:nvPicPr>
        <p:blipFill>
          <a:blip r:embed="rId2"/>
          <a:stretch/>
        </p:blipFill>
        <p:spPr>
          <a:xfrm>
            <a:off x="3000240" y="214200"/>
            <a:ext cx="5929560" cy="636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Прямоугольник 2"/>
          <p:cNvSpPr/>
          <p:nvPr/>
        </p:nvSpPr>
        <p:spPr>
          <a:xfrm>
            <a:off x="285840" y="28584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альчик радостный пошел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И решила кроха: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«Буду делать – хорошо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И не буду - плох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187280" y="1166760"/>
            <a:ext cx="6697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ов по тем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хорошо и что такое плох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группах вместе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написания синквейна (стихотворения из 5 строк без риф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строка-1 слово-название стихотворения(слово-предм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трока-2 слова(призна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трока-3 слова -действия, относящиеся к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строка-4 слова-предложение, показывающее авторское отношение к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строка-1 слово- ассоциация по те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3294720" y="763560"/>
            <a:ext cx="42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 на т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хорошо и что такое плох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625040" y="2060640"/>
            <a:ext cx="766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е, пло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ть , договариваться, не обман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сь к близким так, как будут относиться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1258920" y="155736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, уважайте и цените друг друг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ов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jupiters.narod.ru/doma/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471600" y="5493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706760" y="105264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ПЕКА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421640" y="260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ВАЖИТЕЛЬ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661720" y="4762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63960" y="11253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494840" y="115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016840" y="17002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52400" y="43657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2343960" y="50133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27560" y="42926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786840" y="328464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ДОГОВОР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5581080" y="50846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666040" y="40053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Е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2561040" y="609300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 САМОСТОЯ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57200" y="857160"/>
            <a:ext cx="7215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Что  такое  хорош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что  такое  плох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571840" y="564372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.Маяко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MPj04018670000[1]"/>
          <p:cNvPicPr/>
          <p:nvPr/>
        </p:nvPicPr>
        <p:blipFill>
          <a:blip r:embed="rId2"/>
          <a:stretch/>
        </p:blipFill>
        <p:spPr>
          <a:xfrm>
            <a:off x="714240" y="428760"/>
            <a:ext cx="4156200" cy="5925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Прямоугольник 2"/>
          <p:cNvSpPr/>
          <p:nvPr/>
        </p:nvSpPr>
        <p:spPr>
          <a:xfrm>
            <a:off x="5214960" y="57168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роха сын к отцу пришел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спросила кроха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Что такое хорошо и что такое пло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user\Desktop\школа\Рисунок3.png"/>
          <p:cNvPicPr/>
          <p:nvPr/>
        </p:nvPicPr>
        <p:blipFill>
          <a:blip r:embed="rId3"/>
          <a:stretch/>
        </p:blipFill>
        <p:spPr>
          <a:xfrm>
            <a:off x="6229440" y="342900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MPj04101650000[1]"/>
          <p:cNvPicPr/>
          <p:nvPr/>
        </p:nvPicPr>
        <p:blipFill>
          <a:blip r:embed="rId1"/>
          <a:stretch/>
        </p:blipFill>
        <p:spPr>
          <a:xfrm>
            <a:off x="4071960" y="214200"/>
            <a:ext cx="4800600" cy="598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Прямоугольник 2"/>
          <p:cNvSpPr/>
          <p:nvPr/>
        </p:nvSpPr>
        <p:spPr>
          <a:xfrm>
            <a:off x="214200" y="285840"/>
            <a:ext cx="385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 меня секретов нет, -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лушайте, детишки, -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апы этого отве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мещаю в кни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user\Desktop\школа\4578.jpg"/>
          <p:cNvPicPr/>
          <p:nvPr/>
        </p:nvPicPr>
        <p:blipFill>
          <a:blip r:embed="rId2"/>
          <a:stretch/>
        </p:blipFill>
        <p:spPr>
          <a:xfrm>
            <a:off x="214200" y="4000680"/>
            <a:ext cx="22860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3" descr="PICT19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4643280" y="21420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сли ветер крыши рвет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сли град загрохал, -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аждый знает – это вот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для прогулок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MCj01992490000[1]"/>
          <p:cNvPicPr/>
          <p:nvPr/>
        </p:nvPicPr>
        <p:blipFill>
          <a:blip r:embed="rId2"/>
          <a:stretch/>
        </p:blipFill>
        <p:spPr>
          <a:xfrm>
            <a:off x="285840" y="285840"/>
            <a:ext cx="209556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MCj03503210000[1]"/>
          <p:cNvPicPr/>
          <p:nvPr/>
        </p:nvPicPr>
        <p:blipFill>
          <a:blip r:embed="rId3"/>
          <a:stretch/>
        </p:blipFill>
        <p:spPr>
          <a:xfrm>
            <a:off x="6143760" y="2143080"/>
            <a:ext cx="2590560" cy="2059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CT1790"/>
          <p:cNvPicPr/>
          <p:nvPr/>
        </p:nvPicPr>
        <p:blipFill>
          <a:blip r:embed="rId2"/>
          <a:stretch/>
        </p:blipFill>
        <p:spPr>
          <a:xfrm>
            <a:off x="214200" y="291960"/>
            <a:ext cx="4714920" cy="628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Прямоугольник 2"/>
          <p:cNvSpPr/>
          <p:nvPr/>
        </p:nvSpPr>
        <p:spPr>
          <a:xfrm>
            <a:off x="5143680" y="4286160"/>
            <a:ext cx="3786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Дождь покапал и прошел,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Солнце в целом свете.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Это очень хорошо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И большим, и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user\Desktop\школа\thumb_medium_5638p[1].jpg"/>
          <p:cNvPicPr/>
          <p:nvPr/>
        </p:nvPicPr>
        <p:blipFill>
          <a:blip r:embed="rId3"/>
          <a:stretch/>
        </p:blipFill>
        <p:spPr>
          <a:xfrm>
            <a:off x="6715080" y="214200"/>
            <a:ext cx="219888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IMG_6328"/>
          <p:cNvPicPr/>
          <p:nvPr/>
        </p:nvPicPr>
        <p:blipFill>
          <a:blip r:embed="rId2"/>
          <a:stretch/>
        </p:blipFill>
        <p:spPr>
          <a:xfrm>
            <a:off x="0" y="0"/>
            <a:ext cx="60642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" name="Прямоугольник 3"/>
          <p:cNvSpPr/>
          <p:nvPr/>
        </p:nvSpPr>
        <p:spPr>
          <a:xfrm>
            <a:off x="4452840" y="324468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000840" y="2828880"/>
            <a:ext cx="314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сын чернее ночи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Грязь лежит на рожице, -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ясно, это плохо очень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ля ребячьей кож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4:44:37Z</dcterms:created>
  <dc:creator>user</dc:creator>
  <dc:description/>
  <dc:language>en-US</dc:language>
  <cp:lastModifiedBy>Евгений</cp:lastModifiedBy>
  <dcterms:modified xsi:type="dcterms:W3CDTF">2012-05-09T15:27:32Z</dcterms:modified>
  <cp:revision>16</cp:revision>
  <dc:subject/>
  <dc:title>Слайд 1</dc:title>
</cp:coreProperties>
</file>