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47B-5981-4E46-B887-D3A27D61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907-2913-4E3B-B65B-C6F24719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61D-AF71-429B-991B-A8D5C603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0877-D85E-40CA-9813-DDEF26C1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1594-0A6B-4D51-8E76-E139607F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CE0F-B29B-493F-B3E1-116B7D0D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877D-B953-4C80-9699-05503ACE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49AD-BD87-4780-AFC7-E549B9FD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C977-86C5-435C-9ABB-490CA8D4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4270-82E6-416C-B4C9-C29A5560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8C98-2DEB-4CEB-A1CD-3D0ACACA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992-7F89-4EF3-A4E9-431E133C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56C0-E2BE-47F6-AE13-8AD151CD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6293-9E79-4843-9349-A4F44155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0506-9DB0-442C-B77C-E65E62E6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4E2E-A09D-492E-B58A-7C4F44F8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0D9C-9297-4FD4-BCD4-DE4617CD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DC4-1697-4BB9-8BF3-127023A3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615-2F50-4B1E-B351-608FC53F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AE0-7E25-4855-935B-F084DCAD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A8B-A671-42BA-9ED5-E243BB27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B08-2233-4792-8CFC-BFBA67D6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757-923A-404F-8B75-A8B78AE6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A8D-98D6-416E-9EE2-290E741E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35C2-390D-4CB1-B79C-ABC36FC57D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832040"/>
                  <a:gd name="textAreaBottom" fmla="*/ 1832400 h 1832040"/>
                </a:gdLst>
                <a:ahLst/>
                <a:rect l="textAreaLeft" t="textAreaTop" r="textAreaRight" b="textAreaBottom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>
                    <a:gd name="textAreaLeft" fmla="*/ 0 w 1148040"/>
                    <a:gd name="textAreaRight" fmla="*/ 1148040 w 1148040"/>
                    <a:gd name="textAreaTop" fmla="*/ 0 h 1359000"/>
                    <a:gd name="textAreaBottom" fmla="*/ 1359360 h 1359000"/>
                  </a:gdLst>
                  <a:ahLst/>
                  <a:rect l="textAreaLeft" t="textAreaTop" r="textAreaRight" b="textAreaBottom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3186000"/>
                    <a:gd name="textAreaBottom" fmla="*/ 3186360 h 3186000"/>
                  </a:gdLst>
                  <a:ahLst/>
                  <a:rect l="textAreaLeft" t="textAreaTop" r="textAreaRight" b="textAreaBottom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FD98-6BC0-41B4-9AC3-1962B2C46F7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62864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4000" spc="-1" strike="noStrike">
                <a:solidFill>
                  <a:srgbClr val="ccecff"/>
                </a:solidFill>
                <a:latin typeface="Arial Black"/>
              </a:rPr>
              <a:t>ДОКЛАД</a:t>
            </a:r>
            <a:br>
              <a:rPr sz="3200"/>
            </a:br>
            <a:r>
              <a:rPr b="1" lang="ru-RU" sz="3600" spc="-1" strike="noStrike">
                <a:solidFill>
                  <a:srgbClr val="ccecff"/>
                </a:solidFill>
                <a:latin typeface="Arial Black"/>
              </a:rPr>
              <a:t>«</a:t>
            </a:r>
            <a:r>
              <a:rPr b="0" i="1" lang="ru-RU" sz="3600" spc="-1" strike="noStrike">
                <a:solidFill>
                  <a:srgbClr val="ccecff"/>
                </a:solidFill>
                <a:latin typeface="Arial Black"/>
              </a:rPr>
              <a:t>Психолого-педагогическое сопровождение детей с ограниченными возможностями здоровья в условиях</a:t>
            </a:r>
            <a:br>
              <a:rPr sz="3600"/>
            </a:br>
            <a:r>
              <a:rPr b="0" i="1" lang="ru-RU" sz="3600" spc="-1" strike="noStrike">
                <a:solidFill>
                  <a:srgbClr val="ccecff"/>
                </a:solidFill>
                <a:latin typeface="Arial Black"/>
              </a:rPr>
              <a:t>профессионального училища</a:t>
            </a:r>
            <a:r>
              <a:rPr b="1" lang="ru-RU" sz="3600" spc="-1" strike="noStrike">
                <a:solidFill>
                  <a:srgbClr val="ccecff"/>
                </a:solidFill>
                <a:latin typeface="Arial Black"/>
              </a:rPr>
              <a:t>»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докладчик –  педагог-психолог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 ГОУ СО НПО «Профессионального училища № 64»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Удачина Наталья Владимировна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Bodoni MT Black"/>
              </a:rPr>
              <a:t>                       </a:t>
            </a:r>
            <a:br>
              <a:rPr sz="3200"/>
            </a:br>
            <a:endParaRPr b="0" lang="en-US" sz="24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7280"/>
            <a:ext cx="5616720" cy="68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Дети -это наша старост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Правильное воспитание-это наша счастливая старость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Плохое воспитание-это будущее горе, это наши слезы, это наша вина перед другими людьми, перед всей страно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А.С. Макаренк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804000" y="620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516720" y="5300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4"/>
          <p:cNvSpPr/>
          <p:nvPr/>
        </p:nvSpPr>
        <p:spPr>
          <a:xfrm flipV="1" rot="10861200">
            <a:off x="5579640" y="112428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16" descr="Изображение 075"/>
          <p:cNvPicPr/>
          <p:nvPr/>
        </p:nvPicPr>
        <p:blipFill>
          <a:blip r:embed="rId1"/>
          <a:stretch/>
        </p:blipFill>
        <p:spPr>
          <a:xfrm>
            <a:off x="5651640" y="1916280"/>
            <a:ext cx="31683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8012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 Black"/>
              </a:rPr>
              <a:t>Трехзвенная шкала                        ограниченных  возможностей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16" name="Содержимое 4" descr=""/>
          <p:cNvPicPr/>
          <p:nvPr/>
        </p:nvPicPr>
        <p:blipFill>
          <a:blip r:embed="rId1"/>
          <a:stretch/>
        </p:blipFill>
        <p:spPr>
          <a:xfrm>
            <a:off x="974880" y="1725480"/>
            <a:ext cx="7907040" cy="424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Лица с ограниченными возможностями здоровь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убъекты, имеющие физический и (или) психический недостатки, которые препятствуют освоению образовательных стандартов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без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здания специальных условий для получения образова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иды недостатков 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20" name="Содержимое 4" descr=""/>
          <p:cNvPicPr/>
          <p:nvPr/>
        </p:nvPicPr>
        <p:blipFill>
          <a:blip r:embed="rId1"/>
          <a:stretch/>
        </p:blipFill>
        <p:spPr>
          <a:xfrm>
            <a:off x="1292400" y="1579680"/>
            <a:ext cx="7785000" cy="4522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3760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 Black"/>
              </a:rPr>
              <a:t>Технология работы ГОУ СО НПО «ПУ №64» с несовершеннолетними и их семьями</a:t>
            </a:r>
            <a:endParaRPr b="0" lang="en-US" sz="2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6920" y="1125000"/>
            <a:ext cx="1584360" cy="3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СЕМЬ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492360" y="1125360"/>
            <a:ext cx="20894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СПЕЦИАЛИС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443640" y="1413000"/>
            <a:ext cx="158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6019200" y="1197000"/>
            <a:ext cx="2893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Times New Roman"/>
              </a:rPr>
              <a:t>НЕСОВЕРШЕННОЛЕТНИЙ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24360" y="162864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БЕСЕД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971640" y="220500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ДИАГНОСТИЧЕСКИЕ МЕРОПРИЯТИЯ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971640" y="3284640"/>
            <a:ext cx="23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РАЗРАБОТКА ИПР ПО УСТРАНЕНИЮ ПРОБЛЕМЫ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403280" y="537372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971640" y="270828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АНАЛИЗ СОБРАННОЙ ИНФОРМАЦИ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867280" y="335772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5867280" y="515772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900000" y="1628640"/>
            <a:ext cx="27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ЗАКЛЮЧЕНИЕ ДОГОВОРА НА  ОБР. УСЛУГ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971640" y="4076640"/>
            <a:ext cx="208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СПЕЦИАЛИС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3851280" y="407664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imes New Roman"/>
              </a:rPr>
              <a:t>СЕМЬЯ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1042920" y="450864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ДЕЯТЕЛЬНОСТЬ, ПОЛУЧЕНИЕ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РЕЗУЛЬТАТ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619280" y="5084640"/>
            <a:ext cx="36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4067280" y="5084640"/>
            <a:ext cx="288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900000" y="5445000"/>
            <a:ext cx="29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НЯТИЕ ПРОБЛЕМЫ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1042920" y="587700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КОНТРОЛЬ СЕМЬ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3059280" y="5734080"/>
            <a:ext cx="216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БОР ДОПОЛНИТЕЛЬНОЙ ИНФОРМАЦИ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5148360" y="1628640"/>
            <a:ext cx="2016000" cy="13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СБОР ИНФОРМАЦИИ: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АНКЕТИРОВАНИЕ. БЕСЕДА, НАБЛЮДЕНИЕ, ОПРОС, ТЕСТИРОВАНИЕ, ИНДИВИДУАЛЬНЫЕ КОНСУЛЬТАЦИИ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5148360" y="299736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АНАЛИЗ СОБРАННОЙ ИНФОРМАЦИ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148360" y="378936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ИНДИВИДУАЛЬНАЯ РАБОТ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7308720" y="378936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Times New Roman"/>
              </a:rPr>
              <a:t>РАБОТА С ОКРУЖЕНИЕМ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380360" y="1844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СЕМЬЯ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7380360" y="206064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ШКОЛА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7308720" y="227664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МЕСТО ЖИТЕЛЬСТВА. ДВОР. СОЦИУМ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7308720" y="270828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ДРУЗЬЯ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5148360" y="4365720"/>
            <a:ext cx="30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АНАЛИЗ ИНФОРМАЦИИ, ПРИВЛЕЧЕНИЕ ДРУГИХ СПЕЦИАЛИСТОВ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5219640" y="4869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РАЗРАБОТКА  ИПР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5219640" y="5157720"/>
            <a:ext cx="208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РАБОТА СПЕЦИАЛИСТОВ С НЕСОВЕРШЕННОЛЕТНИМ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5219640" y="566100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ПОЛУЧЕНИЕ РЕЗУЛЬТАТА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5435640" y="5950080"/>
            <a:ext cx="36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7380360" y="5950080"/>
            <a:ext cx="288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5076720" y="6308640"/>
            <a:ext cx="165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aeaea"/>
                </a:solidFill>
                <a:latin typeface="Times New Roman"/>
              </a:rPr>
              <a:t>КОНТРОЛЬ, РАЗОВЫЕ КОНСУЛЬТАЦИИ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41"/>
          <p:cNvSpPr/>
          <p:nvPr/>
        </p:nvSpPr>
        <p:spPr>
          <a:xfrm>
            <a:off x="2340000" y="1341360"/>
            <a:ext cx="107964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42"/>
          <p:cNvSpPr/>
          <p:nvPr/>
        </p:nvSpPr>
        <p:spPr>
          <a:xfrm>
            <a:off x="5435640" y="1341360"/>
            <a:ext cx="43164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Line 43"/>
          <p:cNvSpPr/>
          <p:nvPr/>
        </p:nvSpPr>
        <p:spPr>
          <a:xfrm>
            <a:off x="4427640" y="1484280"/>
            <a:ext cx="0" cy="216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Line 45"/>
          <p:cNvSpPr/>
          <p:nvPr/>
        </p:nvSpPr>
        <p:spPr>
          <a:xfrm flipH="1">
            <a:off x="3419640" y="1773360"/>
            <a:ext cx="5760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46"/>
          <p:cNvSpPr/>
          <p:nvPr/>
        </p:nvSpPr>
        <p:spPr>
          <a:xfrm>
            <a:off x="1908000" y="2205000"/>
            <a:ext cx="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1908000" y="263700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48"/>
          <p:cNvSpPr/>
          <p:nvPr/>
        </p:nvSpPr>
        <p:spPr>
          <a:xfrm>
            <a:off x="1908000" y="3213000"/>
            <a:ext cx="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Line 49"/>
          <p:cNvSpPr/>
          <p:nvPr/>
        </p:nvSpPr>
        <p:spPr>
          <a:xfrm>
            <a:off x="2916360" y="429264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65" name="AutoShape 50"/>
          <p:cNvCxnSpPr/>
          <p:nvPr/>
        </p:nvCxnSpPr>
        <p:spPr>
          <a:xfrm flipH="1" flipV="1" rot="10800000">
            <a:off x="1041840" y="3645000"/>
            <a:ext cx="72360" cy="1148040"/>
          </a:xfrm>
          <a:prstGeom prst="bentConnector3">
            <a:avLst>
              <a:gd name="adj1" fmla="val -320000"/>
            </a:avLst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66" name="Line 53"/>
          <p:cNvSpPr/>
          <p:nvPr/>
        </p:nvSpPr>
        <p:spPr>
          <a:xfrm>
            <a:off x="1763640" y="501336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Line 54"/>
          <p:cNvSpPr/>
          <p:nvPr/>
        </p:nvSpPr>
        <p:spPr>
          <a:xfrm>
            <a:off x="2556000" y="4941720"/>
            <a:ext cx="1584360" cy="287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Line 55"/>
          <p:cNvSpPr/>
          <p:nvPr/>
        </p:nvSpPr>
        <p:spPr>
          <a:xfrm>
            <a:off x="1835280" y="5734080"/>
            <a:ext cx="0" cy="14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57"/>
          <p:cNvSpPr/>
          <p:nvPr/>
        </p:nvSpPr>
        <p:spPr>
          <a:xfrm>
            <a:off x="4211640" y="551664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70" name="AutoShape 61"/>
          <p:cNvCxnSpPr>
            <a:stCxn id="130" idx="3"/>
          </p:cNvCxnSpPr>
          <p:nvPr/>
        </p:nvCxnSpPr>
        <p:spPr>
          <a:xfrm>
            <a:off x="3131640" y="2967120"/>
            <a:ext cx="1872360" cy="2845440"/>
          </a:xfrm>
          <a:prstGeom prst="bentConnector2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1" name="Line 62"/>
          <p:cNvSpPr/>
          <p:nvPr/>
        </p:nvSpPr>
        <p:spPr>
          <a:xfrm>
            <a:off x="4859280" y="1773360"/>
            <a:ext cx="28908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63"/>
          <p:cNvSpPr/>
          <p:nvPr/>
        </p:nvSpPr>
        <p:spPr>
          <a:xfrm flipV="1">
            <a:off x="6948360" y="1915920"/>
            <a:ext cx="50328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Line 64"/>
          <p:cNvSpPr/>
          <p:nvPr/>
        </p:nvSpPr>
        <p:spPr>
          <a:xfrm>
            <a:off x="6948360" y="2060640"/>
            <a:ext cx="43200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Line 65"/>
          <p:cNvSpPr/>
          <p:nvPr/>
        </p:nvSpPr>
        <p:spPr>
          <a:xfrm>
            <a:off x="6948360" y="2060640"/>
            <a:ext cx="43200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Line 66"/>
          <p:cNvSpPr/>
          <p:nvPr/>
        </p:nvSpPr>
        <p:spPr>
          <a:xfrm>
            <a:off x="6948360" y="2060640"/>
            <a:ext cx="432000" cy="720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Line 67"/>
          <p:cNvSpPr/>
          <p:nvPr/>
        </p:nvSpPr>
        <p:spPr>
          <a:xfrm>
            <a:off x="5580000" y="292428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Line 68"/>
          <p:cNvSpPr/>
          <p:nvPr/>
        </p:nvSpPr>
        <p:spPr>
          <a:xfrm>
            <a:off x="5651640" y="3716280"/>
            <a:ext cx="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69"/>
          <p:cNvSpPr/>
          <p:nvPr/>
        </p:nvSpPr>
        <p:spPr>
          <a:xfrm>
            <a:off x="5651640" y="4221000"/>
            <a:ext cx="0" cy="14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Line 70"/>
          <p:cNvSpPr/>
          <p:nvPr/>
        </p:nvSpPr>
        <p:spPr>
          <a:xfrm>
            <a:off x="5651640" y="472428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Line 71"/>
          <p:cNvSpPr/>
          <p:nvPr/>
        </p:nvSpPr>
        <p:spPr>
          <a:xfrm>
            <a:off x="5651640" y="515772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Line 72"/>
          <p:cNvSpPr/>
          <p:nvPr/>
        </p:nvSpPr>
        <p:spPr>
          <a:xfrm>
            <a:off x="5651640" y="5516640"/>
            <a:ext cx="0" cy="73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Line 73"/>
          <p:cNvSpPr/>
          <p:nvPr/>
        </p:nvSpPr>
        <p:spPr>
          <a:xfrm flipH="1">
            <a:off x="5580000" y="5877000"/>
            <a:ext cx="21600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74"/>
          <p:cNvSpPr/>
          <p:nvPr/>
        </p:nvSpPr>
        <p:spPr>
          <a:xfrm>
            <a:off x="6659640" y="5877000"/>
            <a:ext cx="72072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Line 75"/>
          <p:cNvSpPr/>
          <p:nvPr/>
        </p:nvSpPr>
        <p:spPr>
          <a:xfrm>
            <a:off x="6012000" y="6165720"/>
            <a:ext cx="0" cy="216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5" name="AutoShape 77"/>
          <p:cNvCxnSpPr>
            <a:endCxn id="148" idx="3"/>
          </p:cNvCxnSpPr>
          <p:nvPr/>
        </p:nvCxnSpPr>
        <p:spPr>
          <a:xfrm>
            <a:off x="4716000" y="1628280"/>
            <a:ext cx="4249080" cy="847080"/>
          </a:xfrm>
          <a:prstGeom prst="curvedConnector5">
            <a:avLst>
              <a:gd name="adj1" fmla="val 99550"/>
              <a:gd name="adj2" fmla="val 50000"/>
              <a:gd name="adj3" fmla="val 9955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6" name="Line 78"/>
          <p:cNvSpPr/>
          <p:nvPr/>
        </p:nvSpPr>
        <p:spPr>
          <a:xfrm>
            <a:off x="8964720" y="2421000"/>
            <a:ext cx="0" cy="3672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79"/>
          <p:cNvSpPr/>
          <p:nvPr/>
        </p:nvSpPr>
        <p:spPr>
          <a:xfrm flipH="1">
            <a:off x="7740720" y="6021360"/>
            <a:ext cx="1224000" cy="144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0" name="Прямоугольник 3" descr=""/>
          <p:cNvPicPr/>
          <p:nvPr/>
        </p:nvPicPr>
        <p:blipFill>
          <a:blip r:embed="rId1"/>
          <a:stretch/>
        </p:blipFill>
        <p:spPr>
          <a:xfrm>
            <a:off x="1523880" y="841320"/>
            <a:ext cx="7656480" cy="4078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0:13:29Z</dcterms:created>
  <dc:creator>наташа</dc:creator>
  <dc:description/>
  <dc:language>en-US</dc:language>
  <cp:lastModifiedBy>Удачин</cp:lastModifiedBy>
  <dcterms:modified xsi:type="dcterms:W3CDTF">2011-06-13T12:30:38Z</dcterms:modified>
  <cp:revision>60</cp:revision>
  <dc:subject/>
  <dc:title>Слайд 1</dc:title>
</cp:coreProperties>
</file>