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95F-729E-46FF-88B1-E839788B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57A-2BC8-4014-9F5A-2BFC8741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D6D-CAFF-46C6-A272-0A05F883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3D1-8DC4-4D91-8CDA-3F5D5943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B61F-2430-4E6C-9BFC-2188CCE2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C468-30D3-417A-97F9-4FC1A1D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BD06-E2BF-4CF3-A4A5-E3CCE63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7B77-767E-4AE8-8B47-A12529EC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D851-EC1A-447D-B9F1-1EDBB3BA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0C2B-9E24-40FC-8692-E9C001D2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114D-4219-4409-AD24-F888768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379-F2E2-412B-9FD1-46608171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6D7F-EB2F-4DF0-861D-22630DCE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6CD8-5DDA-42EE-88B9-1FA93806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9018-52FC-4CBD-AA0A-57268E22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8EA5-A41D-413F-9B1D-EAA0CCDE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BA2B-966A-4B54-8179-22EBD85E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C32-5C68-46CC-8CA4-67FEE30C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D1E-CE4D-472A-9CCC-3AC8B250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4B1-D1EB-4824-8395-20371487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5DA-0DD4-4694-B071-3F743F54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3D0-9623-459E-A4CF-73CD75C6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8CF-B820-46A2-82A4-39B4F7EE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E33-CE58-4B0B-9DF5-E77DD17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290D-698A-40D5-BDFD-56DFB954F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42B1-143B-4677-B8C0-5FB94122DEF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ДОКЛАД</a:t>
            </a:r>
            <a:br>
              <a:rPr sz="3200"/>
            </a:br>
            <a:r>
              <a:rPr b="1" lang="ru-RU" sz="3600" spc="-1" strike="noStrike">
                <a:solidFill>
                  <a:srgbClr val="ccecff"/>
                </a:solidFill>
                <a:latin typeface="Arial Black"/>
              </a:rPr>
              <a:t>«</a:t>
            </a:r>
            <a:r>
              <a:rPr b="0" i="1" lang="ru-RU" sz="3600" spc="-1" strike="noStrike">
                <a:solidFill>
                  <a:srgbClr val="ccecff"/>
                </a:solidFill>
                <a:latin typeface="Arial Black"/>
              </a:rPr>
              <a:t>Психолого-педагогическое сопровождение детей с ограниченными возможностями здоровья в условиях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Arial Black"/>
              </a:rPr>
              <a:t>профессионального училища</a:t>
            </a:r>
            <a:r>
              <a:rPr b="1" lang="ru-RU" sz="3600" spc="-1" strike="noStrike">
                <a:solidFill>
                  <a:srgbClr val="ccecff"/>
                </a:solidFill>
                <a:latin typeface="Arial Black"/>
              </a:rPr>
              <a:t>»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докладчик –  педагог-психолог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 ГОУ СО НПО «Профессионального училища № 64»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Удачина Наталья Владимировна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                       </a:t>
            </a:r>
            <a:br>
              <a:rPr sz="3200"/>
            </a:br>
            <a:endParaRPr b="0" lang="en-US" sz="24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7280"/>
            <a:ext cx="5616720" cy="68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Дети -это наша старос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Правильное воспитание-это наша счастливая старость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Плохое воспитание-это будущее горе, это наши слезы, это наша вина перед другими людьми, перед всей стран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А.С. Макаренк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04000" y="620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516720" y="5300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 flipV="1" rot="10861200">
            <a:off x="5579640" y="112428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16" descr="Изображение 075"/>
          <p:cNvPicPr/>
          <p:nvPr/>
        </p:nvPicPr>
        <p:blipFill>
          <a:blip r:embed="rId1"/>
          <a:stretch/>
        </p:blipFill>
        <p:spPr>
          <a:xfrm>
            <a:off x="5651640" y="1916280"/>
            <a:ext cx="3168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8012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Трехзвенная шкала                        ограниченных  возможностей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6" name="Содержимое 4" descr=""/>
          <p:cNvPicPr/>
          <p:nvPr/>
        </p:nvPicPr>
        <p:blipFill>
          <a:blip r:embed="rId1"/>
          <a:stretch/>
        </p:blipFill>
        <p:spPr>
          <a:xfrm>
            <a:off x="974880" y="1725480"/>
            <a:ext cx="7907040" cy="424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Лица с ограниченными возможностями здоровь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убъекты, имеющие физический и (или) психический недостатки, которые препятствуют освоению образовательных стандартов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ез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здания специальных условий для получения образова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иды недостатков 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20" name="Содержимое 4" descr=""/>
          <p:cNvPicPr/>
          <p:nvPr/>
        </p:nvPicPr>
        <p:blipFill>
          <a:blip r:embed="rId1"/>
          <a:stretch/>
        </p:blipFill>
        <p:spPr>
          <a:xfrm>
            <a:off x="1292400" y="1579680"/>
            <a:ext cx="7785000" cy="452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3760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 Black"/>
              </a:rPr>
              <a:t>Технология работы ГОУ СО НПО «ПУ №64» с несовершеннолетними и их семьями</a:t>
            </a:r>
            <a:endParaRPr b="0" lang="en-US" sz="2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6920" y="1125000"/>
            <a:ext cx="1584360" cy="3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492360" y="1125360"/>
            <a:ext cx="208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СПЕЦИАЛИС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443640" y="1413000"/>
            <a:ext cx="158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019200" y="1197000"/>
            <a:ext cx="289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ЕСОВЕРШЕННОЛЕТ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24360" y="1628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БЕСЕД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971640" y="220500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ДИАГНОСТИЧЕСКИЕ МЕРОПРИЯТИЯ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971640" y="328464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РАЗРАБОТКА ИПР ПО УСТРАНЕНИЮ ПРОБЛЕМ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403280" y="537372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971640" y="270828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АНАЛИЗ СОБРАННОЙ ИНФОРМАЦИ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867280" y="335772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5867280" y="515772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900000" y="1628640"/>
            <a:ext cx="27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ЗАКЛЮЧЕНИЕ ДОГОВОРА НА  ОБР. УСЛУГ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971640" y="407664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СПЕЦИАЛИС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3851280" y="4076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1042920" y="450864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ДЕЯТЕЛЬНОСТЬ, ПОЛУЧЕНИЕ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РЕЗУЛЬТАТ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619280" y="5084640"/>
            <a:ext cx="36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4067280" y="5084640"/>
            <a:ext cx="288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900000" y="544500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НЯТИЕ ПРОБЛЕМ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1042920" y="587700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КОНТРОЛЬ СЕМЬ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3059280" y="5734080"/>
            <a:ext cx="216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БОР ДОПОЛНИТЕЛЬНОЙ ИНФОРМАЦИ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5148360" y="1628640"/>
            <a:ext cx="201600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БОР ИНФОРМАЦИИ: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АНКЕТИРОВАНИЕ. БЕСЕДА, НАБЛЮДЕНИЕ, ОПРОС, ТЕСТИРОВАНИЕ, ИНДИВИДУАЛЬНЫЕ КОНСУЛЬТАЦИИ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5148360" y="299736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АНАЛИЗ СОБРАННОЙ ИНФОРМАЦИ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148360" y="378936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ИНДИВИДУАЛЬНАЯ РАБОТ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7308720" y="378936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РАБОТА С ОКРУЖЕНИЕМ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380360" y="1844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СЕМЬЯ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7380360" y="206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ШКОЛА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7308720" y="227664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МЕСТО ЖИТЕЛЬСТВА. ДВОР. СОЦИУМ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7308720" y="270828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ДРУЗЬЯ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5148360" y="4365720"/>
            <a:ext cx="30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АНАЛИЗ ИНФОРМАЦИИ, ПРИВЛЕЧЕНИЕ ДРУГИХ СПЕЦИАЛИСТОВ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5219640" y="4869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РАЗРАБОТКА  ИПР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5219640" y="5157720"/>
            <a:ext cx="208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РАБОТА СПЕЦИАЛИСТОВ С НЕСОВЕРШЕННОЛЕТНИМ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5219640" y="566100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ПОЛУЧЕНИЕ РЕЗУЛЬТАТА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5435640" y="5950080"/>
            <a:ext cx="36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7380360" y="5950080"/>
            <a:ext cx="288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5076720" y="6308640"/>
            <a:ext cx="165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КОНТРОЛЬ, РАЗОВЫЕ КОНСУЛЬТАЦИИ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340000" y="1341360"/>
            <a:ext cx="107964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5435640" y="1341360"/>
            <a:ext cx="43164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43"/>
          <p:cNvSpPr/>
          <p:nvPr/>
        </p:nvSpPr>
        <p:spPr>
          <a:xfrm>
            <a:off x="4427640" y="1484280"/>
            <a:ext cx="0" cy="216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45"/>
          <p:cNvSpPr/>
          <p:nvPr/>
        </p:nvSpPr>
        <p:spPr>
          <a:xfrm flipH="1">
            <a:off x="3419640" y="177336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46"/>
          <p:cNvSpPr/>
          <p:nvPr/>
        </p:nvSpPr>
        <p:spPr>
          <a:xfrm>
            <a:off x="1908000" y="2205000"/>
            <a:ext cx="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1908000" y="2637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48"/>
          <p:cNvSpPr/>
          <p:nvPr/>
        </p:nvSpPr>
        <p:spPr>
          <a:xfrm>
            <a:off x="1908000" y="3213000"/>
            <a:ext cx="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49"/>
          <p:cNvSpPr/>
          <p:nvPr/>
        </p:nvSpPr>
        <p:spPr>
          <a:xfrm>
            <a:off x="2916360" y="429264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65" name="AutoShape 50"/>
          <p:cNvCxnSpPr/>
          <p:nvPr/>
        </p:nvCxnSpPr>
        <p:spPr>
          <a:xfrm flipH="1" flipV="1" rot="10800000">
            <a:off x="1041840" y="3645000"/>
            <a:ext cx="72360" cy="1148040"/>
          </a:xfrm>
          <a:prstGeom prst="bentConnector3">
            <a:avLst>
              <a:gd name="adj1" fmla="val -320000"/>
            </a:avLst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66" name="Line 53"/>
          <p:cNvSpPr/>
          <p:nvPr/>
        </p:nvSpPr>
        <p:spPr>
          <a:xfrm>
            <a:off x="1763640" y="50133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Line 54"/>
          <p:cNvSpPr/>
          <p:nvPr/>
        </p:nvSpPr>
        <p:spPr>
          <a:xfrm>
            <a:off x="2556000" y="4941720"/>
            <a:ext cx="1584360" cy="28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Line 55"/>
          <p:cNvSpPr/>
          <p:nvPr/>
        </p:nvSpPr>
        <p:spPr>
          <a:xfrm>
            <a:off x="1835280" y="573408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57"/>
          <p:cNvSpPr/>
          <p:nvPr/>
        </p:nvSpPr>
        <p:spPr>
          <a:xfrm>
            <a:off x="4211640" y="551664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70" name="AutoShape 61"/>
          <p:cNvCxnSpPr>
            <a:stCxn id="130" idx="3"/>
          </p:cNvCxnSpPr>
          <p:nvPr/>
        </p:nvCxnSpPr>
        <p:spPr>
          <a:xfrm>
            <a:off x="3131640" y="2967120"/>
            <a:ext cx="1872360" cy="2845440"/>
          </a:xfrm>
          <a:prstGeom prst="bentConnector2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Line 62"/>
          <p:cNvSpPr/>
          <p:nvPr/>
        </p:nvSpPr>
        <p:spPr>
          <a:xfrm>
            <a:off x="4859280" y="1773360"/>
            <a:ext cx="2890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63"/>
          <p:cNvSpPr/>
          <p:nvPr/>
        </p:nvSpPr>
        <p:spPr>
          <a:xfrm flipV="1">
            <a:off x="6948360" y="1915920"/>
            <a:ext cx="50328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Line 64"/>
          <p:cNvSpPr/>
          <p:nvPr/>
        </p:nvSpPr>
        <p:spPr>
          <a:xfrm>
            <a:off x="6948360" y="2060640"/>
            <a:ext cx="43200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Line 65"/>
          <p:cNvSpPr/>
          <p:nvPr/>
        </p:nvSpPr>
        <p:spPr>
          <a:xfrm>
            <a:off x="6948360" y="2060640"/>
            <a:ext cx="43200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Line 66"/>
          <p:cNvSpPr/>
          <p:nvPr/>
        </p:nvSpPr>
        <p:spPr>
          <a:xfrm>
            <a:off x="6948360" y="2060640"/>
            <a:ext cx="432000" cy="72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Line 67"/>
          <p:cNvSpPr/>
          <p:nvPr/>
        </p:nvSpPr>
        <p:spPr>
          <a:xfrm>
            <a:off x="5580000" y="292428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Line 68"/>
          <p:cNvSpPr/>
          <p:nvPr/>
        </p:nvSpPr>
        <p:spPr>
          <a:xfrm>
            <a:off x="5651640" y="371628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69"/>
          <p:cNvSpPr/>
          <p:nvPr/>
        </p:nvSpPr>
        <p:spPr>
          <a:xfrm>
            <a:off x="5651640" y="4221000"/>
            <a:ext cx="0" cy="14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Line 70"/>
          <p:cNvSpPr/>
          <p:nvPr/>
        </p:nvSpPr>
        <p:spPr>
          <a:xfrm>
            <a:off x="5651640" y="472428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Line 71"/>
          <p:cNvSpPr/>
          <p:nvPr/>
        </p:nvSpPr>
        <p:spPr>
          <a:xfrm>
            <a:off x="5651640" y="515772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72"/>
          <p:cNvSpPr/>
          <p:nvPr/>
        </p:nvSpPr>
        <p:spPr>
          <a:xfrm>
            <a:off x="5651640" y="551664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73"/>
          <p:cNvSpPr/>
          <p:nvPr/>
        </p:nvSpPr>
        <p:spPr>
          <a:xfrm flipH="1">
            <a:off x="5580000" y="5877000"/>
            <a:ext cx="21600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74"/>
          <p:cNvSpPr/>
          <p:nvPr/>
        </p:nvSpPr>
        <p:spPr>
          <a:xfrm>
            <a:off x="6659640" y="5877000"/>
            <a:ext cx="72072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75"/>
          <p:cNvSpPr/>
          <p:nvPr/>
        </p:nvSpPr>
        <p:spPr>
          <a:xfrm>
            <a:off x="6012000" y="6165720"/>
            <a:ext cx="0" cy="216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5" name="AutoShape 77"/>
          <p:cNvCxnSpPr>
            <a:endCxn id="148" idx="3"/>
          </p:cNvCxnSpPr>
          <p:nvPr/>
        </p:nvCxnSpPr>
        <p:spPr>
          <a:xfrm>
            <a:off x="4716000" y="1628280"/>
            <a:ext cx="4249080" cy="847080"/>
          </a:xfrm>
          <a:prstGeom prst="curvedConnector5">
            <a:avLst>
              <a:gd name="adj1" fmla="val 99550"/>
              <a:gd name="adj2" fmla="val 50000"/>
              <a:gd name="adj3" fmla="val 9955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6" name="Line 78"/>
          <p:cNvSpPr/>
          <p:nvPr/>
        </p:nvSpPr>
        <p:spPr>
          <a:xfrm>
            <a:off x="8964720" y="2421000"/>
            <a:ext cx="0" cy="367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79"/>
          <p:cNvSpPr/>
          <p:nvPr/>
        </p:nvSpPr>
        <p:spPr>
          <a:xfrm flipH="1">
            <a:off x="7740720" y="6021360"/>
            <a:ext cx="122400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Прямоугольник 3" descr=""/>
          <p:cNvPicPr/>
          <p:nvPr/>
        </p:nvPicPr>
        <p:blipFill>
          <a:blip r:embed="rId1"/>
          <a:stretch/>
        </p:blipFill>
        <p:spPr>
          <a:xfrm>
            <a:off x="1523880" y="841320"/>
            <a:ext cx="7656480" cy="4078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0:13:29Z</dcterms:created>
  <dc:creator>наташа</dc:creator>
  <dc:description/>
  <dc:language>en-US</dc:language>
  <cp:lastModifiedBy>Удачин</cp:lastModifiedBy>
  <dcterms:modified xsi:type="dcterms:W3CDTF">2011-06-13T12:30:38Z</dcterms:modified>
  <cp:revision>60</cp:revision>
  <dc:subject/>
  <dc:title>Слайд 1</dc:title>
</cp:coreProperties>
</file>