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7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2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E8E-44E4-4BBA-9910-81BB54FD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4D4-61A7-4AAB-A948-E7F0D9F4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B59-AA7F-4EC9-8CF8-D8C85567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3E5-82A2-4869-B739-C5AB1134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4857-5348-4837-A4A0-BA08AD86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8996-FC24-4452-9538-27693DC9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C92D-CB66-4AE9-95C4-3DA960D5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D978-7159-487A-83FA-88F67858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D662-30B2-40FC-867F-68073B27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428B-5779-4052-8659-0CBBAA9D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B03-0A71-4ACE-966F-ABDF89F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021-5E15-4402-84C4-4BF8B870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F4BF-785A-4A1C-A8FB-C5160DFE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99EA-B272-4DF5-ABDE-EDD8E93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6EF4-AB2B-4357-9FCA-2ACBA65B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5418-F974-490A-86D2-4430B7A4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DF25-EE21-493B-9420-94687553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E05-ED67-4368-97F2-D2AE1595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5A8-AC97-4537-B0CE-017426D5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79C-9A02-45C2-9424-613320DE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AD4-D6D8-4FAB-8644-C4583B50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AC0-ED1E-4E96-A86E-A9FC46C6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B41-A031-427B-BE93-C7C92DD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E8B-6A51-4C52-83D4-8F44DA5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78F9-D771-4475-914E-83960AEE1C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3d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bdb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3e3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5c5c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eae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eaeae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aea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5EBB-7D25-454F-81EC-96AEFDBCBB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2.jpe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272520"/>
            <a:ext cx="7248600" cy="23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4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67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0320" y="3278520"/>
            <a:ext cx="8883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Учитель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Власов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Ирина Свято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Группы знаков.</a:t>
            </a:r>
            <a:endParaRPr b="0" lang="en-US" sz="8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8360" y="1844280"/>
            <a:ext cx="7848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182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редупреждающие зна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182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Запрещающие зна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183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Информационно-указате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182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Знаки серви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182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Предписывающие зна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Предупреждающие знаки.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2016360" cy="1944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2087640" cy="19443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372360" y="436572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58920" y="1557360"/>
            <a:ext cx="208584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кользкая дорог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03640" y="1628640"/>
            <a:ext cx="216216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рожные работы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3933720"/>
            <a:ext cx="214308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352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икие животные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27640" y="3933720"/>
            <a:ext cx="234324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чие опасност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424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6699"/>
                </a:solidFill>
                <a:latin typeface="Arial"/>
              </a:rPr>
              <a:t>Запрещающие знаки.</a:t>
            </a:r>
            <a:endParaRPr b="0" lang="en-US" sz="6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6264000" cy="1943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877080" y="2565360"/>
            <a:ext cx="1944720" cy="1943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250920" y="5445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ъезд запрещен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68360" y="4653000"/>
            <a:ext cx="2495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ижение запрещено</a:t>
            </a:r>
            <a:endParaRPr b="0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716360" y="5300640"/>
            <a:ext cx="2097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гон запрещен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0" y="472428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ача звукового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гнала запрещен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Arial"/>
              </a:rPr>
              <a:t>Информационно-указательные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1943280" cy="2089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708360" y="220500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588000" y="2205000"/>
            <a:ext cx="1800360" cy="2664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250920" y="522936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ешеходный переход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419640" y="5157720"/>
            <a:ext cx="2447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место остано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автобуса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троллейбу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516720" y="5229360"/>
            <a:ext cx="1942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место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остановк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трамв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6600"/>
                </a:solidFill>
                <a:latin typeface="Arial"/>
              </a:rPr>
              <a:t>Знаки сервиса.</a:t>
            </a:r>
            <a:endParaRPr b="0" lang="en-US" sz="7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1656000" cy="2521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700360" y="1700280"/>
            <a:ext cx="1655640" cy="2449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859280" y="1700280"/>
            <a:ext cx="1584360" cy="24494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804000" y="1700280"/>
            <a:ext cx="1655640" cy="2449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324000" y="4365720"/>
            <a:ext cx="20286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втозаправочна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анц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627280" y="4508640"/>
            <a:ext cx="172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лефон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16360" y="4437000"/>
            <a:ext cx="194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ункт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итани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04000" y="4365720"/>
            <a:ext cx="208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ункт первой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медицинской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помощи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1376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Предписывающие знаки.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1728720" cy="1657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1728720" cy="1584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659640" y="2276640"/>
            <a:ext cx="1728720" cy="1584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971640" y="4508640"/>
            <a:ext cx="201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виже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рям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635280" y="4581360"/>
            <a:ext cx="2089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виже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направ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588000" y="4581360"/>
            <a:ext cx="2016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вижение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налево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4248360" cy="4321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1908000" y="189000"/>
            <a:ext cx="540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мни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364000" y="2060640"/>
            <a:ext cx="3384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ереходи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лиц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нельз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79280" y="333360"/>
            <a:ext cx="4464000" cy="18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помн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2951280" cy="2881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619280" y="2060640"/>
            <a:ext cx="676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ешеходный перех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3168720" cy="3097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611280" y="476280"/>
            <a:ext cx="82659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езнодорожный переезд без шлагбау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3924360" y="1990440"/>
            <a:ext cx="446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Переезд не оборудован шлагбаумом и не охраняется. Здесь надо быть особенно осторожным и внимательны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3095640" cy="302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116000" y="404640"/>
            <a:ext cx="7128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ресечение равнозначных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рог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3780000" y="2719440"/>
            <a:ext cx="496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Видишь знак?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Его значень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вух дорог пересечен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Равнозначны две подруж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Две дороженьки - резв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11280" y="4005360"/>
            <a:ext cx="813744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трану дорожных знаков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672000" cy="3960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1116000" y="549360"/>
            <a:ext cx="6842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орожно, дет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4067280" y="1774440"/>
            <a:ext cx="429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«Осторожно, дети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Дети!»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Говорит Дорожны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Arial"/>
              </a:rPr>
              <a:t>зна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2592360" cy="2087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250920" y="404640"/>
            <a:ext cx="4392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ъезд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запреще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348000" y="333360"/>
            <a:ext cx="535788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иж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шеходов запрещен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76360" y="182160"/>
            <a:ext cx="66024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Изучайте, изуча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Правила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И всегда их соблюда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Все без исключени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Ведь не зря на светофо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Загораются огн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Красный, желтый и зеле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Нам хотят помочь о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971640" y="260280"/>
            <a:ext cx="7272360" cy="568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22636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1. Познакомить   учащихся    с    дорожными    знаками,   их названиями и назначением; вспомнить правила безопасности и поведения на улицах и дорогах; воспитывать чувство береж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 Black"/>
              </a:rPr>
              <a:t>2. </a:t>
            </a: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Приучать детей к культуре поведения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3. Развивать мышление,  речь и умение выражать сво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 Black"/>
              </a:rPr>
              <a:t>4. Воспитывать уважение к окружающим, чувство товари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39720" y="246600"/>
            <a:ext cx="786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Знаки важные, дорожные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Компас взрослых и ребя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Дети, будьте осторожн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Знайте, что нельзя, что мо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Выполняй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Все, что знаки говоря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106960" y="765000"/>
            <a:ext cx="403704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Все учас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дорожного движения водител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пешеходы обязаны подчиня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правилам дорожного дви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4175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39640" y="1628280"/>
            <a:ext cx="4572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олосатая лошад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Её «зеброю» зов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о не та, что в зоопарк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о ней люди все ид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106960" y="1598760"/>
            <a:ext cx="403704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е лежит, не жуж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Жук по улице беж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И горят в глазах ж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Два блестящих огонь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9640" y="3860280"/>
            <a:ext cx="403704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 обочине доро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ак солдатики стоя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се мы с вами выполня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сё, что нам они веля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06960" y="3922560"/>
            <a:ext cx="403704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тоб тебе помоч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уть пройти опас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Горят и день, и н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Зеленый, жёлтый, красный.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692360" y="189000"/>
            <a:ext cx="583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и.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5280" y="689760"/>
            <a:ext cx="8496360" cy="545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808000"/>
                </a:solidFill>
                <a:latin typeface="Arial"/>
              </a:rPr>
              <a:t>«Мы, жители страны Дорожных Знаков, находимся в беде. Мы попали в плен к Помехе-Неумехе. И теперь у нас в стране происходят постоянные аварии. 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Помогите нам</a:t>
            </a:r>
            <a:r>
              <a:rPr b="1" i="1" lang="en-US" sz="4400" spc="-1" strike="noStrike">
                <a:solidFill>
                  <a:srgbClr val="808000"/>
                </a:solidFill>
                <a:latin typeface="Arial"/>
              </a:rPr>
              <a:t>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00000" y="493920"/>
            <a:ext cx="7848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Помните, дети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выезжать на велосипеде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на проезжую часть улицы, дороги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разрешено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лишь тем, кому больше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четырнадцати лет.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c9c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Arial"/>
              </a:rPr>
              <a:t>Игра «Светофорик».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 виду грозный и серьез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Очень важный свето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 перекрестка, с перекрес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На меня глядит в уп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Все, что хочет он сказ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Я умею, я умею по гла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Его чит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Различать ты должен ясно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Цвет зеленый, желтый, кра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960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9:18:05Z</dcterms:created>
  <dc:creator>fdetyuiop</dc:creator>
  <dc:description/>
  <dc:language>en-US</dc:language>
  <cp:lastModifiedBy>юлия</cp:lastModifiedBy>
  <dcterms:modified xsi:type="dcterms:W3CDTF">2011-05-28T17:39:00Z</dcterms:modified>
  <cp:revision>6</cp:revision>
  <dc:subject/>
  <dc:title>Слайд 1</dc:title>
</cp:coreProperties>
</file>