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949B-A7C0-4144-B143-E7892B341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2948-2F88-4E39-91D2-E7D1155B1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95C9-3F2C-4F31-BC00-77A8AB061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F66B-0E79-4EC9-865D-2C03FEA98B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E5CD-6057-4C0D-B7A0-3118E4A98B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4BD3-28DA-4CFD-A74B-B97D3CBA65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8F5-B399-4AB3-B3F7-0B8D48D4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88E-49EB-4E83-9AC3-8004ACDE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6FE-6CFB-477A-9F52-A934F4D7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B42-BA16-4D0D-82DE-FB293618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DD4-FB3D-4CE3-B109-9DCD7C50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E74-FB1A-4341-9C08-F8D940F5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E27-B8E9-44A8-9579-AF9828AE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B51-9009-4152-BBD1-712780B6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C62-2E39-42DB-8633-BDBF6103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A77-55A4-4C90-9718-D1AE6482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2DD-9CAF-4C66-A23E-94C532A6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77D-8399-4953-A42A-281DA19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2F83-9AA8-4982-85F3-AE8A805BFDF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36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5"/>
          <p:cNvSpPr/>
          <p:nvPr/>
        </p:nvSpPr>
        <p:spPr>
          <a:xfrm>
            <a:off x="1066680" y="514080"/>
            <a:ext cx="706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бочн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ызывает зуд, почесывание затыл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тывание к потолку глаз, зево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нливость, полное неприят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ю на цифровой нос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 тяжелых случаях тошнота, рв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ивопо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ышенная чувствительность и непереносимость формул, уравнений, циф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следственная предрасполож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H:\Презентация\018.JPG"/>
          <p:cNvPicPr/>
          <p:nvPr/>
        </p:nvPicPr>
        <p:blipFill>
          <a:blip r:embed="rId2"/>
          <a:srcRect l="13066" t="18391" r="24487" b="15173"/>
          <a:stretch/>
        </p:blipFill>
        <p:spPr>
          <a:xfrm>
            <a:off x="5410080" y="1981080"/>
            <a:ext cx="1994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36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5"/>
          <p:cNvSpPr/>
          <p:nvPr/>
        </p:nvSpPr>
        <p:spPr>
          <a:xfrm>
            <a:off x="838080" y="3590280"/>
            <a:ext cx="701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екарственны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ы совместные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епаратами химии, физ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 с классным руководител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иносит ощутимые результ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:\ролик\SDC11754.JPG"/>
          <p:cNvPicPr/>
          <p:nvPr/>
        </p:nvPicPr>
        <p:blipFill>
          <a:blip r:embed="rId2"/>
          <a:stretch/>
        </p:blipFill>
        <p:spPr>
          <a:xfrm>
            <a:off x="-12801600" y="-9601200"/>
            <a:ext cx="8640720" cy="6480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D:\C рабочего стола\Рабочий стол\фотки из цифровика\101MSDCF\DSC00084.JPG"/>
          <p:cNvPicPr/>
          <p:nvPr/>
        </p:nvPicPr>
        <p:blipFill>
          <a:blip r:embed="rId3"/>
          <a:srcRect l="11663" t="10622" r="16877" b="9891"/>
          <a:stretch/>
        </p:blipFill>
        <p:spPr>
          <a:xfrm>
            <a:off x="4343400" y="1295280"/>
            <a:ext cx="2187720" cy="1606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D:\фотки\SDC11760.JPG"/>
          <p:cNvPicPr/>
          <p:nvPr/>
        </p:nvPicPr>
        <p:blipFill>
          <a:blip r:embed="rId4"/>
          <a:stretch/>
        </p:blipFill>
        <p:spPr>
          <a:xfrm>
            <a:off x="5257800" y="350532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D:\фотки\SDC11784.JPG"/>
          <p:cNvPicPr/>
          <p:nvPr/>
        </p:nvPicPr>
        <p:blipFill>
          <a:blip r:embed="rId5"/>
          <a:stretch/>
        </p:blipFill>
        <p:spPr>
          <a:xfrm>
            <a:off x="1523880" y="129528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36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936000" y="914400"/>
            <a:ext cx="628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обые у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арат содержать в особых усло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а и уюта в окружении взаимопонимания и 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двергать бесконечным проверкам и нагруз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едози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ыкание к препарату, безудержная тя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юбовь к математике,  зависимость от  препа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8" descr="H:\сауле фото\023.JPG"/>
          <p:cNvPicPr/>
          <p:nvPr/>
        </p:nvPicPr>
        <p:blipFill>
          <a:blip r:embed="rId2"/>
          <a:stretch/>
        </p:blipFill>
        <p:spPr>
          <a:xfrm>
            <a:off x="1981080" y="2743200"/>
            <a:ext cx="212904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H:\сауле фото\028.JPG"/>
          <p:cNvPicPr/>
          <p:nvPr/>
        </p:nvPicPr>
        <p:blipFill>
          <a:blip r:embed="rId3"/>
          <a:srcRect l="4897" t="4640" r="12034" b="10535"/>
          <a:stretch/>
        </p:blipFill>
        <p:spPr>
          <a:xfrm>
            <a:off x="4876920" y="2819520"/>
            <a:ext cx="2297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36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990720" y="1143000"/>
            <a:ext cx="683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 выпуска и упак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1 личности учителя с гардеробом от Диор с прилож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плома синего цвета. К учителю также прилагаются 3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интересованных в математи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щиеся самостоятельными препара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карственными средств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2"/>
          <a:srcRect l="4846" t="0" r="10491" b="21159"/>
          <a:stretch/>
        </p:blipFill>
        <p:spPr>
          <a:xfrm>
            <a:off x="4114800" y="4078440"/>
            <a:ext cx="1676520" cy="20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:\Презентация\сканирование0002.jpg"/>
          <p:cNvPicPr/>
          <p:nvPr/>
        </p:nvPicPr>
        <p:blipFill>
          <a:blip r:embed="rId3"/>
          <a:srcRect l="0" t="10891" r="21051" b="5647"/>
          <a:stretch/>
        </p:blipFill>
        <p:spPr>
          <a:xfrm>
            <a:off x="5943600" y="2743200"/>
            <a:ext cx="1600200" cy="2454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C:\Users\User\Desktop\Презентация\05042012044.jpg"/>
          <p:cNvPicPr/>
          <p:nvPr/>
        </p:nvPicPr>
        <p:blipFill>
          <a:blip r:embed="rId4"/>
          <a:stretch/>
        </p:blipFill>
        <p:spPr>
          <a:xfrm>
            <a:off x="1143000" y="312408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1743120" y="1501920"/>
            <a:ext cx="565776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219320" y="1008360"/>
            <a:ext cx="579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Условия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ранить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гоприятной температуре, в проветриваемом помещении. Не замораживать! На площади и улицы в мороз не направлять. Обеспечить трехразовое пит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ранить в легкодоступном для детей мест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Срок хра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 глубокой ста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Условия отпуска из апт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сентября по май по учебному расписанию, в остальное время в отпуск без рецеп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1743120" y="1501920"/>
            <a:ext cx="565776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066680" y="8614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роиз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альский пед.институт им. А.С.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Адрес регист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рганизации, приним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 территории РК претен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т потребителей по качеству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Астана СШ №1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rcRect l="35661" t="40973" r="34593" b="40231"/>
          <a:stretch/>
        </p:blipFill>
        <p:spPr>
          <a:xfrm>
            <a:off x="4876920" y="3886200"/>
            <a:ext cx="2319120" cy="1569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3"/>
          <a:stretch/>
        </p:blipFill>
        <p:spPr>
          <a:xfrm>
            <a:off x="2666880" y="1052640"/>
            <a:ext cx="320040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36"/>
          <p:cNvPicPr/>
          <p:nvPr/>
        </p:nvPicPr>
        <p:blipFill>
          <a:blip r:embed="rId1"/>
          <a:stretch/>
        </p:blipFill>
        <p:spPr>
          <a:xfrm>
            <a:off x="0" y="15228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-4178160" y="-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-4178160" y="952200"/>
            <a:ext cx="62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-4176720" y="3022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-4178520" y="4901760"/>
            <a:ext cx="72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505320" y="1066680"/>
            <a:ext cx="383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762120" y="1828800"/>
            <a:ext cx="7500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ПАСИБО ЗА ВНИМАНИЕ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!</a:t>
            </a:r>
            <a:r>
              <a:rPr b="0" lang="kk-KZ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SC00858"/>
          <p:cNvPicPr/>
          <p:nvPr/>
        </p:nvPicPr>
        <p:blipFill>
          <a:blip r:embed="rId2"/>
          <a:stretch/>
        </p:blipFill>
        <p:spPr>
          <a:xfrm>
            <a:off x="3276720" y="3124080"/>
            <a:ext cx="23158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04T19:12:2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