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E5D8-0736-433C-ABCB-1398F5D35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F20-A950-4C1C-8390-29E6C35D3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9F42-C12E-410A-9BEE-BD11B8F85C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7AB-3FFF-46E8-89CD-9DAF0F805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C4E2-72B7-4633-B992-1A90C0D84A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AEB-9E75-4964-B7F2-9FB393395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A04A-53D0-45DE-B04D-D79D41BD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4E6-A9AF-4F1E-9FF6-1831645F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83A-D687-4384-9B81-D2A669D3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7D3-523E-49DD-8CA9-91A89A83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A55A-57F0-40DA-B4A2-7BCDA1E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E65-A3F3-4E38-A647-9AFEDF78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509-68F3-4C58-A08A-31B3A8F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ED7-75DC-4BAF-8820-97247D6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BF6-4907-460A-A4D4-4031648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976-82E0-42A1-8559-F2402EF5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7155-1816-4843-AD4E-4A88D3A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A64-2AC8-4E6B-B77B-CEF9A24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B25-A20D-4820-BD52-5C85A5D5FE0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5"/>
          <p:cNvSpPr/>
          <p:nvPr/>
        </p:nvSpPr>
        <p:spPr>
          <a:xfrm>
            <a:off x="1066680" y="514080"/>
            <a:ext cx="706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боч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ызывает зуд, почесывание заты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тывание к потолку глаз, зев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нливость, полное неприят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лергию на цифровой нос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тяжелых случаях тошнота, рв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ивопо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ышенная чувствительность и непереносимость формул, уравнений, циф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следственная предрасполо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H:\Презентация\018.JPG"/>
          <p:cNvPicPr/>
          <p:nvPr/>
        </p:nvPicPr>
        <p:blipFill>
          <a:blip r:embed="rId2"/>
          <a:srcRect l="13066" t="18391" r="24487" b="15173"/>
          <a:stretch/>
        </p:blipFill>
        <p:spPr>
          <a:xfrm>
            <a:off x="5410080" y="1981080"/>
            <a:ext cx="19940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5"/>
          <p:cNvSpPr/>
          <p:nvPr/>
        </p:nvSpPr>
        <p:spPr>
          <a:xfrm>
            <a:off x="838080" y="3590280"/>
            <a:ext cx="7010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екарственные взаимо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ы совместные 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паратами химии, физ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с классным руководител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иносит ощутимые 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:\ролик\SDC11754.JPG"/>
          <p:cNvPicPr/>
          <p:nvPr/>
        </p:nvPicPr>
        <p:blipFill>
          <a:blip r:embed="rId2"/>
          <a:stretch/>
        </p:blipFill>
        <p:spPr>
          <a:xfrm>
            <a:off x="-12801600" y="-9601200"/>
            <a:ext cx="8640720" cy="6480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D:\C рабочего стола\Рабочий стол\фотки из цифровика\101MSDCF\DSC00084.JPG"/>
          <p:cNvPicPr/>
          <p:nvPr/>
        </p:nvPicPr>
        <p:blipFill>
          <a:blip r:embed="rId3"/>
          <a:srcRect l="11663" t="10622" r="16877" b="9891"/>
          <a:stretch/>
        </p:blipFill>
        <p:spPr>
          <a:xfrm>
            <a:off x="4343400" y="1295280"/>
            <a:ext cx="2187720" cy="16066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D:\фотки\SDC11760.JPG"/>
          <p:cNvPicPr/>
          <p:nvPr/>
        </p:nvPicPr>
        <p:blipFill>
          <a:blip r:embed="rId4"/>
          <a:stretch/>
        </p:blipFill>
        <p:spPr>
          <a:xfrm>
            <a:off x="5257800" y="350532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D:\фотки\SDC11784.JPG"/>
          <p:cNvPicPr/>
          <p:nvPr/>
        </p:nvPicPr>
        <p:blipFill>
          <a:blip r:embed="rId5"/>
          <a:stretch/>
        </p:blipFill>
        <p:spPr>
          <a:xfrm>
            <a:off x="1523880" y="129528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936000" y="914400"/>
            <a:ext cx="6284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обые у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арат содержать в особых усло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а и уюта в окружении взаимопонимания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двергать бесконечным проверкам и нагруз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едози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ыкание к препарату, безудержная тя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юбовь к математике,  зависимость от  препа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H:\сауле фото\023.JPG"/>
          <p:cNvPicPr/>
          <p:nvPr/>
        </p:nvPicPr>
        <p:blipFill>
          <a:blip r:embed="rId2"/>
          <a:stretch/>
        </p:blipFill>
        <p:spPr>
          <a:xfrm>
            <a:off x="1981080" y="2743200"/>
            <a:ext cx="21290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H:\сауле фото\028.JPG"/>
          <p:cNvPicPr/>
          <p:nvPr/>
        </p:nvPicPr>
        <p:blipFill>
          <a:blip r:embed="rId3"/>
          <a:srcRect l="4897" t="4640" r="12034" b="10535"/>
          <a:stretch/>
        </p:blipFill>
        <p:spPr>
          <a:xfrm>
            <a:off x="4876920" y="2819520"/>
            <a:ext cx="2297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36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990720" y="1143000"/>
            <a:ext cx="683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 выпуска и упа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1 личности учителя с гардеробом от Диор с прилож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 синего цвета. К учителю также прилагаются 3 де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интересованных в математи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щиеся самостоятельными препарат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карственными средств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2"/>
          <a:srcRect l="4846" t="0" r="10491" b="21159"/>
          <a:stretch/>
        </p:blipFill>
        <p:spPr>
          <a:xfrm>
            <a:off x="4114800" y="4078440"/>
            <a:ext cx="1676520" cy="20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H:\Презентация\сканирование0002.jpg"/>
          <p:cNvPicPr/>
          <p:nvPr/>
        </p:nvPicPr>
        <p:blipFill>
          <a:blip r:embed="rId3"/>
          <a:srcRect l="0" t="10891" r="21051" b="5647"/>
          <a:stretch/>
        </p:blipFill>
        <p:spPr>
          <a:xfrm>
            <a:off x="5943600" y="2743200"/>
            <a:ext cx="1600200" cy="2454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C:\Users\User\Desktop\Презентация\05042012044.jpg"/>
          <p:cNvPicPr/>
          <p:nvPr/>
        </p:nvPicPr>
        <p:blipFill>
          <a:blip r:embed="rId4"/>
          <a:stretch/>
        </p:blipFill>
        <p:spPr>
          <a:xfrm>
            <a:off x="1143000" y="312408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5"/>
          <p:cNvSpPr txBox="1"/>
          <p:nvPr/>
        </p:nvSpPr>
        <p:spPr>
          <a:xfrm>
            <a:off x="1743120" y="1501920"/>
            <a:ext cx="565776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219320" y="1008360"/>
            <a:ext cx="579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словия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ранить 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гоприятной температуре, в проветриваемом помещении. Не замораживать! На площади и улицы в мороз не направлять. Обеспечить трехразовое пит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ранить в легкодоступном для детей мест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Срок хра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 глубокой ста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Условия отпуска из апт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сентября по май по учебному расписанию, в остальное время в отпуск без рецеп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1743120" y="1501920"/>
            <a:ext cx="5657760" cy="38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8614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оиз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ральский пед.институт им. А.С.Пушк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Адрес регис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рганизации, приним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на территории РК претенз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от потребителей по качеству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Астана СШ №1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rcRect l="35661" t="40973" r="34593" b="40231"/>
          <a:stretch/>
        </p:blipFill>
        <p:spPr>
          <a:xfrm>
            <a:off x="4876920" y="3886200"/>
            <a:ext cx="2319120" cy="1569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"/>
          <p:cNvPicPr/>
          <p:nvPr/>
        </p:nvPicPr>
        <p:blipFill>
          <a:blip r:embed="rId3"/>
          <a:stretch/>
        </p:blipFill>
        <p:spPr>
          <a:xfrm>
            <a:off x="2666880" y="1052640"/>
            <a:ext cx="32004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36"/>
          <p:cNvPicPr/>
          <p:nvPr/>
        </p:nvPicPr>
        <p:blipFill>
          <a:blip r:embed="rId1"/>
          <a:stretch/>
        </p:blipFill>
        <p:spPr>
          <a:xfrm>
            <a:off x="0" y="15228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-4178160" y="-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-4178160" y="952200"/>
            <a:ext cx="628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-4176720" y="3022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-4178520" y="4901760"/>
            <a:ext cx="724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505320" y="1066680"/>
            <a:ext cx="383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762120" y="1828800"/>
            <a:ext cx="75009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СПАСИБО ЗА ВНИМАНИЕ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!</a:t>
            </a:r>
            <a:r>
              <a:rPr b="0" lang="kk-KZ" sz="4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DSC00858"/>
          <p:cNvPicPr/>
          <p:nvPr/>
        </p:nvPicPr>
        <p:blipFill>
          <a:blip r:embed="rId2"/>
          <a:stretch/>
        </p:blipFill>
        <p:spPr>
          <a:xfrm>
            <a:off x="3276720" y="3124080"/>
            <a:ext cx="23158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04T19:12:2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