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06E2-D102-4BE4-9E0A-0871FB7F7A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3C46-D0A9-4F7C-97C5-519CB6397B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C4CB-4FE0-410A-BC54-5C74EBDB9A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7054-94C9-4F21-BBDD-C588108F23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EFB8-6548-4A23-AB01-8535719E48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4012-ECB7-44C0-8CC2-082EEDBA01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B8B7-0816-4799-95A8-75FC1DA71F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7518-7A14-4B1B-9B5D-CEC2D58416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9BC6-D9B6-47E8-8574-8B1AC99D05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EDC-0AA4-41A4-A13A-A0D369A6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011-49B0-45B5-9858-A5D42B39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A55-E4E6-4FF2-89A3-11BCF08E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E084-900C-434A-858F-F247FBA7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B5668-77BF-4EDF-8DF1-955B0E70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CE7DD-01B7-4833-AAFA-3ADE9B04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E3C87-F3C3-4200-862F-BFFF2F33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5CB4F-9136-4DB3-B16E-99A1C121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A627B-25EC-4231-AA16-03071EB8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9D4A4-BE8F-46FA-8F5C-E75B11A5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233A9-F046-4278-A96B-1D94F666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D36A-7F57-4A52-9810-48A13EF1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173B5-F90A-4EDA-9AA9-35C87E0E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60AF6-F43D-4860-96CE-446F1E31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BAA36-0095-46BE-8F64-42519F2A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ED66F-B585-4237-B12D-D84B9DC1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94B44-50C9-4280-BF2D-0967617B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7BB8-923B-46A5-8FDC-C7CB107F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09EB-E479-4137-A935-C138CE05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9330-DC6D-4729-A907-5A2E271F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2E6-2DDD-4073-9CC1-1554799B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9EA-A794-49ED-BE4C-3A917A51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AF0-70C8-48C8-9783-587D1FB6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0CFE-BA13-429A-AE17-BCC8AD6C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E1A8-E3DA-4ADC-B1C5-D85C8F5587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7A67-B8AE-4D16-AF6C-8BBB3C6490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Georgia"/>
              </a:rPr>
              <a:t>Семь чудес св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355640" y="1988640"/>
            <a:ext cx="4537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емь чуде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Све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Древнего Ми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4" descr="293px-SevenWondersOfTheWorld"/>
          <p:cNvPicPr/>
          <p:nvPr/>
        </p:nvPicPr>
        <p:blipFill>
          <a:blip r:embed="rId1"/>
          <a:stretch/>
        </p:blipFill>
        <p:spPr>
          <a:xfrm>
            <a:off x="755640" y="1484280"/>
            <a:ext cx="3192480" cy="443880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Georgia"/>
              </a:rPr>
              <a:t>Пирамида Хеоп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0920" y="155700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а в 2550 г. до н. 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: Гиза (Египе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тели: египтя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динственное из «чудес», сохранившееся до наших д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 сооружения: гробница фараона Хеоп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0" descr="2"/>
          <p:cNvPicPr/>
          <p:nvPr/>
        </p:nvPicPr>
        <p:blipFill>
          <a:blip r:embed="rId1"/>
          <a:stretch/>
        </p:blipFill>
        <p:spPr>
          <a:xfrm>
            <a:off x="468360" y="1197000"/>
            <a:ext cx="4174920" cy="3340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advTm="34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Georgia"/>
              </a:rPr>
              <a:t>Висячие сады Семирамид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а в 600 г. до н. э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: Вавилон (Ира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тели: вавилоня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ушено: После I столетия до н. 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чина разрушения: землетрясени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 сооружения: Были созданы для жены царя Навуходоносора II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bcd9b48d5ac9"/>
          <p:cNvPicPr/>
          <p:nvPr/>
        </p:nvPicPr>
        <p:blipFill>
          <a:blip r:embed="rId1"/>
          <a:stretch/>
        </p:blipFill>
        <p:spPr>
          <a:xfrm>
            <a:off x="324000" y="1557360"/>
            <a:ext cx="4679640" cy="309384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p:transition advTm="43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Georgia"/>
              </a:rPr>
              <a:t>Статуя Зевса в Олимп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а: 435 г. до н. э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ульптор Фид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: Олимпия (Греция)                                 Создатели: гре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ушено: V—VI в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чина разрушения: сгорела в Константинополе во время пожара на Ипподроме в V 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 сооружения: храмовая статуя в храме Зевса в Олимп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6" descr="1427777"/>
          <p:cNvPicPr/>
          <p:nvPr/>
        </p:nvPicPr>
        <p:blipFill>
          <a:blip r:embed="rId1"/>
          <a:stretch/>
        </p:blipFill>
        <p:spPr>
          <a:xfrm>
            <a:off x="324000" y="1484280"/>
            <a:ext cx="4248000" cy="318600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p:transition advTm="50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Georgia"/>
              </a:rPr>
              <a:t>Храм Артемиды в Эфес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а: 550 г. до н. 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: Эфес (Турц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тели: лидийц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еки, пе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ушено: 370 г. до н. 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56 г. до н. э. (Герострато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и 262 г. н. э. (готам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чина разрушения: пож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 сооружения: был построен в честь богини Артеми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45965304_1246799520_86849_800_600"/>
          <p:cNvPicPr/>
          <p:nvPr/>
        </p:nvPicPr>
        <p:blipFill>
          <a:blip r:embed="rId1"/>
          <a:stretch/>
        </p:blipFill>
        <p:spPr>
          <a:xfrm>
            <a:off x="250920" y="1812960"/>
            <a:ext cx="4465440" cy="3178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p:transition advTm="55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Georgia"/>
              </a:rPr>
              <a:t>Мавзолей в Галикарнас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а: 351 г. до н. э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: Галикарна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а юго-западе Турц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тели: карийц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сы, гре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ушено: 1494 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чина разрушения: землетрясение; сохранились: фундаменты, архитектурные фрагменты; в Британском музее в Лондоне — статуи Мавсола и его жены Артемисии, рельефы, статуи льв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 сооружения: был возведен как надгробный памятник карийского правителя Мавсола его женой — царицей Артемиси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5" descr="aad"/>
          <p:cNvPicPr/>
          <p:nvPr/>
        </p:nvPicPr>
        <p:blipFill>
          <a:blip r:embed="rId1"/>
          <a:stretch/>
        </p:blipFill>
        <p:spPr>
          <a:xfrm>
            <a:off x="755640" y="1268280"/>
            <a:ext cx="4032360" cy="272268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p:transition advTm="74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Georgia"/>
              </a:rPr>
              <a:t>Колосс Родосск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а: между 292 и 280 гг. до н. э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: Родос (Грец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тели: гре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ушено: 224(или 226)г.до н. э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ронзовый корпус бы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монтирован в 654 г. н. э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чина разрушения: землетряс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 сооружения: был установлен скульптором Харесом для увековечивания памяти о победе Родоса над Деметрием Полиоркетом (304 г. до н. э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5" descr="coloss_1"/>
          <p:cNvPicPr/>
          <p:nvPr/>
        </p:nvPicPr>
        <p:blipFill>
          <a:blip r:embed="rId1"/>
          <a:stretch/>
        </p:blipFill>
        <p:spPr>
          <a:xfrm>
            <a:off x="324000" y="1197000"/>
            <a:ext cx="2854080" cy="40323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p:transition advTm="69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Georgia"/>
              </a:rPr>
              <a:t>Александрийский мая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а: III век до н. 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: Александрия (Егип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тели: Династия Птолеме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ушено: 303г. до н. э.—1480 г.н.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простоял 1500 лет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чина разрушения: землетряс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 сооружения: свет этого маяка был очень полезен для судоход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b64193f93588"/>
          <p:cNvPicPr/>
          <p:nvPr/>
        </p:nvPicPr>
        <p:blipFill>
          <a:blip r:embed="rId1"/>
          <a:stretch/>
        </p:blipFill>
        <p:spPr>
          <a:xfrm>
            <a:off x="324000" y="1341360"/>
            <a:ext cx="2971800" cy="400068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p:transition advTm="54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08:26:39Z</dcterms:created>
  <dc:creator>Алина</dc:creator>
  <dc:description/>
  <dc:language>en-US</dc:language>
  <cp:lastModifiedBy>1</cp:lastModifiedBy>
  <dcterms:modified xsi:type="dcterms:W3CDTF">2011-12-14T18:07:57Z</dcterms:modified>
  <cp:revision>50</cp:revision>
  <dc:subject/>
  <dc:title>Семь чудес света</dc:title>
</cp:coreProperties>
</file>