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2837-C15B-4D13-893E-E9783207B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C98C-BFE8-4325-A0CF-C006922967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007-61AB-4400-9FF3-F3B992D756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6432-DBC8-495F-9C01-56F32F2785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2513-0173-4377-800D-693021A11C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AD7-97B0-403C-B142-1BF5172691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7EF1-F8A0-485B-AFA9-88BFA00636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16DB-D1D3-4EDA-A045-72618B2DFF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0F6-D979-45FD-A28A-C2ECE2E2B8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DB6-1303-4657-A0F3-2128ACAD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A9E-8D70-4FAE-87CF-F3E1F0CA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8BC-79FE-415A-82DF-8CAD15CB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273-6F42-40B3-A31F-E984CB04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C5CE3-E3DD-489A-BA4B-E4F7DECD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6CEF0-C2E5-468A-BDD0-0E4A721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CE4B-A52A-468D-AF1A-F1D1794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8644-6CBB-46B0-A832-33F8EF7B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699FB-0BE2-4551-913E-84A7E6D1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95917-3FDC-4BFA-A87F-5EA25CB8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02BCE-B67F-40C8-BC3E-913BD87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69C-9C0B-428E-B42B-D7810D44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C370C-5460-46F4-86E7-693B138D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1C810-5582-4287-90A6-A48D4ABC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A1019-FBAC-42EB-B2F6-6EDDF49E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61285-657E-41CD-9A01-B65B5318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0EF20-4F46-466D-8937-4DBE7DED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639-5F25-4DBC-939A-26BB088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4CA-07F9-4B3E-9A8C-6CAB7890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A4D-6BBB-4924-93C1-5617DB0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B8D-94BB-4C75-A63F-32F92527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40A-3431-4DDC-A8CB-FC7953B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E08-8A16-4385-888F-C0E3DA1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4BF-DAEE-4132-892D-82A30ED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C6F-1D43-489D-9E2B-722702B5D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A742-99E4-4C92-B3BC-13BE71C75E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Georgia"/>
              </a:rPr>
              <a:t>Семь чудес св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55640" y="1988640"/>
            <a:ext cx="4537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емь чуд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в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ревнего Ми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4" descr="293px-SevenWondersOfTheWorld"/>
          <p:cNvPicPr/>
          <p:nvPr/>
        </p:nvPicPr>
        <p:blipFill>
          <a:blip r:embed="rId1"/>
          <a:stretch/>
        </p:blipFill>
        <p:spPr>
          <a:xfrm>
            <a:off x="755640" y="1484280"/>
            <a:ext cx="3192480" cy="44388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Пирамида Хеоп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 в 2550 г.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Гиза (Егип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египтя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ственное из «чудес», сохранившееся до наших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гробница фараона Хеоп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2"/>
          <p:cNvPicPr/>
          <p:nvPr/>
        </p:nvPicPr>
        <p:blipFill>
          <a:blip r:embed="rId1"/>
          <a:stretch/>
        </p:blipFill>
        <p:spPr>
          <a:xfrm>
            <a:off x="468360" y="1197000"/>
            <a:ext cx="4174920" cy="3340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advTm="3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Georgia"/>
              </a:rPr>
              <a:t>Висячие сады Семирами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 в 600 г. до 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Вавилон (Ир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вавилон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После I столетия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и созданы для жены царя Навуходоносора II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bcd9b48d5ac9"/>
          <p:cNvPicPr/>
          <p:nvPr/>
        </p:nvPicPr>
        <p:blipFill>
          <a:blip r:embed="rId1"/>
          <a:stretch/>
        </p:blipFill>
        <p:spPr>
          <a:xfrm>
            <a:off x="324000" y="1557360"/>
            <a:ext cx="4679640" cy="30938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43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Статуя Зевса в Олимп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435 г. до н. э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ульптор Фид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Олимпия (Греция)                                 Создатели: г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V—VI в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сгорела в Константинополе во время пожара на Ипподроме в V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храмовая статуя в храме Зевса в Олимп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1427777"/>
          <p:cNvPicPr/>
          <p:nvPr/>
        </p:nvPicPr>
        <p:blipFill>
          <a:blip r:embed="rId1"/>
          <a:stretch/>
        </p:blipFill>
        <p:spPr>
          <a:xfrm>
            <a:off x="324000" y="1484280"/>
            <a:ext cx="4248000" cy="31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5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Храм Артемиды в Эфес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550 г.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Эфес (Тур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лидий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еки, пе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370 г. до н. 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56 г. до н. э. (Герострат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262 г. н. э. (гот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пож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 построен в честь богини Арте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45965304_1246799520_86849_800_600"/>
          <p:cNvPicPr/>
          <p:nvPr/>
        </p:nvPicPr>
        <p:blipFill>
          <a:blip r:embed="rId1"/>
          <a:stretch/>
        </p:blipFill>
        <p:spPr>
          <a:xfrm>
            <a:off x="250920" y="1812960"/>
            <a:ext cx="4465440" cy="317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advTm="5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Мавзолей в Галикарнас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351 г. до 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Галикарн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 юго-западе Тур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карий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сы, г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1494 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; сохранились: фундаменты, архитектурные фрагменты; в Британском музее в Лондоне — статуи Мавсола и его жены Артемисии, рельефы, статуи льв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 возведен как надгробный памятник карийского правителя Мавсола его женой — царицей Артемис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aad"/>
          <p:cNvPicPr/>
          <p:nvPr/>
        </p:nvPicPr>
        <p:blipFill>
          <a:blip r:embed="rId1"/>
          <a:stretch/>
        </p:blipFill>
        <p:spPr>
          <a:xfrm>
            <a:off x="755640" y="1268280"/>
            <a:ext cx="4032360" cy="27226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7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Колосс Родосск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между 292 и 280 гг. до 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Родос (Гре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г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224(или 226)г.до н. э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нзовый корпус б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монтирован в 654 г. 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 установлен скульптором Харесом для увековечивания памяти о победе Родоса над Деметрием Полиоркетом (304 г. до н. э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coloss_1"/>
          <p:cNvPicPr/>
          <p:nvPr/>
        </p:nvPicPr>
        <p:blipFill>
          <a:blip r:embed="rId1"/>
          <a:stretch/>
        </p:blipFill>
        <p:spPr>
          <a:xfrm>
            <a:off x="324000" y="1197000"/>
            <a:ext cx="2854080" cy="40323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69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Александрийский мая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III век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Александрия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Династия Птолеме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303г. до н. э.—1480 г.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ростоял 1500 лет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свет этого маяка был очень полезен для судох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b64193f93588"/>
          <p:cNvPicPr/>
          <p:nvPr/>
        </p:nvPicPr>
        <p:blipFill>
          <a:blip r:embed="rId1"/>
          <a:stretch/>
        </p:blipFill>
        <p:spPr>
          <a:xfrm>
            <a:off x="324000" y="1341360"/>
            <a:ext cx="2971800" cy="40006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54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8:26:39Z</dcterms:created>
  <dc:creator>Алина</dc:creator>
  <dc:description/>
  <dc:language>en-US</dc:language>
  <cp:lastModifiedBy>1</cp:lastModifiedBy>
  <dcterms:modified xsi:type="dcterms:W3CDTF">2011-12-14T18:07:57Z</dcterms:modified>
  <cp:revision>50</cp:revision>
  <dc:subject/>
  <dc:title>Семь чудес света</dc:title>
</cp:coreProperties>
</file>