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A53-44CE-4F56-8B91-F70955DA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10B-BE6F-4721-ACA8-DE517EE2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0E669-0F7D-4F58-94A8-40FE9F58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CEF52-0FBF-465F-8B1D-4CF23ED1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24A6A-1CA4-478A-A5D2-4F3368D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442BB-E4C2-4AE0-B640-9055A08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3EB91-47F1-4311-AF26-F420CAD1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58A8B-9F6C-4843-80BA-16FE1ED0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37BBB-444B-42BE-A839-C6AA7B07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62F88-8A4D-40F9-8B29-38C7C4D2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20C5D-3849-41CD-857B-AD9AA9B2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6418A-6AD3-46CE-9063-41701824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30C-0768-4600-86EC-E7833820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1294A-9601-4BFA-BF9E-849C1E0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67BF3-C10E-4CF1-88AA-E9444069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34EA6-21A3-498C-B3B0-89F7ADC5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03F06-72A3-4BD1-8C2B-F85100B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A7797-4194-4D73-B03A-45DA5CC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E6190-2C95-4F7C-8389-1CA00BB2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79B39-0636-400D-A603-0D3C1C8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FBA14-9989-4C48-8D82-C6543B2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2C338-87B2-4214-AB80-789749BF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5214C-50FC-4F4A-92A5-E29D1C67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0B4-BF86-43A3-B4F4-AABBCF9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76250-841C-4711-8A5E-67F91DBA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08D4-CE6C-49A8-98D0-AB15D2FD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C1D1C-2C85-4B7F-8216-3A0C0F42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1BDE9-B1F8-48E7-B413-AE1C881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4FEDE-AE39-4CC0-9853-FD7D08ED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A93C3-795F-451B-8589-0A0FBC2C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D7486-8F6E-4CA2-B86F-569577B6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B820A-E40D-41FB-9266-C5D6B59C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1BAB3-5F84-4239-BFD1-0B7D3D99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26390-3E8E-4904-B5D0-5370A93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6616-8F01-4719-8780-E4C33465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A8A4B-AAF9-4709-AA3D-BE3E3153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1F19B-52AA-4734-A951-1DF01C3F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43CB4-C6C3-4468-BA3F-6354B574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1BD94-B2C2-4F87-BFBC-09EB788C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99B54-01DD-44BB-8688-F130D84F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19E02-FB61-4B73-88C9-C223C193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36FAE-2570-4353-8AEC-824F6AF8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CCD11-A1C0-4CB3-875D-7EA1B0EA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8918B-7AF0-4FBF-AFD8-B24CC5FC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E93EC-38BC-4337-9B2A-E8B2519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B404-1C6C-4D63-B3D8-F9249D5C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AD2C6-9C0B-4E98-B4C0-7D17E05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F55A1-E600-49B0-AA22-34EB7B9D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BE159-011E-437E-A5C8-C54A561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FF69E-297D-4E2C-B55A-4F1584A0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5AC31-D93A-41D9-9417-6446D3B0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A5749-F77E-45B0-930D-78975B0F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65A22-7540-45A3-B8F3-416A8AD8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D78EC-151F-4686-BAF6-56F5E597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6F66C-D51C-4B8B-B477-5777AD1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B9B89-BD03-4E2C-B91D-8F8BED6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533-45D9-4769-A3DB-96BA8A29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EB11E5-5624-48D2-937B-F2B3E13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E74AF-8898-4254-8851-915EEC0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EE33D-3A4F-47F8-99DB-1A66639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6914E-9C38-4DDE-B9BC-146E709E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0C884-6934-41CE-9D09-B1BAA1D6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76E98-4032-42A6-9C75-FB9EBAC0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4FE78-5194-4A3C-9E21-18F4B489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9CE86-1136-4171-98F0-94FC7DA2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C8A57-2FF0-4282-876D-8F6BA904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B2004-8189-496D-B877-694331E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83E9-1101-4CD9-95B5-3A5AB8B9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82534-5247-4443-87CB-7E238574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04E3D-F9A0-4427-9348-FAAAEC67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20B5A-DD09-439B-89A4-1F0B6C19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B62C4-6ED6-42FA-9325-9C4AFAD5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936B7-FD65-4E6D-A402-A513CCB6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8858B-ADA0-4D57-A02D-57CD496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2D9A9-C6A2-43CA-9569-039DE83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7D614A-3913-45EE-AE09-46D84992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FC8CA-7EE3-4A7E-BAD6-8305CDAE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BF34-7BA6-430D-A30A-6C6B8AD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F31-705B-485E-ACB3-50C75AE4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1447-1F8C-45A6-96DD-29FF3A15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5E7-9A83-406C-BC46-83B6110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0659-8414-4169-A9D5-F9D1948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274C-5E15-4C82-8F58-72E7C4E1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E68F-B12E-44AA-BB5C-CC966C9D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7CB-E806-47F4-A5D2-E674AECD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9FFD-5DA4-48FE-BABF-32A1F769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D3EA-BF9F-4E15-84A1-E74DB30A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C9B1-A4FA-4D68-9C02-D8BE1D00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0BC69-3A6E-46D6-9B01-A1EA09B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A8E5-0EA4-4DB4-AB41-0F2AEFEA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1ED8-98FC-4672-9B7D-66250DCF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2F6-CD38-4CCA-B239-7C3E923B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618B-44C1-44DC-B5FC-815E6C7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F4FD-4620-4DCF-9A64-82778B1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8645-9EB9-4D25-A702-EF1C202A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A550-FFBA-405A-A5AA-BC85916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580E-DE52-446A-98C6-F0951921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9D5A3-84E5-4118-A053-2F132387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EBEAD-320A-45B3-9063-16CD3C5E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0173-F9ED-4694-A881-1BEB7B08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70F6-E2DF-4CD7-8AF1-75525B1A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E461-E74E-4CB2-A3AB-33B3DDE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B41D-0E75-4190-A9D7-3A7C92C8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A3701-B816-4E95-9FDE-AA10984C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BF4C-B7F2-477C-B449-5087EA2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C3CB-4D09-4050-904D-4F7F8E7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9796-44C1-4B01-9CCE-FBAFA45C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76F3-BA5E-4C1E-A3F3-64423FD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FA5E-157C-4EEA-91B8-719DD873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EFAE-1FAB-403A-8FCB-B4D7C85D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33BD-577B-4115-AAEF-446CF0F0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28EF-9CD4-452B-BF1F-C5CB8DF5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123F0-6676-43A3-AB6B-8D65DD2E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029-235D-4FC2-99D1-92991641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87C9-6909-4757-81EE-2BA40AEE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5A5D-CB1A-4995-92A6-44BF5D2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3381-74EF-4FE9-AC92-B407782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C0362-C63A-43E9-953A-C4B3C433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16AE8-90D1-405C-9E25-5B3EFA6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0468F-1920-4099-AC1E-2152F720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0F0C-5040-4DAA-8B3E-AE34011F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00FC-6278-4B24-ABFB-AF72BE0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2A2E-9A61-44D1-80AD-46EC117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3D39-8BAF-4DA3-9DBE-EE13F0B1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429-34BA-43B7-A71C-FD73E981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DFD3-FE50-46B6-B79A-93787FB3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0327F-489D-42BA-8D88-3C9AE2C8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996C3-7CB7-40E7-8E40-816C8CA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35E36-FC2E-475C-B555-6FD50FF3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C6110-DC0A-49D6-BA06-B4D770DD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90C00-540C-4F4B-A3CA-B183E3D6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85FFE-C9F6-4E1A-B324-AA460FD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2F3AE-2A48-404B-9791-85D27E4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9826B-7D6A-47E3-B1BE-E6A7E96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D0750-2909-4A0A-8347-6BC7851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232-9869-4127-83A1-3842D39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A0EE4-49BF-49B0-BA30-1DCF2C9A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6CD56-6495-4DB4-A545-EB3D08E5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9C2A5-A445-4160-BCEA-F56ECC27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CAF55-8D87-4E58-A521-558C1B8C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5BC59-D7A6-4642-AFA8-3D64121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049A5-FE08-4D1F-B958-3679B525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203F2-31EB-44C4-8E89-6FADAE9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6956E-56EB-434B-86D2-E2CECBA0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D4AEA-F757-4583-AF9D-5E2387B7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E53E5-D468-4AB4-8C5C-49C683AE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189-4D0A-4863-9276-90B28B7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E0E6D-263E-4C1C-866C-8914F32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1B69-F118-4777-B03D-859E170C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F45ED-4E37-43B5-ABF2-12C4E772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7EE84-43AE-430F-BF3D-C292B115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06397-898D-4E0E-ABB8-EBECFA64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7420A-FBC2-4E77-BD81-901860CF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9F3D-36CB-43A3-B101-04B2389E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58D04-C8A2-499F-A575-9EC9EE53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2F74-9AA1-4D1E-8B52-F00A16F7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8BDC-1DE3-4897-9C9A-92D794C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383-78B4-48DC-A286-FD2454E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C446D-98FD-4D1A-8332-44F86F2C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282F-32D6-4BA3-B687-7E35D22D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E1755-CACB-4AC8-9213-6BFF79BB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47D25-40A7-44A4-B694-89CB7C3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74729-03A4-405C-B10A-95FC3873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47388-DE12-4704-8FB5-ED77EFF6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61A10-64C7-436F-A180-F23D612D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C3C65-4E48-41B0-8AA5-D16F66FE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8D9DF-7CFE-4698-B9C3-AEE2A42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D0F68-2B2C-4199-BF00-8375F65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2341-F1DF-4526-B70A-740DD16613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1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5851-29CC-4E1F-AFF2-C156F386709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560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561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575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579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583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587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591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D1E5-8F76-4BFC-81AA-6754726FCA7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0792-4678-4167-BDA1-263F17B9DE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1D5-6290-4F60-BA6A-2F5EFD3F8F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74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2BFD-DE18-4CBC-B7AB-E2C82BD341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4CF8-6C49-4B1A-94C1-9190B11852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3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0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F690-7649-4934-9302-62FB86B6422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8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8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8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9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9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0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0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152B-C33C-4730-BF3F-5C7F3AB5D63C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6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6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3A32-212E-4A32-B361-024F376B49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3BC-DB5B-4D60-859E-81C845894C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8E04-EEA8-4170-8BAD-3C8BF56AE5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3545-E2D8-4D24-A8AB-05F81755FB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3230-AF1E-4601-AE34-D1AFF4E1B25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Через тернии - к звездам!»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образие форм участия школьников в мероприятиях разного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3429000" y="5934240"/>
            <a:ext cx="5715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едседатель МО естественно-научного цик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читель биологии ГОУ ЦО № 5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оронченкова Вера Пав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4" descr="мз001"/>
          <p:cNvPicPr/>
          <p:nvPr/>
        </p:nvPicPr>
        <p:blipFill>
          <a:blip r:embed="rId1"/>
          <a:stretch/>
        </p:blipFill>
        <p:spPr>
          <a:xfrm>
            <a:off x="0" y="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гр008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386064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6"/>
          <p:cNvSpPr/>
          <p:nvPr/>
        </p:nvSpPr>
        <p:spPr>
          <a:xfrm>
            <a:off x="3492360" y="208080"/>
            <a:ext cx="21592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Наши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7" descr="гр009"/>
          <p:cNvPicPr/>
          <p:nvPr/>
        </p:nvPicPr>
        <p:blipFill>
          <a:blip r:embed="rId3"/>
          <a:stretch/>
        </p:blipFill>
        <p:spPr>
          <a:xfrm>
            <a:off x="3059280" y="1052640"/>
            <a:ext cx="2952720" cy="39877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8" descr="гр006"/>
          <p:cNvPicPr/>
          <p:nvPr/>
        </p:nvPicPr>
        <p:blipFill>
          <a:blip r:embed="rId4"/>
          <a:stretch/>
        </p:blipFill>
        <p:spPr>
          <a:xfrm>
            <a:off x="826920" y="3500280"/>
            <a:ext cx="2808360" cy="3357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9" descr="мз002"/>
          <p:cNvPicPr/>
          <p:nvPr/>
        </p:nvPicPr>
        <p:blipFill>
          <a:blip r:embed="rId5"/>
          <a:stretch/>
        </p:blipFill>
        <p:spPr>
          <a:xfrm>
            <a:off x="5508720" y="3573360"/>
            <a:ext cx="287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2844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Итоги участия в окружных и городских конкурсах учащихся ГОУ ЦО 556 в 2010/11 г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4643280" y="1785960"/>
          <a:ext cx="4357800" cy="1898640"/>
        </p:xfrm>
        <a:graphic>
          <a:graphicData uri="http://schemas.openxmlformats.org/drawingml/2006/table">
            <a:tbl>
              <a:tblPr/>
              <a:tblGrid>
                <a:gridCol w="1522440"/>
                <a:gridCol w="1589040"/>
                <a:gridCol w="1246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 побе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исло грам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2" name="Picture 24" descr="DSC08624"/>
          <p:cNvPicPr/>
          <p:nvPr/>
        </p:nvPicPr>
        <p:blipFill>
          <a:blip r:embed="rId1"/>
          <a:stretch/>
        </p:blipFill>
        <p:spPr>
          <a:xfrm>
            <a:off x="142920" y="3286080"/>
            <a:ext cx="4362480" cy="328608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40" descr="C:\Documents and Settings\gadan\Local Settings\Temporary Internet Files\Content.IE5\TO2UFK5N\MC900382575[1].jpg"/>
          <p:cNvPicPr/>
          <p:nvPr/>
        </p:nvPicPr>
        <p:blipFill>
          <a:blip r:embed="rId2"/>
          <a:stretch/>
        </p:blipFill>
        <p:spPr>
          <a:xfrm>
            <a:off x="6000840" y="42861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Акция «Час Зем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жды в год проводится организованный сбор макулатуры в 5-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на тему : «Уменьши свой экологический след на планете» в 8-11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 «Экологический след» на уроках «Экологии Москвы и УР» в 10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газеты и плакаты с призывом: «Сбережем планету!» в 5-8 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 марта 2011 г школьники 1-11 кл. приняли участие в проведении акции и погасили свет в своих домах на 1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5" descr="C:\Documents and Settings\gadan\Local Settings\Temporary Internet Files\Content.IE5\8K27CIEY\MC900439823[1].png"/>
          <p:cNvPicPr/>
          <p:nvPr/>
        </p:nvPicPr>
        <p:blipFill>
          <a:blip r:embed="rId1"/>
          <a:stretch/>
        </p:blipFill>
        <p:spPr>
          <a:xfrm>
            <a:off x="7072200" y="2858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ыводы: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разнообразие форм участия школьников в мероприятиях разного уровня позволяет учителю :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вершенствовать методику препода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ышать профессиональный и творческий потенциа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вивать межпредметн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уществлять предпрофильную и профильную подготовку дет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ботать с мотивированными по предмету учащими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ализовывать личностно-ориентированный подход при формировании учебных компетенц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5"/>
          <p:cNvSpPr/>
          <p:nvPr/>
        </p:nvSpPr>
        <p:spPr>
          <a:xfrm>
            <a:off x="4284720" y="34909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Информация для педагог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йт методцент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ссийский совет олимпиад школь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ый портал Всероссийской олимпиады школь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нет-олимпиады по предмета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йт «Олимпиады для школьников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урнир М. Ломоносо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фильные олимпиады в М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едметные олимпиады в МИО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лимпиады в РГГ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сковский турнир юных биолог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ференции : «Через тернии к звездам», «Моя Земля», «Абрис», «Мы и биосфера», «Зеленая школа», «Москва и москвичи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терактивная игра «Зеленый колледж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пасибо всем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11"/>
          <p:cNvPicPr/>
          <p:nvPr/>
        </p:nvPicPr>
        <p:blipFill>
          <a:blip r:embed="rId1"/>
          <a:stretch/>
        </p:blipFill>
        <p:spPr>
          <a:xfrm>
            <a:off x="2411280" y="620640"/>
            <a:ext cx="4465800" cy="623736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5"/>
          <p:cNvSpPr/>
          <p:nvPr/>
        </p:nvSpPr>
        <p:spPr>
          <a:xfrm>
            <a:off x="521640" y="62564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6 сен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7506720" y="63295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тратегические линии модернизации 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но-деятель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новой образовательно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703dff"/>
                </a:solidFill>
                <a:latin typeface="Comic Sans MS"/>
              </a:rPr>
              <a:t>Принципы работы учителей-предметников МО с учащимис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71760" y="2249280"/>
            <a:ext cx="7858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Доброво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Разнообраз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Необычная атмосфе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Расширение сфер участ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Доброжелатель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Наглядное подведение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Поощр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Призеры окружного этапа олимпиады по биологии и экологии в 2010 / 2011 г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06" name="Picture 4" descr="Неклюдов биологии"/>
          <p:cNvPicPr/>
          <p:nvPr/>
        </p:nvPicPr>
        <p:blipFill>
          <a:blip r:embed="rId1"/>
          <a:stretch/>
        </p:blipFill>
        <p:spPr>
          <a:xfrm>
            <a:off x="6513480" y="2870280"/>
            <a:ext cx="2630520" cy="398772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5" descr="абрис008"/>
          <p:cNvPicPr/>
          <p:nvPr/>
        </p:nvPicPr>
        <p:blipFill>
          <a:blip r:embed="rId2"/>
          <a:stretch/>
        </p:blipFill>
        <p:spPr>
          <a:xfrm>
            <a:off x="0" y="2897280"/>
            <a:ext cx="2592360" cy="39607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6" descr="абрис009"/>
          <p:cNvPicPr/>
          <p:nvPr/>
        </p:nvPicPr>
        <p:blipFill>
          <a:blip r:embed="rId3"/>
          <a:stretch/>
        </p:blipFill>
        <p:spPr>
          <a:xfrm>
            <a:off x="2050920" y="1989000"/>
            <a:ext cx="2874960" cy="395928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7" descr="Малаховская Маргарита"/>
          <p:cNvPicPr/>
          <p:nvPr/>
        </p:nvPicPr>
        <p:blipFill>
          <a:blip r:embed="rId4"/>
          <a:stretch/>
        </p:blipFill>
        <p:spPr>
          <a:xfrm>
            <a:off x="4572000" y="1989000"/>
            <a:ext cx="2658960" cy="3934080"/>
          </a:xfrm>
          <a:prstGeom prst="rect">
            <a:avLst/>
          </a:prstGeom>
          <a:ln w="0">
            <a:noFill/>
          </a:ln>
        </p:spPr>
      </p:pic>
      <p:sp>
        <p:nvSpPr>
          <p:cNvPr id="810" name="Text Box 8"/>
          <p:cNvSpPr/>
          <p:nvPr/>
        </p:nvSpPr>
        <p:spPr>
          <a:xfrm>
            <a:off x="252360" y="595008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7506000" y="604044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500040" y="2357280"/>
            <a:ext cx="164304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7289640" y="2357280"/>
            <a:ext cx="164520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Б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4" descr="9"/>
          <p:cNvPicPr/>
          <p:nvPr/>
        </p:nvPicPr>
        <p:blipFill>
          <a:blip r:embed="rId1"/>
          <a:stretch/>
        </p:blipFill>
        <p:spPr>
          <a:xfrm>
            <a:off x="1071720" y="1405080"/>
            <a:ext cx="7026120" cy="545292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ризер Регионального этапа Всероссийской олимпиады по биологии в 2010 / 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ченик 10 класса Неклюдов Борис, награжден медалью ок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6"/>
          <p:cNvSpPr/>
          <p:nvPr/>
        </p:nvSpPr>
        <p:spPr>
          <a:xfrm>
            <a:off x="213480" y="642960"/>
            <a:ext cx="86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Поступили на биолого-химические факультеты в 2011 году  6 выпускников 55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0" y="100008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5 % от окончивших школу и 6 уч-ся на физические факультеты, так же 25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редметные недели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819" name="Picture 4" descr="DSC07737"/>
          <p:cNvPicPr/>
          <p:nvPr/>
        </p:nvPicPr>
        <p:blipFill>
          <a:blip r:embed="rId1"/>
          <a:stretch/>
        </p:blipFill>
        <p:spPr>
          <a:xfrm>
            <a:off x="571680" y="1454040"/>
            <a:ext cx="80722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роектно-исследовательская деятельность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1856880"/>
            <a:ext cx="36432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ез тернии - к звезд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сква и москви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еле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ы и би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я Земл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я «Час Зем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еленый колледж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кология и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Портфол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4" descr="1"/>
          <p:cNvPicPr/>
          <p:nvPr/>
        </p:nvPicPr>
        <p:blipFill>
          <a:blip r:embed="rId1"/>
          <a:stretch/>
        </p:blipFill>
        <p:spPr>
          <a:xfrm>
            <a:off x="3541680" y="1714680"/>
            <a:ext cx="5602320" cy="514332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5"/>
          <p:cNvSpPr/>
          <p:nvPr/>
        </p:nvSpPr>
        <p:spPr>
          <a:xfrm>
            <a:off x="158400" y="5103720"/>
            <a:ext cx="32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Arial"/>
              </a:rPr>
              <a:t>Принципы работы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стоятельность уч-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лективный дух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спективность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9:58:09Z</dcterms:created>
  <dc:creator>VoronchenkovaVP</dc:creator>
  <dc:description/>
  <dc:language>en-US</dc:language>
  <cp:lastModifiedBy>VoronchenkovaVP</cp:lastModifiedBy>
  <dcterms:modified xsi:type="dcterms:W3CDTF">2012-06-04T14:18:48Z</dcterms:modified>
  <cp:revision>28</cp:revision>
  <dc:subject/>
  <dc:title>«Через тернии к звездам»</dc:title>
</cp:coreProperties>
</file>