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2E2-EE1F-4A54-940B-E14CFB3F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BA2-799C-4B63-A32C-0761BB9E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A561B-9F94-41FB-AF3F-A43B9538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4547C-CE85-40AD-B0A6-DAE4D32E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754EC-93E6-4E8A-A7BC-756281D5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2CF28-B697-4DB3-9735-D00A18C9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72D83-C968-4E98-B0ED-B4FA159D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AD268-DEC4-4E65-A4C7-3D2E035C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BE907-31E3-47A0-A696-E46735EF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A42F5-429D-4868-B0D3-6CC1DECA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C886E-17A7-4A49-AF68-6FC195C7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E9C76-804E-4822-BFFB-2B40FF08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3AE-B4FF-49D0-A878-081EBC49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F4C78-8F06-4355-8523-1C8183AD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A845E-101B-4CB6-A491-57D8918F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099EE-DDA0-444F-AF02-27DDC0EA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8DE00-F656-43D0-83A7-FC99BF10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21242-9A66-4584-9F00-2BE96201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011AB-0C07-470E-A035-275EA4FC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CE027-257D-47BF-9C07-F8E34A9B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CD81D-EBF4-4A3C-BDC3-0DA807E5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9AF8C-8A56-4D8C-B6DA-56CA8089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83A0B-E0C4-4148-B674-D04C31A0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E4B-C2E9-4ECE-9B83-7D3B8161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2D9CE-056E-4A5B-B423-F8EC0779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A0CE4-3FFD-4765-B848-A218A2DB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01E9C-CEC3-4D73-8733-AFDC3BE1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21AD7-6026-41EB-9092-3A50916D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A003F-392E-4754-A6A4-FCBD7AB2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409A2-0840-40D6-AAA2-7C00F476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58290-4476-4C9E-AA4A-9F3ECB58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A2FE9-2935-4591-9667-4FAFDFAD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84B31-C101-4108-9484-AD8AA3CD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E5428-632C-45B4-BD0A-3B78A9F3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2AC6-109C-4F91-B1E4-42989B30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FEC1A-0586-42DA-ADF2-3E0F004B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523A9-05BF-4C30-ACAB-C0C80541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6E3D5-0822-4436-8EC4-F6C3652F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7BCAB-1FEC-4C4A-B31B-495891E8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836E7-CF7C-4ABE-8EED-5B4E2F8B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C70A7-58C3-4804-8D03-F9E4D994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36041-2D85-4B24-8EC4-6F1AB2B0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00844-5FE5-481E-B2E4-A0CF0603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B34F7-72ED-4FF2-88D5-44315231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6C0F9-EA56-40E4-B449-0A172128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FE80-1D76-4721-A778-FF0BB64C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4D42C-2D08-455D-848C-D8497695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3A198-94B5-4660-BBBF-483EDBEE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5821D-AD48-4296-A2D3-7D14805A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3FCA9-AADF-42CC-BAB5-735348A5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42C44-96B1-43A7-8231-B8ED86A0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31D69-9A43-407B-9B9E-4564AA9F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40001-C4B3-4CBA-B464-C9794EA9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DAA5F-7AEC-456A-A086-B3CE8753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2DE54-FC02-4B3B-8205-AF4A0D27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4733C-5BBF-453F-A65D-46CDD127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9E70-E070-4F92-BC27-2714FD15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B14C6-0521-4BC5-8E6A-F50FCE20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08EBB-4453-4F4D-ABBC-DF96C410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E5925-4C58-44AE-8887-9D94A0EA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094A8-FA8F-45F3-BF6A-0A831A5F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94368-051A-49CD-955F-0AE6159F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EAFD6-9516-44E3-A0AA-81018E3F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4D2FE-95B3-472F-86F2-4DE118E6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C24B7-AC0E-4A06-9F34-2371AD9A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9C1B1-C30B-4963-BF48-3DA09C84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6327BC-9997-4C59-BA55-6E8ABF7F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1AEC-BBD1-45A4-9D19-A33F0434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1DC91-C3CF-40EF-AE32-9DCB3F4F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E3F74-0CD6-4B8F-B334-32A09687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EF054-4424-47DE-9B75-3D5D962C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D5E42-EEAA-42D3-AA4F-145715A2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D27C1-DAF4-495F-B4AA-30738E10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57130-FD25-4D7E-9857-91BADCE3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6D7B6-07D1-4F8A-B46B-829D9F18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76725-18A7-486D-824E-16ACF46F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7F493-9EB0-4C3F-BAFD-F6902E7D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3D1B-4EAD-4C6F-982D-9DA73DB4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1284-C412-4CBD-8759-742EF0DC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C2BA-9E7E-4DE8-A803-83B8DFE6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D3C-23FE-4907-A7AF-EE4FEC6F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892D-58E2-4F02-BA38-D3997DF7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D159-4545-4745-BCB0-013CC0F9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E241-4D99-47F9-B02E-AC9632C0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9B4B-15CA-4C39-916E-94D09E9F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A5E1-06E4-43E7-9FE7-A7AA8D72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659C0-C25E-4C9E-9EE6-4CF4E582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239E8-4C20-4B30-BCC5-E3F32EB7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61CC0-C34E-4D71-A643-BCE3D42E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3623-11F1-49FF-907E-7B1F604D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AEAD8-5F9D-446F-BAD3-3D79844A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E17-C9F6-4110-BC48-A69CEA47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759B8-1F3E-4A71-A324-2C1980A1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474A-B3F1-4BE2-9AF4-0DFA3749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5BB3-6565-47F4-A46D-7898B10F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F95FA-1446-4D25-9BB4-2DCE7F06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AD66-5130-4CF7-9BE6-70AC22CF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9F8B-5F4F-46F9-BFEC-5C7D2924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F10A8-3C56-4075-99A0-9CA4C616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7C56-FA60-42E8-806F-76BE13E8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6FE9C-2550-4636-ACDA-1E127852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E0E51-F0AF-48A5-B424-FB606A44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D72-9550-404E-9EB5-C0788E63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C9291-8841-4984-95CC-2E7E7C19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A9573-162F-497D-A043-2E2E907E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0AFAA-E207-4B42-9EF0-BE6DF34D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D9BFA-FEFE-4CD4-B288-E6B0ADA1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96EAD-E0F8-4BB2-B694-CAEA48DD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8DA38-33A7-46B2-B889-7DEF2B13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1802B-E951-4A1D-B0FE-17834FFD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DF37A-1E8C-4884-8FDD-756D0FA8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0C717-D59E-4D00-BCDA-3C53DB6D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3B8F-6FAF-4443-BD11-B2542D60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67E-C85A-4A6F-8ED2-E83352D5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1B435-13A3-4ACD-AE20-F80A3079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3D1D1-3A14-4353-85EC-3442DEC7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6E8D5-0214-40BB-B6C4-9CC9F23B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57035-4A68-4E7F-AF96-D5056422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D426D-834E-4CE0-8548-FFBDF1B7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059BD-3910-496C-80EA-19F106AA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B093B-2C4E-4954-8128-54D38675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DFC4A-3891-4AC0-9697-2BAB5D71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69EA0-DA33-4841-9841-535193DB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76CE8-0BFD-4133-943F-3B6A8583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74E-4782-4F0A-A4AF-A25CF873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DB08A-5806-44DC-9531-31A9C378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B349A-A920-4896-840D-9AA97DC3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01909-E48B-4F41-9A73-A4FA6B64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5DAF9-A6C8-4198-A3E8-61AC04E9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654B2-7F16-4AD1-A2A5-2C333517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ADF56D-19F3-4DDE-B0E2-8CE65727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A3300-B622-44DF-8C8B-088BDB82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C4A7B-BF80-4BD9-BCFF-9049848E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4C39D-884A-4718-B3B1-C3892B13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D4E17-E401-48D1-9A45-A85BDD81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74A-061C-4F9F-9C30-8D59105A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A8CDE8-B01D-449F-A767-90129A94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57ED79-D7A6-41AB-8001-0A541D04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AFAB4A-E162-4913-80EB-38E273FE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A2E5E-D56B-42D2-94D0-DE4DAD4F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23466-AD96-47EC-B332-6921D5D8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C4F24-73C5-4838-B939-08AE875E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29756-51E3-4EEA-8846-21E990D4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AB021-0F70-46D7-BBBC-25294CC4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F746C-715E-47DB-A6AF-040401A3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5CC38-AC67-4D93-8D18-43985BF0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26C-50D7-4775-AB97-C31CBB02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E5C1A-8745-4254-AAA0-817FF628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4DC3B-06A1-46A5-82F6-46AB242C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82078-8341-45C1-80F0-71052C6B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FC46A-2C58-41A7-999D-493F0B60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E13DD-FA3F-4604-B551-107A53ED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2EDFB-2526-459E-AB15-A2BDC6DF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13041-E51F-4B88-B32D-47B59E72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35760-1A70-405F-AD11-79329239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2F04B-CF86-48C7-9E9C-80119A92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C7A4A-0865-4A95-8D78-E87A45A8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C33-776D-486D-9176-EBC8AA0C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D2656-DF48-411B-BF1E-BEEDC64F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56B10-BDCD-4772-A45E-738444D1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45F0A-1D2A-4329-A576-0AE08A36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698A0-20CF-41F4-B812-10EA7A55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C8B13-9F9E-4ED9-958C-4E2C22F1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8B4DF-B87B-41E2-974E-B42BC480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94D27-E3E9-4379-A78D-412D445D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57A94-AC58-4991-AE99-298575CF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18D0D-E204-4315-8D21-39AAE790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4CBE7-A492-4ADC-A3A7-201703F9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80B4-BF45-4F25-AB25-01AA40D130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1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5BE8-03CE-40A3-B601-B4E3780564D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560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561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575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579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583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587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591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B209-66F2-498F-B4A1-E67BEAE5F8E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6275-8E4F-4F36-BFFB-F436ECF5C2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3F6F-36F6-46F1-B832-D7704CCDAE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74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4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4C05-BC79-4D24-A28D-464FF82181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5334-6477-4CCA-9CFD-9EE8EE2E3E9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3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0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67BC-A0A7-4BF7-A6C2-88ED0BA00A1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80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8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8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93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97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0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05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F3A4-7DAB-4765-B429-3863DE2805C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6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6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7A1F-2278-41FA-A11F-EFBB215E25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9446-46C2-48A9-A3F5-0E4C63EB51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62D2-4771-4B7A-BB5E-538E55C3D8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BC3D-DCB0-4F28-8917-439C92D17D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6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56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6E0D-0509-4662-B7A9-31B76592D33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«Через тернии - к звездам!»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образие форм участия школьников в мероприятиях разного уров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3429000" y="5934240"/>
            <a:ext cx="5715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редседатель МО естественно-научного цик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учитель биологии ГОУ ЦО № 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Воронченкова Вера Пав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4" descr="мз001"/>
          <p:cNvPicPr/>
          <p:nvPr/>
        </p:nvPicPr>
        <p:blipFill>
          <a:blip r:embed="rId1"/>
          <a:stretch/>
        </p:blipFill>
        <p:spPr>
          <a:xfrm>
            <a:off x="0" y="0"/>
            <a:ext cx="3203640" cy="40053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5" descr="гр008"/>
          <p:cNvPicPr/>
          <p:nvPr/>
        </p:nvPicPr>
        <p:blipFill>
          <a:blip r:embed="rId2"/>
          <a:stretch/>
        </p:blipFill>
        <p:spPr>
          <a:xfrm>
            <a:off x="6012000" y="0"/>
            <a:ext cx="3132000" cy="386064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6"/>
          <p:cNvSpPr/>
          <p:nvPr/>
        </p:nvSpPr>
        <p:spPr>
          <a:xfrm>
            <a:off x="3492360" y="208080"/>
            <a:ext cx="21592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Наши дост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7" descr="гр009"/>
          <p:cNvPicPr/>
          <p:nvPr/>
        </p:nvPicPr>
        <p:blipFill>
          <a:blip r:embed="rId3"/>
          <a:stretch/>
        </p:blipFill>
        <p:spPr>
          <a:xfrm>
            <a:off x="3059280" y="1052640"/>
            <a:ext cx="2952720" cy="398772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8" descr="гр006"/>
          <p:cNvPicPr/>
          <p:nvPr/>
        </p:nvPicPr>
        <p:blipFill>
          <a:blip r:embed="rId4"/>
          <a:stretch/>
        </p:blipFill>
        <p:spPr>
          <a:xfrm>
            <a:off x="826920" y="3500280"/>
            <a:ext cx="2808360" cy="3357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9" descr="мз002"/>
          <p:cNvPicPr/>
          <p:nvPr/>
        </p:nvPicPr>
        <p:blipFill>
          <a:blip r:embed="rId5"/>
          <a:stretch/>
        </p:blipFill>
        <p:spPr>
          <a:xfrm>
            <a:off x="5508720" y="3573360"/>
            <a:ext cx="2879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28440" y="428760"/>
            <a:ext cx="779292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Итоги участия в окружных и городских конкурсах учащихся ГОУ ЦО 556 в 2010/11 г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4643280" y="1785960"/>
          <a:ext cx="4357800" cy="1898640"/>
        </p:xfrm>
        <a:graphic>
          <a:graphicData uri="http://schemas.openxmlformats.org/drawingml/2006/table">
            <a:tbl>
              <a:tblPr/>
              <a:tblGrid>
                <a:gridCol w="1522440"/>
                <a:gridCol w="1589040"/>
                <a:gridCol w="1246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исло побед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исло грам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2" name="Picture 24" descr="DSC08624"/>
          <p:cNvPicPr/>
          <p:nvPr/>
        </p:nvPicPr>
        <p:blipFill>
          <a:blip r:embed="rId1"/>
          <a:stretch/>
        </p:blipFill>
        <p:spPr>
          <a:xfrm>
            <a:off x="142920" y="3286080"/>
            <a:ext cx="4362480" cy="328608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40" descr="C:\Documents and Settings\gadan\Local Settings\Temporary Internet Files\Content.IE5\TO2UFK5N\MC900382575[1].jpg"/>
          <p:cNvPicPr/>
          <p:nvPr/>
        </p:nvPicPr>
        <p:blipFill>
          <a:blip r:embed="rId2"/>
          <a:stretch/>
        </p:blipFill>
        <p:spPr>
          <a:xfrm>
            <a:off x="6000840" y="428616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Акция «Час Зем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жды в год проводится организованный сбор макулатуры в 5-11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и на тему : «Уменьши свой экологический след на планете» в 8-11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ая работа «Экологический след» на уроках «Экологии Москвы и УР» в 10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газеты и плакаты с призывом: «Сбережем планету!» в 5-8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 марта 2011 г школьники 1-11 кл. приняли участие в проведении акции и погасили свет в своих домах на 1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5" descr="C:\Documents and Settings\gadan\Local Settings\Temporary Internet Files\Content.IE5\8K27CIEY\MC900439823[1].png"/>
          <p:cNvPicPr/>
          <p:nvPr/>
        </p:nvPicPr>
        <p:blipFill>
          <a:blip r:embed="rId1"/>
          <a:stretch/>
        </p:blipFill>
        <p:spPr>
          <a:xfrm>
            <a:off x="7072200" y="28584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Выводы: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разнообразие форм участия школьников в мероприятиях разного уровня позволяет учителю 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вершенствовать методику преподав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ышать профессиональный и творческий потенциа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вивать межпредметные связ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уществлять предпрофильную и профильную подготовку дет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ать с мотивированными по предмету учащими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ализовывать личностно-ориентированный подход при формировании учебных компетенц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5"/>
          <p:cNvSpPr/>
          <p:nvPr/>
        </p:nvSpPr>
        <p:spPr>
          <a:xfrm>
            <a:off x="4284720" y="3490920"/>
            <a:ext cx="158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Информация для педагого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йт методцент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ссийский совет олимпиад школь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ый портал Всероссийской олимпиады школь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тернет-олимпиады по предмета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йт «Олимпиады для школьников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урнир М. Ломоносо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фильные олимпиады в МГ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метные олимпиады в МИО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лимпиады в РГГ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сковский турнир юных биолог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ференции : «Через тернии к звездам», «Моя Земля», «Абрис», «Мы и биосфера», «Зеленая школа», «Москва и москвич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терактивная игра «Зеленый колледж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пасибо всем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4" descr="11"/>
          <p:cNvPicPr/>
          <p:nvPr/>
        </p:nvPicPr>
        <p:blipFill>
          <a:blip r:embed="rId1"/>
          <a:stretch/>
        </p:blipFill>
        <p:spPr>
          <a:xfrm>
            <a:off x="2411280" y="620640"/>
            <a:ext cx="4465800" cy="6237360"/>
          </a:xfrm>
          <a:prstGeom prst="rect">
            <a:avLst/>
          </a:prstGeom>
          <a:ln w="0">
            <a:noFill/>
          </a:ln>
        </p:spPr>
      </p:pic>
      <p:sp>
        <p:nvSpPr>
          <p:cNvPr id="846" name="Text Box 5"/>
          <p:cNvSpPr/>
          <p:nvPr/>
        </p:nvSpPr>
        <p:spPr>
          <a:xfrm>
            <a:off x="521640" y="62564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6 сентяб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7506720" y="63295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тратегические линии модернизации образ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но-деятельный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тностный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новой образовательно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ринципы работы учителей-предметников МО с учащими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71760" y="2249280"/>
            <a:ext cx="7858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Доброволь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Разнообраз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Необычная атмосфе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Расширение сфер участ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Доброжелатель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Наглядное подведение итог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Поощр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5" descr="3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Призеры окружного этапа олимпиады по биологии и экологии в 2010 / 2011 г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806" name="Picture 4" descr="Неклюдов биологии"/>
          <p:cNvPicPr/>
          <p:nvPr/>
        </p:nvPicPr>
        <p:blipFill>
          <a:blip r:embed="rId1"/>
          <a:stretch/>
        </p:blipFill>
        <p:spPr>
          <a:xfrm>
            <a:off x="6513480" y="2870280"/>
            <a:ext cx="2630520" cy="398772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5" descr="абрис008"/>
          <p:cNvPicPr/>
          <p:nvPr/>
        </p:nvPicPr>
        <p:blipFill>
          <a:blip r:embed="rId2"/>
          <a:stretch/>
        </p:blipFill>
        <p:spPr>
          <a:xfrm>
            <a:off x="0" y="2897280"/>
            <a:ext cx="2592360" cy="396072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6" descr="абрис009"/>
          <p:cNvPicPr/>
          <p:nvPr/>
        </p:nvPicPr>
        <p:blipFill>
          <a:blip r:embed="rId3"/>
          <a:stretch/>
        </p:blipFill>
        <p:spPr>
          <a:xfrm>
            <a:off x="2050920" y="1989000"/>
            <a:ext cx="2874960" cy="395928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7" descr="Малаховская Маргарита"/>
          <p:cNvPicPr/>
          <p:nvPr/>
        </p:nvPicPr>
        <p:blipFill>
          <a:blip r:embed="rId4"/>
          <a:stretch/>
        </p:blipFill>
        <p:spPr>
          <a:xfrm>
            <a:off x="4572000" y="1989000"/>
            <a:ext cx="2658960" cy="393408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8"/>
          <p:cNvSpPr/>
          <p:nvPr/>
        </p:nvSpPr>
        <p:spPr>
          <a:xfrm>
            <a:off x="252360" y="59500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Эк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7506000" y="604044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0"/>
          <p:cNvSpPr/>
          <p:nvPr/>
        </p:nvSpPr>
        <p:spPr>
          <a:xfrm>
            <a:off x="500040" y="2357280"/>
            <a:ext cx="164304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7289640" y="2357280"/>
            <a:ext cx="164520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Би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4" descr="9"/>
          <p:cNvPicPr/>
          <p:nvPr/>
        </p:nvPicPr>
        <p:blipFill>
          <a:blip r:embed="rId1"/>
          <a:stretch/>
        </p:blipFill>
        <p:spPr>
          <a:xfrm>
            <a:off x="1071720" y="1405080"/>
            <a:ext cx="7026120" cy="5452920"/>
          </a:xfrm>
          <a:prstGeom prst="rect">
            <a:avLst/>
          </a:prstGeom>
          <a:ln w="0">
            <a:noFill/>
          </a:ln>
        </p:spPr>
      </p:pic>
      <p:sp>
        <p:nvSpPr>
          <p:cNvPr id="815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ризер Регионального этапа Всероссийской олимпиады по биологии в 2010 / 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ченик 10 класса Неклюдов Борис, награжден медалью ок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6"/>
          <p:cNvSpPr/>
          <p:nvPr/>
        </p:nvSpPr>
        <p:spPr>
          <a:xfrm>
            <a:off x="213480" y="642960"/>
            <a:ext cx="86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оступили на биолого-химические факультеты в 2011 году  6 выпускников 55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"/>
          <p:cNvSpPr/>
          <p:nvPr/>
        </p:nvSpPr>
        <p:spPr>
          <a:xfrm>
            <a:off x="0" y="100008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5 % от окончивших школу и 6 уч-ся на физические факультеты, так же 25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Предметные недели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819" name="Picture 4" descr="DSC07737"/>
          <p:cNvPicPr/>
          <p:nvPr/>
        </p:nvPicPr>
        <p:blipFill>
          <a:blip r:embed="rId1"/>
          <a:stretch/>
        </p:blipFill>
        <p:spPr>
          <a:xfrm>
            <a:off x="571680" y="1454040"/>
            <a:ext cx="80722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Проектно-исследовательская деятельность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0" y="1856880"/>
            <a:ext cx="36432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рез тернии - к звезд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сква и москви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еле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бри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ы и биосфе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я Зем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ия «Час Зем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елены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кология и жиз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Портфол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4" descr="1"/>
          <p:cNvPicPr/>
          <p:nvPr/>
        </p:nvPicPr>
        <p:blipFill>
          <a:blip r:embed="rId1"/>
          <a:stretch/>
        </p:blipFill>
        <p:spPr>
          <a:xfrm>
            <a:off x="3541680" y="1714680"/>
            <a:ext cx="5602320" cy="5143320"/>
          </a:xfrm>
          <a:prstGeom prst="rect">
            <a:avLst/>
          </a:prstGeom>
          <a:ln w="0">
            <a:noFill/>
          </a:ln>
        </p:spPr>
      </p:pic>
      <p:sp>
        <p:nvSpPr>
          <p:cNvPr id="823" name="Text Box 5"/>
          <p:cNvSpPr/>
          <p:nvPr/>
        </p:nvSpPr>
        <p:spPr>
          <a:xfrm>
            <a:off x="158400" y="5103720"/>
            <a:ext cx="32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Arial"/>
              </a:rPr>
              <a:t>Принципы работы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стоятельность уч-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лективный дух ком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спективн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9:58:09Z</dcterms:created>
  <dc:creator>VoronchenkovaVP</dc:creator>
  <dc:description/>
  <dc:language>en-US</dc:language>
  <cp:lastModifiedBy>VoronchenkovaVP</cp:lastModifiedBy>
  <dcterms:modified xsi:type="dcterms:W3CDTF">2012-06-04T14:18:48Z</dcterms:modified>
  <cp:revision>28</cp:revision>
  <dc:subject/>
  <dc:title>«Через тернии к звездам»</dc:title>
</cp:coreProperties>
</file>