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FC7-EB55-4C0E-99FE-E85EEFC1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6AC-1884-41C0-A53C-0BFE80CD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6BD-49BB-4137-BD5E-812874BA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BCE-F17E-44BD-A494-037351E9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3BD-3F58-43DA-9386-8E42374F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3C7-90D8-4E93-BB29-DBAD3AE6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4D9-D7DD-4D95-9433-4F803B6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190F-243E-43E1-8A1A-DF431AC8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CDC-78FF-455B-B638-55FFF2C0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CCB-5CB5-43F7-B54A-F5599CB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BC0-1E01-4CB7-A022-E7879080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483-9559-42CB-8BDF-D650116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41C1-46B2-4FAF-962B-B373673E14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79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МОЦИИ и ЧУВ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7448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психологии МОУ «СОШ № 9» г. Троицка Челябинской области  Вера Васильевна  Болонина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иды эмоций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9" name="Diagram 6"/>
          <p:cNvGrpSpPr/>
          <p:nvPr/>
        </p:nvGrpSpPr>
        <p:grpSpPr>
          <a:xfrm>
            <a:off x="2610000" y="2043000"/>
            <a:ext cx="3851280" cy="3805200"/>
            <a:chOff x="2610000" y="2043000"/>
            <a:chExt cx="3851280" cy="3805200"/>
          </a:xfrm>
        </p:grpSpPr>
        <p:sp>
          <p:nvSpPr>
            <p:cNvPr id="70" name="_s1028"/>
            <p:cNvSpPr/>
            <p:nvPr/>
          </p:nvSpPr>
          <p:spPr>
            <a:xfrm flipH="1" flipV="1">
              <a:off x="3847680" y="3171960"/>
              <a:ext cx="40644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29"/>
            <p:cNvSpPr/>
            <p:nvPr/>
          </p:nvSpPr>
          <p:spPr>
            <a:xfrm>
              <a:off x="3125880" y="23954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интерес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0"/>
            <p:cNvSpPr/>
            <p:nvPr/>
          </p:nvSpPr>
          <p:spPr>
            <a:xfrm flipH="1" flipV="1">
              <a:off x="3483000" y="3805200"/>
              <a:ext cx="62064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_s1031"/>
            <p:cNvSpPr/>
            <p:nvPr/>
          </p:nvSpPr>
          <p:spPr>
            <a:xfrm>
              <a:off x="2610000" y="32893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отвращ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3609720" y="4210200"/>
              <a:ext cx="546120" cy="31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_s1033"/>
            <p:cNvSpPr/>
            <p:nvPr/>
          </p:nvSpPr>
          <p:spPr>
            <a:xfrm>
              <a:off x="2789280" y="43052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утомл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_s1034"/>
            <p:cNvSpPr/>
            <p:nvPr/>
          </p:nvSpPr>
          <p:spPr>
            <a:xfrm flipH="1">
              <a:off x="4170240" y="4403880"/>
              <a:ext cx="216000" cy="59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_s1035"/>
            <p:cNvSpPr/>
            <p:nvPr/>
          </p:nvSpPr>
          <p:spPr>
            <a:xfrm>
              <a:off x="3579840" y="49687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рах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_s1036"/>
            <p:cNvSpPr/>
            <p:nvPr/>
          </p:nvSpPr>
          <p:spPr>
            <a:xfrm>
              <a:off x="4686480" y="4403880"/>
              <a:ext cx="215640" cy="591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_s1037"/>
            <p:cNvSpPr/>
            <p:nvPr/>
          </p:nvSpPr>
          <p:spPr>
            <a:xfrm>
              <a:off x="4611600" y="49687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сты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_s1038"/>
            <p:cNvSpPr/>
            <p:nvPr/>
          </p:nvSpPr>
          <p:spPr>
            <a:xfrm>
              <a:off x="4916520" y="4210200"/>
              <a:ext cx="546120" cy="31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_s1039"/>
            <p:cNvSpPr/>
            <p:nvPr/>
          </p:nvSpPr>
          <p:spPr>
            <a:xfrm>
              <a:off x="5402160" y="43052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ру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_s1040"/>
            <p:cNvSpPr/>
            <p:nvPr/>
          </p:nvSpPr>
          <p:spPr>
            <a:xfrm flipV="1">
              <a:off x="4968720" y="3805200"/>
              <a:ext cx="621000" cy="10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1041"/>
            <p:cNvSpPr/>
            <p:nvPr/>
          </p:nvSpPr>
          <p:spPr>
            <a:xfrm>
              <a:off x="5581800" y="328932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гне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1042"/>
            <p:cNvSpPr/>
            <p:nvPr/>
          </p:nvSpPr>
          <p:spPr>
            <a:xfrm flipV="1">
              <a:off x="4818240" y="3171960"/>
              <a:ext cx="404640" cy="482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_s1043"/>
            <p:cNvSpPr/>
            <p:nvPr/>
          </p:nvSpPr>
          <p:spPr>
            <a:xfrm>
              <a:off x="5065560" y="23954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удивление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1044"/>
            <p:cNvSpPr/>
            <p:nvPr/>
          </p:nvSpPr>
          <p:spPr>
            <a:xfrm flipV="1">
              <a:off x="4535640" y="2922120"/>
              <a:ext cx="0" cy="63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_s1045"/>
            <p:cNvSpPr/>
            <p:nvPr/>
          </p:nvSpPr>
          <p:spPr>
            <a:xfrm>
              <a:off x="4095720" y="204300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рад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_s1046"/>
            <p:cNvSpPr/>
            <p:nvPr/>
          </p:nvSpPr>
          <p:spPr>
            <a:xfrm>
              <a:off x="4095720" y="3552840"/>
              <a:ext cx="879480" cy="87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Вид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эмоци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безразлич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сканирование0002"/>
          <p:cNvPicPr/>
          <p:nvPr/>
        </p:nvPicPr>
        <p:blipFill>
          <a:blip r:embed="rId2"/>
          <a:srcRect l="0" t="0" r="6203" b="6124"/>
          <a:stretch/>
        </p:blipFill>
        <p:spPr>
          <a:xfrm>
            <a:off x="0" y="1989000"/>
            <a:ext cx="3889440" cy="3529080"/>
          </a:xfrm>
          <a:prstGeom prst="rect">
            <a:avLst/>
          </a:prstGeom>
          <a:ln w="0">
            <a:noFill/>
          </a:ln>
        </p:spPr>
      </p:pic>
      <p:sp>
        <p:nvSpPr>
          <p:cNvPr id="92" name="Текст 11"/>
          <p:cNvSpPr/>
          <p:nvPr/>
        </p:nvSpPr>
        <p:spPr>
          <a:xfrm>
            <a:off x="4211640" y="213372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враждеб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Текст 11"/>
          <p:cNvSpPr/>
          <p:nvPr/>
        </p:nvSpPr>
        <p:spPr>
          <a:xfrm>
            <a:off x="4211640" y="2708280"/>
            <a:ext cx="40384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весель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Текст 11"/>
          <p:cNvSpPr/>
          <p:nvPr/>
        </p:nvSpPr>
        <p:spPr>
          <a:xfrm>
            <a:off x="4211640" y="321300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сильная з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Текст 11"/>
          <p:cNvSpPr/>
          <p:nvPr/>
        </p:nvSpPr>
        <p:spPr>
          <a:xfrm>
            <a:off x="4211640" y="371628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 гру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Текст 11"/>
          <p:cNvSpPr/>
          <p:nvPr/>
        </p:nvSpPr>
        <p:spPr>
          <a:xfrm>
            <a:off x="4211640" y="4221000"/>
            <a:ext cx="4038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застенчивая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211640" y="4724280"/>
            <a:ext cx="4038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 плохое самочувств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Текст 11"/>
          <p:cNvSpPr/>
          <p:nvPr/>
        </p:nvSpPr>
        <p:spPr>
          <a:xfrm>
            <a:off x="4211640" y="5157720"/>
            <a:ext cx="4038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зл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Текст 11"/>
          <p:cNvSpPr/>
          <p:nvPr/>
        </p:nvSpPr>
        <p:spPr>
          <a:xfrm>
            <a:off x="4211640" y="5589720"/>
            <a:ext cx="36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бурная рад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2771640" y="6021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Текст 11"/>
          <p:cNvSpPr/>
          <p:nvPr/>
        </p:nvSpPr>
        <p:spPr>
          <a:xfrm>
            <a:off x="4140360" y="6021360"/>
            <a:ext cx="403848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глубокая печа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Заголовок 9"/>
          <p:cNvSpPr/>
          <p:nvPr/>
        </p:nvSpPr>
        <p:spPr>
          <a:xfrm>
            <a:off x="0" y="981000"/>
            <a:ext cx="8902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Заголовок 9"/>
          <p:cNvSpPr/>
          <p:nvPr/>
        </p:nvSpPr>
        <p:spPr>
          <a:xfrm>
            <a:off x="2509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«Прочитайте закодированные» эмо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Текст 11"/>
          <p:cNvSpPr/>
          <p:nvPr/>
        </p:nvSpPr>
        <p:spPr>
          <a:xfrm>
            <a:off x="0" y="5589720"/>
            <a:ext cx="334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1скепс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 скорб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обрые советы, как удалить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эмоциональные шрамы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арайтесь вообразить себя слишком большим и слишком сильным, чтобы воспринимать оби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удьте сами себе хозяи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слабьтесь и еще расслабьтес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Rectangle 3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276280"/>
            <a:ext cx="74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Цель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: познакомить учащихся с понятиями «чувства», «эмоции», «аффекты»,  «настроения»; показать важность эмоциональной регуляции жизнедеятельности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6880" y="2008080"/>
            <a:ext cx="577692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рмы переживания чувств.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ффек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ессовое со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в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Аффекты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- эмоциональные процессы, быстро овладевающие человеком и бурно протекающие.  Проявления:                  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400120"/>
            <a:ext cx="8147160" cy="36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чительное изменение со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трата самообла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вижения безотче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арактерные жесты и мимика л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лёзы и рыд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хот и выкр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еловек утрачивает контроль над собой, совершая безотчетные и безрассудные действия, которые иногда припоминаются, как с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Эмоци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7640" y="184464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6920" y="1557000"/>
            <a:ext cx="7428240" cy="22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непосредственное ,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ременное переживание  какого-нибудь более постоянного чувств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6836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Эмоции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11280" y="4581360"/>
            <a:ext cx="7427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ушевное  движение , душевное волнение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ЛЕ АФФЕКТНОЙ ВСПЫШКИ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бит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адок с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различное отношение ко все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одвиж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н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БЩЕИЗВЕСТНО НАРОДНОЕ СРЕДСТВ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ХОЧЕШЬ СДЕРЖАТЬСЯ ПОПРОБУЙ ПОСЧИТАТЬ ПРО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БЯ,ХОТЯ БЫ ДО ДЕСЯ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8" descr="j0300912"/>
          <p:cNvPicPr/>
          <p:nvPr/>
        </p:nvPicPr>
        <p:blipFill>
          <a:blip r:embed="rId2"/>
          <a:stretch/>
        </p:blipFill>
        <p:spPr>
          <a:xfrm>
            <a:off x="1116000" y="2349360"/>
            <a:ext cx="27352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Настро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ляет собой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ее эмоциональное состояние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крашивающее в течение значительного времени все поведение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любовь"/>
          <p:cNvPicPr/>
          <p:nvPr/>
        </p:nvPicPr>
        <p:blipFill>
          <a:blip r:embed="rId2"/>
          <a:stretch/>
        </p:blipFill>
        <p:spPr>
          <a:xfrm>
            <a:off x="539640" y="4005360"/>
            <a:ext cx="3121200" cy="241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16"/>
          <p:cNvPicPr/>
          <p:nvPr/>
        </p:nvPicPr>
        <p:blipFill>
          <a:blip r:embed="rId3"/>
          <a:stretch/>
        </p:blipFill>
        <p:spPr>
          <a:xfrm>
            <a:off x="3780000" y="4005360"/>
            <a:ext cx="1933560" cy="237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7550"/>
          <p:cNvPicPr/>
          <p:nvPr/>
        </p:nvPicPr>
        <p:blipFill>
          <a:blip r:embed="rId4"/>
          <a:stretch/>
        </p:blipFill>
        <p:spPr>
          <a:xfrm>
            <a:off x="5867280" y="400536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увств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живаемое в различной форме внутренние отношения человека к тому, что происходит в его жизни, что он познаёт или дел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26" descr="002114"/>
          <p:cNvPicPr/>
          <p:nvPr/>
        </p:nvPicPr>
        <p:blipFill>
          <a:blip r:embed="rId2"/>
          <a:stretch/>
        </p:blipFill>
        <p:spPr>
          <a:xfrm>
            <a:off x="5029200" y="4118040"/>
            <a:ext cx="4114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8:23:55Z</dcterms:created>
  <dc:creator>user</dc:creator>
  <dc:description/>
  <dc:language>en-US</dc:language>
  <cp:lastModifiedBy>user</cp:lastModifiedBy>
  <dcterms:modified xsi:type="dcterms:W3CDTF">2008-11-20T11:38:10Z</dcterms:modified>
  <cp:revision>14</cp:revision>
  <dc:subject/>
  <dc:title>Вредные советы</dc:title>
</cp:coreProperties>
</file>