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800-B119-4441-88E1-667E4B66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627-1C9C-43A8-9EE8-342B618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B46-484C-4563-8ADA-8AB84A24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764-02FE-4E16-B67E-F71BEA8D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B3F-292C-4CAA-8259-C8A5FB9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FB3-F0CF-43C5-B0D9-AE145C2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D34-B845-46FC-ABDB-096F286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8F1-9C06-45E5-A658-B8498D1F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7CA-D049-4DFD-B0FD-6E7A2CD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DAB-A82C-4002-B626-AFCE745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504-F9D5-4134-B70F-B1B81D7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1C9-39C1-4517-83B5-59A5F4F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CCD-9D2C-469E-B605-25010674F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79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МОЦИИ и ЧУВ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психологии МОУ «СОШ № 9» г. Троицка Челябинской области  Вера Васильевна  Болонина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эмоций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9" name="Diagram 6"/>
          <p:cNvGrpSpPr/>
          <p:nvPr/>
        </p:nvGrpSpPr>
        <p:grpSpPr>
          <a:xfrm>
            <a:off x="2610000" y="2043000"/>
            <a:ext cx="3851280" cy="3805200"/>
            <a:chOff x="2610000" y="2043000"/>
            <a:chExt cx="3851280" cy="3805200"/>
          </a:xfrm>
        </p:grpSpPr>
        <p:sp>
          <p:nvSpPr>
            <p:cNvPr id="70" name="_s1028"/>
            <p:cNvSpPr/>
            <p:nvPr/>
          </p:nvSpPr>
          <p:spPr>
            <a:xfrm flipH="1" flipV="1">
              <a:off x="3847680" y="3171960"/>
              <a:ext cx="40644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29"/>
            <p:cNvSpPr/>
            <p:nvPr/>
          </p:nvSpPr>
          <p:spPr>
            <a:xfrm>
              <a:off x="3125880" y="23954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интерес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0"/>
            <p:cNvSpPr/>
            <p:nvPr/>
          </p:nvSpPr>
          <p:spPr>
            <a:xfrm flipH="1" flipV="1">
              <a:off x="3483000" y="3805200"/>
              <a:ext cx="62064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1031"/>
            <p:cNvSpPr/>
            <p:nvPr/>
          </p:nvSpPr>
          <p:spPr>
            <a:xfrm>
              <a:off x="2610000" y="32893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отвращ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3609720" y="4210200"/>
              <a:ext cx="546120" cy="31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_s1033"/>
            <p:cNvSpPr/>
            <p:nvPr/>
          </p:nvSpPr>
          <p:spPr>
            <a:xfrm>
              <a:off x="2789280" y="43052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утомл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_s1034"/>
            <p:cNvSpPr/>
            <p:nvPr/>
          </p:nvSpPr>
          <p:spPr>
            <a:xfrm flipH="1">
              <a:off x="4170240" y="4403880"/>
              <a:ext cx="216000" cy="59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_s1035"/>
            <p:cNvSpPr/>
            <p:nvPr/>
          </p:nvSpPr>
          <p:spPr>
            <a:xfrm>
              <a:off x="3579840" y="49687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рах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686480" y="4403880"/>
              <a:ext cx="215640" cy="59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_s1037"/>
            <p:cNvSpPr/>
            <p:nvPr/>
          </p:nvSpPr>
          <p:spPr>
            <a:xfrm>
              <a:off x="4611600" y="49687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ы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1038"/>
            <p:cNvSpPr/>
            <p:nvPr/>
          </p:nvSpPr>
          <p:spPr>
            <a:xfrm>
              <a:off x="4916520" y="4210200"/>
              <a:ext cx="546120" cy="31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_s1039"/>
            <p:cNvSpPr/>
            <p:nvPr/>
          </p:nvSpPr>
          <p:spPr>
            <a:xfrm>
              <a:off x="5402160" y="43052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ру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_s1040"/>
            <p:cNvSpPr/>
            <p:nvPr/>
          </p:nvSpPr>
          <p:spPr>
            <a:xfrm flipV="1">
              <a:off x="4968720" y="3805200"/>
              <a:ext cx="62100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1041"/>
            <p:cNvSpPr/>
            <p:nvPr/>
          </p:nvSpPr>
          <p:spPr>
            <a:xfrm>
              <a:off x="5581800" y="32893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не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1042"/>
            <p:cNvSpPr/>
            <p:nvPr/>
          </p:nvSpPr>
          <p:spPr>
            <a:xfrm flipV="1">
              <a:off x="4818240" y="3171960"/>
              <a:ext cx="40464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1043"/>
            <p:cNvSpPr/>
            <p:nvPr/>
          </p:nvSpPr>
          <p:spPr>
            <a:xfrm>
              <a:off x="5065560" y="23954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удивл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1044"/>
            <p:cNvSpPr/>
            <p:nvPr/>
          </p:nvSpPr>
          <p:spPr>
            <a:xfrm flipV="1">
              <a:off x="4535640" y="2922120"/>
              <a:ext cx="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_s1045"/>
            <p:cNvSpPr/>
            <p:nvPr/>
          </p:nvSpPr>
          <p:spPr>
            <a:xfrm>
              <a:off x="4095720" y="204300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рад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1046"/>
            <p:cNvSpPr/>
            <p:nvPr/>
          </p:nvSpPr>
          <p:spPr>
            <a:xfrm>
              <a:off x="4095720" y="35528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ид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эмоци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безразлич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сканирование0002"/>
          <p:cNvPicPr/>
          <p:nvPr/>
        </p:nvPicPr>
        <p:blipFill>
          <a:blip r:embed="rId2"/>
          <a:srcRect l="0" t="0" r="6203" b="6124"/>
          <a:stretch/>
        </p:blipFill>
        <p:spPr>
          <a:xfrm>
            <a:off x="0" y="198900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Текст 11"/>
          <p:cNvSpPr/>
          <p:nvPr/>
        </p:nvSpPr>
        <p:spPr>
          <a:xfrm>
            <a:off x="4211640" y="213372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враждеб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Текст 11"/>
          <p:cNvSpPr/>
          <p:nvPr/>
        </p:nvSpPr>
        <p:spPr>
          <a:xfrm>
            <a:off x="4211640" y="2708280"/>
            <a:ext cx="4038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весел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Текст 11"/>
          <p:cNvSpPr/>
          <p:nvPr/>
        </p:nvSpPr>
        <p:spPr>
          <a:xfrm>
            <a:off x="4211640" y="321300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сильная з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Текст 11"/>
          <p:cNvSpPr/>
          <p:nvPr/>
        </p:nvSpPr>
        <p:spPr>
          <a:xfrm>
            <a:off x="4211640" y="371628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гру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Текст 11"/>
          <p:cNvSpPr/>
          <p:nvPr/>
        </p:nvSpPr>
        <p:spPr>
          <a:xfrm>
            <a:off x="4211640" y="4221000"/>
            <a:ext cx="4038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застенчивая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211640" y="472428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плохое самочув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Текст 11"/>
          <p:cNvSpPr/>
          <p:nvPr/>
        </p:nvSpPr>
        <p:spPr>
          <a:xfrm>
            <a:off x="4211640" y="5157720"/>
            <a:ext cx="403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зл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Текст 11"/>
          <p:cNvSpPr/>
          <p:nvPr/>
        </p:nvSpPr>
        <p:spPr>
          <a:xfrm>
            <a:off x="4211640" y="558972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бурная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771640" y="602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Текст 11"/>
          <p:cNvSpPr/>
          <p:nvPr/>
        </p:nvSpPr>
        <p:spPr>
          <a:xfrm>
            <a:off x="4140360" y="6021360"/>
            <a:ext cx="4038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глубокая печа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Заголовок 9"/>
          <p:cNvSpPr/>
          <p:nvPr/>
        </p:nvSpPr>
        <p:spPr>
          <a:xfrm>
            <a:off x="0" y="981000"/>
            <a:ext cx="8902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Заголовок 9"/>
          <p:cNvSpPr/>
          <p:nvPr/>
        </p:nvSpPr>
        <p:spPr>
          <a:xfrm>
            <a:off x="2509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«Прочитайте закодированные» эмо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Текст 11"/>
          <p:cNvSpPr/>
          <p:nvPr/>
        </p:nvSpPr>
        <p:spPr>
          <a:xfrm>
            <a:off x="0" y="5589720"/>
            <a:ext cx="33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1скепс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скорб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обрые советы, как удалить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эмоциональные шрамы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арайтесь вообразить себя слишком большим и слишком сильным, чтобы воспринимать оби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дьте сами себе хозяи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лабьтесь и еще расслабьте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76280"/>
            <a:ext cx="74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Цель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познакомить учащихся с понятиями «чувства», «эмоции», «аффекты»,  «настроения»; показать важность эмоциональной регуляции жизнедеятельности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6880" y="2008080"/>
            <a:ext cx="57769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рмы переживания чувств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фф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овое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в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Аффекты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 эмоциональные процессы, быстро овладевающие человеком и бурно протекающие.  Проявления:        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400120"/>
            <a:ext cx="814716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чительное изменение со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рата самообл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ижения безотче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ные жесты и мимика 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ёзы и ры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хот и выкр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к утрачивает контроль над собой, совершая безотчетные и безрассудные действия, которые иногда припоминаются, как с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Эмоци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640" y="184464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6920" y="1557000"/>
            <a:ext cx="74282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непосредственное ,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ременное переживание  какого-нибудь более постоянного чувств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6836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Эмоци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11280" y="4581360"/>
            <a:ext cx="7427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ушевное  движение , душевное волнение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ЛЕ АФФЕКТНОЙ ВСПЫШКИ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би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адок с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различное отношение ко вс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одвиж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н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БЩЕИЗВЕСТНО НАРОДНОЕ СРЕДСТВ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ХОЧЕШЬ СДЕРЖАТЬСЯ ПОПРОБУЙ ПОСЧИТАТЬ ПРО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БЯ,ХОТЯ БЫ ДО ДЕСЯ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j0300912"/>
          <p:cNvPicPr/>
          <p:nvPr/>
        </p:nvPicPr>
        <p:blipFill>
          <a:blip r:embed="rId2"/>
          <a:stretch/>
        </p:blipFill>
        <p:spPr>
          <a:xfrm>
            <a:off x="1116000" y="2349360"/>
            <a:ext cx="2735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На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ляет собо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ее эмоциональное состояние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крашивающее в течение значительного времени все поведение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любовь"/>
          <p:cNvPicPr/>
          <p:nvPr/>
        </p:nvPicPr>
        <p:blipFill>
          <a:blip r:embed="rId2"/>
          <a:stretch/>
        </p:blipFill>
        <p:spPr>
          <a:xfrm>
            <a:off x="539640" y="4005360"/>
            <a:ext cx="3121200" cy="241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6"/>
          <p:cNvPicPr/>
          <p:nvPr/>
        </p:nvPicPr>
        <p:blipFill>
          <a:blip r:embed="rId3"/>
          <a:stretch/>
        </p:blipFill>
        <p:spPr>
          <a:xfrm>
            <a:off x="3780000" y="4005360"/>
            <a:ext cx="1933560" cy="237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7550"/>
          <p:cNvPicPr/>
          <p:nvPr/>
        </p:nvPicPr>
        <p:blipFill>
          <a:blip r:embed="rId4"/>
          <a:stretch/>
        </p:blipFill>
        <p:spPr>
          <a:xfrm>
            <a:off x="5867280" y="400536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увств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живаемое в различной форме внутренние отношения человека к тому, что происходит в его жизни, что он познаёт или дел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6" descr="002114"/>
          <p:cNvPicPr/>
          <p:nvPr/>
        </p:nvPicPr>
        <p:blipFill>
          <a:blip r:embed="rId2"/>
          <a:stretch/>
        </p:blipFill>
        <p:spPr>
          <a:xfrm>
            <a:off x="5029200" y="411804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8:23:55Z</dcterms:created>
  <dc:creator>user</dc:creator>
  <dc:description/>
  <dc:language>en-US</dc:language>
  <cp:lastModifiedBy>user</cp:lastModifiedBy>
  <dcterms:modified xsi:type="dcterms:W3CDTF">2008-11-20T11:38:10Z</dcterms:modified>
  <cp:revision>14</cp:revision>
  <dc:subject/>
  <dc:title>Вредные советы</dc:title>
</cp:coreProperties>
</file>