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D974-FD93-494F-A793-E0093132F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93C3-E20F-40A0-9285-90D3D77F9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A153-6F17-4F8D-BAEE-B5A9E9EDC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29E-B016-4910-B996-52F239C9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BAE-68B6-417E-A5D4-3FF36A5B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944-B7AC-4444-AEEF-23D51392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16F-DE2B-47C9-84E9-A7F34421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891-E43C-4631-8542-A826370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E75-6662-4B98-A6C3-84FB9FC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EA5-6899-4707-90D4-CDC3BB52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21D-0A92-477C-9AC9-271C7D8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252-AADD-4D26-ABD0-39C54546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951-2E5E-434F-9336-CA37BC21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2B3-D917-4E86-8739-D33B555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A85-3F82-43AD-828B-3973879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419A-3E52-4ABA-8EC3-2938D28466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5D8-3E9E-4520-9609-EF4E32C21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Проектная деятельность  как способ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– воспитательного процесс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5CEB-181E-43EE-9640-DACB4E9E0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:\Documents and Settings\Alexey\Рабочий стол\DSC01536.jpg"/>
          <p:cNvPicPr/>
          <p:nvPr/>
        </p:nvPicPr>
        <p:blipFill>
          <a:blip r:embed="rId1"/>
          <a:stretch/>
        </p:blipFill>
        <p:spPr>
          <a:xfrm>
            <a:off x="2195640" y="2421000"/>
            <a:ext cx="6551640" cy="35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lexey\Рабочий стол\я.JPG"/>
          <p:cNvPicPr/>
          <p:nvPr/>
        </p:nvPicPr>
        <p:blipFill>
          <a:blip r:embed="rId2"/>
          <a:stretch/>
        </p:blipFill>
        <p:spPr>
          <a:xfrm>
            <a:off x="324000" y="3357720"/>
            <a:ext cx="2160360" cy="3217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83528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ОМБ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771640" y="6237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:Киндяк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Сказка  – одно из мощных средств воспитания. Поэтому важно учиться понимать и ценить сказку.  Важную роль в сказке играют художественные средства, с помощью которых русский народ создает образ главного героя в сказке и при помощи него воспитывает юного читателя. В сказке показаны образцы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D81F-E01E-4438-81EE-DF38D74A3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J:\в классе\DSC01132.jpg"/>
          <p:cNvPicPr/>
          <p:nvPr/>
        </p:nvPicPr>
        <p:blipFill>
          <a:blip r:embed="rId1"/>
          <a:stretch/>
        </p:blipFill>
        <p:spPr>
          <a:xfrm>
            <a:off x="3995640" y="442764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6" descr=""/>
          <p:cNvPicPr/>
          <p:nvPr/>
        </p:nvPicPr>
        <p:blipFill>
          <a:blip r:embed="rId2"/>
          <a:stretch/>
        </p:blipFill>
        <p:spPr>
          <a:xfrm>
            <a:off x="646200" y="268200"/>
            <a:ext cx="8126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665280" y="182520"/>
            <a:ext cx="7972200" cy="1494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7448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сказ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ую букву алфави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главную идею каждой выбранной сказ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какие правила поведения заложены в наших сказк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равила жизни нашего коллекти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Documents and Settings\Alexey\Рабочий стол\сказки фото\DSC01488.jpg"/>
          <p:cNvPicPr/>
          <p:nvPr/>
        </p:nvPicPr>
        <p:blipFill>
          <a:blip r:embed="rId2"/>
          <a:stretch/>
        </p:blipFill>
        <p:spPr>
          <a:xfrm>
            <a:off x="5940360" y="1052640"/>
            <a:ext cx="2878200" cy="216036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52E8-7A3E-4C56-8B77-FF8034703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7200" y="1700280"/>
          <a:ext cx="8435880" cy="4910040"/>
        </p:xfrm>
        <a:graphic>
          <a:graphicData uri="http://schemas.openxmlformats.org/drawingml/2006/table">
            <a:tbl>
              <a:tblPr/>
              <a:tblGrid>
                <a:gridCol w="2243160"/>
                <a:gridCol w="1974960"/>
                <a:gridCol w="2108160"/>
                <a:gridCol w="2109600"/>
              </a:tblGrid>
              <a:tr h="358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9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уровня воспитанности, степени  сформированности  коллектива и отношений в нем, круга интересов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готовности к работе над проек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просе, бесед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детей о том, что дома читают, есть ли в домашней библиотеке ска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диагностики уровня воспитанности, проведение 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, участие в опросах, бесед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5796000" y="1413000"/>
            <a:ext cx="27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B844-A9FF-47E7-A033-671F4CF3B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11280" y="10526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й этап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Documents and Settings\Alexey\Рабочий стол\сказки фото\DSC01487.jpg"/>
          <p:cNvPicPr/>
          <p:nvPr/>
        </p:nvPicPr>
        <p:blipFill>
          <a:blip r:embed="rId2"/>
          <a:stretch/>
        </p:blipFill>
        <p:spPr>
          <a:xfrm>
            <a:off x="5003640" y="4365720"/>
            <a:ext cx="30625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30232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4ADF-84BD-4B2A-B911-4CBF08DE8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700280"/>
          <a:ext cx="8351640" cy="5165640"/>
        </p:xfrm>
        <a:graphic>
          <a:graphicData uri="http://schemas.openxmlformats.org/drawingml/2006/table">
            <a:tbl>
              <a:tblPr/>
              <a:tblGrid>
                <a:gridCol w="2465280"/>
                <a:gridCol w="1682640"/>
                <a:gridCol w="2403720"/>
                <a:gridCol w="1800000"/>
              </a:tblGrid>
              <a:tr h="315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1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темы, целей и содержания проекта. Сравнение жанров русского фольклора и выявление любимого. Идея. Проблема. Анализ проблемы, постановка задач, объединение в команды, ро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задания. Выработка плана, формулировка задач, уточнение источ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 цели проекта. Предложение варианта идеи. Координация создания групп. Косвенное руковод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омощи в выдвижении различных идей, выборе лучшей идеи, ее обоснов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2680" cy="154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о – исполнительный эта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D0B6-8D24-47E1-9A18-7609BD962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1916280"/>
          <a:ext cx="8640720" cy="4473360"/>
        </p:xfrm>
        <a:graphic>
          <a:graphicData uri="http://schemas.openxmlformats.org/drawingml/2006/table">
            <a:tbl>
              <a:tblPr/>
              <a:tblGrid>
                <a:gridCol w="2160360"/>
                <a:gridCol w="2158920"/>
                <a:gridCol w="2160720"/>
                <a:gridCol w="2160720"/>
              </a:tblGrid>
              <a:tr h="326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и отбор информации, уточнение плана деятельности, постановка сказок в алфавитном порядке. Просмотр слайдов на празднике «Прощай, азбука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проектом и его оформление. Работа с информацией, анализ и синтез идей, выполнени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сове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омощи в оформлении работы, содействие в поисках необходимого материала для работы над проек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140360" y="4797360"/>
            <a:ext cx="244764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 эффективен в реализации воспитательных и образовательных задач, так как позволяет организовать гуманистическую воспитательную систему, перестраивая управление школьной жизнью, отношения между всеми участниками на основе творчества и самостоятельных исследов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DCB1-E1CD-42BD-8015-78804801D1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04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развитие интереса обучающихся к постановке и решению проблем, которые требуют не только применения полученных знаний, но и приобретения нового в рамках самостоятельного и совместного со взрослыми исслед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A65B-32A0-4471-A6CB-FB1226F48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:\библиотека\DSC01144.jpg"/>
          <p:cNvPicPr/>
          <p:nvPr/>
        </p:nvPicPr>
        <p:blipFill>
          <a:blip r:embed="rId1"/>
          <a:stretch/>
        </p:blipFill>
        <p:spPr>
          <a:xfrm>
            <a:off x="2268360" y="3389400"/>
            <a:ext cx="431964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 использования метода проектов в начальной школ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учитывать особенности развития детей младшего школьного возр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особая готовность детей, а именно ум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ть собственную точку зр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арива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оценивать свою работу и работу одноклассник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конструктивные предложения, замеч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7B18-F7B8-48F4-8AD6-9E981E36D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одготовки младших школьников к проектной деятельнос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запросов детей и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нтересов обучающихся  (техника, природа, люди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етям возможности объединиться по интересам в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беседы о том, как следует сотрудничать в групп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емы воспитательного д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ир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310D-38BB-4571-AC41-0162E899C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трудничества в групп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учись слушать и слышать друг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бивай говоря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итикуй выступаю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«хорошее» в высказываниях своих товарищ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й действительно новые иде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ся новыми идеями увлечь других членов коман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828-6DD3-48F4-948D-11B9593D9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699760" cy="163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Alexey\Рабочий стол\сказки фото\DSC01487.jpg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309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39640" y="6021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– консультан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дякова Еле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3B36-DBC2-4D78-9C56-156A33C4B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24000" y="1341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– лож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ней намё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м молодцам урок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сский фолькл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класса не всегда согласны с правилами, которые необходимо соблюдать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924280"/>
            <a:ext cx="440208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мы сами выявим правила жизни нашего коллектива, правила поведения, мы будем их соблюд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CAA7-B5A1-4D4D-A195-37E60C575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J:\в классе\DSC00787.jpg"/>
          <p:cNvPicPr/>
          <p:nvPr/>
        </p:nvPicPr>
        <p:blipFill>
          <a:blip r:embed="rId1"/>
          <a:stretch/>
        </p:blipFill>
        <p:spPr>
          <a:xfrm>
            <a:off x="4788000" y="292428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F:\библиотека\DSC01136.jpg"/>
          <p:cNvPicPr/>
          <p:nvPr/>
        </p:nvPicPr>
        <p:blipFill>
          <a:blip r:embed="rId2"/>
          <a:stretch/>
        </p:blipFill>
        <p:spPr>
          <a:xfrm>
            <a:off x="3851280" y="285264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E350-06BA-4EC1-910E-2E71C2A65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68360" y="1268280"/>
            <a:ext cx="8675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сказки по алфавиту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воспитательную функцию выбранных сказок. Научиться дружить в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– м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7:13:14Z</dcterms:created>
  <dc:creator>Alexey</dc:creator>
  <dc:description/>
  <dc:language>en-US</dc:language>
  <cp:lastModifiedBy>Alexey</cp:lastModifiedBy>
  <dcterms:modified xsi:type="dcterms:W3CDTF">2012-06-05T09:55:18Z</dcterms:modified>
  <cp:revision>69</cp:revision>
  <dc:subject/>
  <dc:title>тЕма: Cказочная азбука</dc:title>
</cp:coreProperties>
</file>