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81C5-B1BE-46CB-9F8F-71F833B42F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8F51-10C5-40A3-952A-81A9BCBC37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CED7-5E42-49AB-BE15-1C56AE3AD7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0933-5085-4A47-944F-2C17D291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580F-EBCC-4EF9-9726-326B611D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D8AD-DC55-40D9-BB21-123E9FCE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7B7A-6996-4B13-9E10-369AA258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72E1-57E7-4496-A566-CF30C8D9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3DB-EA83-43EC-83E1-F90FB8B2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03C2-B945-4CE2-BC01-5A1AC520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6471-C500-456F-87CB-47C6D297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C94A-3C15-4FC9-B625-3B65D523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F42D-E980-4EA1-AF50-53682609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A83E-1393-44C7-84FA-BD8239B9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CF79-5D7F-4525-BDAC-FDF2B83A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C52F-A39B-46A4-8AF9-A99FFA37D32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0D94-3635-483A-93C3-16D1A25993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Проектная деятельность  как способ организации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 – воспитательного процесса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7651-950E-4D37-B043-A9DA13335D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C:\Documents and Settings\Alexey\Рабочий стол\DSC01536.jpg"/>
          <p:cNvPicPr/>
          <p:nvPr/>
        </p:nvPicPr>
        <p:blipFill>
          <a:blip r:embed="rId1"/>
          <a:stretch/>
        </p:blipFill>
        <p:spPr>
          <a:xfrm>
            <a:off x="2195640" y="2421000"/>
            <a:ext cx="6551640" cy="351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Documents and Settings\Alexey\Рабочий стол\я.JPG"/>
          <p:cNvPicPr/>
          <p:nvPr/>
        </p:nvPicPr>
        <p:blipFill>
          <a:blip r:embed="rId2"/>
          <a:stretch/>
        </p:blipFill>
        <p:spPr>
          <a:xfrm>
            <a:off x="324000" y="3357720"/>
            <a:ext cx="2160360" cy="321768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1835280" y="189000"/>
            <a:ext cx="60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ОМБУ «Сингапай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2771640" y="623736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:Киндякова Е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268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Сказка  – одно из мощных средств воспитания. Поэтому важно учиться понимать и ценить сказку.  Важную роль в сказке играют художественные средства, с помощью которых русский народ создает образ главного героя в сказке и при помощи него воспитывает юного читателя. В сказке показаны образцы повед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CD10-81EC-4E4D-BE63-BF8E9F6324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J:\в классе\DSC01132.jpg"/>
          <p:cNvPicPr/>
          <p:nvPr/>
        </p:nvPicPr>
        <p:blipFill>
          <a:blip r:embed="rId1"/>
          <a:stretch/>
        </p:blipFill>
        <p:spPr>
          <a:xfrm>
            <a:off x="3995640" y="442764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6" descr=""/>
          <p:cNvPicPr/>
          <p:nvPr/>
        </p:nvPicPr>
        <p:blipFill>
          <a:blip r:embed="rId2"/>
          <a:stretch/>
        </p:blipFill>
        <p:spPr>
          <a:xfrm>
            <a:off x="646200" y="268200"/>
            <a:ext cx="8126280" cy="14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665280" y="182520"/>
            <a:ext cx="7972200" cy="1494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7448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сказк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ую букву алфавит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 главную идею каждой выбранной сказк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, какие правила поведения заложены в наших сказка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правила жизни нашего коллектив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C:\Documents and Settings\Alexey\Рабочий стол\сказки фото\DSC01488.jpg"/>
          <p:cNvPicPr/>
          <p:nvPr/>
        </p:nvPicPr>
        <p:blipFill>
          <a:blip r:embed="rId2"/>
          <a:stretch/>
        </p:blipFill>
        <p:spPr>
          <a:xfrm>
            <a:off x="5940360" y="1052640"/>
            <a:ext cx="2878200" cy="2160360"/>
          </a:xfrm>
          <a:prstGeom prst="rect">
            <a:avLst/>
          </a:prstGeom>
          <a:ln w="0">
            <a:noFill/>
          </a:ln>
        </p:spPr>
      </p:pic>
      <p:sp>
        <p:nvSpPr>
          <p:cNvPr id="8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0F3C-628A-4DAD-A3EB-D0E44ACD6D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2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457200" y="1700280"/>
          <a:ext cx="8435880" cy="4910040"/>
        </p:xfrm>
        <a:graphic>
          <a:graphicData uri="http://schemas.openxmlformats.org/drawingml/2006/table">
            <a:tbl>
              <a:tblPr/>
              <a:tblGrid>
                <a:gridCol w="2243160"/>
                <a:gridCol w="1974960"/>
                <a:gridCol w="2108160"/>
                <a:gridCol w="2109600"/>
              </a:tblGrid>
              <a:tr h="3585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ачи эта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е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й руковод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49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уровня воспитанности, степени  сформированности  коллектива и отношений в нем, круга интересов де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готовности к работе над проект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опросе, бесед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ос детей о том, что дома читают, есть ли в домашней библиотеке сказ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и проведение диагностики уровня воспитанности, проведение опр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ирование, участие в опросах, бесед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с родителя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1" name="TextBox 5"/>
          <p:cNvSpPr/>
          <p:nvPr/>
        </p:nvSpPr>
        <p:spPr>
          <a:xfrm>
            <a:off x="5796000" y="1413000"/>
            <a:ext cx="273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A866-7846-48D2-956B-D80A3D9CB8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611280" y="105264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ий этап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C:\Documents and Settings\Alexey\Рабочий стол\сказки фото\DSC01487.jpg"/>
          <p:cNvPicPr/>
          <p:nvPr/>
        </p:nvPicPr>
        <p:blipFill>
          <a:blip r:embed="rId2"/>
          <a:stretch/>
        </p:blipFill>
        <p:spPr>
          <a:xfrm>
            <a:off x="5003640" y="4365720"/>
            <a:ext cx="3062520" cy="22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63680" y="328680"/>
            <a:ext cx="8302320" cy="1523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125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B63E-7482-4663-9D04-7B31D5CFF6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24000" y="1700280"/>
          <a:ext cx="8351640" cy="5165640"/>
        </p:xfrm>
        <a:graphic>
          <a:graphicData uri="http://schemas.openxmlformats.org/drawingml/2006/table">
            <a:tbl>
              <a:tblPr/>
              <a:tblGrid>
                <a:gridCol w="2465280"/>
                <a:gridCol w="1682640"/>
                <a:gridCol w="2403720"/>
                <a:gridCol w="1800000"/>
              </a:tblGrid>
              <a:tr h="31572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ачи эта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е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й руково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11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темы, целей и содержания проекта. Сравнение жанров русского фольклора и выявление любимого. Идея. Проблема. Анализ проблемы, постановка задач, объединение в команды, рол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уждение задания. Выработка плана, формулировка задач, уточнение источ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яснение цели проекта. Предложение варианта идеи. Координация создания групп. Косвенное руководств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помощи в выдвижении различных идей, выборе лучшей идеи, ее обоснова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02680" cy="1541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267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ово – исполнительный этап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751B-B8F1-48E1-8757-1E204C7633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24000" y="1916280"/>
          <a:ext cx="8640720" cy="4473360"/>
        </p:xfrm>
        <a:graphic>
          <a:graphicData uri="http://schemas.openxmlformats.org/drawingml/2006/table">
            <a:tbl>
              <a:tblPr/>
              <a:tblGrid>
                <a:gridCol w="2160360"/>
                <a:gridCol w="2158920"/>
                <a:gridCol w="2160720"/>
                <a:gridCol w="2160720"/>
              </a:tblGrid>
              <a:tr h="3268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дачи эта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е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й руково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70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и отбор информации, уточнение плана деятельности, постановка сказок в алфавитном порядке. Просмотр слайдов на празднике «Прощай, азбука!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над проектом и его оформление. Работа с информацией, анализ и синтез идей, выполнение исслед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я, консультации, сове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помощи в оформлении работы, содействие в поисках необходимого материала для работы над проект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4140360" y="4797360"/>
            <a:ext cx="2447640" cy="18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проектов эффективен в реализации воспитательных и образовательных задач, так как позволяет организовать гуманистическую воспитательную систему, перестраивая управление школьной жизнью, отношения между всеми участниками на основе творчества и самостоятельных исследова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27E6-FBAA-4D46-8749-6BC7F49436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40428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– развитие интереса обучающихся к постановке и решению проблем, которые требуют не только применения полученных знаний, но и приобретения нового в рамках самостоятельного и совместного со взрослыми исследова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4C6A-D599-4578-BBB7-0AE659288D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F:\библиотека\DSC01144.jpg"/>
          <p:cNvPicPr/>
          <p:nvPr/>
        </p:nvPicPr>
        <p:blipFill>
          <a:blip r:embed="rId1"/>
          <a:stretch/>
        </p:blipFill>
        <p:spPr>
          <a:xfrm>
            <a:off x="2268360" y="3389400"/>
            <a:ext cx="4319640" cy="32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ка использования метода проектов в начальной школ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учитывать особенности развития детей младшего школьного возра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а особая готовность детей, а именно ум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ать собственную точку зрен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ша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оваривать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 оценивать свою работу и работу однокласснико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 конструктивные предложения, замеч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AC00-EE62-4067-87DF-F9F6E9B77B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одготовки младших школьников к проектной деятельности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запросов детей и родите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интересов обучающихся  (техника, природа, люди и т.д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детям возможности объединиться по интересам в групп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беседы о том, как следует сотрудничать в групп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темы воспитательного де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иров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B994-35D1-4107-AA00-E8528528AA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сотрудничества в группе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е учись слушать и слышать друго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еребивай говоряще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критикуй выступающе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«хорошее» в высказываниях своих товарищ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й действительно новые иде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ся новыми идеями увлечь других членов коман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0920-A6E6-40F9-A87D-EF4B3C02B7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-6480" y="262080"/>
            <a:ext cx="8699760" cy="1639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Documents and Settings\Alexey\Рабочий стол\сказки фото\DSC01487.jpg"/>
          <p:cNvPicPr/>
          <p:nvPr/>
        </p:nvPicPr>
        <p:blipFill>
          <a:blip r:embed="rId2"/>
          <a:stretch/>
        </p:blipFill>
        <p:spPr>
          <a:xfrm>
            <a:off x="1403280" y="2565360"/>
            <a:ext cx="4464000" cy="330984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539640" y="6021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ый руководитель – консультан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дякова Елен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775A-F583-4536-A699-71F2C4BA23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324000" y="134136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казка – лож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в ней намё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м молодцам урок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сский фолькл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еся класса не всегда согласны с правилами, которые необходимо соблюдать в шк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924280"/>
            <a:ext cx="440208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ли мы сами выявим правила жизни нашего коллектива, правила поведения, мы будем их соблюда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252E-F2A5-48C1-8723-C6CD6E2408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J:\в классе\DSC00787.jpg"/>
          <p:cNvPicPr/>
          <p:nvPr/>
        </p:nvPicPr>
        <p:blipFill>
          <a:blip r:embed="rId1"/>
          <a:stretch/>
        </p:blipFill>
        <p:spPr>
          <a:xfrm>
            <a:off x="4788000" y="2924280"/>
            <a:ext cx="409572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24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F:\библиотека\DSC01136.jpg"/>
          <p:cNvPicPr/>
          <p:nvPr/>
        </p:nvPicPr>
        <p:blipFill>
          <a:blip r:embed="rId2"/>
          <a:stretch/>
        </p:blipFill>
        <p:spPr>
          <a:xfrm>
            <a:off x="3851280" y="2852640"/>
            <a:ext cx="4680000" cy="3510000"/>
          </a:xfrm>
          <a:prstGeom prst="rect">
            <a:avLst/>
          </a:prstGeom>
          <a:ln w="0">
            <a:noFill/>
          </a:ln>
        </p:spPr>
      </p:pic>
      <p:sp>
        <p:nvSpPr>
          <p:cNvPr id="7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3CD8-0BC6-43F0-9CED-B7F87A5C55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468360" y="1268280"/>
            <a:ext cx="867564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ировать сказки по алфавиту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 воспитательную функцию выбранных сказок. Научиться дружить в клас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реализа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ь – м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07:13:14Z</dcterms:created>
  <dc:creator>Alexey</dc:creator>
  <dc:description/>
  <dc:language>en-US</dc:language>
  <cp:lastModifiedBy>Alexey</cp:lastModifiedBy>
  <dcterms:modified xsi:type="dcterms:W3CDTF">2012-06-05T09:55:18Z</dcterms:modified>
  <cp:revision>69</cp:revision>
  <dc:subject/>
  <dc:title>тЕма: Cказочная азбука</dc:title>
</cp:coreProperties>
</file>