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739-0222-48ED-9D04-73B115D2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B17-8343-49F0-BD1A-199C71D9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CE3-0D19-46C3-AE95-061E7794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8E26-B1F4-4DE6-874A-2E95F2CE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D8DE-BE0D-403F-A603-7B3F25E7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B04A-30EA-46C1-9D23-C01569FB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8F01-947C-4529-9607-99022794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CD63-8A9A-4EB5-82A0-9A9ED428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057A-DA00-4137-BB6D-D159ECAC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C563-E9AD-4F9A-A839-1C192414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504D-D149-4DF0-B0AC-E795D2EE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8EEE-ECE1-4521-AD52-91DB7DD6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4D66-6FA5-4042-9B47-D291FE96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F2D3-2DC8-4134-A020-984ADD64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95C5-D960-40CC-A8D3-E9168154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7246-5133-4964-AD32-572E9D39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B32A-43BB-4CCE-A33E-93B45D62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E9113-5188-47F8-BF05-733FAA35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C6173-4C75-4097-A1B7-9ABCF58B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BDD0D-D6C0-400B-806B-D1E54AA3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AA623-CA48-4BBC-BD50-81BEC849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48122-B507-4D5A-810E-BCA771FC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65F-8A21-4EA2-B035-C6DAEA82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286F0-99EA-4EAD-8DD6-14A56E73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9EA0E-69CB-4D56-806D-E024A49F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D7145-BD5D-479A-96B0-FB418B5B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65315-E9A7-4896-8AB6-DE9AA2D4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87A2A-BBB7-43A2-AC48-5A9690BF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EF77A-4436-4012-A66B-92103BD0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A3FFC-65BA-4217-A7DB-116505B5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00241-372B-4AED-B449-A312BCC4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6C58B-4356-4F84-B097-C123C73D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32A3B-94A4-486C-9B83-D73C993E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04B0-52FB-41F4-9264-D13DAEA6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FCA78-7C59-4F61-90B2-9F895E5F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BB9B0-6668-4977-ADCE-86510D15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EBDE8-7108-4E4A-91E8-ABC0A191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F660E-248D-4E52-9231-8749330A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040C2-B1B3-4CBB-9246-39900A7C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1D9EC-FB53-40DB-89C1-67028F65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9550A-7246-434D-8253-909867A1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06B16-5AC7-4197-8E7D-4C461850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B555F-E68F-4A9A-BC22-18A7BCD0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7B06C-6349-4C85-B880-20C819EA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F5E-7D98-478F-9824-A5A70FE2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B706F-5991-4FEA-B390-4E544BD3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D6F74-369B-4A5D-BAA4-F42DFD07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B95D0-5B7D-4B8A-B3D0-4B77DC66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48C50-EAF1-47C1-BF21-6C112F29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577CC-CDEE-429C-A50E-D5BA6DA7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CAF96-30B9-40B2-89C3-A9846C14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B4442-E253-4AC6-84FB-8851CB32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9C543-CF7E-4559-BC96-2F27040A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2E561-CE1D-427A-8AA6-D29DD097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929ED-E834-44A6-A694-FDB5C5EC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B5E-3482-4E58-9FD6-C4935E7F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05BFF-2383-4866-9347-4852C10D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DC104-B62F-4A02-ACD9-5A3C7BAC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AE3F6-1409-40FC-B542-6707B299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B9FA4-A662-4365-AAC3-F7F22FCA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6F1F8-E8DB-4C47-AA3D-10633586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439BE-6B71-41EF-805F-B4F9599A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84B7B-DAC6-4A2F-A224-B5B2EF8B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EE2B4-9BEE-4712-8384-7BA24681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F33A9-F6F5-4A40-9641-47834AE0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BDAAC-E96D-46DA-8453-994168FA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34B-511E-4286-BBC1-514DB463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749D0-4DEA-4C6E-BBD0-C8AD6082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FF71F-0785-4BB6-B0C0-EEAB6072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A7701-25CB-4EFA-891D-CCDEB002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1F9E7-723B-4B49-B961-AE0787E4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0C57C-6893-4328-8803-679D7CC9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E71D9-2D82-420D-9469-898F57FD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7BC35-DCE1-4F71-8121-B629FDDC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C3E57-7BF3-4549-90B1-3A1205E7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0584D-F81F-4D95-9E2D-93E6FF58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11957-6322-4BF3-8D2F-7B92FB6A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B089-5DCB-4331-815C-F11EFDC9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B2657-2631-4351-A8FE-719664E4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5C228-87D4-49FF-A61C-B7FF27DC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5891B-8A66-4967-932B-F2BBF387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92369-9136-40B0-8C04-FA6ED7EB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54BE8-5A67-4071-87B1-D98548A4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C9B9-933E-4BC9-9215-E1CE1B2F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7B85-DE94-4A21-A7D9-949093EC854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65C2-6D9D-439D-9A5D-B6854D63718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1638-D15F-4988-8CB1-03E1D9D7785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50D8-FBF9-4AE9-A5CC-26D45AFC405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5C05-8B61-4A0B-9F6E-4435B6C818D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4CB8-0DC4-42EA-B2D6-9B89D012796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0D56-6D5F-4304-BB07-497C76C2CE3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572314"/>
                </a:solidFill>
                <a:latin typeface="Corbel"/>
              </a:rPr>
              <a:t>День птиц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57240"/>
            <a:ext cx="7407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Конкурсная программ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Рисунок 3" descr="Большая синица.jpg"/>
          <p:cNvPicPr/>
          <p:nvPr/>
        </p:nvPicPr>
        <p:blipFill>
          <a:blip r:embed="rId1"/>
          <a:srcRect l="0" t="0" r="0" b="4657"/>
          <a:stretch/>
        </p:blipFill>
        <p:spPr>
          <a:xfrm>
            <a:off x="2571840" y="2405160"/>
            <a:ext cx="484488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88631"/>
                </a:solidFill>
                <a:latin typeface="Corbel"/>
              </a:rPr>
              <a:t>Устный портре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142640" y="1285920"/>
            <a:ext cx="77914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Эта птичка обитает преимущественно в лесах. Зимой часто встречается у жилья. Полезна уничтожением насекомых в садах и лесах. Оперение густое, пушистое, жёлтая грудка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Picture 2" descr="Parus major m.jpg"/>
          <p:cNvPicPr/>
          <p:nvPr/>
        </p:nvPicPr>
        <p:blipFill>
          <a:blip r:embed="rId1"/>
          <a:srcRect l="11321" t="18853" r="0" b="9555"/>
          <a:stretch/>
        </p:blipFill>
        <p:spPr>
          <a:xfrm>
            <a:off x="360360" y="1143000"/>
            <a:ext cx="8602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88631"/>
                </a:solidFill>
                <a:latin typeface="Corbel"/>
              </a:rPr>
              <a:t>Устный портре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213920" y="1447560"/>
            <a:ext cx="7720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Певчая птица. Весной и летом оперение взрослых чёрное, с ярким металлическим блеском. Прилёт этих птиц означает наступление весны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2" descr="15skvorec01"/>
          <p:cNvPicPr/>
          <p:nvPr/>
        </p:nvPicPr>
        <p:blipFill>
          <a:blip r:embed="rId1"/>
          <a:srcRect l="12233" t="11952" r="14399" b="13350"/>
          <a:stretch/>
        </p:blipFill>
        <p:spPr>
          <a:xfrm>
            <a:off x="2631960" y="971640"/>
            <a:ext cx="408312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88631"/>
                </a:solidFill>
                <a:latin typeface="Corbel"/>
              </a:rPr>
              <a:t>Устный портре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142640" y="1214280"/>
            <a:ext cx="779148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тица семейства вороновых отряда воробьиных. Оперение белое с чёрным. Гнездится на деревьях или кустах, гнёзда крытые. По свойственной ей повадке прятать в своём гнезде блестящие предметы получила прозвище воровки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3" name="Picture 2" descr="Сорока"/>
          <p:cNvPicPr/>
          <p:nvPr/>
        </p:nvPicPr>
        <p:blipFill>
          <a:blip r:embed="rId1"/>
          <a:stretch/>
        </p:blipFill>
        <p:spPr>
          <a:xfrm>
            <a:off x="1357200" y="1085760"/>
            <a:ext cx="73105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88631"/>
                </a:solidFill>
                <a:latin typeface="Corbel"/>
              </a:rPr>
              <a:t>Устный портре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142640" y="1143000"/>
            <a:ext cx="779148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Мелкие и средние величины птицы отряда куриных. В нашем крае наиболее известны белая и серая. Эта птица – объект спортивной и промысловой охоты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2" descr="серая куропатка"/>
          <p:cNvPicPr/>
          <p:nvPr/>
        </p:nvPicPr>
        <p:blipFill>
          <a:blip r:embed="rId1"/>
          <a:stretch/>
        </p:blipFill>
        <p:spPr>
          <a:xfrm>
            <a:off x="1092240" y="1071720"/>
            <a:ext cx="77547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88631"/>
                </a:solidFill>
                <a:latin typeface="Corbel"/>
              </a:rPr>
              <a:t>Устный портре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13920" y="1214280"/>
            <a:ext cx="77202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Эта птица преимущественно обитает в лесу, приспособлена к жизни на деревьях. Ноги короткие,  с длинными пальцами и острыми когтями. Крепкий клюв и мощная мускулатура шеи, жёсткие перья хвоста, служащие опорой, позволяют этим птицам долбить кору и древесин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Picture 2" descr="Большой пёстрый дятел"/>
          <p:cNvPicPr/>
          <p:nvPr/>
        </p:nvPicPr>
        <p:blipFill>
          <a:blip r:embed="rId1"/>
          <a:stretch/>
        </p:blipFill>
        <p:spPr>
          <a:xfrm>
            <a:off x="2114640" y="1066680"/>
            <a:ext cx="552924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88631"/>
                </a:solidFill>
                <a:latin typeface="Corbel"/>
              </a:rPr>
              <a:t>Устный портре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142640" y="1143000"/>
            <a:ext cx="779148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Род птиц семейства дроздовых отряда воробьиных. Перелётная птица, зимует в Африке. Обитает в сырых кустарниковых зарослях, в долинах рек. Питается пауками, насекомыми, червями, ягодами. Пение звучное, с большим количеством колен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Picture 2" descr="Таёжные птицы.  Соловей  "/>
          <p:cNvPicPr/>
          <p:nvPr/>
        </p:nvPicPr>
        <p:blipFill>
          <a:blip r:embed="rId1"/>
          <a:stretch/>
        </p:blipFill>
        <p:spPr>
          <a:xfrm>
            <a:off x="2571840" y="1071720"/>
            <a:ext cx="423864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7030a0"/>
                </a:solidFill>
                <a:latin typeface="Corbel"/>
              </a:rPr>
              <a:t>Занимательные вопрос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71360" y="1071720"/>
            <a:ext cx="786276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)Какая птица подбрасывает яйца в чужие гнёзд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кукуш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)Какая птица умело подражает голосам многих птиц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)У какой птицы самый длинный язык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у дятла – 15 с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)Кто кукует у кукушки – самка или самец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самец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142640" y="214200"/>
            <a:ext cx="779148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)Какие птицы не высиживают, а «выстаивают» своих птенцов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императорские пингвин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)Дышит ли птенец в яйце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)Какая лесная птица питается грибами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глухар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)Какая птица умеет считать годы нашей жизни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кукуш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)Какая птица приносит младенцев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аис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071720" y="356760"/>
            <a:ext cx="779112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0)У каких птиц есть специальные «детские ясли»?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                             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у пингвинов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1)Эта птица – герой многих легенд, перевоплощённый сказочный принц?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                               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лебедь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2)Название какой птицы состоит из 41 букв?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                                        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сорок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3)Эта птица называется как каша, которую любят есть англичане на завтрак?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                                           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овсянк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142640" y="285480"/>
            <a:ext cx="779148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4)Какая птица пользуется «рыболовным сачком»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пелика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)Клюв, какой птицы может заменить набор слесарных инструментов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попугая какад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6)Какая птица устраивает в лесу «кузницу»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дяте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7)Какая небольшая птица отряда воробьиных называется так же, как и приспособление для истребления мух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мухолов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«Угадай, кто я?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2" name="Содержимое 3" descr="кто 1.jpg"/>
          <p:cNvPicPr/>
          <p:nvPr/>
        </p:nvPicPr>
        <p:blipFill>
          <a:blip r:embed="rId1"/>
          <a:srcRect l="0" t="0" r="4290" b="0"/>
          <a:stretch/>
        </p:blipFill>
        <p:spPr>
          <a:xfrm>
            <a:off x="2143080" y="1143000"/>
            <a:ext cx="5896080" cy="4800600"/>
          </a:xfrm>
          <a:prstGeom prst="rect">
            <a:avLst/>
          </a:prstGeom>
          <a:ln w="0">
            <a:noFill/>
          </a:ln>
        </p:spPr>
      </p:pic>
      <p:sp>
        <p:nvSpPr>
          <p:cNvPr id="323" name="TextBox 4"/>
          <p:cNvSpPr/>
          <p:nvPr/>
        </p:nvSpPr>
        <p:spPr>
          <a:xfrm>
            <a:off x="6643800" y="607212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Гусь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142640" y="285480"/>
            <a:ext cx="779148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)Какая птица с короткими ногами, длинными крыльями и густым оперением, живущая по берегам морей, рек, озёр, дала название машине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чай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9)Как называют лесную птицу и заросль крапивы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крапивни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0)Какая птица берёт для гнезда всё, что под клюв попадается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соро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00080" y="928800"/>
            <a:ext cx="814392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ff0000"/>
                </a:solidFill>
                <a:latin typeface="Corbel"/>
              </a:rPr>
              <a:t>МОЛОДЦЫ!</a:t>
            </a:r>
            <a:endParaRPr b="0" lang="en-US" sz="115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«Угадай, кто я?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кто 3.jpg"/>
          <p:cNvPicPr/>
          <p:nvPr/>
        </p:nvPicPr>
        <p:blipFill>
          <a:blip r:embed="rId1"/>
          <a:srcRect l="0" t="4201" r="0" b="0"/>
          <a:stretch/>
        </p:blipFill>
        <p:spPr>
          <a:xfrm>
            <a:off x="2071800" y="1071720"/>
            <a:ext cx="5949720" cy="5128920"/>
          </a:xfrm>
          <a:prstGeom prst="rect">
            <a:avLst/>
          </a:prstGeom>
          <a:ln w="0">
            <a:noFill/>
          </a:ln>
        </p:spPr>
      </p:pic>
      <p:sp>
        <p:nvSpPr>
          <p:cNvPr id="326" name="TextBox 4"/>
          <p:cNvSpPr/>
          <p:nvPr/>
        </p:nvSpPr>
        <p:spPr>
          <a:xfrm>
            <a:off x="6500880" y="614376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Голубь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«Угадай, кто я?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Содержимое 3" descr="кто 5.jpg"/>
          <p:cNvPicPr/>
          <p:nvPr/>
        </p:nvPicPr>
        <p:blipFill>
          <a:blip r:embed="rId1"/>
          <a:srcRect l="0" t="0" r="8852" b="0"/>
          <a:stretch/>
        </p:blipFill>
        <p:spPr>
          <a:xfrm>
            <a:off x="1857240" y="1071720"/>
            <a:ext cx="3822840" cy="5500440"/>
          </a:xfrm>
          <a:prstGeom prst="rect">
            <a:avLst/>
          </a:prstGeom>
          <a:ln w="0">
            <a:noFill/>
          </a:ln>
        </p:spPr>
      </p:pic>
      <p:sp>
        <p:nvSpPr>
          <p:cNvPr id="329" name="TextBox 4"/>
          <p:cNvSpPr/>
          <p:nvPr/>
        </p:nvSpPr>
        <p:spPr>
          <a:xfrm>
            <a:off x="6500880" y="542916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ов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«Угадай, кто я?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3" descr="кто 7.jpg"/>
          <p:cNvPicPr/>
          <p:nvPr/>
        </p:nvPicPr>
        <p:blipFill>
          <a:blip r:embed="rId1"/>
          <a:srcRect l="7333" t="0" r="11230" b="8923"/>
          <a:stretch/>
        </p:blipFill>
        <p:spPr>
          <a:xfrm>
            <a:off x="1571760" y="1071720"/>
            <a:ext cx="3714480" cy="5448240"/>
          </a:xfrm>
          <a:prstGeom prst="rect">
            <a:avLst/>
          </a:prstGeom>
          <a:ln w="0">
            <a:noFill/>
          </a:ln>
        </p:spPr>
      </p:pic>
      <p:sp>
        <p:nvSpPr>
          <p:cNvPr id="332" name="TextBox 4"/>
          <p:cNvSpPr/>
          <p:nvPr/>
        </p:nvSpPr>
        <p:spPr>
          <a:xfrm>
            <a:off x="6000840" y="47149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ингвин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«Угадай, кто я?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Содержимое 3" descr="кто 2.jpg"/>
          <p:cNvPicPr/>
          <p:nvPr/>
        </p:nvPicPr>
        <p:blipFill>
          <a:blip r:embed="rId1"/>
          <a:srcRect l="0" t="0" r="0" b="2021"/>
          <a:stretch/>
        </p:blipFill>
        <p:spPr>
          <a:xfrm>
            <a:off x="2214720" y="1071720"/>
            <a:ext cx="5940360" cy="5072040"/>
          </a:xfrm>
          <a:prstGeom prst="rect">
            <a:avLst/>
          </a:prstGeom>
          <a:ln w="0">
            <a:noFill/>
          </a:ln>
        </p:spPr>
      </p:pic>
      <p:sp>
        <p:nvSpPr>
          <p:cNvPr id="335" name="TextBox 4"/>
          <p:cNvSpPr/>
          <p:nvPr/>
        </p:nvSpPr>
        <p:spPr>
          <a:xfrm>
            <a:off x="6357960" y="60721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тк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«Угадай, кто я?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Содержимое 3" descr="кто 4.jpg"/>
          <p:cNvPicPr/>
          <p:nvPr/>
        </p:nvPicPr>
        <p:blipFill>
          <a:blip r:embed="rId1"/>
          <a:srcRect l="3062" t="0" r="3346" b="2053"/>
          <a:stretch/>
        </p:blipFill>
        <p:spPr>
          <a:xfrm>
            <a:off x="1285920" y="1071720"/>
            <a:ext cx="4000320" cy="54910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4"/>
          <p:cNvSpPr/>
          <p:nvPr/>
        </p:nvSpPr>
        <p:spPr>
          <a:xfrm>
            <a:off x="6072120" y="46432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Ястреб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«Угадай, кто я?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Содержимое 3" descr="кто 6.jpg"/>
          <p:cNvPicPr/>
          <p:nvPr/>
        </p:nvPicPr>
        <p:blipFill>
          <a:blip r:embed="rId1"/>
          <a:srcRect l="4895" t="0" r="12525" b="2053"/>
          <a:stretch/>
        </p:blipFill>
        <p:spPr>
          <a:xfrm>
            <a:off x="1571760" y="1071720"/>
            <a:ext cx="3490920" cy="5429160"/>
          </a:xfrm>
          <a:prstGeom prst="rect">
            <a:avLst/>
          </a:prstGeom>
          <a:ln w="0">
            <a:noFill/>
          </a:ln>
        </p:spPr>
      </p:pic>
      <p:sp>
        <p:nvSpPr>
          <p:cNvPr id="341" name="TextBox 4"/>
          <p:cNvSpPr/>
          <p:nvPr/>
        </p:nvSpPr>
        <p:spPr>
          <a:xfrm>
            <a:off x="6000840" y="50007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яте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«Угадай, кто я?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Содержимое 3" descr="кто 8.jpg"/>
          <p:cNvPicPr/>
          <p:nvPr/>
        </p:nvPicPr>
        <p:blipFill>
          <a:blip r:embed="rId1"/>
          <a:srcRect l="3697" t="0" r="2040" b="6251"/>
          <a:stretch/>
        </p:blipFill>
        <p:spPr>
          <a:xfrm>
            <a:off x="1428840" y="1071720"/>
            <a:ext cx="3859200" cy="5386320"/>
          </a:xfrm>
          <a:prstGeom prst="rect">
            <a:avLst/>
          </a:prstGeom>
          <a:ln w="0">
            <a:noFill/>
          </a:ln>
        </p:spPr>
      </p:pic>
      <p:sp>
        <p:nvSpPr>
          <p:cNvPr id="344" name="TextBox 4"/>
          <p:cNvSpPr/>
          <p:nvPr/>
        </p:nvSpPr>
        <p:spPr>
          <a:xfrm>
            <a:off x="6143760" y="53578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Аист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14:36:00Z</dcterms:created>
  <dc:creator>виктория</dc:creator>
  <dc:description/>
  <dc:language>en-US</dc:language>
  <cp:lastModifiedBy>виктория</cp:lastModifiedBy>
  <dcterms:modified xsi:type="dcterms:W3CDTF">2012-03-28T17:08:27Z</dcterms:modified>
  <cp:revision>18</cp:revision>
  <dc:subject/>
  <dc:title>День птиц</dc:title>
</cp:coreProperties>
</file>