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E47-DA63-4E7D-A57A-CA48CC76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8BF-A622-43C1-B773-54DFA7C6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3D5-8C6B-4EB8-A1E8-6A9E744A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752-94AB-4EBD-B376-2E3FCC30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AEFC-AB16-46B5-8A1E-877F97D1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E751-774C-4EB7-AE2B-1FF4784A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FCDC-C76D-461C-B204-FA1DB614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D1A-BD27-4D41-859C-6EC454D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2763-9811-4ED5-9903-39A27AD5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395-0E74-4935-8795-C1957CE5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A6E0-80CD-4463-B606-E2578A87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D74-78FF-4377-AFF2-CCB03F1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8E61-EAF3-4EF7-BBB3-E476848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C150-BC1C-498F-88A8-CD5D218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B9A9-14E8-4F25-90CC-3285454B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44EA-CFAB-46CD-B022-C4445E76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BAD-8201-4DBD-B6C6-A3744284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BDCD-ED29-4C7B-84B1-E4658497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9F81-003A-467D-95E5-55E3AC45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DF74-1571-4793-8A41-49C3421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179B-343C-4477-9970-7C906BBA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4517-182F-4A7C-9FA7-32FC251A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D55-3F69-4B2A-81B9-A90DBB6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BE2F-6F68-4D32-82A5-F80D9A7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A463-E7EA-4957-92EA-C132FFC8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E3D97-E690-42C4-BA8B-8FD49DF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667D-3816-4C23-8A2D-E695845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AF46-A3E9-46EB-9864-C7D5826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63714-5501-4FFC-9B56-919AF66F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945E-22FA-4955-8424-87BB5B2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3E58-6D5E-4B7C-9E71-2BB84298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59C46-D6EB-48FE-9C12-74A0C26E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C5C20-68DB-43DD-A6E7-1B106DC3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F183-7314-4699-B4C3-C01A88F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2143-52FA-4A36-A24D-72FFDE9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BA2B-A6A8-4FF3-9A14-A276204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AB36-3A85-4E2F-8896-9B8628ED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D13A-1F1B-4B6B-A6E6-FFF4F781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4BC50-AFFE-4004-A6EC-84593FC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8782-D9CC-4638-9116-3BF042A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26BC-DAAF-4A00-93E6-9108FB2D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E438-A42D-47DF-A3D5-4128CC64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69AD-A652-4058-9E60-F910768E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F13A-06B1-41F3-8EE4-299E9DED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B46-300E-4CA5-8381-620FA325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1DAE-140C-411C-85C0-E223F9F7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5DF5-A5EF-49FA-8910-467EAD0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B884B-CF3D-4B39-BDE6-6DFE052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8F98E-4B2A-4D53-92E1-F45A198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C012F-DD63-4524-9C96-4191236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1267A-289B-4926-91AB-AE966E06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EEDE2-C48E-408B-A478-0BC8031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51FCE-D88D-4D3B-B91B-DC2273E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6EC0E-8314-4696-AA78-FBEA0CA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6AB7-5650-42DB-AB60-DC7BE523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6BB-86F8-4FB9-B2DA-10DB92B4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50781-5FC1-4736-A62D-2F0FE505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7193-43EC-4673-A832-915C6AD6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290D-A88A-4A98-8DF1-8E370B6D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FAFB-E290-46F7-8E21-E2DAFB1B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132B-4C38-403D-ADD4-3EE00FCD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1DEC1-A68A-4033-94D7-D4CF2B85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C4A2B-6AF7-4CE5-95D0-D8C984E2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0655-8141-460B-B516-DADECB90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42F2D-56A5-43C8-A289-4DC6DE5D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6C59-DD81-4938-A8CC-30B6D4D5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B41-037E-425C-813D-9D955ADB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DB7A-A808-4A51-B076-ABF770BB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3DAD-CA67-410D-A398-CBEEFD74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A4AE8-4A83-4DDC-A5B1-5C6C6047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89820-1065-4D39-82C5-3039B159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01BB3-9ED9-4F2A-8F23-C3BCA2D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5B34-A16D-4DDE-A603-79706F12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CCE1-CB1B-48B1-A5C2-3F9C1B7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9BEBD-67D1-4164-AE10-3A74301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9CA4-F601-4C73-B923-AFF9C83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7F0A1-D33E-4B93-9A50-14C05FDE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102-8C0A-488D-B587-373855B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1292A-AFF7-4D5D-B720-B0B5558F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A3C45-6C96-4815-AFEF-194C07E9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9A7DC-BA5D-4FD5-A7B5-467656E5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645E0-9A0C-4A40-B646-AACAAEEA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A1BE-2C9E-447B-BF1C-C1AC97D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186-A11D-4E82-86BC-8131C833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8C0-306E-4016-944C-DB085FB2A76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2A3-FEEF-437A-9AC6-25E3137924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CBEC-F3DF-4447-9130-1096F71A3A0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047-CD08-4C41-953F-B996965882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F8C0-EC54-4168-9FB9-F5A5F2FC1A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7DA3-BF52-430A-B3A0-19BC18CE079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F19F-B684-4CC3-BBD5-76E193F57E0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572314"/>
                </a:solidFill>
                <a:latin typeface="Corbel"/>
              </a:rPr>
              <a:t>День птиц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57240"/>
            <a:ext cx="7407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онкурсная программ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3" descr="Большая синица.jpg"/>
          <p:cNvPicPr/>
          <p:nvPr/>
        </p:nvPicPr>
        <p:blipFill>
          <a:blip r:embed="rId1"/>
          <a:srcRect l="0" t="0" r="0" b="4657"/>
          <a:stretch/>
        </p:blipFill>
        <p:spPr>
          <a:xfrm>
            <a:off x="2571840" y="2405160"/>
            <a:ext cx="484488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42640" y="1285920"/>
            <a:ext cx="7791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Эта птичка обитает преимущественно в лесах. Зимой часто встречается у жилья. Полезна уничтожением насекомых в садах и лесах. Оперение густое, пушистое, жёлтая грудка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Parus major m.jpg"/>
          <p:cNvPicPr/>
          <p:nvPr/>
        </p:nvPicPr>
        <p:blipFill>
          <a:blip r:embed="rId1"/>
          <a:srcRect l="11321" t="18853" r="0" b="9555"/>
          <a:stretch/>
        </p:blipFill>
        <p:spPr>
          <a:xfrm>
            <a:off x="360360" y="1143000"/>
            <a:ext cx="8602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Певчая птица. Весной и летом оперение взрослых чёрное, с ярким металлическим блеском. Прилёт этих птиц означает наступление весны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15skvorec01"/>
          <p:cNvPicPr/>
          <p:nvPr/>
        </p:nvPicPr>
        <p:blipFill>
          <a:blip r:embed="rId1"/>
          <a:srcRect l="12233" t="11952" r="14399" b="13350"/>
          <a:stretch/>
        </p:blipFill>
        <p:spPr>
          <a:xfrm>
            <a:off x="2631960" y="971640"/>
            <a:ext cx="40831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142640" y="1214280"/>
            <a:ext cx="779148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Птица семейства вороновых отряда воробьиных. Оперение белое с чёрным. Гнездится на деревьях или кустах, гнёзда крытые. По свойственной ей повадке прятать в своём гнезде блестящие предметы получила прозвище воровк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2" descr="Сорока"/>
          <p:cNvPicPr/>
          <p:nvPr/>
        </p:nvPicPr>
        <p:blipFill>
          <a:blip r:embed="rId1"/>
          <a:stretch/>
        </p:blipFill>
        <p:spPr>
          <a:xfrm>
            <a:off x="1357200" y="1085760"/>
            <a:ext cx="73105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2640" y="114300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</a:rPr>
              <a:t>Мелкие и средние величины птицы отряда куриных. В нашем крае наиболее известны белая и серая. Эта птица – объект спортивной и промысловой охоты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серая куропатка"/>
          <p:cNvPicPr/>
          <p:nvPr/>
        </p:nvPicPr>
        <p:blipFill>
          <a:blip r:embed="rId1"/>
          <a:stretch/>
        </p:blipFill>
        <p:spPr>
          <a:xfrm>
            <a:off x="1092240" y="1071720"/>
            <a:ext cx="7754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13920" y="1214280"/>
            <a:ext cx="772020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а птица преимущественно обитает в лесу, приспособлена к жизни на деревьях. Ноги короткие,  с длинными пальцами и острыми когтями. Крепкий клюв и мощная мускулатура шеи, жёсткие перья хвоста, служащие опорой, позволяют этим птицам долбить кору и древес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2" descr="Большой пёстрый дятел"/>
          <p:cNvPicPr/>
          <p:nvPr/>
        </p:nvPicPr>
        <p:blipFill>
          <a:blip r:embed="rId1"/>
          <a:stretch/>
        </p:blipFill>
        <p:spPr>
          <a:xfrm>
            <a:off x="2114640" y="1066680"/>
            <a:ext cx="552924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88631"/>
                </a:solidFill>
                <a:latin typeface="Corbel"/>
              </a:rPr>
              <a:t>Устный портре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142640" y="1143000"/>
            <a:ext cx="77914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Род птиц семейства дроздовых отряда воробьиных. Перелётная птица, зимует в Африке. Обитает в сырых кустарниковых зарослях, в долинах рек. Питается пауками, насекомыми, червями, ягодами. Пение звучное, с большим количеством колен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Таёжные птицы.  Соловей  "/>
          <p:cNvPicPr/>
          <p:nvPr/>
        </p:nvPicPr>
        <p:blipFill>
          <a:blip r:embed="rId1"/>
          <a:stretch/>
        </p:blipFill>
        <p:spPr>
          <a:xfrm>
            <a:off x="2571840" y="1071720"/>
            <a:ext cx="423864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orbel"/>
              </a:rPr>
              <a:t>Занимательные вопрос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71360" y="1071720"/>
            <a:ext cx="786276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Какая птица подбрасывает яйца в чужие гнёзд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Какая птица умело подражает голосам многих птиц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У какой птицы самый длинный язык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 дятла – 15 с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Кто кукует у кукушки – самка или самец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амец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142640" y="214200"/>
            <a:ext cx="779148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)Какие птицы не высиживают, а «выстаивают» своих птенцо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императорские пингвин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)Дышит ли птенец в яйце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)Какая лесная птица питается грибам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глухар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)Какая птица умеет считать годы нашей жизн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укуш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)Какая птица приносит младенце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аис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071720" y="356760"/>
            <a:ext cx="7791120" cy="62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0)У каких птиц есть специальные «детские ясли»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у пингвинов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)Эта птица – герой многих легенд, перевоплощённый сказочный принц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лебедь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)Название какой птицы состоит из 41 букв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соро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)Эта птица называется как каша, которую любят есть англичане на завтрак?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                                           </a:t>
            </a:r>
            <a:r>
              <a:rPr b="0" lang="ru-RU" sz="3000" spc="-1" strike="noStrike">
                <a:solidFill>
                  <a:srgbClr val="ff0000"/>
                </a:solidFill>
                <a:latin typeface="Corbel"/>
              </a:rPr>
              <a:t>овсянк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4)Какая птица пользуется «рыболовным сачком»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пелика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)Клюв, какой птицы может заменить набор слесарных инструментов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попугая какад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)Какая птица устраивает в лесу «кузницу»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дяте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)Какая небольшая птица отряда воробьиных называется так же, как и приспособление для истребления мух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мухолов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2" name="Содержимое 3" descr="кто 1.jpg"/>
          <p:cNvPicPr/>
          <p:nvPr/>
        </p:nvPicPr>
        <p:blipFill>
          <a:blip r:embed="rId1"/>
          <a:srcRect l="0" t="0" r="4290" b="0"/>
          <a:stretch/>
        </p:blipFill>
        <p:spPr>
          <a:xfrm>
            <a:off x="2143080" y="1143000"/>
            <a:ext cx="5896080" cy="480060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6643800" y="607212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Гус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142640" y="285480"/>
            <a:ext cx="779148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)Какая птица с короткими ногами, длинными крыльями и густым оперением, живущая по берегам морей, рек, озёр, дала название машине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чай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9)Как называют лесную птицу и заросль крапивы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крапивни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)Какая птица берёт для гнезда всё, что под клюв попадается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81439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ff0000"/>
                </a:solidFill>
                <a:latin typeface="Corbel"/>
              </a:rPr>
              <a:t>МОЛОДЦЫ!</a:t>
            </a:r>
            <a:endParaRPr b="0" lang="en-US" sz="11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кто 3.jpg"/>
          <p:cNvPicPr/>
          <p:nvPr/>
        </p:nvPicPr>
        <p:blipFill>
          <a:blip r:embed="rId1"/>
          <a:srcRect l="0" t="4201" r="0" b="0"/>
          <a:stretch/>
        </p:blipFill>
        <p:spPr>
          <a:xfrm>
            <a:off x="2071800" y="1071720"/>
            <a:ext cx="5949720" cy="51289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6500880" y="61437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Голуб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кто 5.jpg"/>
          <p:cNvPicPr/>
          <p:nvPr/>
        </p:nvPicPr>
        <p:blipFill>
          <a:blip r:embed="rId1"/>
          <a:srcRect l="0" t="0" r="8852" b="0"/>
          <a:stretch/>
        </p:blipFill>
        <p:spPr>
          <a:xfrm>
            <a:off x="1857240" y="1071720"/>
            <a:ext cx="3822840" cy="55004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4"/>
          <p:cNvSpPr/>
          <p:nvPr/>
        </p:nvSpPr>
        <p:spPr>
          <a:xfrm>
            <a:off x="6500880" y="54291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в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кто 7.jpg"/>
          <p:cNvPicPr/>
          <p:nvPr/>
        </p:nvPicPr>
        <p:blipFill>
          <a:blip r:embed="rId1"/>
          <a:srcRect l="7333" t="0" r="11230" b="8923"/>
          <a:stretch/>
        </p:blipFill>
        <p:spPr>
          <a:xfrm>
            <a:off x="1571760" y="1071720"/>
            <a:ext cx="3714480" cy="544824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"/>
          <p:cNvSpPr/>
          <p:nvPr/>
        </p:nvSpPr>
        <p:spPr>
          <a:xfrm>
            <a:off x="6000840" y="471492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кто 2.jpg"/>
          <p:cNvPicPr/>
          <p:nvPr/>
        </p:nvPicPr>
        <p:blipFill>
          <a:blip r:embed="rId1"/>
          <a:srcRect l="0" t="0" r="0" b="2021"/>
          <a:stretch/>
        </p:blipFill>
        <p:spPr>
          <a:xfrm>
            <a:off x="2214720" y="1071720"/>
            <a:ext cx="5940360" cy="50720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6357960" y="6072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Утк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кто 4.jpg"/>
          <p:cNvPicPr/>
          <p:nvPr/>
        </p:nvPicPr>
        <p:blipFill>
          <a:blip r:embed="rId1"/>
          <a:srcRect l="3062" t="0" r="3346" b="2053"/>
          <a:stretch/>
        </p:blipFill>
        <p:spPr>
          <a:xfrm>
            <a:off x="1285920" y="1071720"/>
            <a:ext cx="4000320" cy="5491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6072120" y="46432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Ястреб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3" descr="кто 6.jpg"/>
          <p:cNvPicPr/>
          <p:nvPr/>
        </p:nvPicPr>
        <p:blipFill>
          <a:blip r:embed="rId1"/>
          <a:srcRect l="4895" t="0" r="12525" b="2053"/>
          <a:stretch/>
        </p:blipFill>
        <p:spPr>
          <a:xfrm>
            <a:off x="1571760" y="1071720"/>
            <a:ext cx="3490920" cy="542916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00840" y="50007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Дятел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0000"/>
                </a:solidFill>
                <a:latin typeface="Corbel"/>
              </a:rPr>
              <a:t>«Угадай, кто я?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кто 8.jpg"/>
          <p:cNvPicPr/>
          <p:nvPr/>
        </p:nvPicPr>
        <p:blipFill>
          <a:blip r:embed="rId1"/>
          <a:srcRect l="3697" t="0" r="2040" b="6251"/>
          <a:stretch/>
        </p:blipFill>
        <p:spPr>
          <a:xfrm>
            <a:off x="1428840" y="1071720"/>
            <a:ext cx="3859200" cy="538632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143760" y="53578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Аис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4:36:00Z</dcterms:created>
  <dc:creator>виктория</dc:creator>
  <dc:description/>
  <dc:language>en-US</dc:language>
  <cp:lastModifiedBy>виктория</cp:lastModifiedBy>
  <dcterms:modified xsi:type="dcterms:W3CDTF">2012-03-28T17:08:27Z</dcterms:modified>
  <cp:revision>18</cp:revision>
  <dc:subject/>
  <dc:title>День птиц</dc:title>
</cp:coreProperties>
</file>