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0F3-23BA-45E8-A7C8-02A75843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6C5-917F-4590-AAA5-431E84B7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537-B896-46DC-9781-C8CD4A31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0CC-A0D0-4B9F-913C-F31E54D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E4D-A30A-4E01-8B72-6A7BD19A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FC3-BE95-40D2-9866-20991D9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F12E-60EC-4707-9520-CC52683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8B6F-3F07-44F9-8AEF-60080258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C070-EAC8-403E-B8EB-6DA2F555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719-5DED-4AB4-8008-5AFA29BD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CCD-EFAC-461F-84F1-FBD59BC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122-3A32-4DB9-BDB4-DE9C8EDC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C850-3187-49F6-96D8-01396B79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20A6-103F-4AB8-A11F-03DB89B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A233-79B6-4130-ACE4-F7D36019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5E1D-2B2B-4321-A921-7C7AE33F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81F7-E077-4A19-A3AE-173FF16E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43E-11E3-43B9-9A4D-CB65EA0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2CB-EECB-4D0F-BBA0-30BCDE68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717-9822-4E59-8598-E7DC927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0B3-5471-4642-9501-9D1CC13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ABC-06C6-41B8-BDD7-26F56FAD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66B-CF21-46FB-ACDA-86F023E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C8C-D0BC-4101-A8BC-0F0C6C8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547E-6CFD-4389-A82F-7282506B2D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B60D-A1C6-414C-97CE-A9211DB8E1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996600"/>
                </a:solidFill>
                <a:latin typeface="Times New Roman"/>
              </a:rPr>
              <a:t>Длина ломаной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вать ломаные, предложенные на рисунке, их вершины и звенья. </a:t>
            </a:r>
            <a:r>
              <a:rPr b="0" lang="ru-RU" sz="2800" spc="-1" strike="noStrike">
                <a:solidFill>
                  <a:srgbClr val="006633"/>
                </a:solidFill>
                <a:latin typeface="Times New Roman"/>
              </a:rPr>
              <a:t>Найти длины лома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679320" y="2063880"/>
            <a:ext cx="3392640" cy="2034360"/>
            <a:chOff x="679320" y="2063880"/>
            <a:chExt cx="3392640" cy="2034360"/>
          </a:xfrm>
        </p:grpSpPr>
        <p:sp>
          <p:nvSpPr>
            <p:cNvPr id="89" name="Line 6"/>
            <p:cNvSpPr/>
            <p:nvPr/>
          </p:nvSpPr>
          <p:spPr>
            <a:xfrm flipV="1">
              <a:off x="1020600" y="3213000"/>
              <a:ext cx="590760" cy="6717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1619280" y="3213000"/>
              <a:ext cx="11523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 flipV="1">
              <a:off x="2771640" y="2356920"/>
              <a:ext cx="301680" cy="8557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679320" y="36385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1428840" y="27748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1"/>
            <p:cNvSpPr/>
            <p:nvPr/>
          </p:nvSpPr>
          <p:spPr>
            <a:xfrm>
              <a:off x="2577960" y="3149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2711520" y="206388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1333440" y="331488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2916360" y="256536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1892160" y="276876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7"/>
          <p:cNvGrpSpPr/>
          <p:nvPr/>
        </p:nvGrpSpPr>
        <p:grpSpPr>
          <a:xfrm>
            <a:off x="2558880" y="2889360"/>
            <a:ext cx="3278520" cy="2732760"/>
            <a:chOff x="2558880" y="2889360"/>
            <a:chExt cx="3278520" cy="2732760"/>
          </a:xfrm>
        </p:grpSpPr>
        <p:sp>
          <p:nvSpPr>
            <p:cNvPr id="100" name="Line 17"/>
            <p:cNvSpPr/>
            <p:nvPr/>
          </p:nvSpPr>
          <p:spPr>
            <a:xfrm flipV="1">
              <a:off x="2843280" y="3352320"/>
              <a:ext cx="1966680" cy="187668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8"/>
            <p:cNvSpPr/>
            <p:nvPr/>
          </p:nvSpPr>
          <p:spPr>
            <a:xfrm flipH="1">
              <a:off x="4632120" y="3363840"/>
              <a:ext cx="168120" cy="13478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9"/>
            <p:cNvSpPr/>
            <p:nvPr/>
          </p:nvSpPr>
          <p:spPr>
            <a:xfrm flipH="1" flipV="1">
              <a:off x="3657600" y="3629160"/>
              <a:ext cx="985680" cy="10951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3564000" y="4437000"/>
              <a:ext cx="115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4681440" y="378936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>
              <a:off x="3780000" y="3573360"/>
              <a:ext cx="115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3"/>
            <p:cNvSpPr/>
            <p:nvPr/>
          </p:nvSpPr>
          <p:spPr>
            <a:xfrm>
              <a:off x="2558880" y="516240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99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4"/>
            <p:cNvSpPr/>
            <p:nvPr/>
          </p:nvSpPr>
          <p:spPr>
            <a:xfrm>
              <a:off x="4451400" y="474984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4667400" y="2889360"/>
              <a:ext cx="42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3492360" y="3181320"/>
              <a:ext cx="42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73"/>
          <p:cNvGrpSpPr/>
          <p:nvPr/>
        </p:nvGrpSpPr>
        <p:grpSpPr>
          <a:xfrm>
            <a:off x="6012000" y="2133720"/>
            <a:ext cx="3132000" cy="2618640"/>
            <a:chOff x="6012000" y="2133720"/>
            <a:chExt cx="3132000" cy="2618640"/>
          </a:xfrm>
        </p:grpSpPr>
        <p:sp>
          <p:nvSpPr>
            <p:cNvPr id="111" name="Text Box 65"/>
            <p:cNvSpPr/>
            <p:nvPr/>
          </p:nvSpPr>
          <p:spPr>
            <a:xfrm>
              <a:off x="8280360" y="26370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с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72"/>
            <p:cNvGrpSpPr/>
            <p:nvPr/>
          </p:nvGrpSpPr>
          <p:grpSpPr>
            <a:xfrm>
              <a:off x="6012000" y="2133720"/>
              <a:ext cx="2805120" cy="2618640"/>
              <a:chOff x="6012000" y="2133720"/>
              <a:chExt cx="2805120" cy="2618640"/>
            </a:xfrm>
          </p:grpSpPr>
          <p:sp>
            <p:nvSpPr>
              <p:cNvPr id="113" name="Line 28"/>
              <p:cNvSpPr/>
              <p:nvPr/>
            </p:nvSpPr>
            <p:spPr>
              <a:xfrm flipV="1">
                <a:off x="6443640" y="2610000"/>
                <a:ext cx="338040" cy="16826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29"/>
              <p:cNvSpPr/>
              <p:nvPr/>
            </p:nvSpPr>
            <p:spPr>
              <a:xfrm>
                <a:off x="6781680" y="2600280"/>
                <a:ext cx="276480" cy="173376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0"/>
              <p:cNvSpPr/>
              <p:nvPr/>
            </p:nvSpPr>
            <p:spPr>
              <a:xfrm flipV="1">
                <a:off x="7051680" y="2663640"/>
                <a:ext cx="342720" cy="16570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"/>
              <p:cNvSpPr/>
              <p:nvPr/>
            </p:nvSpPr>
            <p:spPr>
              <a:xfrm>
                <a:off x="7397640" y="2660760"/>
                <a:ext cx="190440" cy="167616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32"/>
              <p:cNvSpPr/>
              <p:nvPr/>
            </p:nvSpPr>
            <p:spPr>
              <a:xfrm flipV="1">
                <a:off x="7588080" y="2609640"/>
                <a:ext cx="514440" cy="17269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33"/>
              <p:cNvSpPr/>
              <p:nvPr/>
            </p:nvSpPr>
            <p:spPr>
              <a:xfrm>
                <a:off x="8094600" y="2611440"/>
                <a:ext cx="416160" cy="7207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34"/>
              <p:cNvSpPr/>
              <p:nvPr/>
            </p:nvSpPr>
            <p:spPr>
              <a:xfrm>
                <a:off x="6084720" y="42926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35"/>
              <p:cNvSpPr/>
              <p:nvPr/>
            </p:nvSpPr>
            <p:spPr>
              <a:xfrm>
                <a:off x="6516720" y="2133720"/>
                <a:ext cx="4287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36"/>
              <p:cNvSpPr/>
              <p:nvPr/>
            </p:nvSpPr>
            <p:spPr>
              <a:xfrm>
                <a:off x="6854760" y="42530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37"/>
              <p:cNvSpPr/>
              <p:nvPr/>
            </p:nvSpPr>
            <p:spPr>
              <a:xfrm>
                <a:off x="7269120" y="219564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38"/>
              <p:cNvSpPr/>
              <p:nvPr/>
            </p:nvSpPr>
            <p:spPr>
              <a:xfrm>
                <a:off x="7596360" y="422100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39"/>
              <p:cNvSpPr/>
              <p:nvPr/>
            </p:nvSpPr>
            <p:spPr>
              <a:xfrm>
                <a:off x="7956720" y="2205000"/>
                <a:ext cx="42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40"/>
              <p:cNvSpPr/>
              <p:nvPr/>
            </p:nvSpPr>
            <p:spPr>
              <a:xfrm>
                <a:off x="8388360" y="3213000"/>
                <a:ext cx="42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3"/>
              <p:cNvSpPr/>
              <p:nvPr/>
            </p:nvSpPr>
            <p:spPr>
              <a:xfrm>
                <a:off x="6012000" y="299736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64"/>
              <p:cNvSpPr/>
              <p:nvPr/>
            </p:nvSpPr>
            <p:spPr>
              <a:xfrm>
                <a:off x="6443640" y="3860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67"/>
              <p:cNvSpPr/>
              <p:nvPr/>
            </p:nvSpPr>
            <p:spPr>
              <a:xfrm>
                <a:off x="7812000" y="335772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70"/>
              <p:cNvSpPr/>
              <p:nvPr/>
            </p:nvSpPr>
            <p:spPr>
              <a:xfrm>
                <a:off x="7404120" y="285264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71"/>
              <p:cNvSpPr/>
              <p:nvPr/>
            </p:nvSpPr>
            <p:spPr>
              <a:xfrm>
                <a:off x="7140600" y="3357720"/>
                <a:ext cx="86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98892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№ </a:t>
            </a:r>
            <a:r>
              <a:rPr b="1" lang="ru-RU" sz="3000" spc="-1" strike="noStrike">
                <a:solidFill>
                  <a:srgbClr val="cc0000"/>
                </a:solidFill>
                <a:latin typeface="Times New Roman"/>
              </a:rPr>
              <a:t>10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 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2 ра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6 с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B + BC + CD = x + 2x + (x –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Times New Roman"/>
              </a:rPr>
              <a:t>Работа с учебнико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3851280" y="1800360"/>
            <a:ext cx="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3203280" y="1800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00720" y="1800360"/>
            <a:ext cx="0" cy="107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4067280" y="180036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292720" y="2001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289480" y="2556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ин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№ 1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№ 1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№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109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а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K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3 раз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L = ?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12 с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N + NK + KL = a + 3a + (a + 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б)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8"/>
          <p:cNvGrpSpPr/>
          <p:nvPr/>
        </p:nvGrpSpPr>
        <p:grpSpPr>
          <a:xfrm>
            <a:off x="3276720" y="1196640"/>
            <a:ext cx="790560" cy="576360"/>
            <a:chOff x="3276720" y="1196640"/>
            <a:chExt cx="790560" cy="576360"/>
          </a:xfrm>
        </p:grpSpPr>
        <p:sp>
          <p:nvSpPr>
            <p:cNvPr id="144" name="Line 4"/>
            <p:cNvSpPr/>
            <p:nvPr/>
          </p:nvSpPr>
          <p:spPr>
            <a:xfrm flipV="1">
              <a:off x="4067280" y="119664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H="1">
              <a:off x="3276720" y="1197000"/>
              <a:ext cx="7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9"/>
          <p:cNvGrpSpPr/>
          <p:nvPr/>
        </p:nvGrpSpPr>
        <p:grpSpPr>
          <a:xfrm>
            <a:off x="4284720" y="1197000"/>
            <a:ext cx="287280" cy="1008000"/>
            <a:chOff x="4284720" y="1197000"/>
            <a:chExt cx="287280" cy="1008000"/>
          </a:xfrm>
        </p:grpSpPr>
        <p:sp>
          <p:nvSpPr>
            <p:cNvPr id="147" name="Line 6"/>
            <p:cNvSpPr/>
            <p:nvPr/>
          </p:nvSpPr>
          <p:spPr>
            <a:xfrm flipV="1">
              <a:off x="4572000" y="119700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 flipH="1">
              <a:off x="4284720" y="1197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0"/>
          <p:cNvSpPr/>
          <p:nvPr/>
        </p:nvSpPr>
        <p:spPr>
          <a:xfrm>
            <a:off x="5008680" y="13892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5018040" y="18874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+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2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507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РТ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тр. 25 - № 6.1, № 6.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. 26 - № 6.3, № 6.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2:24:12Z</dcterms:created>
  <dc:creator>Школа №3</dc:creator>
  <dc:description/>
  <dc:language>en-US</dc:language>
  <cp:lastModifiedBy>ludi</cp:lastModifiedBy>
  <dcterms:modified xsi:type="dcterms:W3CDTF">2012-06-05T11:51:56Z</dcterms:modified>
  <cp:revision>21</cp:revision>
  <dc:subject/>
  <dc:title>Слайд 1</dc:title>
</cp:coreProperties>
</file>