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5F92-EDF5-4771-AF27-F8777CF3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440B-3421-417B-B3F5-BC18AE3C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7E8-13E3-4A88-8874-E7858437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56D-BB98-40BB-A1BC-D5C438A3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5832-8E1D-46FF-8F65-0E61E63B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D53F-0743-48E8-8105-C03C5AEF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6545-87B7-476C-A14C-E5AA5E51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B61C-52F9-449A-82C8-E1064BD2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60BC-D617-4913-AE36-A60C0483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A174-02CA-4B7C-A08B-6098BE31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25D2-8765-4AF4-AF59-A6B6FF86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C8D8-5324-4D12-BD97-7C548C45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C16C-F1AA-4FB3-AC04-D9BAD394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6FE6-F513-494C-84D2-1225CB3D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1B0D-5FB9-47DB-B6A8-CAB0F1C3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4962-E1E1-4893-8F74-1972B62A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853C-4493-4E5C-807D-05BC7CD6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B5B-6CF9-45BD-87FF-523066B4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455-BEF9-4E89-B02A-48C0A268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F92-503D-4FE2-A85C-3AFE70AD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E912-3CC0-4158-B9A7-A0E82D9D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C4F-8CD0-42E6-AE5D-ED348055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797-68F5-4A21-9017-EA9017F7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4554-1AE5-498C-8C66-69641CC5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68F4-34E8-4444-B848-6AA75DD174A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0BD5-2EC7-4DA9-8766-DA2DEF497C2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996600"/>
                </a:solidFill>
                <a:latin typeface="Times New Roman"/>
              </a:rPr>
              <a:t>Длина ломаной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43588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вать ломаные, предложенные на рисунке, их вершины и звенья. </a:t>
            </a:r>
            <a:r>
              <a:rPr b="0" lang="ru-RU" sz="2800" spc="-1" strike="noStrike">
                <a:solidFill>
                  <a:srgbClr val="006633"/>
                </a:solidFill>
                <a:latin typeface="Times New Roman"/>
              </a:rPr>
              <a:t>Найти длины лома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6"/>
          <p:cNvGrpSpPr/>
          <p:nvPr/>
        </p:nvGrpSpPr>
        <p:grpSpPr>
          <a:xfrm>
            <a:off x="679320" y="2063880"/>
            <a:ext cx="3392640" cy="2034360"/>
            <a:chOff x="679320" y="2063880"/>
            <a:chExt cx="3392640" cy="2034360"/>
          </a:xfrm>
        </p:grpSpPr>
        <p:sp>
          <p:nvSpPr>
            <p:cNvPr id="89" name="Line 6"/>
            <p:cNvSpPr/>
            <p:nvPr/>
          </p:nvSpPr>
          <p:spPr>
            <a:xfrm flipV="1">
              <a:off x="1020600" y="3213000"/>
              <a:ext cx="590760" cy="6717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>
              <a:off x="1619280" y="3213000"/>
              <a:ext cx="11523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"/>
            <p:cNvSpPr/>
            <p:nvPr/>
          </p:nvSpPr>
          <p:spPr>
            <a:xfrm flipV="1">
              <a:off x="2771640" y="2356920"/>
              <a:ext cx="301680" cy="8557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679320" y="36385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1428840" y="27748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1"/>
            <p:cNvSpPr/>
            <p:nvPr/>
          </p:nvSpPr>
          <p:spPr>
            <a:xfrm>
              <a:off x="2577960" y="31496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2"/>
            <p:cNvSpPr/>
            <p:nvPr/>
          </p:nvSpPr>
          <p:spPr>
            <a:xfrm>
              <a:off x="2711520" y="20638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1333440" y="3314880"/>
              <a:ext cx="115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2916360" y="2565360"/>
              <a:ext cx="115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5"/>
            <p:cNvSpPr/>
            <p:nvPr/>
          </p:nvSpPr>
          <p:spPr>
            <a:xfrm>
              <a:off x="1892160" y="2768760"/>
              <a:ext cx="115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7"/>
          <p:cNvGrpSpPr/>
          <p:nvPr/>
        </p:nvGrpSpPr>
        <p:grpSpPr>
          <a:xfrm>
            <a:off x="2558880" y="2889360"/>
            <a:ext cx="3278520" cy="2732760"/>
            <a:chOff x="2558880" y="2889360"/>
            <a:chExt cx="3278520" cy="2732760"/>
          </a:xfrm>
        </p:grpSpPr>
        <p:sp>
          <p:nvSpPr>
            <p:cNvPr id="100" name="Line 17"/>
            <p:cNvSpPr/>
            <p:nvPr/>
          </p:nvSpPr>
          <p:spPr>
            <a:xfrm flipV="1">
              <a:off x="2843280" y="3352320"/>
              <a:ext cx="1966680" cy="18766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8"/>
            <p:cNvSpPr/>
            <p:nvPr/>
          </p:nvSpPr>
          <p:spPr>
            <a:xfrm flipH="1">
              <a:off x="4632120" y="3363840"/>
              <a:ext cx="168120" cy="134784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9"/>
            <p:cNvSpPr/>
            <p:nvPr/>
          </p:nvSpPr>
          <p:spPr>
            <a:xfrm flipH="1" flipV="1">
              <a:off x="3657600" y="3629160"/>
              <a:ext cx="985680" cy="10951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0"/>
            <p:cNvSpPr/>
            <p:nvPr/>
          </p:nvSpPr>
          <p:spPr>
            <a:xfrm>
              <a:off x="3564000" y="4437000"/>
              <a:ext cx="115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1"/>
            <p:cNvSpPr/>
            <p:nvPr/>
          </p:nvSpPr>
          <p:spPr>
            <a:xfrm>
              <a:off x="4681440" y="3789360"/>
              <a:ext cx="115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22"/>
            <p:cNvSpPr/>
            <p:nvPr/>
          </p:nvSpPr>
          <p:spPr>
            <a:xfrm>
              <a:off x="3780000" y="3573360"/>
              <a:ext cx="115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3"/>
            <p:cNvSpPr/>
            <p:nvPr/>
          </p:nvSpPr>
          <p:spPr>
            <a:xfrm>
              <a:off x="2558880" y="5162400"/>
              <a:ext cx="42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99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4"/>
            <p:cNvSpPr/>
            <p:nvPr/>
          </p:nvSpPr>
          <p:spPr>
            <a:xfrm>
              <a:off x="4451400" y="474984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5"/>
            <p:cNvSpPr/>
            <p:nvPr/>
          </p:nvSpPr>
          <p:spPr>
            <a:xfrm>
              <a:off x="4667400" y="288936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6"/>
            <p:cNvSpPr/>
            <p:nvPr/>
          </p:nvSpPr>
          <p:spPr>
            <a:xfrm>
              <a:off x="3492360" y="3181320"/>
              <a:ext cx="42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73"/>
          <p:cNvGrpSpPr/>
          <p:nvPr/>
        </p:nvGrpSpPr>
        <p:grpSpPr>
          <a:xfrm>
            <a:off x="6012000" y="2133720"/>
            <a:ext cx="3132000" cy="2618640"/>
            <a:chOff x="6012000" y="2133720"/>
            <a:chExt cx="3132000" cy="2618640"/>
          </a:xfrm>
        </p:grpSpPr>
        <p:sp>
          <p:nvSpPr>
            <p:cNvPr id="111" name="Text Box 65"/>
            <p:cNvSpPr/>
            <p:nvPr/>
          </p:nvSpPr>
          <p:spPr>
            <a:xfrm>
              <a:off x="8280360" y="263700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72"/>
            <p:cNvGrpSpPr/>
            <p:nvPr/>
          </p:nvGrpSpPr>
          <p:grpSpPr>
            <a:xfrm>
              <a:off x="6012000" y="2133720"/>
              <a:ext cx="2805120" cy="2618640"/>
              <a:chOff x="6012000" y="2133720"/>
              <a:chExt cx="2805120" cy="2618640"/>
            </a:xfrm>
          </p:grpSpPr>
          <p:sp>
            <p:nvSpPr>
              <p:cNvPr id="113" name="Line 28"/>
              <p:cNvSpPr/>
              <p:nvPr/>
            </p:nvSpPr>
            <p:spPr>
              <a:xfrm flipV="1">
                <a:off x="6443640" y="2610000"/>
                <a:ext cx="338040" cy="168264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29"/>
              <p:cNvSpPr/>
              <p:nvPr/>
            </p:nvSpPr>
            <p:spPr>
              <a:xfrm>
                <a:off x="6781680" y="2600280"/>
                <a:ext cx="276480" cy="173376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0"/>
              <p:cNvSpPr/>
              <p:nvPr/>
            </p:nvSpPr>
            <p:spPr>
              <a:xfrm flipV="1">
                <a:off x="7051680" y="2663640"/>
                <a:ext cx="342720" cy="165708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1"/>
              <p:cNvSpPr/>
              <p:nvPr/>
            </p:nvSpPr>
            <p:spPr>
              <a:xfrm>
                <a:off x="7397640" y="2660760"/>
                <a:ext cx="190440" cy="167616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32"/>
              <p:cNvSpPr/>
              <p:nvPr/>
            </p:nvSpPr>
            <p:spPr>
              <a:xfrm flipV="1">
                <a:off x="7588080" y="2609640"/>
                <a:ext cx="514440" cy="172692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33"/>
              <p:cNvSpPr/>
              <p:nvPr/>
            </p:nvSpPr>
            <p:spPr>
              <a:xfrm>
                <a:off x="8094600" y="2611440"/>
                <a:ext cx="416160" cy="72072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34"/>
              <p:cNvSpPr/>
              <p:nvPr/>
            </p:nvSpPr>
            <p:spPr>
              <a:xfrm>
                <a:off x="6084720" y="4292640"/>
                <a:ext cx="42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35"/>
              <p:cNvSpPr/>
              <p:nvPr/>
            </p:nvSpPr>
            <p:spPr>
              <a:xfrm>
                <a:off x="6516720" y="2133720"/>
                <a:ext cx="42876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   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36"/>
              <p:cNvSpPr/>
              <p:nvPr/>
            </p:nvSpPr>
            <p:spPr>
              <a:xfrm>
                <a:off x="6854760" y="4253040"/>
                <a:ext cx="42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37"/>
              <p:cNvSpPr/>
              <p:nvPr/>
            </p:nvSpPr>
            <p:spPr>
              <a:xfrm>
                <a:off x="7269120" y="2195640"/>
                <a:ext cx="42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38"/>
              <p:cNvSpPr/>
              <p:nvPr/>
            </p:nvSpPr>
            <p:spPr>
              <a:xfrm>
                <a:off x="7596360" y="4221000"/>
                <a:ext cx="42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39"/>
              <p:cNvSpPr/>
              <p:nvPr/>
            </p:nvSpPr>
            <p:spPr>
              <a:xfrm>
                <a:off x="7956720" y="2205000"/>
                <a:ext cx="42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40"/>
              <p:cNvSpPr/>
              <p:nvPr/>
            </p:nvSpPr>
            <p:spPr>
              <a:xfrm>
                <a:off x="8388360" y="3213000"/>
                <a:ext cx="42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63"/>
              <p:cNvSpPr/>
              <p:nvPr/>
            </p:nvSpPr>
            <p:spPr>
              <a:xfrm>
                <a:off x="6012000" y="2997360"/>
                <a:ext cx="86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64"/>
              <p:cNvSpPr/>
              <p:nvPr/>
            </p:nvSpPr>
            <p:spPr>
              <a:xfrm>
                <a:off x="6443640" y="3860640"/>
                <a:ext cx="86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67"/>
              <p:cNvSpPr/>
              <p:nvPr/>
            </p:nvSpPr>
            <p:spPr>
              <a:xfrm>
                <a:off x="7812000" y="3357720"/>
                <a:ext cx="86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70"/>
              <p:cNvSpPr/>
              <p:nvPr/>
            </p:nvSpPr>
            <p:spPr>
              <a:xfrm>
                <a:off x="7404120" y="2852640"/>
                <a:ext cx="86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71"/>
              <p:cNvSpPr/>
              <p:nvPr/>
            </p:nvSpPr>
            <p:spPr>
              <a:xfrm>
                <a:off x="7140600" y="3357720"/>
                <a:ext cx="86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880" y="988920"/>
            <a:ext cx="8229600" cy="510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№ </a:t>
            </a: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10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а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 = ?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2 раз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 = ?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6 с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B + BC + CD = x + 2x + (x –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Times New Roman"/>
              </a:rPr>
              <a:t>Работа с учебнико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Line 5"/>
          <p:cNvSpPr/>
          <p:nvPr/>
        </p:nvSpPr>
        <p:spPr>
          <a:xfrm flipV="1">
            <a:off x="3851280" y="180036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"/>
          <p:cNvSpPr/>
          <p:nvPr/>
        </p:nvSpPr>
        <p:spPr>
          <a:xfrm flipH="1">
            <a:off x="3203280" y="1800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 flipV="1">
            <a:off x="4500720" y="1800360"/>
            <a:ext cx="0" cy="10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 flipH="1">
            <a:off x="4067280" y="180036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292720" y="2001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289480" y="2556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змин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№ 1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№ 1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№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109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а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K = ?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3 раз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L = ?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12 с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N + NK + KL = a + 3a + (a +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б)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8"/>
          <p:cNvGrpSpPr/>
          <p:nvPr/>
        </p:nvGrpSpPr>
        <p:grpSpPr>
          <a:xfrm>
            <a:off x="3276720" y="1196640"/>
            <a:ext cx="790560" cy="576360"/>
            <a:chOff x="3276720" y="1196640"/>
            <a:chExt cx="790560" cy="576360"/>
          </a:xfrm>
        </p:grpSpPr>
        <p:sp>
          <p:nvSpPr>
            <p:cNvPr id="144" name="Line 4"/>
            <p:cNvSpPr/>
            <p:nvPr/>
          </p:nvSpPr>
          <p:spPr>
            <a:xfrm flipV="1">
              <a:off x="4067280" y="1196640"/>
              <a:ext cx="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5"/>
            <p:cNvSpPr/>
            <p:nvPr/>
          </p:nvSpPr>
          <p:spPr>
            <a:xfrm flipH="1">
              <a:off x="3276720" y="1197000"/>
              <a:ext cx="79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9"/>
          <p:cNvGrpSpPr/>
          <p:nvPr/>
        </p:nvGrpSpPr>
        <p:grpSpPr>
          <a:xfrm>
            <a:off x="4284720" y="1197000"/>
            <a:ext cx="287280" cy="1008000"/>
            <a:chOff x="4284720" y="1197000"/>
            <a:chExt cx="287280" cy="1008000"/>
          </a:xfrm>
        </p:grpSpPr>
        <p:sp>
          <p:nvSpPr>
            <p:cNvPr id="147" name="Line 6"/>
            <p:cNvSpPr/>
            <p:nvPr/>
          </p:nvSpPr>
          <p:spPr>
            <a:xfrm flipV="1">
              <a:off x="4572000" y="1197000"/>
              <a:ext cx="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 flipH="1">
              <a:off x="4284720" y="1197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0"/>
          <p:cNvSpPr/>
          <p:nvPr/>
        </p:nvSpPr>
        <p:spPr>
          <a:xfrm>
            <a:off x="5008680" y="13892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5018040" y="18874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+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2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Т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стр. 25 - № 6.1, № 6.2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. 26 - № 6.3, № 6.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2:24:12Z</dcterms:created>
  <dc:creator>Школа №3</dc:creator>
  <dc:description/>
  <dc:language>en-US</dc:language>
  <cp:lastModifiedBy>ludi</cp:lastModifiedBy>
  <dcterms:modified xsi:type="dcterms:W3CDTF">2012-06-05T11:51:56Z</dcterms:modified>
  <cp:revision>21</cp:revision>
  <dc:subject/>
  <dc:title>Слайд 1</dc:title>
</cp:coreProperties>
</file>