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6.jpeg" ContentType="image/jpeg"/>
  <Override PartName="/ppt/media/image22.png" ContentType="image/png"/>
  <Override PartName="/ppt/media/image21.jpeg" ContentType="image/jpeg"/>
  <Override PartName="/ppt/media/image17.gif" ContentType="image/gif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9280" y="426564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426564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1440" y="426564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49640" y="155736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20000" y="155736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9280" y="426564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49640" y="426564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20000" y="426564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58B-B6DD-4577-848D-3BEFA583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009-54DB-4DAF-8452-3A74AACE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272-0590-45B7-85C6-134DDA03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426-5EC2-4926-A8ED-85AED761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4FB-22C4-4465-B9AC-61DB9719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7C6-C2E7-4AF4-8AF4-E1063506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79280" y="426564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040F-9148-4578-A900-A9CF004E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1440" y="426564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DE5-86E7-4E9D-A40D-62DB7973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79280" y="426564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667-FC4D-4716-85D6-D1C75847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79280" y="426564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82E3-B9FE-4C6E-B430-D065F83B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79280" y="426564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81440" y="426564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9D78-615E-488C-905C-FF16DE9A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149640" y="155736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20000" y="155736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79280" y="426564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149640" y="426564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20000" y="426564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EE4-0E0C-46ED-8991-23E28B9B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426564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1440" y="426564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426564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16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17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18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19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20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21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22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35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36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37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38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39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40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41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42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43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44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45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46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47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48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49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50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54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55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56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57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58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59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60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61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62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63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64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65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66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67"/>
          <p:cNvSpPr/>
          <p:nvPr/>
        </p:nvSpPr>
        <p:spPr>
          <a:xfrm>
            <a:off x="-12600" y="0"/>
            <a:ext cx="9156600" cy="1600200"/>
          </a:xfrm>
          <a:custGeom>
            <a:avLst/>
            <a:gdLst>
              <a:gd name="textAreaLeft" fmla="*/ 0 w 9156600"/>
              <a:gd name="textAreaRight" fmla="*/ 9156600 w 91566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68"/>
          <p:cNvSpPr/>
          <p:nvPr/>
        </p:nvSpPr>
        <p:spPr>
          <a:xfrm>
            <a:off x="-12600" y="-12600"/>
            <a:ext cx="9156600" cy="135396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" name="Picture 76" descr="074"/>
          <p:cNvPicPr/>
          <p:nvPr/>
        </p:nvPicPr>
        <p:blipFill>
          <a:blip r:embed="rId2"/>
          <a:stretch/>
        </p:blipFill>
        <p:spPr>
          <a:xfrm>
            <a:off x="108000" y="0"/>
            <a:ext cx="1523880" cy="13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31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94" name="Line 132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5" name="Line 133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6" name="Line 134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7" name="Line 135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8" name="Line 136"/>
            <p:cNvSpPr/>
            <p:nvPr/>
          </p:nvSpPr>
          <p:spPr>
            <a:xfrm flipH="1">
              <a:off x="2385720" y="711360"/>
              <a:ext cx="43963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9" name="Line 137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138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139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140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141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142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143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44"/>
            <p:cNvSpPr/>
            <p:nvPr/>
          </p:nvSpPr>
          <p:spPr>
            <a:xfrm flipH="1">
              <a:off x="12600" y="711360"/>
              <a:ext cx="67694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45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46"/>
            <p:cNvSpPr/>
            <p:nvPr/>
          </p:nvSpPr>
          <p:spPr>
            <a:xfrm flipH="1">
              <a:off x="12600" y="733320"/>
              <a:ext cx="670140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47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8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49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50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51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52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53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154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155"/>
            <p:cNvSpPr/>
            <p:nvPr/>
          </p:nvSpPr>
          <p:spPr>
            <a:xfrm>
              <a:off x="6799320" y="73332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156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157"/>
            <p:cNvSpPr/>
            <p:nvPr/>
          </p:nvSpPr>
          <p:spPr>
            <a:xfrm>
              <a:off x="6793560" y="749160"/>
              <a:ext cx="12754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158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159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160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161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162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163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164"/>
            <p:cNvSpPr/>
            <p:nvPr/>
          </p:nvSpPr>
          <p:spPr>
            <a:xfrm>
              <a:off x="6779160" y="692280"/>
              <a:ext cx="232668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27" name="Group 165"/>
            <p:cNvGrpSpPr/>
            <p:nvPr/>
          </p:nvGrpSpPr>
          <p:grpSpPr>
            <a:xfrm>
              <a:off x="12600" y="3274920"/>
              <a:ext cx="9092880" cy="1936440"/>
              <a:chOff x="12600" y="3274920"/>
              <a:chExt cx="9092880" cy="1936440"/>
            </a:xfrm>
          </p:grpSpPr>
          <p:sp>
            <p:nvSpPr>
              <p:cNvPr id="128" name="Line 166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29" name="Line 167"/>
              <p:cNvSpPr/>
              <p:nvPr/>
            </p:nvSpPr>
            <p:spPr>
              <a:xfrm flipH="1">
                <a:off x="12600" y="449640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0" name="Line 168"/>
              <p:cNvSpPr/>
              <p:nvPr/>
            </p:nvSpPr>
            <p:spPr>
              <a:xfrm flipH="1">
                <a:off x="15840" y="3850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1" name="Line 169"/>
              <p:cNvSpPr/>
              <p:nvPr/>
            </p:nvSpPr>
            <p:spPr>
              <a:xfrm flipH="1">
                <a:off x="15840" y="3274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2" name="Line 170"/>
            <p:cNvSpPr/>
            <p:nvPr/>
          </p:nvSpPr>
          <p:spPr>
            <a:xfrm flipH="1">
              <a:off x="12240" y="27828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3" name="Line 171"/>
            <p:cNvSpPr/>
            <p:nvPr/>
          </p:nvSpPr>
          <p:spPr>
            <a:xfrm flipH="1" flipV="1">
              <a:off x="12240" y="2309400"/>
              <a:ext cx="9093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4" name="Line 172"/>
            <p:cNvSpPr/>
            <p:nvPr/>
          </p:nvSpPr>
          <p:spPr>
            <a:xfrm flipH="1">
              <a:off x="12240" y="1876320"/>
              <a:ext cx="909324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5" name="Line 173"/>
            <p:cNvSpPr/>
            <p:nvPr/>
          </p:nvSpPr>
          <p:spPr>
            <a:xfrm flipH="1">
              <a:off x="53640" y="153180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6" name="Line 174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7" name="Line 175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176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177"/>
            <p:cNvSpPr/>
            <p:nvPr/>
          </p:nvSpPr>
          <p:spPr>
            <a:xfrm flipH="1">
              <a:off x="12600" y="8269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178"/>
            <p:cNvSpPr/>
            <p:nvPr/>
          </p:nvSpPr>
          <p:spPr>
            <a:xfrm flipH="1">
              <a:off x="12240" y="7650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1" name="Group 179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2" name="Freeform 180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>
                <a:gd name="textAreaLeft" fmla="*/ 360 w 9142560"/>
                <a:gd name="textAreaRight" fmla="*/ 9143280 w 9142560"/>
                <a:gd name="textAreaTop" fmla="*/ 0 h 2158920"/>
                <a:gd name="textAreaBottom" fmla="*/ 2159280 h 2158920"/>
              </a:gdLst>
              <a:ahLst/>
              <a:rect l="textAreaLeft" t="textAreaTop" r="textAreaRight" b="textAreaBottom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Freeform 181"/>
            <p:cNvSpPr/>
            <p:nvPr/>
          </p:nvSpPr>
          <p:spPr>
            <a:xfrm flipH="1">
              <a:off x="12240" y="0"/>
              <a:ext cx="9131400" cy="1752480"/>
            </a:xfrm>
            <a:custGeom>
              <a:avLst/>
              <a:gdLst>
                <a:gd name="textAreaLeft" fmla="*/ 0 w 9131400"/>
                <a:gd name="textAreaRight" fmla="*/ 9131400 w 913140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4" name="Picture 193" descr="074"/>
          <p:cNvPicPr/>
          <p:nvPr/>
        </p:nvPicPr>
        <p:blipFill>
          <a:blip r:embed="rId2"/>
          <a:stretch/>
        </p:blipFill>
        <p:spPr>
          <a:xfrm>
            <a:off x="6156360" y="4005360"/>
            <a:ext cx="2843280" cy="2500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840F-AE59-4189-9DB3-7B0D61F0D4BF}" type="slidenum">
              <a:rPr b="0" lang="en-US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2090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Эффективность применения компьютерных технологий в специальном образовании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 rot="5400000">
            <a:off x="-2377080" y="1691280"/>
            <a:ext cx="5149800" cy="4662720"/>
          </a:xfrm>
          <a:custGeom>
            <a:avLst/>
            <a:gdLst>
              <a:gd name="textAreaLeft" fmla="*/ 95400 w 5149800"/>
              <a:gd name="textAreaRight" fmla="*/ 5054400 w 5149800"/>
              <a:gd name="textAreaTop" fmla="*/ 0 h 4662720"/>
              <a:gd name="textAreaBottom" fmla="*/ 2941920 h 466272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 rot="5400000">
            <a:off x="-2076480" y="2035080"/>
            <a:ext cx="4381200" cy="3965400"/>
          </a:xfrm>
          <a:custGeom>
            <a:avLst/>
            <a:gdLst>
              <a:gd name="textAreaLeft" fmla="*/ 0 w 4381200"/>
              <a:gd name="textAreaRight" fmla="*/ 4381560 w 4381200"/>
              <a:gd name="textAreaTop" fmla="*/ 0 h 3965400"/>
              <a:gd name="textAreaBottom" fmla="*/ 1438200 h 3965400"/>
            </a:gdLst>
            <a:ahLst/>
            <a:rect l="textAreaLeft" t="textAreaTop" r="textAreaRight" b="textAreaBottom"/>
            <a:pathLst>
              <a:path w="21600" h="21600">
                <a:moveTo>
                  <a:pt x="10056" y="10807"/>
                </a:moveTo>
                <a:cubicBezTo>
                  <a:pt x="10056" y="10805"/>
                  <a:pt x="10056" y="10802"/>
                  <a:pt x="10056" y="10800"/>
                </a:cubicBezTo>
                <a:cubicBezTo>
                  <a:pt x="10056" y="10389"/>
                  <a:pt x="10389" y="10056"/>
                  <a:pt x="10800" y="10056"/>
                </a:cubicBezTo>
                <a:cubicBezTo>
                  <a:pt x="11210" y="10056"/>
                  <a:pt x="11544" y="10389"/>
                  <a:pt x="11544" y="10800"/>
                </a:cubicBezTo>
                <a:cubicBezTo>
                  <a:pt x="11544" y="10802"/>
                  <a:pt x="11543" y="10805"/>
                  <a:pt x="11543" y="10807"/>
                </a:cubicBezTo>
                <a:lnTo>
                  <a:pt x="21599" y="10916"/>
                </a:lnTo>
                <a:cubicBezTo>
                  <a:pt x="21599" y="10877"/>
                  <a:pt x="21600" y="1083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38"/>
                  <a:pt x="0" y="10877"/>
                  <a:pt x="0" y="10916"/>
                </a:cubicBez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 rot="16200000">
            <a:off x="-708480" y="3453480"/>
            <a:ext cx="301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пьютерные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хнологии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1619280" y="1989000"/>
            <a:ext cx="6144840" cy="624960"/>
            <a:chOff x="1619280" y="1989000"/>
            <a:chExt cx="6144840" cy="624960"/>
          </a:xfrm>
        </p:grpSpPr>
        <p:sp>
          <p:nvSpPr>
            <p:cNvPr id="191" name="AutoShape 8"/>
            <p:cNvSpPr/>
            <p:nvPr/>
          </p:nvSpPr>
          <p:spPr>
            <a:xfrm>
              <a:off x="1924920" y="1989000"/>
              <a:ext cx="5839200" cy="61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cc33"/>
                </a:gs>
                <a:gs pos="100000">
                  <a:srgbClr val="335338">
                    <a:alpha val="98039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92" name="Group 9"/>
            <p:cNvGrpSpPr/>
            <p:nvPr/>
          </p:nvGrpSpPr>
          <p:grpSpPr>
            <a:xfrm>
              <a:off x="1619280" y="2031480"/>
              <a:ext cx="527400" cy="582480"/>
              <a:chOff x="1619280" y="2031480"/>
              <a:chExt cx="527400" cy="582480"/>
            </a:xfrm>
          </p:grpSpPr>
          <p:sp>
            <p:nvSpPr>
              <p:cNvPr id="193" name="Oval 10"/>
              <p:cNvSpPr/>
              <p:nvPr/>
            </p:nvSpPr>
            <p:spPr>
              <a:xfrm>
                <a:off x="1619280" y="2031480"/>
                <a:ext cx="527400" cy="58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94" name="Oval 11"/>
              <p:cNvSpPr/>
              <p:nvPr/>
            </p:nvSpPr>
            <p:spPr>
              <a:xfrm>
                <a:off x="1699200" y="2121840"/>
                <a:ext cx="367200" cy="40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95" name="Text Box 12"/>
            <p:cNvSpPr/>
            <p:nvPr/>
          </p:nvSpPr>
          <p:spPr>
            <a:xfrm>
              <a:off x="1719360" y="2121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2138040" y="2088360"/>
              <a:ext cx="538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оздание игровой среды с учётом коррекционных задач.</a:t>
              </a:r>
              <a:r>
                <a:rPr b="0" lang="ru-RU" sz="1800" spc="-1" strike="noStrike">
                  <a:solidFill>
                    <a:srgbClr val="33533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97" name="Group 14"/>
          <p:cNvGrpSpPr/>
          <p:nvPr/>
        </p:nvGrpSpPr>
        <p:grpSpPr>
          <a:xfrm>
            <a:off x="2124000" y="2997360"/>
            <a:ext cx="6098760" cy="626040"/>
            <a:chOff x="2124000" y="2997360"/>
            <a:chExt cx="6098760" cy="626040"/>
          </a:xfrm>
        </p:grpSpPr>
        <p:sp>
          <p:nvSpPr>
            <p:cNvPr id="198" name="AutoShape 15"/>
            <p:cNvSpPr/>
            <p:nvPr/>
          </p:nvSpPr>
          <p:spPr>
            <a:xfrm>
              <a:off x="2486520" y="2997360"/>
              <a:ext cx="5736240" cy="613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33533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9" name="Text Box 16"/>
            <p:cNvSpPr/>
            <p:nvPr/>
          </p:nvSpPr>
          <p:spPr>
            <a:xfrm>
              <a:off x="2679840" y="3096720"/>
              <a:ext cx="41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азнообразная подача учебного материала</a:t>
              </a:r>
              <a:r>
                <a:rPr b="0" lang="ru-RU" sz="1800" spc="-1" strike="noStrike">
                  <a:solidFill>
                    <a:srgbClr val="33533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200" name="Group 17"/>
            <p:cNvGrpSpPr/>
            <p:nvPr/>
          </p:nvGrpSpPr>
          <p:grpSpPr>
            <a:xfrm>
              <a:off x="2124000" y="3041640"/>
              <a:ext cx="527760" cy="581760"/>
              <a:chOff x="2124000" y="3041640"/>
              <a:chExt cx="527760" cy="581760"/>
            </a:xfrm>
          </p:grpSpPr>
          <p:sp>
            <p:nvSpPr>
              <p:cNvPr id="201" name="Oval 18"/>
              <p:cNvSpPr/>
              <p:nvPr/>
            </p:nvSpPr>
            <p:spPr>
              <a:xfrm>
                <a:off x="2124000" y="3041640"/>
                <a:ext cx="527760" cy="58176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02" name="Oval 19"/>
              <p:cNvSpPr/>
              <p:nvPr/>
            </p:nvSpPr>
            <p:spPr>
              <a:xfrm>
                <a:off x="2203920" y="3131640"/>
                <a:ext cx="367560" cy="40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203" name="Text Box 20"/>
            <p:cNvSpPr/>
            <p:nvPr/>
          </p:nvSpPr>
          <p:spPr>
            <a:xfrm>
              <a:off x="2229120" y="313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04" name="Group 21"/>
          <p:cNvGrpSpPr/>
          <p:nvPr/>
        </p:nvGrpSpPr>
        <p:grpSpPr>
          <a:xfrm>
            <a:off x="2195640" y="4076640"/>
            <a:ext cx="6221880" cy="624960"/>
            <a:chOff x="2195640" y="4076640"/>
            <a:chExt cx="6221880" cy="624960"/>
          </a:xfrm>
        </p:grpSpPr>
        <p:sp>
          <p:nvSpPr>
            <p:cNvPr id="205" name="AutoShape 22"/>
            <p:cNvSpPr/>
            <p:nvPr/>
          </p:nvSpPr>
          <p:spPr>
            <a:xfrm>
              <a:off x="2501280" y="4076640"/>
              <a:ext cx="5882040" cy="61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cc33"/>
                </a:gs>
                <a:gs pos="100000">
                  <a:srgbClr val="335338">
                    <a:alpha val="98039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206" name="Group 23"/>
            <p:cNvGrpSpPr/>
            <p:nvPr/>
          </p:nvGrpSpPr>
          <p:grpSpPr>
            <a:xfrm>
              <a:off x="2195640" y="4118760"/>
              <a:ext cx="527760" cy="582840"/>
              <a:chOff x="2195640" y="4118760"/>
              <a:chExt cx="527760" cy="582840"/>
            </a:xfrm>
          </p:grpSpPr>
          <p:sp>
            <p:nvSpPr>
              <p:cNvPr id="207" name="Oval 24"/>
              <p:cNvSpPr/>
              <p:nvPr/>
            </p:nvSpPr>
            <p:spPr>
              <a:xfrm>
                <a:off x="2195640" y="4118760"/>
                <a:ext cx="527760" cy="5828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08" name="Oval 25"/>
              <p:cNvSpPr/>
              <p:nvPr/>
            </p:nvSpPr>
            <p:spPr>
              <a:xfrm>
                <a:off x="2275560" y="4209120"/>
                <a:ext cx="367560" cy="40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209" name="Text Box 26"/>
            <p:cNvSpPr/>
            <p:nvPr/>
          </p:nvSpPr>
          <p:spPr>
            <a:xfrm>
              <a:off x="2295720" y="4209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0" name="Text Box 27"/>
            <p:cNvSpPr/>
            <p:nvPr/>
          </p:nvSpPr>
          <p:spPr>
            <a:xfrm>
              <a:off x="2715120" y="4176000"/>
              <a:ext cx="570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Действия обучаемого находятся под постоянным контролем</a:t>
              </a:r>
              <a:r>
                <a:rPr b="0" lang="ru-RU" sz="1800" spc="-1" strike="noStrike">
                  <a:solidFill>
                    <a:srgbClr val="33533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11" name="AutoShape 29"/>
          <p:cNvSpPr/>
          <p:nvPr/>
        </p:nvSpPr>
        <p:spPr>
          <a:xfrm>
            <a:off x="2198520" y="5300640"/>
            <a:ext cx="6405840" cy="649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ff"/>
              </a:gs>
              <a:gs pos="100000">
                <a:srgbClr val="3353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2259000" y="537372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можность выбора оптимального темпа прохождения материала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13" name="Group 31"/>
          <p:cNvGrpSpPr/>
          <p:nvPr/>
        </p:nvGrpSpPr>
        <p:grpSpPr>
          <a:xfrm>
            <a:off x="1835280" y="5345280"/>
            <a:ext cx="528120" cy="583560"/>
            <a:chOff x="1835280" y="5345280"/>
            <a:chExt cx="528120" cy="583560"/>
          </a:xfrm>
        </p:grpSpPr>
        <p:sp>
          <p:nvSpPr>
            <p:cNvPr id="214" name="Oval 32"/>
            <p:cNvSpPr/>
            <p:nvPr/>
          </p:nvSpPr>
          <p:spPr>
            <a:xfrm>
              <a:off x="1835280" y="5345280"/>
              <a:ext cx="528120" cy="58356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5" name="Oval 33"/>
            <p:cNvSpPr/>
            <p:nvPr/>
          </p:nvSpPr>
          <p:spPr>
            <a:xfrm>
              <a:off x="1915200" y="5435640"/>
              <a:ext cx="367920" cy="406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16" name="Text Box 34"/>
          <p:cNvSpPr/>
          <p:nvPr/>
        </p:nvSpPr>
        <p:spPr>
          <a:xfrm>
            <a:off x="1940400" y="5433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Paint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61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Anag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S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Игры для Тигры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delfa1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4"/>
          <p:cNvGrpSpPr/>
          <p:nvPr/>
        </p:nvGrpSpPr>
        <p:grpSpPr>
          <a:xfrm>
            <a:off x="0" y="0"/>
            <a:ext cx="9143280" cy="6857280"/>
            <a:chOff x="0" y="0"/>
            <a:chExt cx="9143280" cy="6857280"/>
          </a:xfrm>
        </p:grpSpPr>
        <p:pic>
          <p:nvPicPr>
            <p:cNvPr id="327" name="Picture 5" descr="delfa14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28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WordArt 6"/>
            <p:cNvSpPr txBox="1"/>
            <p:nvPr/>
          </p:nvSpPr>
          <p:spPr>
            <a:xfrm>
              <a:off x="679320" y="332280"/>
              <a:ext cx="8038800" cy="51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5338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Логопедический тренажер "Дэльфа 142"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5338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1916280"/>
            <a:ext cx="9001080" cy="34462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грамма для формирования и коррекции произносительной стороны устной речи детей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ПЕЦИАЛИЗИРОВАННЫЕ ОБУЧАЮЩИЕ КОМПЬЮТЕРНЫЕ ПРОГРАММЫ ДЛЯ ДЕТЕЙ С ОТКЛОНЕНИЯМИ В РАЗВИТИИ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042920" y="1268280"/>
            <a:ext cx="205740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0af7a"/>
              </a:gs>
              <a:gs pos="100000">
                <a:srgbClr val="51513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р за твоим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кно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3492360" y="1268280"/>
            <a:ext cx="205740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bb7ab"/>
              </a:gs>
              <a:gs pos="100000">
                <a:srgbClr val="40554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став числа»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5867280" y="11970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a4c7"/>
              </a:gs>
              <a:gs pos="100000">
                <a:srgbClr val="474c5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став слова»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4038480" y="3784680"/>
            <a:ext cx="20512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5338"/>
                </a:solidFill>
                <a:latin typeface="Arial"/>
              </a:rPr>
              <a:t>Add your text here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6400800" y="3784680"/>
            <a:ext cx="2050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5338"/>
                </a:solidFill>
                <a:latin typeface="Arial"/>
              </a:rPr>
              <a:t>Add your text here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7" name="AutoShape 3"/>
          <p:cNvSpPr/>
          <p:nvPr/>
        </p:nvSpPr>
        <p:spPr>
          <a:xfrm>
            <a:off x="5594400" y="2133720"/>
            <a:ext cx="3009960" cy="3600360"/>
          </a:xfrm>
          <a:custGeom>
            <a:avLst/>
            <a:gdLst>
              <a:gd name="textAreaLeft" fmla="*/ 0 w 3009960"/>
              <a:gd name="textAreaRight" fmla="*/ 3010320 w 300996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474c5c"/>
              </a:gs>
              <a:gs pos="50000">
                <a:srgbClr val="99a4c7"/>
              </a:gs>
              <a:gs pos="100000">
                <a:srgbClr val="474c5c"/>
              </a:gs>
            </a:gsLst>
            <a:lin ang="27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2990880" y="2133720"/>
            <a:ext cx="3173400" cy="3600360"/>
          </a:xfrm>
          <a:custGeom>
            <a:avLst/>
            <a:gdLst>
              <a:gd name="textAreaLeft" fmla="*/ 0 w 3173400"/>
              <a:gd name="textAreaRight" fmla="*/ 3173760 w 317340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0554f"/>
              </a:gs>
              <a:gs pos="50000">
                <a:srgbClr val="8bb7ab"/>
              </a:gs>
              <a:gs pos="100000">
                <a:srgbClr val="40554f"/>
              </a:gs>
            </a:gsLst>
            <a:lin ang="27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68360" y="2133720"/>
            <a:ext cx="3173400" cy="3600360"/>
          </a:xfrm>
          <a:custGeom>
            <a:avLst/>
            <a:gdLst>
              <a:gd name="textAreaLeft" fmla="*/ 0 w 3173400"/>
              <a:gd name="textAreaRight" fmla="*/ 3173760 w 317340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8513d"/>
              </a:gs>
              <a:gs pos="50000">
                <a:srgbClr val="beaf84"/>
              </a:gs>
              <a:gs pos="100000">
                <a:srgbClr val="58513d"/>
              </a:gs>
            </a:gsLst>
            <a:lin ang="27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042920" y="2349360"/>
            <a:ext cx="2232000" cy="301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амма адресована тем детям старшего дошкольного и младшего школьного возраста, кому трудно анализировать, систематизировать, обобщать представления и впечатления об окружающем мире, описывать их в речи, вступать в диалог, понимать смысл прочитанного, пользоваться календарем. </a:t>
            </a:r>
            <a:endParaRPr b="0" lang="en-US" sz="12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стоит из пяти разделов: «Четыре времени года», «Погода», «Одеваемся по погоде», «Рассказы о временах года», «Календарь». </a:t>
            </a:r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3492360" y="2205000"/>
            <a:ext cx="2232000" cy="337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ультимедийная программа может быть эффективно использована специалистами и родителями в процессе формирования базовых математических представлений у ребенка дошкольного и младшего школьного возраста. Программа помогает ребенку освоить умение представлять любое число в виде суммы двух слагаемых всеми возможными способами, которое определяет успешность дальнейшего освоения вычислений с переходом через десяток</a:t>
            </a:r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6084720" y="2565360"/>
            <a:ext cx="2232360" cy="24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амма представляет собой набор кроссвордов, в которых использованы слова-названия 12 тематических групп: овощи, фрукты, мебель, обувь, посуда, школа и др. Может использоваться специалистами и родителями для уточнения буквенного состава слов, относящихся к данным тематическим группам, закрепления значений обобщающих понятий.</a:t>
            </a:r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9" dur="1000" autoRev="1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animClr clrSpc="rgb">
                                      <p:cBhvr>
                                        <p:cTn id="80" dur="1000" autoRev="1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set>
                                      <p:cBhvr>
                                        <p:cTn id="81" dur="1000" autoRev="1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4" dur="100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animClr clrSpc="rgb">
                                      <p:cBhvr>
                                        <p:cTn id="85" dur="100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set>
                                      <p:cBhvr>
                                        <p:cTn id="86" dur="100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9" dur="10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animClr clrSpc="rgb">
                                      <p:cBhvr>
                                        <p:cTn id="90" dur="10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set>
                                      <p:cBhvr>
                                        <p:cTn id="91" dur="10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4"/>
          <p:cNvSpPr/>
          <p:nvPr/>
        </p:nvSpPr>
        <p:spPr>
          <a:xfrm>
            <a:off x="755640" y="1989000"/>
            <a:ext cx="2662200" cy="792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bb7ab"/>
              </a:gs>
              <a:gs pos="100000">
                <a:srgbClr val="40554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ая программа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икла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ЛЕНТА ВРЕМЕНИ»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4" name="AutoShape 5"/>
          <p:cNvSpPr/>
          <p:nvPr/>
        </p:nvSpPr>
        <p:spPr>
          <a:xfrm>
            <a:off x="5364000" y="1916280"/>
            <a:ext cx="2737080" cy="100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a4c7"/>
              </a:gs>
              <a:gs pos="100000">
                <a:srgbClr val="474c5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торая программа 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икла 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 ГОРОДСКОМ ДВОРЕ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684360" y="2924280"/>
            <a:ext cx="3173400" cy="3600360"/>
            <a:chOff x="684360" y="2924280"/>
            <a:chExt cx="3173400" cy="3600360"/>
          </a:xfrm>
        </p:grpSpPr>
        <p:sp>
          <p:nvSpPr>
            <p:cNvPr id="346" name="AutoShape 9"/>
            <p:cNvSpPr/>
            <p:nvPr/>
          </p:nvSpPr>
          <p:spPr>
            <a:xfrm>
              <a:off x="684360" y="2924280"/>
              <a:ext cx="3173400" cy="3600360"/>
            </a:xfrm>
            <a:custGeom>
              <a:avLst/>
              <a:gdLst>
                <a:gd name="textAreaLeft" fmla="*/ 0 w 3173400"/>
                <a:gd name="textAreaRight" fmla="*/ 3173760 w 3173400"/>
                <a:gd name="textAreaTop" fmla="*/ 0 h 3600360"/>
                <a:gd name="textAreaBottom" fmla="*/ 3600720 h 36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0554f"/>
                </a:gs>
                <a:gs pos="50000">
                  <a:srgbClr val="8bb7ab"/>
                </a:gs>
                <a:gs pos="100000">
                  <a:srgbClr val="40554f"/>
                </a:gs>
              </a:gsLst>
              <a:lin ang="27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7" name="Text Box 12"/>
            <p:cNvSpPr/>
            <p:nvPr/>
          </p:nvSpPr>
          <p:spPr>
            <a:xfrm>
              <a:off x="1257480" y="3859200"/>
              <a:ext cx="2232000" cy="1645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Поможет выявить, систематизировать, расширить и обогатить тот опыт впечатлений, который был накоплен  самим ребенком на протяжении всего предшествующего периода жизни.</a:t>
              </a:r>
              <a:r>
                <a:rPr b="0" lang="ru-RU" sz="1800" spc="-1" strike="noStrike">
                  <a:solidFill>
                    <a:srgbClr val="33533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348" name="AutoShape 8"/>
          <p:cNvSpPr/>
          <p:nvPr/>
        </p:nvSpPr>
        <p:spPr>
          <a:xfrm>
            <a:off x="5435640" y="3068640"/>
            <a:ext cx="3009960" cy="3600360"/>
          </a:xfrm>
          <a:custGeom>
            <a:avLst/>
            <a:gdLst>
              <a:gd name="textAreaLeft" fmla="*/ 0 w 3009960"/>
              <a:gd name="textAreaRight" fmla="*/ 3010320 w 300996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474c5c"/>
              </a:gs>
              <a:gs pos="50000">
                <a:srgbClr val="99a4c7"/>
              </a:gs>
              <a:gs pos="100000">
                <a:srgbClr val="474c5c"/>
              </a:gs>
            </a:gsLst>
            <a:lin ang="27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5796000" y="3141720"/>
            <a:ext cx="2374920" cy="337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оит из четырех частей: «Калейдоскоп»; «Размышляем»; «Моделируем»; «Читаем и додумываем».Авторами создан уникальный инструмент обучения – «Калейдоскоп», позволяющий собирать десятки вариантов картин жизни обычного городского двора в любой сезон года, экспериментировать с признаками, осмысливать границы допустимых изменений, устанавливать соответствие между образом и словом.</a:t>
            </a:r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1187280" y="907920"/>
            <a:ext cx="5958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5338"/>
                </a:solidFill>
                <a:latin typeface="Arial"/>
              </a:rPr>
              <a:t>Адресован детям старшего дошкольного и младшего школьного возраста, нуждающимся в особой помощи в процессе обучения.</a:t>
            </a:r>
            <a:endParaRPr b="0" lang="en-US" sz="12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5338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5338"/>
                </a:solidFill>
                <a:latin typeface="Arial"/>
              </a:rPr>
              <a:t>Цикл программ «Картина мира» поможет учить ребенка размышлять об окружающем природном мире, как о неотъемлемом постоянно и закономерно меняющемся контексте его личного бытия. </a:t>
            </a:r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95280" y="11556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Цикл специализированных програм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«Картина мира»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l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200"/>
                            </p:stCondLst>
                            <p:childTnLst>
                              <p:par>
                                <p:cTn id="108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09" dur="100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animClr clrSpc="rgb">
                                      <p:cBhvr>
                                        <p:cTn id="110" dur="100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set>
                                      <p:cBhvr>
                                        <p:cTn id="111" dur="100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200"/>
                            </p:stCondLst>
                            <p:childTnLst>
                              <p:par>
                                <p:cTn id="113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14" dur="100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animClr clrSpc="rgb">
                                      <p:cBhvr>
                                        <p:cTn id="115" dur="100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set>
                                      <p:cBhvr>
                                        <p:cTn id="116" dur="100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Работа с родителям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AutoShape 10"/>
          <p:cNvSpPr/>
          <p:nvPr/>
        </p:nvSpPr>
        <p:spPr>
          <a:xfrm>
            <a:off x="4976640" y="1657440"/>
            <a:ext cx="2548080" cy="177156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f2f3bb"/>
              </a:gs>
            </a:gsLst>
            <a:lin ang="2700000"/>
          </a:gradFill>
          <a:ln w="50760">
            <a:solidFill>
              <a:srgbClr val="dba037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5537160" y="1835280"/>
            <a:ext cx="197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учение родителей работе с определёнными программами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55" name="Group 12"/>
          <p:cNvGrpSpPr/>
          <p:nvPr/>
        </p:nvGrpSpPr>
        <p:grpSpPr>
          <a:xfrm>
            <a:off x="4959360" y="1008000"/>
            <a:ext cx="620640" cy="1531800"/>
            <a:chOff x="4959360" y="1008000"/>
            <a:chExt cx="620640" cy="1531800"/>
          </a:xfrm>
        </p:grpSpPr>
        <p:sp>
          <p:nvSpPr>
            <p:cNvPr id="356" name="Freeform 13"/>
            <p:cNvSpPr/>
            <p:nvPr/>
          </p:nvSpPr>
          <p:spPr>
            <a:xfrm>
              <a:off x="5110200" y="1008000"/>
              <a:ext cx="290160" cy="31248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  <a:effectLst>
              <a:outerShdw dist="91658" dir="338234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7" name="Freeform 14"/>
            <p:cNvSpPr/>
            <p:nvPr/>
          </p:nvSpPr>
          <p:spPr>
            <a:xfrm>
              <a:off x="4959360" y="1353600"/>
              <a:ext cx="620640" cy="118620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  <a:effectLst>
              <a:outerShdw dist="91658" dir="338234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358" name="AutoShape 18"/>
          <p:cNvSpPr/>
          <p:nvPr/>
        </p:nvSpPr>
        <p:spPr>
          <a:xfrm>
            <a:off x="1258920" y="1565280"/>
            <a:ext cx="2232000" cy="179244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ebd3ad"/>
              </a:gs>
              <a:gs pos="100000">
                <a:srgbClr val="ffffff"/>
              </a:gs>
            </a:gsLst>
            <a:lin ang="18900000"/>
          </a:gradFill>
          <a:ln w="50760">
            <a:solidFill>
              <a:srgbClr val="ff99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59" name="Group 19"/>
          <p:cNvGrpSpPr/>
          <p:nvPr/>
        </p:nvGrpSpPr>
        <p:grpSpPr>
          <a:xfrm>
            <a:off x="2916360" y="907920"/>
            <a:ext cx="593640" cy="1549080"/>
            <a:chOff x="2916360" y="907920"/>
            <a:chExt cx="593640" cy="1549080"/>
          </a:xfrm>
        </p:grpSpPr>
        <p:sp>
          <p:nvSpPr>
            <p:cNvPr id="360" name="Freeform 20"/>
            <p:cNvSpPr/>
            <p:nvPr/>
          </p:nvSpPr>
          <p:spPr>
            <a:xfrm>
              <a:off x="3060720" y="907920"/>
              <a:ext cx="277560" cy="3160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  <a:effectLst>
              <a:outerShdw dist="91658" dir="338234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1" name="Freeform 21"/>
            <p:cNvSpPr/>
            <p:nvPr/>
          </p:nvSpPr>
          <p:spPr>
            <a:xfrm>
              <a:off x="2916360" y="1257480"/>
              <a:ext cx="593640" cy="119952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1199520"/>
                <a:gd name="textAreaBottom" fmla="*/ 1199880 h 119952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  <a:effectLst>
              <a:outerShdw dist="91658" dir="338234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362" name="Text Box 22"/>
          <p:cNvSpPr/>
          <p:nvPr/>
        </p:nvSpPr>
        <p:spPr>
          <a:xfrm>
            <a:off x="1332000" y="2060640"/>
            <a:ext cx="187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ие родительских собраний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63" name="AutoShape 24"/>
          <p:cNvSpPr/>
          <p:nvPr/>
        </p:nvSpPr>
        <p:spPr>
          <a:xfrm>
            <a:off x="1116000" y="4437000"/>
            <a:ext cx="2709720" cy="197640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8900000"/>
          </a:gradFill>
          <a:ln w="50760">
            <a:solidFill>
              <a:srgbClr val="7099e2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64" name="Group 25"/>
          <p:cNvGrpSpPr/>
          <p:nvPr/>
        </p:nvGrpSpPr>
        <p:grpSpPr>
          <a:xfrm>
            <a:off x="3203640" y="3716280"/>
            <a:ext cx="639720" cy="1707840"/>
            <a:chOff x="3203640" y="3716280"/>
            <a:chExt cx="639720" cy="1707840"/>
          </a:xfrm>
        </p:grpSpPr>
        <p:sp>
          <p:nvSpPr>
            <p:cNvPr id="365" name="Freeform 26"/>
            <p:cNvSpPr/>
            <p:nvPr/>
          </p:nvSpPr>
          <p:spPr>
            <a:xfrm>
              <a:off x="3359160" y="3716280"/>
              <a:ext cx="297720" cy="34956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7099e2"/>
            </a:solidFill>
            <a:ln w="0">
              <a:noFill/>
            </a:ln>
            <a:effectLst>
              <a:outerShdw dist="91658" dir="338234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6" name="Freeform 27"/>
            <p:cNvSpPr/>
            <p:nvPr/>
          </p:nvSpPr>
          <p:spPr>
            <a:xfrm>
              <a:off x="3203640" y="4101480"/>
              <a:ext cx="639720" cy="13226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322640"/>
                <a:gd name="textAreaBottom" fmla="*/ 1323000 h 13226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7099e2"/>
            </a:solidFill>
            <a:ln w="0">
              <a:noFill/>
            </a:ln>
            <a:effectLst>
              <a:outerShdw dist="91658" dir="338234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367" name="AutoShape 29"/>
          <p:cNvSpPr/>
          <p:nvPr/>
        </p:nvSpPr>
        <p:spPr>
          <a:xfrm>
            <a:off x="4735440" y="4430880"/>
            <a:ext cx="2933640" cy="195084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68" name="Text Box 30"/>
          <p:cNvSpPr/>
          <p:nvPr/>
        </p:nvSpPr>
        <p:spPr>
          <a:xfrm>
            <a:off x="5383080" y="462600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мультимедийного оформления праздников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69" name="Group 31"/>
          <p:cNvGrpSpPr/>
          <p:nvPr/>
        </p:nvGrpSpPr>
        <p:grpSpPr>
          <a:xfrm>
            <a:off x="4716360" y="3716280"/>
            <a:ext cx="692280" cy="1685520"/>
            <a:chOff x="4716360" y="3716280"/>
            <a:chExt cx="692280" cy="1685520"/>
          </a:xfrm>
        </p:grpSpPr>
        <p:sp>
          <p:nvSpPr>
            <p:cNvPr id="370" name="Freeform 32"/>
            <p:cNvSpPr/>
            <p:nvPr/>
          </p:nvSpPr>
          <p:spPr>
            <a:xfrm>
              <a:off x="4884480" y="3716280"/>
              <a:ext cx="323640" cy="343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44988c"/>
            </a:solidFill>
            <a:ln w="0">
              <a:noFill/>
            </a:ln>
            <a:effectLst>
              <a:outerShdw dist="91658" dir="338234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71" name="Freeform 33"/>
            <p:cNvSpPr/>
            <p:nvPr/>
          </p:nvSpPr>
          <p:spPr>
            <a:xfrm>
              <a:off x="4716360" y="4096440"/>
              <a:ext cx="692280" cy="130536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988c"/>
            </a:solidFill>
            <a:ln w="0">
              <a:noFill/>
            </a:ln>
            <a:effectLst>
              <a:outerShdw dist="91658" dir="338234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1042920" y="4653000"/>
            <a:ext cx="197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здание консультаций для родителей, оформление родительских уголков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373" name="Picture 37" descr="24"/>
          <p:cNvPicPr/>
          <p:nvPr/>
        </p:nvPicPr>
        <p:blipFill>
          <a:blip r:embed="rId1"/>
          <a:stretch/>
        </p:blipFill>
        <p:spPr>
          <a:xfrm>
            <a:off x="7920000" y="3068640"/>
            <a:ext cx="12240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оррекционные программы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5" descr="титул"/>
          <p:cNvPicPr/>
          <p:nvPr/>
        </p:nvPicPr>
        <p:blipFill>
          <a:blip r:embed="rId1"/>
          <a:stretch/>
        </p:blipFill>
        <p:spPr>
          <a:xfrm>
            <a:off x="755640" y="1081080"/>
            <a:ext cx="7704000" cy="5776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3"/>
          <p:cNvSpPr/>
          <p:nvPr/>
        </p:nvSpPr>
        <p:spPr>
          <a:xfrm>
            <a:off x="468360" y="1746360"/>
            <a:ext cx="3352680" cy="4922640"/>
          </a:xfrm>
          <a:custGeom>
            <a:avLst/>
            <a:gdLst>
              <a:gd name="textAreaLeft" fmla="*/ 101520 w 3352680"/>
              <a:gd name="textAreaRight" fmla="*/ 3251160 w 3352680"/>
              <a:gd name="textAreaTop" fmla="*/ 101520 h 4922640"/>
              <a:gd name="textAreaBottom" fmla="*/ 4821120 h 4922640"/>
            </a:gdLst>
            <a:ahLst/>
            <a:rect l="textAreaLeft" t="textAreaTop" r="textAreaRight" b="textAreaBottom"/>
            <a:pathLst>
              <a:path w="21600" h="31714">
                <a:moveTo>
                  <a:pt x="2235" y="0"/>
                </a:moveTo>
                <a:arcTo wR="2235" hR="2235" stAng="16200000" swAng="-5400000"/>
                <a:lnTo>
                  <a:pt x="0" y="29479"/>
                </a:lnTo>
                <a:arcTo wR="2235" hR="2235" stAng="10800000" swAng="-5400000"/>
                <a:lnTo>
                  <a:pt x="19365" y="31714"/>
                </a:lnTo>
                <a:arcTo wR="2235" hR="2235" stAng="5400000" swAng="-5400000"/>
                <a:lnTo>
                  <a:pt x="21600" y="2235"/>
                </a:lnTo>
                <a:arcTo wR="2235" hR="2235" stAng="0" swAng="-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8900000"/>
          </a:gradFill>
          <a:ln w="50760">
            <a:solidFill>
              <a:srgbClr val="7099e2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75" name="Group 4"/>
          <p:cNvGrpSpPr/>
          <p:nvPr/>
        </p:nvGrpSpPr>
        <p:grpSpPr>
          <a:xfrm>
            <a:off x="3059280" y="907920"/>
            <a:ext cx="790560" cy="1976400"/>
            <a:chOff x="3059280" y="907920"/>
            <a:chExt cx="790560" cy="1976400"/>
          </a:xfrm>
        </p:grpSpPr>
        <p:sp>
          <p:nvSpPr>
            <p:cNvPr id="376" name="Freeform 5"/>
            <p:cNvSpPr/>
            <p:nvPr/>
          </p:nvSpPr>
          <p:spPr>
            <a:xfrm>
              <a:off x="3251520" y="9079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7099e2"/>
            </a:solidFill>
            <a:ln w="0">
              <a:noFill/>
            </a:ln>
            <a:effectLst>
              <a:outerShdw dist="91658" dir="338234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77" name="Freeform 6"/>
            <p:cNvSpPr/>
            <p:nvPr/>
          </p:nvSpPr>
          <p:spPr>
            <a:xfrm>
              <a:off x="3059280" y="13539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7099e2"/>
            </a:solidFill>
            <a:ln w="0">
              <a:noFill/>
            </a:ln>
            <a:effectLst>
              <a:outerShdw dist="91658" dir="338234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истема работы с родителями с использованием ИКТ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684360" y="2060640"/>
            <a:ext cx="2438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5338"/>
                </a:solidFill>
                <a:latin typeface="Arial"/>
              </a:rPr>
              <a:t>Индивидуальные формы работы: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Зрительная гимнастика «В гостях у сказки»;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амомассаж, игры на развитие общей, мелкой моторики рук (материал для родителей на дискете).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0" name="AutoShape 10"/>
          <p:cNvSpPr/>
          <p:nvPr/>
        </p:nvSpPr>
        <p:spPr>
          <a:xfrm>
            <a:off x="4809960" y="1746360"/>
            <a:ext cx="3353040" cy="4922640"/>
          </a:xfrm>
          <a:custGeom>
            <a:avLst/>
            <a:gdLst>
              <a:gd name="textAreaLeft" fmla="*/ 101520 w 3353040"/>
              <a:gd name="textAreaRight" fmla="*/ 3251520 w 3353040"/>
              <a:gd name="textAreaTop" fmla="*/ 101520 h 4922640"/>
              <a:gd name="textAreaBottom" fmla="*/ 4821120 h 4922640"/>
            </a:gdLst>
            <a:ahLst/>
            <a:rect l="textAreaLeft" t="textAreaTop" r="textAreaRight" b="textAreaBottom"/>
            <a:pathLst>
              <a:path w="21600" h="31710">
                <a:moveTo>
                  <a:pt x="2235" y="0"/>
                </a:moveTo>
                <a:arcTo wR="2235" hR="2235" stAng="16200000" swAng="-5400000"/>
                <a:lnTo>
                  <a:pt x="0" y="29475"/>
                </a:lnTo>
                <a:arcTo wR="2235" hR="2235" stAng="10800000" swAng="-5400000"/>
                <a:lnTo>
                  <a:pt x="19365" y="31710"/>
                </a:lnTo>
                <a:arcTo wR="2235" hR="2235" stAng="5400000" swAng="-5400000"/>
                <a:lnTo>
                  <a:pt x="21600" y="2235"/>
                </a:lnTo>
                <a:arcTo wR="2235" hR="2235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549760" y="1974960"/>
            <a:ext cx="259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5338"/>
                </a:solidFill>
                <a:latin typeface="Arial"/>
              </a:rPr>
              <a:t>Групповые формы работы: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ыступления на родительских собраниях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ыпуск газеты «В гостях у «Сказки»»;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Открытые занятия (с использованием презентаций);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Оформление коррекционного уголка; изготовление пособий для индивидуальных занятий с детьм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82" name="Group 12"/>
          <p:cNvGrpSpPr/>
          <p:nvPr/>
        </p:nvGrpSpPr>
        <p:grpSpPr>
          <a:xfrm>
            <a:off x="4788000" y="907920"/>
            <a:ext cx="790560" cy="1976400"/>
            <a:chOff x="4788000" y="907920"/>
            <a:chExt cx="790560" cy="1976400"/>
          </a:xfrm>
        </p:grpSpPr>
        <p:sp>
          <p:nvSpPr>
            <p:cNvPr id="383" name="Freeform 13"/>
            <p:cNvSpPr/>
            <p:nvPr/>
          </p:nvSpPr>
          <p:spPr>
            <a:xfrm>
              <a:off x="4980240" y="9079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44988c"/>
            </a:solidFill>
            <a:ln w="0">
              <a:noFill/>
            </a:ln>
            <a:effectLst>
              <a:outerShdw dist="91658" dir="338234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>
              <a:off x="4788000" y="13539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988c"/>
            </a:solidFill>
            <a:ln w="0">
              <a:noFill/>
            </a:ln>
            <a:effectLst>
              <a:outerShdw dist="91658" dir="338234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бмен опытом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3" descr="Безымянный"/>
          <p:cNvPicPr/>
          <p:nvPr/>
        </p:nvPicPr>
        <p:blipFill>
          <a:blip r:embed="rId1"/>
          <a:stretch/>
        </p:blipFill>
        <p:spPr>
          <a:xfrm>
            <a:off x="5651640" y="907920"/>
            <a:ext cx="1839600" cy="2664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Безымянный1"/>
          <p:cNvPicPr/>
          <p:nvPr/>
        </p:nvPicPr>
        <p:blipFill>
          <a:blip r:embed="rId2"/>
          <a:stretch/>
        </p:blipFill>
        <p:spPr>
          <a:xfrm>
            <a:off x="6156360" y="1773360"/>
            <a:ext cx="1888920" cy="27352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61672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338"/>
                </a:solidFill>
                <a:latin typeface="Verdana"/>
              </a:rPr>
              <a:t>Выступление на педсовете;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338"/>
                </a:solidFill>
                <a:latin typeface="Verdana"/>
              </a:rPr>
              <a:t>Лекции, доклады, семинары на методических объединениях;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338"/>
                </a:solidFill>
                <a:latin typeface="Verdana"/>
              </a:rPr>
              <a:t>Участие в конференциях;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338"/>
                </a:solidFill>
                <a:latin typeface="Verdana"/>
              </a:rPr>
              <a:t>Участие в электронных конкурсах и фестивалях;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338"/>
                </a:solidFill>
                <a:latin typeface="Verdana"/>
              </a:rPr>
              <a:t>Размещение профессиональных работ на сайтах в интернете;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389" name="Picture 6" descr="Untitled0-2"/>
          <p:cNvPicPr/>
          <p:nvPr/>
        </p:nvPicPr>
        <p:blipFill>
          <a:blip r:embed="rId3"/>
          <a:stretch/>
        </p:blipFill>
        <p:spPr>
          <a:xfrm>
            <a:off x="7020000" y="2276640"/>
            <a:ext cx="1746000" cy="2376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Untitled0-1.jpg"/>
          <p:cNvPicPr/>
          <p:nvPr/>
        </p:nvPicPr>
        <p:blipFill>
          <a:blip r:embed="rId4"/>
          <a:stretch/>
        </p:blipFill>
        <p:spPr>
          <a:xfrm>
            <a:off x="7442280" y="3429000"/>
            <a:ext cx="1701720" cy="23763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_RDCL1G"/>
          <p:cNvPicPr/>
          <p:nvPr/>
        </p:nvPicPr>
        <p:blipFill>
          <a:blip r:embed="rId5"/>
          <a:stretch/>
        </p:blipFill>
        <p:spPr>
          <a:xfrm>
            <a:off x="4572000" y="5081760"/>
            <a:ext cx="3865680" cy="1776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Verdana"/>
              </a:rPr>
              <a:t>Компьютер становится необходимым средством обучения детей с нарушениями в развитии;</a:t>
            </a: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Verdana"/>
              </a:rPr>
              <a:t>использование ИКТ  в  большинстве случаев повышает мотивацию ребенка к коррекционным занятиям, способствует повышению зрительной, речевой и познавательной активности;</a:t>
            </a: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Verdana"/>
              </a:rPr>
              <a:t>способствует повышению самооценки ребенка;</a:t>
            </a: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Verdana"/>
              </a:rPr>
              <a:t>формирует в определенной степени сотрудничество между ребенком, педагогами и родителями, активизирует работу с родителями, повышает компетентность родителей в коррекционно-воспитательной работе, что является необходимым условием успешного воздействия на ребенка с особыми образовательными потребностями;</a:t>
            </a: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Verdana"/>
              </a:rPr>
              <a:t>использование информационных технологий в образовании дает возможность существенно обогатить, качественно обновить коррекционно-образовательный процесс в ДОУ и повысить его эффективность.</a:t>
            </a: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1476360" y="115920"/>
            <a:ext cx="7416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еимущества использования ИКТ в коррекционной работе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l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92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52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144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000" y="1484280"/>
            <a:ext cx="7993080" cy="3384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5338"/>
                </a:solidFill>
                <a:latin typeface="Verdana"/>
              </a:rPr>
              <a:t>«…Недостаточно только получить знания; надо найти им приложение.  Недостаточно только желать; надо делать!»</a:t>
            </a:r>
            <a:br>
              <a:rPr sz="24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39640" y="4149360"/>
            <a:ext cx="4319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Иоганн Вольфганг Гёте </a:t>
            </a: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p:transition spd="slow">
    <p:strips dir="l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2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99640" y="5516280"/>
            <a:ext cx="554364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ДОУ «Детский сад №229</a:t>
            </a:r>
            <a:endParaRPr b="0" lang="en-US" sz="1800" spc="-1" strike="noStrike">
              <a:solidFill>
                <a:srgbClr val="335338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мпенсирующего вида»</a:t>
            </a:r>
            <a:endParaRPr b="0" lang="en-US" sz="1800" spc="-1" strike="noStrike">
              <a:solidFill>
                <a:srgbClr val="335338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 Новокузнецк</a:t>
            </a:r>
            <a:r>
              <a:rPr b="1" lang="en-US" sz="2000" spc="-1" strike="noStrike">
                <a:solidFill>
                  <a:srgbClr val="2f86b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97" name="WordArt 3"/>
          <p:cNvSpPr txBox="1"/>
          <p:nvPr/>
        </p:nvSpPr>
        <p:spPr>
          <a:xfrm>
            <a:off x="582480" y="3573360"/>
            <a:ext cx="4781520" cy="16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368463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Спасибо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368463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368463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за внимание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368463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strips dir="l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29" dur="25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animClr clrSpc="rgb">
                                      <p:cBhvr>
                                        <p:cTn id="230" dur="25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set>
                                      <p:cBhvr>
                                        <p:cTn id="231" dur="25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14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86080" y="209520"/>
            <a:ext cx="7657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оррекционные блоки программы «Луч»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21" name="Group 115"/>
          <p:cNvGrpSpPr/>
          <p:nvPr/>
        </p:nvGrpSpPr>
        <p:grpSpPr>
          <a:xfrm>
            <a:off x="179280" y="1484280"/>
            <a:ext cx="8955000" cy="4928760"/>
            <a:chOff x="179280" y="1484280"/>
            <a:chExt cx="8955000" cy="4928760"/>
          </a:xfrm>
        </p:grpSpPr>
        <p:sp>
          <p:nvSpPr>
            <p:cNvPr id="222" name="Text Box 46"/>
            <p:cNvSpPr/>
            <p:nvPr/>
          </p:nvSpPr>
          <p:spPr>
            <a:xfrm>
              <a:off x="4949640" y="2276640"/>
              <a:ext cx="4181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5338"/>
                  </a:solidFill>
                  <a:latin typeface="Arial"/>
                </a:rPr>
                <a:t>Узнавание и понимание инвертированных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5338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335338"/>
                  </a:solidFill>
                  <a:latin typeface="Arial"/>
                </a:rPr>
                <a:t>и пассивных речевых конструкций</a:t>
              </a:r>
              <a:r>
                <a:rPr b="0" lang="ru-RU" sz="1800" spc="-1" strike="noStrike">
                  <a:solidFill>
                    <a:srgbClr val="33533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3" name="Text Box 60"/>
            <p:cNvSpPr/>
            <p:nvPr/>
          </p:nvSpPr>
          <p:spPr>
            <a:xfrm>
              <a:off x="5151240" y="3933720"/>
              <a:ext cx="398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5338"/>
                  </a:solidFill>
                  <a:latin typeface="Arial"/>
                </a:rPr>
                <a:t>Формирование дифференцированности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5338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335338"/>
                  </a:solidFill>
                  <a:latin typeface="Arial"/>
                </a:rPr>
                <a:t>восприятия объекта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224" name="Group 114"/>
            <p:cNvGrpSpPr/>
            <p:nvPr/>
          </p:nvGrpSpPr>
          <p:grpSpPr>
            <a:xfrm>
              <a:off x="179280" y="1484280"/>
              <a:ext cx="8640720" cy="4928760"/>
              <a:chOff x="179280" y="1484280"/>
              <a:chExt cx="8640720" cy="4928760"/>
            </a:xfrm>
          </p:grpSpPr>
          <p:grpSp>
            <p:nvGrpSpPr>
              <p:cNvPr id="225" name="Group 3"/>
              <p:cNvGrpSpPr/>
              <p:nvPr/>
            </p:nvGrpSpPr>
            <p:grpSpPr>
              <a:xfrm>
                <a:off x="179280" y="1484280"/>
                <a:ext cx="720360" cy="607680"/>
                <a:chOff x="179280" y="1484280"/>
                <a:chExt cx="720360" cy="607680"/>
              </a:xfrm>
            </p:grpSpPr>
            <p:sp>
              <p:nvSpPr>
                <p:cNvPr id="226" name="AutoShape 4"/>
                <p:cNvSpPr/>
                <p:nvPr/>
              </p:nvSpPr>
              <p:spPr>
                <a:xfrm>
                  <a:off x="185040" y="149436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27" name="AutoShape 5"/>
                <p:cNvSpPr/>
                <p:nvPr/>
              </p:nvSpPr>
              <p:spPr>
                <a:xfrm>
                  <a:off x="179280" y="148428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28" name="AutoShape 6"/>
                <p:cNvSpPr/>
                <p:nvPr/>
              </p:nvSpPr>
              <p:spPr>
                <a:xfrm>
                  <a:off x="220320" y="1520640"/>
                  <a:ext cx="628920" cy="525600"/>
                </a:xfrm>
                <a:prstGeom prst="hexagon">
                  <a:avLst>
                    <a:gd name="adj" fmla="val 29892"/>
                    <a:gd name="vf" fmla="val 115470"/>
                  </a:avLst>
                </a:prstGeom>
                <a:gradFill rotWithShape="0">
                  <a:gsLst>
                    <a:gs pos="0">
                      <a:srgbClr val="193d2e"/>
                    </a:gs>
                    <a:gs pos="100000">
                      <a:srgbClr val="368463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7"/>
              <p:cNvGrpSpPr/>
              <p:nvPr/>
            </p:nvGrpSpPr>
            <p:grpSpPr>
              <a:xfrm>
                <a:off x="179280" y="2320920"/>
                <a:ext cx="720720" cy="607680"/>
                <a:chOff x="179280" y="2320920"/>
                <a:chExt cx="720720" cy="607680"/>
              </a:xfrm>
            </p:grpSpPr>
            <p:sp>
              <p:nvSpPr>
                <p:cNvPr id="230" name="AutoShape 8"/>
                <p:cNvSpPr/>
                <p:nvPr/>
              </p:nvSpPr>
              <p:spPr>
                <a:xfrm>
                  <a:off x="185400" y="233100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31" name="AutoShape 9"/>
                <p:cNvSpPr/>
                <p:nvPr/>
              </p:nvSpPr>
              <p:spPr>
                <a:xfrm>
                  <a:off x="179280" y="232092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32" name="AutoShape 10"/>
                <p:cNvSpPr/>
                <p:nvPr/>
              </p:nvSpPr>
              <p:spPr>
                <a:xfrm>
                  <a:off x="220680" y="2357280"/>
                  <a:ext cx="628560" cy="525600"/>
                </a:xfrm>
                <a:prstGeom prst="hexagon">
                  <a:avLst>
                    <a:gd name="adj" fmla="val 29875"/>
                    <a:gd name="vf" fmla="val 115470"/>
                  </a:avLst>
                </a:prstGeom>
                <a:gradFill rotWithShape="0">
                  <a:gsLst>
                    <a:gs pos="0">
                      <a:srgbClr val="163e52"/>
                    </a:gs>
                    <a:gs pos="100000">
                      <a:srgbClr val="2f86b1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Line 11"/>
              <p:cNvSpPr/>
              <p:nvPr/>
            </p:nvSpPr>
            <p:spPr>
              <a:xfrm>
                <a:off x="633240" y="2041560"/>
                <a:ext cx="35784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34" name="Text Box 12"/>
              <p:cNvSpPr/>
              <p:nvPr/>
            </p:nvSpPr>
            <p:spPr>
              <a:xfrm>
                <a:off x="908640" y="1581120"/>
                <a:ext cx="3109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Развитие зрительного гнозиса </a:t>
                </a:r>
                <a:endParaRPr b="0" lang="en-US" sz="16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35" name="Text Box 13"/>
              <p:cNvSpPr/>
              <p:nvPr/>
            </p:nvSpPr>
            <p:spPr>
              <a:xfrm>
                <a:off x="325800" y="1557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36" name="Line 14"/>
              <p:cNvSpPr/>
              <p:nvPr/>
            </p:nvSpPr>
            <p:spPr>
              <a:xfrm>
                <a:off x="633240" y="2878200"/>
                <a:ext cx="35784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37" name="Text Box 15"/>
              <p:cNvSpPr/>
              <p:nvPr/>
            </p:nvSpPr>
            <p:spPr>
              <a:xfrm>
                <a:off x="909000" y="2373480"/>
                <a:ext cx="31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Развитие зрительного мнезиса</a:t>
                </a:r>
                <a:endParaRPr b="0" lang="en-US" sz="16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38" name="Text Box 16"/>
              <p:cNvSpPr/>
              <p:nvPr/>
            </p:nvSpPr>
            <p:spPr>
              <a:xfrm>
                <a:off x="277920" y="2411280"/>
                <a:ext cx="47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grpSp>
            <p:nvGrpSpPr>
              <p:cNvPr id="239" name="Group 17"/>
              <p:cNvGrpSpPr/>
              <p:nvPr/>
            </p:nvGrpSpPr>
            <p:grpSpPr>
              <a:xfrm>
                <a:off x="179280" y="3137040"/>
                <a:ext cx="720360" cy="607680"/>
                <a:chOff x="179280" y="3137040"/>
                <a:chExt cx="720360" cy="607680"/>
              </a:xfrm>
            </p:grpSpPr>
            <p:sp>
              <p:nvSpPr>
                <p:cNvPr id="240" name="AutoShape 18"/>
                <p:cNvSpPr/>
                <p:nvPr/>
              </p:nvSpPr>
              <p:spPr>
                <a:xfrm>
                  <a:off x="185040" y="314712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19"/>
                <p:cNvSpPr/>
                <p:nvPr/>
              </p:nvSpPr>
              <p:spPr>
                <a:xfrm>
                  <a:off x="179280" y="313704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42" name="AutoShape 20"/>
                <p:cNvSpPr/>
                <p:nvPr/>
              </p:nvSpPr>
              <p:spPr>
                <a:xfrm>
                  <a:off x="220320" y="3173400"/>
                  <a:ext cx="628920" cy="525600"/>
                </a:xfrm>
                <a:prstGeom prst="hexagon">
                  <a:avLst>
                    <a:gd name="adj" fmla="val 29892"/>
                    <a:gd name="vf" fmla="val 115470"/>
                  </a:avLst>
                </a:prstGeom>
                <a:gradFill rotWithShape="0">
                  <a:gsLst>
                    <a:gs pos="0">
                      <a:srgbClr val="193d2e"/>
                    </a:gs>
                    <a:gs pos="100000">
                      <a:srgbClr val="368463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Line 25"/>
              <p:cNvSpPr/>
              <p:nvPr/>
            </p:nvSpPr>
            <p:spPr>
              <a:xfrm>
                <a:off x="633240" y="3693960"/>
                <a:ext cx="35784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44" name="Text Box 26"/>
              <p:cNvSpPr/>
              <p:nvPr/>
            </p:nvSpPr>
            <p:spPr>
              <a:xfrm>
                <a:off x="900000" y="2997360"/>
                <a:ext cx="35276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Развитие зрительно-пространственных представлений</a:t>
                </a:r>
                <a:r>
                  <a:rPr b="0" lang="ru-RU" sz="18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45" name="Text Box 27"/>
              <p:cNvSpPr/>
              <p:nvPr/>
            </p:nvSpPr>
            <p:spPr>
              <a:xfrm>
                <a:off x="277920" y="3227400"/>
                <a:ext cx="47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grpSp>
            <p:nvGrpSpPr>
              <p:cNvPr id="246" name="Group 21"/>
              <p:cNvGrpSpPr/>
              <p:nvPr/>
            </p:nvGrpSpPr>
            <p:grpSpPr>
              <a:xfrm>
                <a:off x="179280" y="3973680"/>
                <a:ext cx="720720" cy="607320"/>
                <a:chOff x="179280" y="3973680"/>
                <a:chExt cx="720720" cy="607320"/>
              </a:xfrm>
            </p:grpSpPr>
            <p:sp>
              <p:nvSpPr>
                <p:cNvPr id="247" name="AutoShape 22"/>
                <p:cNvSpPr/>
                <p:nvPr/>
              </p:nvSpPr>
              <p:spPr>
                <a:xfrm>
                  <a:off x="185400" y="3983760"/>
                  <a:ext cx="714600" cy="597240"/>
                </a:xfrm>
                <a:prstGeom prst="hexagon">
                  <a:avLst>
                    <a:gd name="adj" fmla="val 2991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48" name="AutoShape 23"/>
                <p:cNvSpPr/>
                <p:nvPr/>
              </p:nvSpPr>
              <p:spPr>
                <a:xfrm>
                  <a:off x="179280" y="3973680"/>
                  <a:ext cx="714600" cy="597240"/>
                </a:xfrm>
                <a:prstGeom prst="hexagon">
                  <a:avLst>
                    <a:gd name="adj" fmla="val 2991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49" name="AutoShape 24"/>
                <p:cNvSpPr/>
                <p:nvPr/>
              </p:nvSpPr>
              <p:spPr>
                <a:xfrm>
                  <a:off x="220680" y="4010040"/>
                  <a:ext cx="628560" cy="52524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gradFill rotWithShape="0">
                  <a:gsLst>
                    <a:gs pos="0">
                      <a:srgbClr val="163e52"/>
                    </a:gs>
                    <a:gs pos="100000">
                      <a:srgbClr val="2f86b1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28"/>
              <p:cNvSpPr/>
              <p:nvPr/>
            </p:nvSpPr>
            <p:spPr>
              <a:xfrm>
                <a:off x="633240" y="4530600"/>
                <a:ext cx="35784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51" name="Text Box 29"/>
              <p:cNvSpPr/>
              <p:nvPr/>
            </p:nvSpPr>
            <p:spPr>
              <a:xfrm>
                <a:off x="909000" y="3860640"/>
                <a:ext cx="316476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Развитие зрительного анализа </a:t>
                </a:r>
                <a:endParaRPr b="0" lang="en-US" sz="1600" spc="-1" strike="noStrike">
                  <a:solidFill>
                    <a:srgbClr val="335338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и синтеза</a:t>
                </a:r>
                <a:r>
                  <a:rPr b="0" lang="ru-RU" sz="18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52" name="Text Box 30"/>
              <p:cNvSpPr/>
              <p:nvPr/>
            </p:nvSpPr>
            <p:spPr>
              <a:xfrm>
                <a:off x="277920" y="4062240"/>
                <a:ext cx="47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grpSp>
            <p:nvGrpSpPr>
              <p:cNvPr id="253" name="Group 34"/>
              <p:cNvGrpSpPr/>
              <p:nvPr/>
            </p:nvGrpSpPr>
            <p:grpSpPr>
              <a:xfrm>
                <a:off x="4427640" y="1557360"/>
                <a:ext cx="718920" cy="593640"/>
                <a:chOff x="4427640" y="1557360"/>
                <a:chExt cx="718920" cy="593640"/>
              </a:xfrm>
            </p:grpSpPr>
            <p:sp>
              <p:nvSpPr>
                <p:cNvPr id="254" name="AutoShape 35"/>
                <p:cNvSpPr/>
                <p:nvPr/>
              </p:nvSpPr>
              <p:spPr>
                <a:xfrm>
                  <a:off x="4433400" y="1567440"/>
                  <a:ext cx="713160" cy="583560"/>
                </a:xfrm>
                <a:prstGeom prst="hexagon">
                  <a:avLst>
                    <a:gd name="adj" fmla="val 30552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55" name="AutoShape 36"/>
                <p:cNvSpPr/>
                <p:nvPr/>
              </p:nvSpPr>
              <p:spPr>
                <a:xfrm>
                  <a:off x="4427640" y="1557360"/>
                  <a:ext cx="713160" cy="583560"/>
                </a:xfrm>
                <a:prstGeom prst="hexagon">
                  <a:avLst>
                    <a:gd name="adj" fmla="val 3055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56" name="AutoShape 37"/>
                <p:cNvSpPr/>
                <p:nvPr/>
              </p:nvSpPr>
              <p:spPr>
                <a:xfrm>
                  <a:off x="4468680" y="1591920"/>
                  <a:ext cx="627120" cy="512640"/>
                </a:xfrm>
                <a:prstGeom prst="hexagon">
                  <a:avLst>
                    <a:gd name="adj" fmla="val 30532"/>
                    <a:gd name="vf" fmla="val 115470"/>
                  </a:avLst>
                </a:prstGeom>
                <a:gradFill rotWithShape="0">
                  <a:gsLst>
                    <a:gs pos="0">
                      <a:srgbClr val="193d2e"/>
                    </a:gs>
                    <a:gs pos="100000">
                      <a:srgbClr val="368463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38"/>
              <p:cNvGrpSpPr/>
              <p:nvPr/>
            </p:nvGrpSpPr>
            <p:grpSpPr>
              <a:xfrm>
                <a:off x="4427640" y="2349360"/>
                <a:ext cx="718560" cy="595440"/>
                <a:chOff x="4427640" y="2349360"/>
                <a:chExt cx="718560" cy="595440"/>
              </a:xfrm>
            </p:grpSpPr>
            <p:sp>
              <p:nvSpPr>
                <p:cNvPr id="258" name="AutoShape 39"/>
                <p:cNvSpPr/>
                <p:nvPr/>
              </p:nvSpPr>
              <p:spPr>
                <a:xfrm>
                  <a:off x="4433400" y="2359440"/>
                  <a:ext cx="712800" cy="585360"/>
                </a:xfrm>
                <a:prstGeom prst="hexagon">
                  <a:avLst>
                    <a:gd name="adj" fmla="val 3044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59" name="AutoShape 40"/>
                <p:cNvSpPr/>
                <p:nvPr/>
              </p:nvSpPr>
              <p:spPr>
                <a:xfrm>
                  <a:off x="4427640" y="2349360"/>
                  <a:ext cx="713160" cy="585360"/>
                </a:xfrm>
                <a:prstGeom prst="hexagon">
                  <a:avLst>
                    <a:gd name="adj" fmla="val 3045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60" name="AutoShape 41"/>
                <p:cNvSpPr/>
                <p:nvPr/>
              </p:nvSpPr>
              <p:spPr>
                <a:xfrm>
                  <a:off x="4468680" y="2383920"/>
                  <a:ext cx="627120" cy="514440"/>
                </a:xfrm>
                <a:prstGeom prst="hexagon">
                  <a:avLst>
                    <a:gd name="adj" fmla="val 30425"/>
                    <a:gd name="vf" fmla="val 115470"/>
                  </a:avLst>
                </a:prstGeom>
                <a:gradFill rotWithShape="0">
                  <a:gsLst>
                    <a:gs pos="0">
                      <a:srgbClr val="163e52"/>
                    </a:gs>
                    <a:gs pos="100000">
                      <a:srgbClr val="2f86b1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Line 42"/>
              <p:cNvSpPr/>
              <p:nvPr/>
            </p:nvSpPr>
            <p:spPr>
              <a:xfrm>
                <a:off x="4987800" y="2101680"/>
                <a:ext cx="3832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62" name="Text Box 43"/>
              <p:cNvSpPr/>
              <p:nvPr/>
            </p:nvSpPr>
            <p:spPr>
              <a:xfrm>
                <a:off x="5277600" y="1628640"/>
                <a:ext cx="345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Формирование понятия величины</a:t>
                </a:r>
                <a:r>
                  <a:rPr b="0" lang="ru-RU" sz="18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63" name="Text Box 44"/>
              <p:cNvSpPr/>
              <p:nvPr/>
            </p:nvSpPr>
            <p:spPr>
              <a:xfrm>
                <a:off x="4572000" y="1628640"/>
                <a:ext cx="45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64" name="Line 45"/>
              <p:cNvSpPr/>
              <p:nvPr/>
            </p:nvSpPr>
            <p:spPr>
              <a:xfrm>
                <a:off x="4987800" y="2917800"/>
                <a:ext cx="3832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65" name="Text Box 47"/>
              <p:cNvSpPr/>
              <p:nvPr/>
            </p:nvSpPr>
            <p:spPr>
              <a:xfrm>
                <a:off x="4500720" y="2492280"/>
                <a:ext cx="52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grpSp>
            <p:nvGrpSpPr>
              <p:cNvPr id="266" name="Group 48"/>
              <p:cNvGrpSpPr/>
              <p:nvPr/>
            </p:nvGrpSpPr>
            <p:grpSpPr>
              <a:xfrm>
                <a:off x="4356000" y="3141720"/>
                <a:ext cx="792360" cy="595080"/>
                <a:chOff x="4356000" y="3141720"/>
                <a:chExt cx="792360" cy="595080"/>
              </a:xfrm>
            </p:grpSpPr>
            <p:sp>
              <p:nvSpPr>
                <p:cNvPr id="267" name="AutoShape 49"/>
                <p:cNvSpPr/>
                <p:nvPr/>
              </p:nvSpPr>
              <p:spPr>
                <a:xfrm>
                  <a:off x="4362480" y="3151800"/>
                  <a:ext cx="785880" cy="585000"/>
                </a:xfrm>
                <a:prstGeom prst="hexagon">
                  <a:avLst>
                    <a:gd name="adj" fmla="val 3358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50"/>
                <p:cNvSpPr/>
                <p:nvPr/>
              </p:nvSpPr>
              <p:spPr>
                <a:xfrm>
                  <a:off x="4356000" y="3141720"/>
                  <a:ext cx="785880" cy="585000"/>
                </a:xfrm>
                <a:prstGeom prst="hexagon">
                  <a:avLst>
                    <a:gd name="adj" fmla="val 3358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51"/>
                <p:cNvSpPr/>
                <p:nvPr/>
              </p:nvSpPr>
              <p:spPr>
                <a:xfrm>
                  <a:off x="4401720" y="3176280"/>
                  <a:ext cx="690480" cy="514080"/>
                </a:xfrm>
                <a:prstGeom prst="hexagon">
                  <a:avLst>
                    <a:gd name="adj" fmla="val 33547"/>
                    <a:gd name="vf" fmla="val 115470"/>
                  </a:avLst>
                </a:prstGeom>
                <a:gradFill rotWithShape="0">
                  <a:gsLst>
                    <a:gs pos="0">
                      <a:srgbClr val="193d2e"/>
                    </a:gs>
                    <a:gs pos="100000">
                      <a:srgbClr val="368463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52"/>
              <p:cNvGrpSpPr/>
              <p:nvPr/>
            </p:nvGrpSpPr>
            <p:grpSpPr>
              <a:xfrm>
                <a:off x="4427640" y="3987720"/>
                <a:ext cx="720720" cy="593640"/>
                <a:chOff x="4427640" y="3987720"/>
                <a:chExt cx="720720" cy="593640"/>
              </a:xfrm>
            </p:grpSpPr>
            <p:sp>
              <p:nvSpPr>
                <p:cNvPr id="271" name="AutoShape 53"/>
                <p:cNvSpPr/>
                <p:nvPr/>
              </p:nvSpPr>
              <p:spPr>
                <a:xfrm>
                  <a:off x="4433760" y="3997800"/>
                  <a:ext cx="714600" cy="583560"/>
                </a:xfrm>
                <a:prstGeom prst="hexagon">
                  <a:avLst>
                    <a:gd name="adj" fmla="val 30614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54"/>
                <p:cNvSpPr/>
                <p:nvPr/>
              </p:nvSpPr>
              <p:spPr>
                <a:xfrm>
                  <a:off x="4427640" y="3987720"/>
                  <a:ext cx="714600" cy="583560"/>
                </a:xfrm>
                <a:prstGeom prst="hexagon">
                  <a:avLst>
                    <a:gd name="adj" fmla="val 30614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55"/>
                <p:cNvSpPr/>
                <p:nvPr/>
              </p:nvSpPr>
              <p:spPr>
                <a:xfrm>
                  <a:off x="4469040" y="4022280"/>
                  <a:ext cx="628560" cy="512640"/>
                </a:xfrm>
                <a:prstGeom prst="hexagon">
                  <a:avLst>
                    <a:gd name="adj" fmla="val 30602"/>
                    <a:gd name="vf" fmla="val 115470"/>
                  </a:avLst>
                </a:prstGeom>
                <a:gradFill rotWithShape="0">
                  <a:gsLst>
                    <a:gs pos="0">
                      <a:srgbClr val="163e52"/>
                    </a:gs>
                    <a:gs pos="100000">
                      <a:srgbClr val="2f86b1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Line 56"/>
              <p:cNvSpPr/>
              <p:nvPr/>
            </p:nvSpPr>
            <p:spPr>
              <a:xfrm>
                <a:off x="4987800" y="3714840"/>
                <a:ext cx="3832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75" name="Text Box 57"/>
              <p:cNvSpPr/>
              <p:nvPr/>
            </p:nvSpPr>
            <p:spPr>
              <a:xfrm>
                <a:off x="5087160" y="2924280"/>
                <a:ext cx="3576240" cy="85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Формирование общих и единичных </a:t>
                </a:r>
                <a:endParaRPr b="0" lang="en-US" sz="1600" spc="-1" strike="noStrike">
                  <a:solidFill>
                    <a:srgbClr val="335338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категорий для повышения</a:t>
                </a:r>
                <a:endParaRPr b="0" lang="en-US" sz="1600" spc="-1" strike="noStrike">
                  <a:solidFill>
                    <a:srgbClr val="335338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эффективности узнавания</a:t>
                </a:r>
                <a:r>
                  <a:rPr b="0" lang="ru-RU" sz="18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76" name="Text Box 58"/>
              <p:cNvSpPr/>
              <p:nvPr/>
            </p:nvSpPr>
            <p:spPr>
              <a:xfrm>
                <a:off x="4500720" y="3213000"/>
                <a:ext cx="45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77" name="Line 59"/>
              <p:cNvSpPr/>
              <p:nvPr/>
            </p:nvSpPr>
            <p:spPr>
              <a:xfrm>
                <a:off x="4987800" y="4532400"/>
                <a:ext cx="3832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78" name="Text Box 61"/>
              <p:cNvSpPr/>
              <p:nvPr/>
            </p:nvSpPr>
            <p:spPr>
              <a:xfrm>
                <a:off x="4500720" y="4076640"/>
                <a:ext cx="54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79" name="Line 68"/>
              <p:cNvSpPr/>
              <p:nvPr/>
            </p:nvSpPr>
            <p:spPr>
              <a:xfrm>
                <a:off x="633240" y="5354640"/>
                <a:ext cx="35784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0" name="Text Box 69"/>
              <p:cNvSpPr/>
              <p:nvPr/>
            </p:nvSpPr>
            <p:spPr>
              <a:xfrm>
                <a:off x="978120" y="4797360"/>
                <a:ext cx="300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Развитие буквенного гнозиса</a:t>
                </a:r>
                <a:r>
                  <a:rPr b="0" lang="ru-RU" sz="18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1" name="Text Box 70"/>
              <p:cNvSpPr/>
              <p:nvPr/>
            </p:nvSpPr>
            <p:spPr>
              <a:xfrm>
                <a:off x="279720" y="48862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grpSp>
            <p:nvGrpSpPr>
              <p:cNvPr id="282" name="Group 72"/>
              <p:cNvGrpSpPr/>
              <p:nvPr/>
            </p:nvGrpSpPr>
            <p:grpSpPr>
              <a:xfrm>
                <a:off x="250920" y="5734080"/>
                <a:ext cx="720720" cy="607680"/>
                <a:chOff x="250920" y="5734080"/>
                <a:chExt cx="720720" cy="607680"/>
              </a:xfrm>
            </p:grpSpPr>
            <p:sp>
              <p:nvSpPr>
                <p:cNvPr id="283" name="AutoShape 73"/>
                <p:cNvSpPr/>
                <p:nvPr/>
              </p:nvSpPr>
              <p:spPr>
                <a:xfrm>
                  <a:off x="257040" y="574416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74"/>
                <p:cNvSpPr/>
                <p:nvPr/>
              </p:nvSpPr>
              <p:spPr>
                <a:xfrm>
                  <a:off x="250920" y="573408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75"/>
                <p:cNvSpPr/>
                <p:nvPr/>
              </p:nvSpPr>
              <p:spPr>
                <a:xfrm>
                  <a:off x="292320" y="5770440"/>
                  <a:ext cx="628560" cy="525600"/>
                </a:xfrm>
                <a:prstGeom prst="hexagon">
                  <a:avLst>
                    <a:gd name="adj" fmla="val 29875"/>
                    <a:gd name="vf" fmla="val 115470"/>
                  </a:avLst>
                </a:prstGeom>
                <a:gradFill rotWithShape="0">
                  <a:gsLst>
                    <a:gs pos="0">
                      <a:srgbClr val="163e52"/>
                    </a:gs>
                    <a:gs pos="100000">
                      <a:srgbClr val="2f86b1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Line 76"/>
              <p:cNvSpPr/>
              <p:nvPr/>
            </p:nvSpPr>
            <p:spPr>
              <a:xfrm>
                <a:off x="704880" y="6291360"/>
                <a:ext cx="357804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7" name="Text Box 77"/>
              <p:cNvSpPr/>
              <p:nvPr/>
            </p:nvSpPr>
            <p:spPr>
              <a:xfrm>
                <a:off x="908280" y="5661000"/>
                <a:ext cx="3474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Развитие зрительного восприятия.</a:t>
                </a:r>
                <a:endParaRPr b="0" lang="en-US" sz="1600" spc="-1" strike="noStrike">
                  <a:solidFill>
                    <a:srgbClr val="335338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Цвета спектра.</a:t>
                </a:r>
                <a:endParaRPr b="0" lang="en-US" sz="16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8" name="Text Box 78"/>
              <p:cNvSpPr/>
              <p:nvPr/>
            </p:nvSpPr>
            <p:spPr>
              <a:xfrm>
                <a:off x="349200" y="5823000"/>
                <a:ext cx="47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grpSp>
            <p:nvGrpSpPr>
              <p:cNvPr id="289" name="Group 79"/>
              <p:cNvGrpSpPr/>
              <p:nvPr/>
            </p:nvGrpSpPr>
            <p:grpSpPr>
              <a:xfrm>
                <a:off x="179280" y="4797360"/>
                <a:ext cx="720360" cy="607680"/>
                <a:chOff x="179280" y="4797360"/>
                <a:chExt cx="720360" cy="607680"/>
              </a:xfrm>
            </p:grpSpPr>
            <p:sp>
              <p:nvSpPr>
                <p:cNvPr id="290" name="AutoShape 80"/>
                <p:cNvSpPr/>
                <p:nvPr/>
              </p:nvSpPr>
              <p:spPr>
                <a:xfrm>
                  <a:off x="185040" y="480744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91" name="AutoShape 81"/>
                <p:cNvSpPr/>
                <p:nvPr/>
              </p:nvSpPr>
              <p:spPr>
                <a:xfrm>
                  <a:off x="179280" y="479736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92" name="AutoShape 82"/>
                <p:cNvSpPr/>
                <p:nvPr/>
              </p:nvSpPr>
              <p:spPr>
                <a:xfrm>
                  <a:off x="220320" y="4833720"/>
                  <a:ext cx="628920" cy="525600"/>
                </a:xfrm>
                <a:prstGeom prst="hexagon">
                  <a:avLst>
                    <a:gd name="adj" fmla="val 29892"/>
                    <a:gd name="vf" fmla="val 115470"/>
                  </a:avLst>
                </a:prstGeom>
                <a:gradFill rotWithShape="0">
                  <a:gsLst>
                    <a:gs pos="0">
                      <a:srgbClr val="193d2e"/>
                    </a:gs>
                    <a:gs pos="100000">
                      <a:srgbClr val="368463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24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84"/>
              <p:cNvGrpSpPr/>
              <p:nvPr/>
            </p:nvGrpSpPr>
            <p:grpSpPr>
              <a:xfrm>
                <a:off x="4427640" y="4869000"/>
                <a:ext cx="763200" cy="607680"/>
                <a:chOff x="4427640" y="4869000"/>
                <a:chExt cx="763200" cy="607680"/>
              </a:xfrm>
            </p:grpSpPr>
            <p:sp>
              <p:nvSpPr>
                <p:cNvPr id="294" name="AutoShape 85"/>
                <p:cNvSpPr/>
                <p:nvPr/>
              </p:nvSpPr>
              <p:spPr>
                <a:xfrm>
                  <a:off x="4433760" y="4879080"/>
                  <a:ext cx="757080" cy="597600"/>
                </a:xfrm>
                <a:prstGeom prst="hexagon">
                  <a:avLst>
                    <a:gd name="adj" fmla="val 31672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95" name="AutoShape 86"/>
                <p:cNvSpPr/>
                <p:nvPr/>
              </p:nvSpPr>
              <p:spPr>
                <a:xfrm>
                  <a:off x="4427640" y="4869000"/>
                  <a:ext cx="757080" cy="597600"/>
                </a:xfrm>
                <a:prstGeom prst="hexagon">
                  <a:avLst>
                    <a:gd name="adj" fmla="val 3167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96" name="AutoShape 87"/>
                <p:cNvSpPr/>
                <p:nvPr/>
              </p:nvSpPr>
              <p:spPr>
                <a:xfrm>
                  <a:off x="4471920" y="4905360"/>
                  <a:ext cx="664920" cy="525600"/>
                </a:xfrm>
                <a:prstGeom prst="hexagon">
                  <a:avLst>
                    <a:gd name="adj" fmla="val 31650"/>
                    <a:gd name="vf" fmla="val 115470"/>
                  </a:avLst>
                </a:prstGeom>
                <a:gradFill rotWithShape="0">
                  <a:gsLst>
                    <a:gs pos="0">
                      <a:srgbClr val="193d2e"/>
                    </a:gs>
                    <a:gs pos="100000">
                      <a:srgbClr val="368463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88"/>
              <p:cNvGrpSpPr/>
              <p:nvPr/>
            </p:nvGrpSpPr>
            <p:grpSpPr>
              <a:xfrm>
                <a:off x="4500720" y="5805360"/>
                <a:ext cx="763560" cy="607680"/>
                <a:chOff x="4500720" y="5805360"/>
                <a:chExt cx="763560" cy="607680"/>
              </a:xfrm>
            </p:grpSpPr>
            <p:sp>
              <p:nvSpPr>
                <p:cNvPr id="298" name="AutoShape 89"/>
                <p:cNvSpPr/>
                <p:nvPr/>
              </p:nvSpPr>
              <p:spPr>
                <a:xfrm>
                  <a:off x="4507200" y="5815440"/>
                  <a:ext cx="757080" cy="597600"/>
                </a:xfrm>
                <a:prstGeom prst="hexagon">
                  <a:avLst>
                    <a:gd name="adj" fmla="val 31672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99" name="AutoShape 90"/>
                <p:cNvSpPr/>
                <p:nvPr/>
              </p:nvSpPr>
              <p:spPr>
                <a:xfrm>
                  <a:off x="4500720" y="5805360"/>
                  <a:ext cx="757080" cy="597600"/>
                </a:xfrm>
                <a:prstGeom prst="hexagon">
                  <a:avLst>
                    <a:gd name="adj" fmla="val 3167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91"/>
                <p:cNvSpPr/>
                <p:nvPr/>
              </p:nvSpPr>
              <p:spPr>
                <a:xfrm>
                  <a:off x="4545000" y="5841720"/>
                  <a:ext cx="664920" cy="525600"/>
                </a:xfrm>
                <a:prstGeom prst="hexagon">
                  <a:avLst>
                    <a:gd name="adj" fmla="val 31650"/>
                    <a:gd name="vf" fmla="val 115470"/>
                  </a:avLst>
                </a:prstGeom>
                <a:gradFill rotWithShape="0">
                  <a:gsLst>
                    <a:gs pos="0">
                      <a:srgbClr val="163e52"/>
                    </a:gs>
                    <a:gs pos="100000">
                      <a:srgbClr val="2f86b1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Line 92"/>
              <p:cNvSpPr/>
              <p:nvPr/>
            </p:nvSpPr>
            <p:spPr>
              <a:xfrm>
                <a:off x="5089680" y="5373720"/>
                <a:ext cx="37195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02" name="Text Box 93"/>
              <p:cNvSpPr/>
              <p:nvPr/>
            </p:nvSpPr>
            <p:spPr>
              <a:xfrm>
                <a:off x="5297760" y="4941720"/>
                <a:ext cx="1681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Мимика, жесты</a:t>
                </a:r>
                <a:r>
                  <a:rPr b="0" lang="ru-RU" sz="18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03" name="Text Box 94"/>
              <p:cNvSpPr/>
              <p:nvPr/>
            </p:nvSpPr>
            <p:spPr>
              <a:xfrm>
                <a:off x="4574160" y="49417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04" name="Line 95"/>
              <p:cNvSpPr/>
              <p:nvPr/>
            </p:nvSpPr>
            <p:spPr>
              <a:xfrm>
                <a:off x="5046840" y="6361200"/>
                <a:ext cx="3773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05" name="Text Box 96"/>
              <p:cNvSpPr/>
              <p:nvPr/>
            </p:nvSpPr>
            <p:spPr>
              <a:xfrm>
                <a:off x="5370480" y="5877000"/>
                <a:ext cx="2815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Ориентация на профессию</a:t>
                </a:r>
                <a:r>
                  <a:rPr b="0" lang="ru-RU" sz="18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06" name="Text Box 97"/>
              <p:cNvSpPr/>
              <p:nvPr/>
            </p:nvSpPr>
            <p:spPr>
              <a:xfrm>
                <a:off x="4572000" y="5877000"/>
                <a:ext cx="57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Text Box 108"/>
          <p:cNvSpPr/>
          <p:nvPr/>
        </p:nvSpPr>
        <p:spPr>
          <a:xfrm>
            <a:off x="4734360" y="6540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08" name="Text Box 111"/>
          <p:cNvSpPr/>
          <p:nvPr/>
        </p:nvSpPr>
        <p:spPr>
          <a:xfrm>
            <a:off x="4734360" y="737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7634160" cy="237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5338"/>
                </a:solidFill>
                <a:latin typeface="Verdana"/>
              </a:rPr>
              <a:t>Компьютерные технологии в логопедической работе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омпьютерные технологии в логопедической работе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1" name="Picture 5" descr="Method1"/>
          <p:cNvPicPr/>
          <p:nvPr/>
        </p:nvPicPr>
        <p:blipFill>
          <a:blip r:embed="rId1"/>
          <a:stretch/>
        </p:blipFill>
        <p:spPr>
          <a:xfrm>
            <a:off x="179280" y="1413000"/>
            <a:ext cx="3683160" cy="5184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Игры для Тигры1"/>
          <p:cNvPicPr/>
          <p:nvPr/>
        </p:nvPicPr>
        <p:blipFill>
          <a:blip r:embed="rId2"/>
          <a:stretch/>
        </p:blipFill>
        <p:spPr>
          <a:xfrm>
            <a:off x="3924360" y="765000"/>
            <a:ext cx="3887640" cy="291636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13"/>
          <p:cNvGrpSpPr/>
          <p:nvPr/>
        </p:nvGrpSpPr>
        <p:grpSpPr>
          <a:xfrm>
            <a:off x="4859280" y="3716280"/>
            <a:ext cx="3960360" cy="3141360"/>
            <a:chOff x="4859280" y="3716280"/>
            <a:chExt cx="3960360" cy="3141360"/>
          </a:xfrm>
        </p:grpSpPr>
        <p:pic>
          <p:nvPicPr>
            <p:cNvPr id="314" name="Picture 10" descr="delfa142"/>
            <p:cNvPicPr/>
            <p:nvPr/>
          </p:nvPicPr>
          <p:blipFill>
            <a:blip r:embed="rId3"/>
            <a:stretch/>
          </p:blipFill>
          <p:spPr>
            <a:xfrm>
              <a:off x="4859280" y="3716280"/>
              <a:ext cx="3960360" cy="31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WordArt 12"/>
            <p:cNvSpPr txBox="1"/>
            <p:nvPr/>
          </p:nvSpPr>
          <p:spPr>
            <a:xfrm>
              <a:off x="5153400" y="3868560"/>
              <a:ext cx="348228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5338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Логопедический тренажер "Дэльфа 142"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5338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slow">
    <p:strips dir="l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чимся с Логошей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7" name="Picture 5" descr="Less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Poi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Co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5:11:16Z</dcterms:created>
  <dc:creator>Эдуард</dc:creator>
  <dc:description/>
  <dc:language>en-US</dc:language>
  <cp:lastModifiedBy>Valentina</cp:lastModifiedBy>
  <dcterms:modified xsi:type="dcterms:W3CDTF">2012-06-05T16:21:25Z</dcterms:modified>
  <cp:revision>50</cp:revision>
  <dc:subject/>
  <dc:title>МДОУ «Детский сад №229» компенсирующего вида г. Новокузнецк</dc:title>
</cp:coreProperties>
</file>