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F16-A44C-426C-92FA-5DE00E6E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0F2-D025-4909-A1EF-FD411428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C77721-9DFE-47FE-928A-A045ABA8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4C63BC-4212-42C9-A496-5419A19F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C11335-BCF5-4E6D-8FD5-C3CB5DFD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5FCFF4-F431-4B3B-80B8-4416D27F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150EDD-AD40-4615-A226-D12F994E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1414C3-7F82-4970-A66B-645D01ED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873E00-6711-48AB-B432-7AB589EA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9624E0-E542-41CE-8381-005A3EBA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EF7AA4-462B-4580-8104-9B686730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266E8-92D8-4FCD-AC6C-66BFC29F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065-19A2-4AC4-89F6-C94D69D8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F0815-65B9-4620-A530-8722A711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B697B-2852-42DD-A9AF-2EFA3516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5B076-D60C-40F8-A44E-C968DB55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6B551-A766-47E7-BDAE-204B7EF2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C608E-2EE6-458F-836B-7B13C5C6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209A1-C743-4CF5-9164-EF8764B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BA803-AAB2-4222-8095-14BAC000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32ABC-6B3A-4538-BBC3-0E5605A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2F0B6-130A-42B3-8919-E353CF82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D6822-C169-4917-B3D7-E63DA778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85C-04F1-43D9-9FE4-765FE6AD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6347A-A971-4B61-AB89-8362EA34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7D56B-845E-4EC5-866A-7102EE1E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D05B5-0FC5-44C2-8FEF-5B511C35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3A293-704A-4104-AEA6-E46DA16D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7C4C3-9781-4F8D-9A58-86CC194B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5106C-5593-4E77-B808-6856F6B2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EB8FD-8611-4398-BCA1-50347299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41EE7-DFFD-4EDD-B960-268E87FC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32C11-3E59-4CB7-9C72-8E11DC7A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C218-1355-4E9F-90A2-6162645B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7C81-6401-4127-BACB-A46BAD3B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B92D4-97BC-43AC-AE1C-1638C4AA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555F3-001D-49BE-B918-9321F9BC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FC95B-F8B4-45A9-8901-B995510E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DFC21-85C6-42E0-BAA4-04DA3919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1F2DA-AD9A-4590-8B25-B755939F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708B6-4FC4-4694-8BA0-742A1EE9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22016-1F50-4049-8EE1-2CD39F3B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39246-11CE-480F-B964-1884FCEE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E6B76-EA4F-4893-8CAD-183EAE63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C6A33-4C82-4773-8C7B-1B207822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4357-938B-41C1-B36C-C9994D5C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0F73E-7A7B-405A-8EB4-07BA1C9D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E59E0-9AB8-40FC-8923-893481C9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8A8AB-AB78-490A-9545-67BD5ACC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AD88F-730F-4C6F-B8F4-9F9939B9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CB0AA-7508-42CA-B9BC-7D59E034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818BA-0C82-4BF8-AC2F-FEB460D8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ABD4E9-88FD-48B0-B2BD-CB341FBD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308CF-34C3-4F43-9F4C-4A45CD71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AB2CB-F861-44E4-86CF-1CA38DF4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1954E-9C32-4F16-875D-F647675C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9BEA-B38E-4898-B5C5-08305080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BB660-E500-47DF-8BAB-11E4BF28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6F262-F616-4C3E-8719-71C97F4C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E0F01-E7F8-4336-9133-75CCEFA0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3E5B1-54D9-45B6-B78A-6ED76EA3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6E0E4-6581-4358-BE29-C9FA6E5F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2461F-51D6-49F8-964A-7208ECF5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90114-6393-4927-A9ED-562DCD71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7CDF9-3E7B-42DF-8C75-2CA29FA1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D4F9F-C707-4784-B6D4-174A2670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3BA7E-E12C-4E90-87A5-FD99E433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117C-2791-4AEF-84CB-D8B045A2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2C16E-3D2E-4236-A482-F81E3AD3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9AB65F-4E79-4538-9996-8D9B106F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F3102-4E8E-477A-ACFE-67BC384B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956AB-224F-461E-9564-FDA84338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7C365-5BD0-409A-95D1-D4E628AE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93D44-6A3B-478F-B5A1-97F347F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30E12-73F3-4567-B2D7-E7B2BBBF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BCE79D-63DD-4D3D-B4AF-8DE171D7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2980C-1ED0-4264-8626-7B1DC5B5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808EEE-DD9A-422A-9168-D410A15B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E9EE-996C-4574-816D-459CDE46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C7BC5D-166F-4A28-AA51-57B93F11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68A03-BC8E-4484-B755-77BA9B70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947601-807D-4551-BFF4-6488D49C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E9084-7D97-423E-85B7-CFCE84F4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B0533-4386-4317-90E3-F1CCCD87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AC8A8A-45FD-4748-888A-8B9F84FD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FB366-18D1-4AC2-852E-E66964E1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51BF8-766D-4C4B-8A35-1FDFDE8D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B6311-6F5C-402F-A36C-F103325F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432F2-133A-4874-A1F5-3DF29244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FEC5-77ED-42AA-B7C0-349BE2CB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77B2A-4B03-4A3A-AF3C-2EC1F2EB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0AB00-2B28-4771-B4EB-57121322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228364-D48E-4AD3-81B9-5E112508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78D4F-FC02-4B20-ACF4-AA3B54DD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E3E7C-10AE-46ED-B70A-A24C6588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A2D40-EAC5-425C-BBBD-F16A7107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8DFA2-D682-4494-BFB6-1F1A2E9E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9C0BC-B021-426F-A7F3-E9B0ECCB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974FAB-9FFC-4D09-B24F-E86218DE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DFF3B3-CC8B-4173-B968-819386AD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C97E-33A4-4845-8982-2D6B126E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79959-F47D-4DA8-82C1-4F7ACCCC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7D47C-72AB-465D-BC83-5F273C19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26306-AD48-4D01-BD84-5F6AE24D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8A94D-CD88-4224-85D1-211A00E6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5CD4D-D0D3-4227-9B3D-B4ECA406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E72FF-6287-42F1-8DB9-492BD9E8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3524D7-75C6-49B5-B063-F6219E61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3E9B8-60A8-48B5-99D3-EF0D7DC8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6F0215-31CE-432A-BD8C-0B35AB06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F3C1C-7B3A-4954-9941-18AB905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E6F2-547F-458F-AB60-2D5ADA3D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3885-7827-4E7D-89C9-1EF514EF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841B07-9841-4405-9023-66F67F8B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64E37A-ACF9-464F-B2EE-80BD98C9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91485-88F3-4A54-9FB2-8A8DDE01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091DF-CCBE-42AB-BB9A-3416715E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27CF8-34A0-4FB3-BB31-9AB565E2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455693-840B-4BE0-8EC6-09560B9E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93ADAB-76EA-49F2-AFBD-33DE0BCB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027A8A-C721-4C28-8CB5-A0B2C631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F359C-BCA1-44CC-A393-E7E56170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699B9-7A01-42A5-BED7-559431DC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BE9E-FB7B-4253-BE02-A7B6925A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39F4FF-169F-45C4-BD45-60A4BE04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460E85-6DDD-442C-B84F-197F9C34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09668-C247-414D-A348-179456C3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D215B-7479-4CD0-8236-AEDEE46C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EAE24-4B7C-4DD7-976E-EC17E4CA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B932B-B0FE-4100-90E5-22028AA6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25264-3A9C-4E3D-B4D9-13E3959A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86AD-56EB-4935-A70D-341966B4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7F81-E577-4F27-A8C3-68DA7166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1B03-533D-4711-A5AB-1D90AEAE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2E2E-7905-47EB-9D4D-00F759F1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D9D3-1D12-4876-B82F-C87D88EC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2D190-0F87-42C6-8AF8-838CD5E4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46FFF-25AD-48FB-B4EC-0C0B59CE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A4AB-5C53-4EB7-822A-FE3A9F38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C5B-55C9-4C56-9049-565823FE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6ECB-7901-4C95-9005-55F7764A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DB075-FE35-4869-8B4F-ED903C24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948B-E7F6-4B1C-AF2A-F7BCD7D1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3FBB-EBEC-439F-B236-AF80953D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B79B-E816-4017-84FC-DD949801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8AAC-6C55-4B3D-BB1F-2CD43A0A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3C989-2957-41C2-8AD7-F31A7668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5DF7-6B1C-4D62-90DC-E60773C0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4FB1F-125E-47EE-A4DD-5ACF8BBC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F2642-7210-41E5-B5A4-2784D23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870-3836-40F7-A210-6F1F4DC6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06D86-4A1B-4402-A5DA-672A3D33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19EEF-55E6-483B-946A-9B54ED52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2A6CD-CD8F-43D4-9060-F36B5846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8F0E1-6D14-434F-9817-5D1C5090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4DD9-BD76-4532-962B-7B3B0992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5263-9E7B-4C14-9665-219A80BB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B9BB2-D641-4193-B29A-819E4CB2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7959C-5CD8-4993-B249-867BF846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9C412-8222-455F-9A6D-7BD4A47B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ECA00-B3F7-47B1-851A-56113166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11B-212B-42A3-8456-EA285774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16ABB-59A2-4A21-BFD8-AE3AE6B1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6D370-8585-4383-81B4-642E6DC6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C8D83-C37B-406A-8AA3-C7E8D1F7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3964-C2A7-4DF0-9BFF-F21CD2DA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1DCF-9F3D-4B2B-A30E-92990A9A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77F67-9C21-4B0A-A572-E44FDD8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07FC-9D03-476A-9627-2E68CB2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D03D5-0CC0-484E-9951-444C115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8F18E-61A8-4FF9-853B-A8E0E369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545F9-AF41-49F1-84C9-DD9ABA5C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CF8-1538-47FE-9B03-BCAA91B3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AD4A-D93C-4BBC-B2D5-990C355A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9F7BD-CE03-41A7-97AB-6A9B100A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5AC8E-B63A-4D0A-AAF1-CF62E13B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00B4A-5DA0-452A-AF99-B43C6594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543DC-BFDC-482E-A866-B912258D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41D28-4FC7-49A5-957D-9A99BB27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CE63C-1135-4ACC-B959-5068070D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EE2EB-9AF5-4900-8D8D-7A06618A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C8368-939F-45F7-A8A7-FEA2E0D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19018-FB4D-41F4-A561-34039B28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564-DF45-43D9-AB6B-FCF39A5B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54F7B-8387-458D-926B-E2F00BC7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D34C5-E6B0-4749-85C5-4CAA4A7E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FFB45-6798-4A86-9DA3-0464D1B7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0E792-A13B-4A83-A479-14255BB8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70DAD-5125-4067-80CB-E19D950A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2FE2F-49B2-4AB1-B4CA-936B8BC2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9402F-7742-4467-8175-0018C1AC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FA41A-47AF-4973-ADF2-CB8EC039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BD8F0-CC6F-4AE4-BC8B-5105D581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A995F-DE6E-4DA8-BB4A-7ED7C450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B6E-E4E5-4BBF-BDAD-5BE1462D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DEB26-DE73-481B-B300-E7F59B55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CE6A1-9FD9-4B78-82E9-853983A5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59BD3-820A-4DBC-9FDA-862C99B7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68C18-4587-4BF4-94CE-2474B91F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18B7C-EC8B-4ACB-9C02-9A06DBAD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0048D-7B80-4736-AF76-62AF491E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FC3D9-9847-48E6-A772-407723AA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A73CA-D4BC-4F84-B5D0-24EDBD0F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4EF23-7E22-4509-B874-E4334150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4324A-4E1E-4F95-9A0B-8F36F481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A17-4AC7-45A4-B208-6C4102F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37A50-9940-4D2E-857C-C6CBC36B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2334E-D3E2-4805-8746-32EF2755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1F2E9-EDBF-45AB-8040-17084D7F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E7CB8-4BAD-4A17-957B-33A89C94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FBC4F-F65D-4A2F-81BF-3AB3B67A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52D99-1716-4B6E-B6DD-383D7BFF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DA24-CF6F-406A-AA0C-65051905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7BAE3C-7165-4F0C-BE9B-FD8D5A2D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7E190A-8836-404A-8C76-588B3020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6BA94C-B29D-474D-9C9B-8E863E92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4036-8CD4-47BD-AB06-085859E44BB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06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09FE-0779-4560-A9E3-303481182E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55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5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6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8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80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1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1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080C-B04B-46FA-B47E-54913BAC5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6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C3D2-0E7A-437C-9AD9-0BC30B6D0E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17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54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8363-5B4E-4B72-842E-76F659633F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99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01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5EC1-3A7A-4E5A-A562-4738B64A5CF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07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D437-E5C9-42A3-A59A-789C53F42B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2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2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3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4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AF41-5EF5-4E73-BB02-7501C9B9FC5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4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15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5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C707-4A4E-45A5-B58F-9DFB0948FE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6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5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5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816B-5964-4D13-AA6C-A3F65E39D4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1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A023-8CAA-4A0E-9E72-DBB9566491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5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EA11-6BDB-45A3-B8DF-8941B0DEEC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8C8E-36F9-4EB5-BF8C-BFF8DE28C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9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8C84-45B2-4B8C-9E56-A40E3393CCA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74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31E7-CD16-4051-BDA9-495E4C0E82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1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2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3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8992-639E-4D46-B415-4509B0C289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1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6CDF-DC27-410C-A564-422422F596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1931-D978-4832-B2B7-B6312DC3F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5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5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4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Text Box 5"/>
          <p:cNvSpPr/>
          <p:nvPr/>
        </p:nvSpPr>
        <p:spPr>
          <a:xfrm>
            <a:off x="1066680" y="1752480"/>
            <a:ext cx="404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 из учебника задач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потрудней открылся шиф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Text Box 7"/>
          <p:cNvSpPr/>
          <p:nvPr/>
        </p:nvSpPr>
        <p:spPr>
          <a:xfrm>
            <a:off x="3044880" y="2666880"/>
            <a:ext cx="4089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ль важную игр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стые с виду десять цифр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Text Box 8"/>
          <p:cNvSpPr/>
          <p:nvPr/>
        </p:nvSpPr>
        <p:spPr>
          <a:xfrm>
            <a:off x="2361240" y="3581280"/>
            <a:ext cx="408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а, путь познания не гладок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Text Box 9"/>
          <p:cNvSpPr/>
          <p:nvPr/>
        </p:nvSpPr>
        <p:spPr>
          <a:xfrm>
            <a:off x="3347280" y="4038480"/>
            <a:ext cx="44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знайте вы со школьных л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 Box 10"/>
          <p:cNvSpPr/>
          <p:nvPr/>
        </p:nvSpPr>
        <p:spPr>
          <a:xfrm>
            <a:off x="4097160" y="4419720"/>
            <a:ext cx="43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гадок больше, чем разгадо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Text Box 11"/>
          <p:cNvSpPr/>
          <p:nvPr/>
        </p:nvSpPr>
        <p:spPr>
          <a:xfrm>
            <a:off x="4250160" y="4952880"/>
            <a:ext cx="339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 поискам предела н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 Box 12"/>
          <p:cNvSpPr/>
          <p:nvPr/>
        </p:nvSpPr>
        <p:spPr>
          <a:xfrm>
            <a:off x="914400" y="457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В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 м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и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р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е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м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г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ич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е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ск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и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х чи</a:t>
            </a:r>
            <a:r>
              <a:rPr b="1" lang="ru-RU" sz="3600" spc="-1" strike="noStrike">
                <a:solidFill>
                  <a:srgbClr val="ffffff"/>
                </a:solidFill>
                <a:latin typeface="DS Zombie Cyr"/>
              </a:rPr>
              <a:t>с</a:t>
            </a:r>
            <a:r>
              <a:rPr b="1" lang="ru-RU" sz="3600" spc="-1" strike="noStrike">
                <a:solidFill>
                  <a:srgbClr val="010199"/>
                </a:solidFill>
                <a:latin typeface="DS Zombie Cyr"/>
              </a:rPr>
              <a:t>ел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WordArt 13"/>
          <p:cNvSpPr txBox="1"/>
          <p:nvPr/>
        </p:nvSpPr>
        <p:spPr>
          <a:xfrm>
            <a:off x="2209680" y="4876920"/>
            <a:ext cx="228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8" name="WordArt 14"/>
          <p:cNvSpPr txBox="1"/>
          <p:nvPr/>
        </p:nvSpPr>
        <p:spPr>
          <a:xfrm>
            <a:off x="7238880" y="5943600"/>
            <a:ext cx="2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9" name="WordArt 15"/>
          <p:cNvSpPr txBox="1"/>
          <p:nvPr/>
        </p:nvSpPr>
        <p:spPr>
          <a:xfrm>
            <a:off x="1523880" y="4876920"/>
            <a:ext cx="228600" cy="2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0" name="WordArt 16"/>
          <p:cNvSpPr txBox="1"/>
          <p:nvPr/>
        </p:nvSpPr>
        <p:spPr>
          <a:xfrm>
            <a:off x="2590920" y="541008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1" name="WordArt 17"/>
          <p:cNvSpPr txBox="1"/>
          <p:nvPr/>
        </p:nvSpPr>
        <p:spPr>
          <a:xfrm>
            <a:off x="8001000" y="4800600"/>
            <a:ext cx="685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2" name="WordArt 18"/>
          <p:cNvSpPr txBox="1"/>
          <p:nvPr/>
        </p:nvSpPr>
        <p:spPr>
          <a:xfrm>
            <a:off x="838080" y="3886200"/>
            <a:ext cx="15264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3" name="WordArt 19"/>
          <p:cNvSpPr txBox="1"/>
          <p:nvPr/>
        </p:nvSpPr>
        <p:spPr>
          <a:xfrm>
            <a:off x="6019920" y="5791320"/>
            <a:ext cx="18072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cc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cc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4" name="WordArt 20"/>
          <p:cNvSpPr txBox="1"/>
          <p:nvPr/>
        </p:nvSpPr>
        <p:spPr>
          <a:xfrm>
            <a:off x="1828800" y="4495680"/>
            <a:ext cx="1522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cc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cc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5" name="WordArt 21"/>
          <p:cNvSpPr txBox="1"/>
          <p:nvPr/>
        </p:nvSpPr>
        <p:spPr>
          <a:xfrm>
            <a:off x="8381880" y="2666880"/>
            <a:ext cx="25740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4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Тур </a:t>
            </a: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V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9144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ПОМОГИ СВОЕЙ КОМАНДЕ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" dur="2000"/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Text Box 4"/>
          <p:cNvSpPr/>
          <p:nvPr/>
        </p:nvSpPr>
        <p:spPr>
          <a:xfrm>
            <a:off x="533520" y="457200"/>
            <a:ext cx="29718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дарил  утятам ёж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осемь кожаных сапож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то ответит из реб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колько было всех утя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Text Box 5"/>
          <p:cNvSpPr/>
          <p:nvPr/>
        </p:nvSpPr>
        <p:spPr>
          <a:xfrm>
            <a:off x="12193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4 утё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Text Box 7"/>
          <p:cNvSpPr/>
          <p:nvPr/>
        </p:nvSpPr>
        <p:spPr>
          <a:xfrm>
            <a:off x="4419720" y="609480"/>
            <a:ext cx="37335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Шёл Кондрат в Ленингра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 навстречу двенадцать реб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 каждого по три лукош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каждом лукошке – кош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 каждой кошки – 12 кот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У каждого котё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зубах по 4 мышо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 задумался Кондра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колько мышат и котя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Ребята несут в Ленинград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Text Box 8"/>
          <p:cNvSpPr/>
          <p:nvPr/>
        </p:nvSpPr>
        <p:spPr>
          <a:xfrm>
            <a:off x="4572000" y="5334120"/>
            <a:ext cx="424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(Глупый, глупый Кондра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99ff"/>
                </a:solidFill>
                <a:latin typeface="Arial"/>
              </a:rPr>
              <a:t>Он один лишь шёл в Ленинград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Text Box 4"/>
          <p:cNvSpPr/>
          <p:nvPr/>
        </p:nvSpPr>
        <p:spPr>
          <a:xfrm>
            <a:off x="1523880" y="609480"/>
            <a:ext cx="6477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т и время пошло в де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уже вот пролетел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 не будем огорчать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м не раз ещё встречатьс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Text Box 5"/>
          <p:cNvSpPr/>
          <p:nvPr/>
        </p:nvSpPr>
        <p:spPr>
          <a:xfrm>
            <a:off x="1371600" y="46483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сего наилучш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 встреч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9" dur="5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0" dur="5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381" dur="5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8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8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ур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«МАРАФОНЕЦ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8" name="Picture 6" descr="18"/>
          <p:cNvPicPr/>
          <p:nvPr/>
        </p:nvPicPr>
        <p:blipFill>
          <a:blip r:embed="rId1"/>
          <a:stretch/>
        </p:blipFill>
        <p:spPr>
          <a:xfrm>
            <a:off x="6934320" y="0"/>
            <a:ext cx="1676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Text Box 8"/>
          <p:cNvSpPr/>
          <p:nvPr/>
        </p:nvSpPr>
        <p:spPr>
          <a:xfrm>
            <a:off x="152280" y="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На прямолинейном участке пути каждое колесо двухколёсного велосипеда проехало  15 км. Сколько километров проехал велосипед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Text Box 9"/>
          <p:cNvSpPr/>
          <p:nvPr/>
        </p:nvSpPr>
        <p:spPr>
          <a:xfrm>
            <a:off x="380880" y="609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Rectangle 10"/>
          <p:cNvSpPr/>
          <p:nvPr/>
        </p:nvSpPr>
        <p:spPr>
          <a:xfrm>
            <a:off x="2745720" y="609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)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ectangle 11"/>
          <p:cNvSpPr/>
          <p:nvPr/>
        </p:nvSpPr>
        <p:spPr>
          <a:xfrm>
            <a:off x="4041000" y="60948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г)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Rectangle 12"/>
          <p:cNvSpPr/>
          <p:nvPr/>
        </p:nvSpPr>
        <p:spPr>
          <a:xfrm>
            <a:off x="1754280" y="60948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)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 Box 14"/>
          <p:cNvSpPr/>
          <p:nvPr/>
        </p:nvSpPr>
        <p:spPr>
          <a:xfrm>
            <a:off x="228600" y="10666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Доску длиной в 4 м распилили на части  по 1 м. Чтобы отпилить 1 м доски, нужно 5 минут. За сколько времени можно распилить всю доск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Rectangle 15"/>
          <p:cNvSpPr/>
          <p:nvPr/>
        </p:nvSpPr>
        <p:spPr>
          <a:xfrm>
            <a:off x="612000" y="1905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Rectangle 16"/>
          <p:cNvSpPr/>
          <p:nvPr/>
        </p:nvSpPr>
        <p:spPr>
          <a:xfrm>
            <a:off x="1983240" y="19051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)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Rectangle 17"/>
          <p:cNvSpPr/>
          <p:nvPr/>
        </p:nvSpPr>
        <p:spPr>
          <a:xfrm>
            <a:off x="3355560" y="1905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)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Text Box 18"/>
          <p:cNvSpPr/>
          <p:nvPr/>
        </p:nvSpPr>
        <p:spPr>
          <a:xfrm>
            <a:off x="304920" y="236232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 Сколько сотен содержится в 48 десятка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Text Box 19"/>
          <p:cNvSpPr/>
          <p:nvPr/>
        </p:nvSpPr>
        <p:spPr>
          <a:xfrm>
            <a:off x="68580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 Box 20"/>
          <p:cNvSpPr/>
          <p:nvPr/>
        </p:nvSpPr>
        <p:spPr>
          <a:xfrm>
            <a:off x="320040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)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Text Box 21"/>
          <p:cNvSpPr/>
          <p:nvPr/>
        </p:nvSpPr>
        <p:spPr>
          <a:xfrm>
            <a:off x="205740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) 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Text Box 22"/>
          <p:cNvSpPr/>
          <p:nvPr/>
        </p:nvSpPr>
        <p:spPr>
          <a:xfrm>
            <a:off x="43434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г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) ни од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Text Box 23"/>
          <p:cNvSpPr/>
          <p:nvPr/>
        </p:nvSpPr>
        <p:spPr>
          <a:xfrm>
            <a:off x="228600" y="35053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00"/>
                </a:solidFill>
                <a:latin typeface="Arial"/>
              </a:rPr>
              <a:t>4. По стеблю растения, высота которого 1м, ползёт улитка. Днём она поднимается на 4 дм, а ночью опускается на 2 дм. Через сколько дней улитка будет на вершин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Text Box 24"/>
          <p:cNvSpPr/>
          <p:nvPr/>
        </p:nvSpPr>
        <p:spPr>
          <a:xfrm>
            <a:off x="5335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 на 5-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 Box 26"/>
          <p:cNvSpPr/>
          <p:nvPr/>
        </p:nvSpPr>
        <p:spPr>
          <a:xfrm>
            <a:off x="1905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) на 2-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Text Box 27"/>
          <p:cNvSpPr/>
          <p:nvPr/>
        </p:nvSpPr>
        <p:spPr>
          <a:xfrm>
            <a:off x="3276720" y="4495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) на 4-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Text Box 28"/>
          <p:cNvSpPr/>
          <p:nvPr/>
        </p:nvSpPr>
        <p:spPr>
          <a:xfrm>
            <a:off x="4648320" y="4419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г) через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Text Box 29"/>
          <p:cNvSpPr/>
          <p:nvPr/>
        </p:nvSpPr>
        <p:spPr>
          <a:xfrm>
            <a:off x="6477120" y="4343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 на 3-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Text Box 30"/>
          <p:cNvSpPr/>
          <p:nvPr/>
        </p:nvSpPr>
        <p:spPr>
          <a:xfrm>
            <a:off x="304920" y="51814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cc00"/>
                </a:solidFill>
                <a:latin typeface="Arial"/>
              </a:rPr>
              <a:t>5. Одна сторона прямоугольника </a:t>
            </a:r>
            <a:r>
              <a:rPr b="1" i="1" lang="ru-RU" sz="1800" spc="-1" strike="noStrike">
                <a:solidFill>
                  <a:srgbClr val="cccc00"/>
                </a:solidFill>
                <a:latin typeface="Arial"/>
              </a:rPr>
              <a:t>х </a:t>
            </a:r>
            <a:r>
              <a:rPr b="1" lang="ru-RU" sz="1800" spc="-1" strike="noStrike">
                <a:solidFill>
                  <a:srgbClr val="cccc00"/>
                </a:solidFill>
                <a:latin typeface="Arial"/>
              </a:rPr>
              <a:t>см</a:t>
            </a:r>
            <a:r>
              <a:rPr b="1" i="1" lang="ru-RU" sz="1800" spc="-1" strike="noStrike">
                <a:solidFill>
                  <a:srgbClr val="cccc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cccc00"/>
                </a:solidFill>
                <a:latin typeface="Arial"/>
              </a:rPr>
              <a:t> а другая на 2 см короче, выразите периметр прямо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Text Box 32"/>
          <p:cNvSpPr/>
          <p:nvPr/>
        </p:nvSpPr>
        <p:spPr>
          <a:xfrm>
            <a:off x="4724280" y="6095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) х(х-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Text Box 33"/>
          <p:cNvSpPr/>
          <p:nvPr/>
        </p:nvSpPr>
        <p:spPr>
          <a:xfrm>
            <a:off x="2666880" y="6095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) 2</a:t>
            </a: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х+2(х-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Text Box 35"/>
          <p:cNvSpPr/>
          <p:nvPr/>
        </p:nvSpPr>
        <p:spPr>
          <a:xfrm>
            <a:off x="533520" y="6095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А) </a:t>
            </a: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х+(х-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4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4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4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14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581280" cy="746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Tahoma"/>
              </a:rPr>
              <a:t>Тур </a:t>
            </a:r>
            <a:r>
              <a:rPr b="0" lang="en-US" sz="5400" spc="-1" strike="noStrike">
                <a:solidFill>
                  <a:srgbClr val="000066"/>
                </a:solidFill>
                <a:latin typeface="Tahoma"/>
              </a:rPr>
              <a:t>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1905120" y="1218960"/>
            <a:ext cx="5790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ahoma"/>
              </a:rPr>
              <a:t>«МЫСЛИТЕЛЬ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70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7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Text Box 4"/>
          <p:cNvSpPr/>
          <p:nvPr/>
        </p:nvSpPr>
        <p:spPr>
          <a:xfrm>
            <a:off x="457200" y="137160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АЛЬЧИК РЕШИЛ ОПРЕДЕЛИТЬ ДЛИНУ МО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ЕРЕЗ РЕ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 ЗАМЕТИЛ, ЧТО РАССТОЯ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ЕЖДУ ДВУМЯ СТОЛБИКАМИ, НА КОТОР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РЕПЯТСЯ ПЕРИЛА, РАВНО ДВУМ ШАГ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 СТОЛБИКОВ ВСЕГО 3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ОВА ДЛИНА МОСТА, ЕСЛИ ОДИН Ш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АЛЬЧИКА 0,4 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809880" y="380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Тур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III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761760" y="2743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6600cc"/>
                </a:solidFill>
                <a:latin typeface="Verdana"/>
              </a:rPr>
              <a:t>         </a:t>
            </a:r>
            <a:r>
              <a:rPr b="1" lang="ru-RU" sz="3700" spc="-1" strike="noStrike">
                <a:solidFill>
                  <a:srgbClr val="6600cc"/>
                </a:solidFill>
                <a:latin typeface="Verdana"/>
              </a:rPr>
              <a:t>«ВЕРНЫЙ ГЛАЗ»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8" name="Picture 4" descr="images"/>
          <p:cNvPicPr/>
          <p:nvPr/>
        </p:nvPicPr>
        <p:blipFill>
          <a:blip r:embed="rId1"/>
          <a:stretch/>
        </p:blipFill>
        <p:spPr>
          <a:xfrm>
            <a:off x="5791320" y="3886200"/>
            <a:ext cx="25146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AutoShape 34"/>
          <p:cNvSpPr/>
          <p:nvPr/>
        </p:nvSpPr>
        <p:spPr>
          <a:xfrm rot="20731200">
            <a:off x="4495680" y="6324480"/>
            <a:ext cx="457200" cy="38124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AutoShape 33"/>
          <p:cNvSpPr/>
          <p:nvPr/>
        </p:nvSpPr>
        <p:spPr>
          <a:xfrm rot="20731200">
            <a:off x="3886200" y="6324480"/>
            <a:ext cx="457200" cy="38124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AutoShape 7"/>
          <p:cNvSpPr/>
          <p:nvPr/>
        </p:nvSpPr>
        <p:spPr>
          <a:xfrm rot="18747600">
            <a:off x="2629080" y="1713960"/>
            <a:ext cx="1600200" cy="167616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AutoShape 6"/>
          <p:cNvSpPr/>
          <p:nvPr/>
        </p:nvSpPr>
        <p:spPr>
          <a:xfrm rot="19827000">
            <a:off x="2666520" y="1904760"/>
            <a:ext cx="1143000" cy="167616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AutoShape 5"/>
          <p:cNvSpPr/>
          <p:nvPr/>
        </p:nvSpPr>
        <p:spPr>
          <a:xfrm>
            <a:off x="3733920" y="4495680"/>
            <a:ext cx="1600200" cy="190512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AutoShape 8"/>
          <p:cNvSpPr/>
          <p:nvPr/>
        </p:nvSpPr>
        <p:spPr>
          <a:xfrm rot="1546200">
            <a:off x="5433480" y="1912680"/>
            <a:ext cx="1067040" cy="188568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AutoShape 9"/>
          <p:cNvSpPr/>
          <p:nvPr/>
        </p:nvSpPr>
        <p:spPr>
          <a:xfrm rot="3252600">
            <a:off x="5219640" y="1638000"/>
            <a:ext cx="990720" cy="167616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AutoShape 10"/>
          <p:cNvSpPr/>
          <p:nvPr/>
        </p:nvSpPr>
        <p:spPr>
          <a:xfrm>
            <a:off x="2514600" y="1905120"/>
            <a:ext cx="4038480" cy="259056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AutoShape 4"/>
          <p:cNvSpPr/>
          <p:nvPr/>
        </p:nvSpPr>
        <p:spPr>
          <a:xfrm rot="18112800">
            <a:off x="3746520" y="3035520"/>
            <a:ext cx="466560" cy="4921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AutoShape 12"/>
          <p:cNvSpPr/>
          <p:nvPr/>
        </p:nvSpPr>
        <p:spPr>
          <a:xfrm rot="16968600">
            <a:off x="4905000" y="4619520"/>
            <a:ext cx="542880" cy="90504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AutoShape 13"/>
          <p:cNvSpPr/>
          <p:nvPr/>
        </p:nvSpPr>
        <p:spPr>
          <a:xfrm rot="3343800">
            <a:off x="4812840" y="3035160"/>
            <a:ext cx="466560" cy="4921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AutoShape 14"/>
          <p:cNvSpPr/>
          <p:nvPr/>
        </p:nvSpPr>
        <p:spPr>
          <a:xfrm>
            <a:off x="3962520" y="3200400"/>
            <a:ext cx="228600" cy="304920"/>
          </a:xfrm>
          <a:prstGeom prst="flowChartConnector">
            <a:avLst/>
          </a:prstGeom>
          <a:solidFill>
            <a:srgbClr val="008ae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AutoShape 15"/>
          <p:cNvSpPr/>
          <p:nvPr/>
        </p:nvSpPr>
        <p:spPr>
          <a:xfrm>
            <a:off x="4038480" y="3276720"/>
            <a:ext cx="152640" cy="152280"/>
          </a:xfrm>
          <a:prstGeom prst="flowChartConnector">
            <a:avLst/>
          </a:prstGeom>
          <a:solidFill>
            <a:srgbClr val="0808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AutoShape 16"/>
          <p:cNvSpPr/>
          <p:nvPr/>
        </p:nvSpPr>
        <p:spPr>
          <a:xfrm rot="21274800">
            <a:off x="4876560" y="3200040"/>
            <a:ext cx="230040" cy="306360"/>
          </a:xfrm>
          <a:prstGeom prst="flowChartConnector">
            <a:avLst/>
          </a:prstGeom>
          <a:solidFill>
            <a:srgbClr val="008ae8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AutoShape 17"/>
          <p:cNvSpPr/>
          <p:nvPr/>
        </p:nvSpPr>
        <p:spPr>
          <a:xfrm>
            <a:off x="4876920" y="3276720"/>
            <a:ext cx="152280" cy="152280"/>
          </a:xfrm>
          <a:prstGeom prst="flowChartConnector">
            <a:avLst/>
          </a:prstGeom>
          <a:solidFill>
            <a:srgbClr val="08080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AutoShape 18"/>
          <p:cNvSpPr/>
          <p:nvPr/>
        </p:nvSpPr>
        <p:spPr>
          <a:xfrm rot="10800000">
            <a:off x="4343040" y="3505320"/>
            <a:ext cx="304920" cy="304560"/>
          </a:xfrm>
          <a:prstGeom prst="flowChartOffpageConnector">
            <a:avLst/>
          </a:prstGeom>
          <a:solidFill>
            <a:srgbClr val="ff99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Arc 20"/>
          <p:cNvSpPr/>
          <p:nvPr/>
        </p:nvSpPr>
        <p:spPr>
          <a:xfrm flipH="1" flipV="1">
            <a:off x="2057400" y="3733920"/>
            <a:ext cx="838080" cy="45720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Arc 21"/>
          <p:cNvSpPr/>
          <p:nvPr/>
        </p:nvSpPr>
        <p:spPr>
          <a:xfrm flipH="1" flipV="1" rot="20403000">
            <a:off x="2208600" y="3885120"/>
            <a:ext cx="838440" cy="45720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Arc 22"/>
          <p:cNvSpPr/>
          <p:nvPr/>
        </p:nvSpPr>
        <p:spPr>
          <a:xfrm flipH="1" flipV="1" rot="1689600">
            <a:off x="2132640" y="3581280"/>
            <a:ext cx="838080" cy="45684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Arc 27"/>
          <p:cNvSpPr/>
          <p:nvPr/>
        </p:nvSpPr>
        <p:spPr>
          <a:xfrm flipV="1">
            <a:off x="6095880" y="3428280"/>
            <a:ext cx="457200" cy="76212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Arc 28"/>
          <p:cNvSpPr/>
          <p:nvPr/>
        </p:nvSpPr>
        <p:spPr>
          <a:xfrm flipV="1">
            <a:off x="6248520" y="3886200"/>
            <a:ext cx="685800" cy="38088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Arc 29"/>
          <p:cNvSpPr/>
          <p:nvPr/>
        </p:nvSpPr>
        <p:spPr>
          <a:xfrm flipV="1">
            <a:off x="6172200" y="3656880"/>
            <a:ext cx="457200" cy="609480"/>
          </a:xfrm>
          <a:prstGeom prst="pie">
            <a:avLst/>
          </a:prstGeom>
          <a:noFill/>
          <a:ln w="936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AutoShape 31"/>
          <p:cNvSpPr/>
          <p:nvPr/>
        </p:nvSpPr>
        <p:spPr>
          <a:xfrm rot="16385400">
            <a:off x="4261680" y="3961440"/>
            <a:ext cx="457200" cy="4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263" y="2319"/>
                  <a:pt x="12925" y="5080"/>
                  <a:pt x="12925" y="10800"/>
                </a:cubicBezTo>
                <a:cubicBezTo>
                  <a:pt x="12925" y="16520"/>
                  <a:pt x="17263" y="1928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AutoShape 32"/>
          <p:cNvSpPr/>
          <p:nvPr/>
        </p:nvSpPr>
        <p:spPr>
          <a:xfrm rot="4949400">
            <a:off x="3740400" y="4640760"/>
            <a:ext cx="533520" cy="700200"/>
          </a:xfrm>
          <a:prstGeom prst="flowChartExtract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AutoShape 35"/>
          <p:cNvSpPr/>
          <p:nvPr/>
        </p:nvSpPr>
        <p:spPr>
          <a:xfrm rot="16887000">
            <a:off x="5562360" y="5028840"/>
            <a:ext cx="457200" cy="38088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AutoShape 37"/>
          <p:cNvSpPr/>
          <p:nvPr/>
        </p:nvSpPr>
        <p:spPr>
          <a:xfrm rot="15781200">
            <a:off x="3238200" y="4838760"/>
            <a:ext cx="457200" cy="380880"/>
          </a:xfrm>
          <a:prstGeom prst="flowChartTerminator">
            <a:avLst/>
          </a:prstGeom>
          <a:solidFill>
            <a:srgbClr val="99ffcc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AutoShape 38"/>
          <p:cNvSpPr/>
          <p:nvPr/>
        </p:nvSpPr>
        <p:spPr>
          <a:xfrm>
            <a:off x="3200400" y="487692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AutoShape 39"/>
          <p:cNvSpPr/>
          <p:nvPr/>
        </p:nvSpPr>
        <p:spPr>
          <a:xfrm>
            <a:off x="3200400" y="50292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AutoShape 40"/>
          <p:cNvSpPr/>
          <p:nvPr/>
        </p:nvSpPr>
        <p:spPr>
          <a:xfrm>
            <a:off x="3276720" y="510552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AutoShape 41"/>
          <p:cNvSpPr/>
          <p:nvPr/>
        </p:nvSpPr>
        <p:spPr>
          <a:xfrm>
            <a:off x="5867280" y="5029200"/>
            <a:ext cx="15264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AutoShape 42"/>
          <p:cNvSpPr/>
          <p:nvPr/>
        </p:nvSpPr>
        <p:spPr>
          <a:xfrm>
            <a:off x="5867280" y="51814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AutoShape 43"/>
          <p:cNvSpPr/>
          <p:nvPr/>
        </p:nvSpPr>
        <p:spPr>
          <a:xfrm>
            <a:off x="5791320" y="525780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AutoShape 44"/>
          <p:cNvSpPr/>
          <p:nvPr/>
        </p:nvSpPr>
        <p:spPr>
          <a:xfrm>
            <a:off x="4114800" y="65530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AutoShape 46"/>
          <p:cNvSpPr/>
          <p:nvPr/>
        </p:nvSpPr>
        <p:spPr>
          <a:xfrm>
            <a:off x="4800600" y="647712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AutoShape 47"/>
          <p:cNvSpPr/>
          <p:nvPr/>
        </p:nvSpPr>
        <p:spPr>
          <a:xfrm>
            <a:off x="4648320" y="65530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AutoShape 48"/>
          <p:cNvSpPr/>
          <p:nvPr/>
        </p:nvSpPr>
        <p:spPr>
          <a:xfrm>
            <a:off x="4495680" y="6553080"/>
            <a:ext cx="15264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AutoShape 49"/>
          <p:cNvSpPr/>
          <p:nvPr/>
        </p:nvSpPr>
        <p:spPr>
          <a:xfrm>
            <a:off x="4191120" y="6477120"/>
            <a:ext cx="152280" cy="15228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AutoShape 50"/>
          <p:cNvSpPr/>
          <p:nvPr/>
        </p:nvSpPr>
        <p:spPr>
          <a:xfrm>
            <a:off x="3962520" y="6553080"/>
            <a:ext cx="152280" cy="1526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Arc 51"/>
          <p:cNvSpPr/>
          <p:nvPr/>
        </p:nvSpPr>
        <p:spPr>
          <a:xfrm flipV="1">
            <a:off x="5867280" y="2590920"/>
            <a:ext cx="1752840" cy="2590560"/>
          </a:xfrm>
          <a:prstGeom prst="pie">
            <a:avLst/>
          </a:pr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Oval 53"/>
          <p:cNvSpPr/>
          <p:nvPr/>
        </p:nvSpPr>
        <p:spPr>
          <a:xfrm rot="910800">
            <a:off x="6324120" y="190512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Oval 54"/>
          <p:cNvSpPr/>
          <p:nvPr/>
        </p:nvSpPr>
        <p:spPr>
          <a:xfrm rot="20790600">
            <a:off x="6324480" y="236232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Oval 60"/>
          <p:cNvSpPr/>
          <p:nvPr/>
        </p:nvSpPr>
        <p:spPr>
          <a:xfrm rot="19576800">
            <a:off x="7620120" y="1676160"/>
            <a:ext cx="12189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Oval 61"/>
          <p:cNvSpPr/>
          <p:nvPr/>
        </p:nvSpPr>
        <p:spPr>
          <a:xfrm rot="21255600">
            <a:off x="7772400" y="213372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Oval 62"/>
          <p:cNvSpPr/>
          <p:nvPr/>
        </p:nvSpPr>
        <p:spPr>
          <a:xfrm rot="1210800">
            <a:off x="7772040" y="251424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" name="Oval 63"/>
          <p:cNvSpPr/>
          <p:nvPr/>
        </p:nvSpPr>
        <p:spPr>
          <a:xfrm rot="2945400">
            <a:off x="6590880" y="156204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Oval 64"/>
          <p:cNvSpPr/>
          <p:nvPr/>
        </p:nvSpPr>
        <p:spPr>
          <a:xfrm rot="5400000">
            <a:off x="7048080" y="1409760"/>
            <a:ext cx="12193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AutoShape 52"/>
          <p:cNvSpPr/>
          <p:nvPr/>
        </p:nvSpPr>
        <p:spPr>
          <a:xfrm>
            <a:off x="7467480" y="2133720"/>
            <a:ext cx="381240" cy="457200"/>
          </a:xfrm>
          <a:prstGeom prst="flowChartSummingJunct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AutoShape 65"/>
          <p:cNvSpPr/>
          <p:nvPr/>
        </p:nvSpPr>
        <p:spPr>
          <a:xfrm rot="15536400">
            <a:off x="7200720" y="3314160"/>
            <a:ext cx="838080" cy="106668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AutoShape 66"/>
          <p:cNvSpPr/>
          <p:nvPr/>
        </p:nvSpPr>
        <p:spPr>
          <a:xfrm rot="17247600">
            <a:off x="10800" y="98280"/>
            <a:ext cx="2362320" cy="2590920"/>
          </a:xfrm>
          <a:prstGeom prst="cloudCallout">
            <a:avLst>
              <a:gd name="adj1" fmla="val 10486"/>
              <a:gd name="adj2" fmla="val 9969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Text Box 68"/>
          <p:cNvSpPr/>
          <p:nvPr/>
        </p:nvSpPr>
        <p:spPr>
          <a:xfrm>
            <a:off x="228600" y="609480"/>
            <a:ext cx="244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Из как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фигу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я состо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сколько и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Тур 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subTitle"/>
          </p:nvPr>
        </p:nvSpPr>
        <p:spPr>
          <a:xfrm>
            <a:off x="838080" y="2437920"/>
            <a:ext cx="7925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КАПИТАНЫ В  КОСМОС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Text Box 4"/>
          <p:cNvSpPr/>
          <p:nvPr/>
        </p:nvSpPr>
        <p:spPr>
          <a:xfrm>
            <a:off x="2514600" y="380880"/>
            <a:ext cx="66294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корость движения Земли во круг Солнца 29,8 км/с, скорость Марса 24,1 км/с, скорость Меркурия 47,8 км/с, скорость Венеры 35 км/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Представьте, что  появилась новая планета, а её скорость нечто среднее от данных планет. Найдите её скорос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7" dur="2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8-24T07:18:57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