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gif" ContentType="image/gif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D342-BBA9-414A-928C-5D0FB08DF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0620-39AC-497A-8D66-A6A759F16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522CBB-3994-4705-9BB4-DE81262EA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AE623E-9FCC-4194-84AD-1EC67B090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B6302F-C558-4DF1-8263-81D1F6DC8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09FB18C-4457-406C-81AE-3BB6E2DB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A55CB7-BA19-4BF8-9605-DC31F40B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1F6C65-70ED-4D0C-A961-997AE33F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3884D0-ABFC-4019-9D64-FFE58FCC9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7E20BA8-018C-48BC-A499-D090BAE03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19EFD1-5ED2-4381-891B-80A22BBCE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17BEEE-0C5F-4B31-AB32-65339A66E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57C3-38CE-4A00-BAD4-C8D113AAF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3A1065-B59A-4E25-952A-5C1DE9D4A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E0FFA0-D193-41C9-BDA1-DA8606D4A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612F63-3C29-4428-B935-7B647195B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66BFA5-7BFC-46A9-A246-B340C6D90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1BE5C8-85C0-4AFD-8CD2-B44253BC6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99C1C3-888B-4AA8-9AC7-61C1603E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9020DE-A54A-4802-8FD6-B9C16E56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E0E38D-B571-443B-B81C-C3B748D4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68B5DD-D7DD-47F8-92EB-52FB8D3D1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898C3F-458E-47A5-A2A7-CB1705176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5C87-2464-4AC9-B626-0B0F6CF76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BC0587-2C0A-40B1-A9CE-89E8BD74C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47620B-4E2E-4FA9-B98F-499E82AA7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F709AD-263A-4F03-B52F-4EF3AF109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119CA6-A802-492C-8678-B3E0C37B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92F458-BFB1-4B0A-A75C-645B0FBED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F92D4F-5B56-456F-B2A1-86F932B60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E102DC-7E99-4008-9505-99D3D24B1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4F262C-D0DA-4CC5-9DC2-AB81529E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DFD20D-5394-4279-A4CD-9E689A4D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A847E9-C74C-4775-8AB9-BE80F98A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C040A-72E2-46BB-A3AA-CFC1D383A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BB9B4D-3B1E-4D3D-96FE-6E3B289C3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21D5F1-B268-4839-8F97-F3D3DF5E5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291234-2763-4FC6-8909-B73A0C3F5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35F317-A466-47CF-B9CC-E56825445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F74E14-06E8-4D62-9621-70F727798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C65572-776C-4199-9D45-C8E5930E3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EE2F91-0F12-41A7-A243-805571BA8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5D7558-9A84-4D1B-BDD1-E17A98D91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D3765B-6738-4334-9DA2-852C2C908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F64935-7930-43B4-90E7-690E6E01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0B00E-4325-46C6-803F-677F1D8C0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05BC68-01B2-407B-B296-D8AF5845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68E580-7F50-4C31-BE9A-AD31541B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27BEC6-F6F2-471B-AE13-A4EE4344B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48C26F-090F-4492-86E4-06345745A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006784-A847-46EE-A090-7418A404D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44A458-1BB7-434B-8921-801F7EDC7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20C0E4-009D-452A-B6FB-2796D0A6B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3E4DDF-4DA2-4500-9DEF-E3E778C23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7FC97C-9143-476F-A654-A4C63CC7B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44C7CE-55E0-4C3D-8482-F55E7A0BF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4EC57-49FE-47BE-AEAF-64B2D826E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9B5916-A11E-487E-B588-3A85B870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10484E-86F5-4C50-BA29-2521693A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9BC51F-283F-42AD-9044-A8D05C9B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2D55E2-EE6A-4E46-9EB9-B4E5DEB4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816D81-B1A7-47A7-9505-C735B9524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421C97-CECA-41B1-B836-EF14E6CB0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6C4D3D-A0F9-4A5F-B771-D7357BB3E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01C14D-684A-4EC9-B3D2-799992E5C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E3D457-22F9-44D5-8334-6751104A9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A01698-8980-4C9B-BEBA-406810277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C9CA8-040F-4981-B74A-0C9779FAC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312E01-35AA-4764-9451-8D5D64E0E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AC423E-6B9F-4100-AE5F-FAE5268FF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A3F4BF-D0F5-4F1F-908B-8792E6A06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C1E013-D232-4CF0-9A79-E6BDE1BE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624992-09F6-4879-889C-26C9B2BA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FD4C9A-EAE5-4BA8-8F2F-6995EC80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E02C92-9B66-4016-8F9C-34CDC1A76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0CF40B-FC41-478C-A6F3-5CDB023BF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441600-5EFE-4906-B9C1-B97E9E228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118FBD-1B9B-48CF-BED3-3841C050A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9FB65-6385-4D40-92DF-0172184A2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94F270-4AA9-45EA-B9A6-E1F460380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78E446-BBE0-4686-A8BB-3DD85C008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BE7EF8-E636-4B4A-B225-291FB716F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504E77-931D-4C4C-8EE7-9889CC251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FA42D7-6EDD-41C2-8C22-9C0178B4B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E9AE3A-A645-4A8C-8386-03A5FAD2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C0682F-594F-4BB2-91AC-3E8019D91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E6CF0B-4B32-41F8-936E-E63D65D5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49D10F-E92F-4FEA-811C-F9CD53351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18F0DB-F156-445D-839B-4C15DE8BB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9B04F-A559-47D4-A87A-33C984C6A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47ED39-A0A8-49B8-A487-9BD1CC62D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16A402-C3AD-4F48-9D56-5BAF470C3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5A0CFB-5122-4FA2-8523-3C05B2B7C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3AE6E4-0181-4F2A-85A9-FA90F5F43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AB29C9-0D52-4E1D-A3FB-AF5AB8BD1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6E07FE-E460-4B6A-9B81-04533BD24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96FDF3-12F6-4CB7-BDD6-FFDC4ACC1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B598BA-12B1-490A-8083-52D9941B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8E2D88-CD93-4F49-BBC9-714BD554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C53B09-DB1B-4B90-9A27-7B0339D8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C1EE4-5F42-49B4-BC98-163D1415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246503-14C9-46C9-9159-8D9245CD2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C5B2B7-54CF-4948-9DFE-5539C2E4A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6D61B1-17FD-49EC-A8EB-52478FD88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FB6BB0-1901-42C9-83E3-BA87195AC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266938-C5A7-45E6-9C3F-F63B5074C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B480F5-2DCC-4F2F-8A72-F06C6CC11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3EFB17-F991-41B4-9578-0769F6E6F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4EE3AA-83B0-4DE9-8822-02F0FC24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886E5E-3410-40B4-A7BB-82198B3CB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929A6C-89F1-474F-8BB5-655C7396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BA47-59E7-46E4-8BEE-C25124259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7FA0C-C355-4307-8DA1-C259EBA7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BECC70-CDC4-4B14-B921-FE2F2185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B05494-508A-4D93-86E9-BA581CFD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CC2BA3-4C31-4BAB-B4D1-A588EFA72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635D74-0D5C-42E1-8946-511324992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19DEDB-9346-47F6-803C-E60691DF3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D0CF20-D87B-44DD-9AA7-D9660862D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9D19EB-3FF5-4C5E-BAD3-2CE59FD1D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5D005A-0F14-4227-8CBA-612E962A0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3A9CF0-7662-4944-899B-705954FB8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E56094-60C1-4012-9675-EB4F6B235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D4CC1-BE91-4B94-AD5C-E89AF4ED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140C4C-3049-4A7A-A541-ED6EDB484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30D486-7347-40A8-84B2-C157FA45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3BF868-32D5-46B2-92EF-A53F5D89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AB9C2B-1A01-43B4-B44B-CB66BA9F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3B45CA-4E27-4BF6-9D26-457C4ADDE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D2265A-F18A-46EF-B9EA-A1391117B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791192-648D-4A66-8979-AC9F323E0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E6A88-3DBA-43CA-952A-7E2BCFB9D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27DB4-977F-42B7-846C-BD2291AFC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29144-2673-4578-9E94-EB96BAE38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A3C36-1FB4-408E-A974-446B01D58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7B0A9-5FBD-46C5-8D57-8F94A63D2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412DA-4CD2-443F-8C64-D4B452D10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00BB7-3782-4E3C-B908-179247796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0D241-A5F6-4F69-8264-23C4C463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FDB6-D300-48D0-A20B-29C3B4AA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E7244-25F1-4D8F-87B5-9AA963BC8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67BF3-F6A1-4C5F-AE06-CB098ED4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8A82B-EC16-4FDA-B6BC-00799269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EDF12-5A59-4A03-91EA-840CA338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82857-8148-462D-8BC5-50F34279C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C6CC4-29D0-470E-902F-BEB1A6B60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25CF6-D735-4A95-B4C9-C2256A522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D53FB-EC7C-4F1A-822E-295997CBD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D0775-5E5D-49D5-BECE-2BFDE120C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77641-C489-435B-B43D-B11BEF3EF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2D9C-1A26-4C10-83E4-DC77884F0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D809A-A6CF-4867-B666-1FC128F10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E3977-679D-491C-862D-1FA586091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26C3B-53FB-4C7A-8398-1FFC62EE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7714B-4A64-4B5C-B128-2AE48D7D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7AD54-4805-4BF7-8E1B-6E20A53A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55D97-3736-4796-83F3-5251E213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C06FF-802F-4F9C-AF68-356D09C82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198E5-40AB-46B2-85A9-99D109D3A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889CA-848A-4D8B-8FE4-927F7453A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03881-3714-486F-BD92-BD1FDC191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E982-935B-498D-B515-F2AE86BF6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C6443-00EC-4060-AB57-8596AAD95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15473-81C0-496B-BCD8-2380CABB7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104D3-3FBB-4CA7-A578-82172D27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A363E-226C-4560-8F79-67B26154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64BC0-6654-4220-B75D-2C35F6250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82397-F210-4BC3-A32F-18273241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B6486-3D87-4135-97DC-1C29CD0D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1EBFE-676C-4A5E-82B2-A9387D3A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54A88-D8A7-48F4-BA04-5A22707F1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EB1AB-5A2A-41C8-9CC5-80A57A238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DDD9-B40A-4CDE-96D7-650BE61DE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3C20A-C070-4B88-99AC-3178E8131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EF4D4-4599-484C-A822-C2D89AC43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EA7E0-6A6F-45E1-B4E0-C4E336FBB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A4D2A-25B1-4E81-9F29-4D07C4747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98A46-9889-470B-A471-62AD8E62F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54895-7384-4C41-98E6-E3CDF912C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BC51E-A4BA-4E9F-A76E-77E896B4A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2C7C1-81AD-44EC-82C5-06D81093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5DE84B-206E-4312-B205-8CB335FF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EBB25-79C4-4772-BDAF-5FA8D517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7FC6-7457-4AEB-9A99-CA3EA784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9F337-8221-4F07-BCD2-7ABEB5C15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F1FFA-62AB-4A63-B1CD-2CAEB060A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9F25FB-A03D-4124-8A46-BFF682429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F192AF-4C01-4ED4-8820-6901F8377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5F585-4E53-4DD8-B2E4-DE7EC8744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C6898-DF4A-449F-BC78-F6DC1A16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742BA-9AE6-434E-AEA3-875051550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93AA52-0FB9-4362-B6EE-168A97D90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0E3A8-2E5E-4F30-9542-9846C12BB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C1764-0D76-4722-B4B2-F72F0CA0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199F-3BE1-404D-B07C-AA172204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C28DA-18F4-4E68-AEB2-71E79781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AAE6CD-2F91-4EA9-98BC-26633DE7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0B86E-B9A0-415A-8BB2-F755ECD0C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FC592B-EFC6-485E-B30C-C372A736D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9F32E4-69AE-49D5-B885-1439D2EFE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31C898-54A8-4E62-A754-1A05F5E17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168754-BC0F-4DAB-A334-638C6B599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5C161D-5C25-4E57-8B86-14912BE58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76314-C91C-4CD4-A4E1-7CD7B3063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69FAB4-6FCC-4A1D-8861-EAE21162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FD5F-964F-45B4-A515-B538D0FC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271658-5ABF-47D4-BD9C-0BDDA7336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3C8C9E-8CB6-49E8-9066-C0B01BA2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8A50E6-BA29-4C98-8418-6EC06CF4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2E4406-D22F-43FB-87D7-2C51AB70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9F1F3F-BF0D-4DA0-9EA1-251B91B81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DDB2F4-1F1E-4D7C-B45C-0F9813A3A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064B1C-2004-47A8-A484-D93246C00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FFA8FC-0E8A-4AFF-BA0A-F83F62479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BF3D4B-9B2D-4F58-9BFB-D5920E80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AD58FE-F741-436E-8201-A5332582A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B88A1-C52F-4588-93B7-4FDC6F104D5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5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706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6D2E3-C874-4266-BE73-03C230B8AF5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4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755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6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757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68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769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7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88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05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806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13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814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5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6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7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7786B-7008-4E13-AA22-61B149D012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9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860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BEEE8-A19B-4470-9B52-1844FF4045F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6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917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53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954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195E3-3BC2-416B-AB6A-BCA923C469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7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998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10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011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3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4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145D6-07B5-4241-A8C4-9D105C4C3554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1078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ACED1-2E32-40DD-B23A-239FFA3087C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12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12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3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13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4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5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 type="dt" idx="46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94281-75C1-4BB0-A770-295F0C4195CC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4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1315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 type="dt" idx="49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 type="ftr" idx="50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6B3B7-A93D-40D0-98B1-60BF59A284C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36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36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6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 type="dt" idx="52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 type="ftr" idx="53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PlaceHolder 5"/>
          <p:cNvSpPr>
            <a:spLocks noGrp="1"/>
          </p:cNvSpPr>
          <p:nvPr>
            <p:ph type="sldNum" idx="54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2D440-ED87-471E-B316-4AFFCDAAB34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51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53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65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3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84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1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02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9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10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3D7C6-015E-495B-974F-9A6D81C743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56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0BC8-9206-4DBA-82C7-59CAF438781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13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9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50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05A84-9A1A-4B36-8100-ED2889EB29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294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6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307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CC838-8858-4EC9-8CFF-C8AF7568BA82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374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138FB-1945-42E7-B0FE-4759B582148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419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420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3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434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E21A2-AFAC-4693-8EEB-92E84EFA1BD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61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459FC-64DF-440F-848E-CEF80B4D723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dt" idx="25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ldNum" idx="26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7654C-7243-4360-A4AD-8A3B975D79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7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658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659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64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6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 type="ftr" idx="2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Text Box 5"/>
          <p:cNvSpPr/>
          <p:nvPr/>
        </p:nvSpPr>
        <p:spPr>
          <a:xfrm>
            <a:off x="1066680" y="1752480"/>
            <a:ext cx="4044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е из учебника задач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 потрудней открылся шиф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1" name="Text Box 7"/>
          <p:cNvSpPr/>
          <p:nvPr/>
        </p:nvSpPr>
        <p:spPr>
          <a:xfrm>
            <a:off x="3044880" y="2666880"/>
            <a:ext cx="4089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оль важную играю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остые с виду десять цифр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2" name="Text Box 8"/>
          <p:cNvSpPr/>
          <p:nvPr/>
        </p:nvSpPr>
        <p:spPr>
          <a:xfrm>
            <a:off x="2361240" y="3581280"/>
            <a:ext cx="408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Да, путь познания не гладок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3" name="Text Box 9"/>
          <p:cNvSpPr/>
          <p:nvPr/>
        </p:nvSpPr>
        <p:spPr>
          <a:xfrm>
            <a:off x="3347280" y="4038480"/>
            <a:ext cx="440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о знайте вы со школьных лет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4" name="Text Box 10"/>
          <p:cNvSpPr/>
          <p:nvPr/>
        </p:nvSpPr>
        <p:spPr>
          <a:xfrm>
            <a:off x="4097160" y="4419720"/>
            <a:ext cx="438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Загадок больше, чем разгадок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5" name="Text Box 11"/>
          <p:cNvSpPr/>
          <p:nvPr/>
        </p:nvSpPr>
        <p:spPr>
          <a:xfrm>
            <a:off x="4250160" y="4952880"/>
            <a:ext cx="339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 поискам предела нет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6" name="Text Box 12"/>
          <p:cNvSpPr/>
          <p:nvPr/>
        </p:nvSpPr>
        <p:spPr>
          <a:xfrm>
            <a:off x="914400" y="4572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10199"/>
                </a:solidFill>
                <a:latin typeface="DS Zombie Cyr"/>
              </a:rPr>
              <a:t>«</a:t>
            </a:r>
            <a:r>
              <a:rPr b="1" lang="ru-RU" sz="3600" spc="-1" strike="noStrike">
                <a:solidFill>
                  <a:srgbClr val="ffffff"/>
                </a:solidFill>
                <a:latin typeface="DS Zombie Cyr"/>
              </a:rPr>
              <a:t>В</a:t>
            </a:r>
            <a:r>
              <a:rPr b="1" lang="ru-RU" sz="3600" spc="-1" strike="noStrike">
                <a:solidFill>
                  <a:srgbClr val="010199"/>
                </a:solidFill>
                <a:latin typeface="DS Zombie Cyr"/>
              </a:rPr>
              <a:t> м</a:t>
            </a:r>
            <a:r>
              <a:rPr b="1" lang="ru-RU" sz="3600" spc="-1" strike="noStrike">
                <a:solidFill>
                  <a:srgbClr val="ffffff"/>
                </a:solidFill>
                <a:latin typeface="DS Zombie Cyr"/>
              </a:rPr>
              <a:t>и</a:t>
            </a:r>
            <a:r>
              <a:rPr b="1" lang="ru-RU" sz="3600" spc="-1" strike="noStrike">
                <a:solidFill>
                  <a:srgbClr val="010199"/>
                </a:solidFill>
                <a:latin typeface="DS Zombie Cyr"/>
              </a:rPr>
              <a:t>р</a:t>
            </a:r>
            <a:r>
              <a:rPr b="1" lang="ru-RU" sz="3600" spc="-1" strike="noStrike">
                <a:solidFill>
                  <a:srgbClr val="ffffff"/>
                </a:solidFill>
                <a:latin typeface="DS Zombie Cyr"/>
              </a:rPr>
              <a:t>е</a:t>
            </a:r>
            <a:r>
              <a:rPr b="1" lang="ru-RU" sz="3600" spc="-1" strike="noStrike">
                <a:solidFill>
                  <a:srgbClr val="010199"/>
                </a:solidFill>
                <a:latin typeface="DS Zombie Cyr"/>
              </a:rPr>
              <a:t>  </a:t>
            </a:r>
            <a:r>
              <a:rPr b="1" lang="ru-RU" sz="3600" spc="-1" strike="noStrike">
                <a:solidFill>
                  <a:srgbClr val="ffffff"/>
                </a:solidFill>
                <a:latin typeface="DS Zombie Cyr"/>
              </a:rPr>
              <a:t>м</a:t>
            </a:r>
            <a:r>
              <a:rPr b="1" lang="ru-RU" sz="3600" spc="-1" strike="noStrike">
                <a:solidFill>
                  <a:srgbClr val="010199"/>
                </a:solidFill>
                <a:latin typeface="DS Zombie Cyr"/>
              </a:rPr>
              <a:t>а</a:t>
            </a:r>
            <a:r>
              <a:rPr b="1" lang="ru-RU" sz="3600" spc="-1" strike="noStrike">
                <a:solidFill>
                  <a:srgbClr val="ffffff"/>
                </a:solidFill>
                <a:latin typeface="DS Zombie Cyr"/>
              </a:rPr>
              <a:t>г</a:t>
            </a:r>
            <a:r>
              <a:rPr b="1" lang="ru-RU" sz="3600" spc="-1" strike="noStrike">
                <a:solidFill>
                  <a:srgbClr val="010199"/>
                </a:solidFill>
                <a:latin typeface="DS Zombie Cyr"/>
              </a:rPr>
              <a:t>ич</a:t>
            </a:r>
            <a:r>
              <a:rPr b="1" lang="ru-RU" sz="3600" spc="-1" strike="noStrike">
                <a:solidFill>
                  <a:srgbClr val="ffffff"/>
                </a:solidFill>
                <a:latin typeface="DS Zombie Cyr"/>
              </a:rPr>
              <a:t>е</a:t>
            </a:r>
            <a:r>
              <a:rPr b="1" lang="ru-RU" sz="3600" spc="-1" strike="noStrike">
                <a:solidFill>
                  <a:srgbClr val="010199"/>
                </a:solidFill>
                <a:latin typeface="DS Zombie Cyr"/>
              </a:rPr>
              <a:t>ск</a:t>
            </a:r>
            <a:r>
              <a:rPr b="1" lang="ru-RU" sz="3600" spc="-1" strike="noStrike">
                <a:solidFill>
                  <a:srgbClr val="ffffff"/>
                </a:solidFill>
                <a:latin typeface="DS Zombie Cyr"/>
              </a:rPr>
              <a:t>и</a:t>
            </a:r>
            <a:r>
              <a:rPr b="1" lang="ru-RU" sz="3600" spc="-1" strike="noStrike">
                <a:solidFill>
                  <a:srgbClr val="010199"/>
                </a:solidFill>
                <a:latin typeface="DS Zombie Cyr"/>
              </a:rPr>
              <a:t>х чи</a:t>
            </a:r>
            <a:r>
              <a:rPr b="1" lang="ru-RU" sz="3600" spc="-1" strike="noStrike">
                <a:solidFill>
                  <a:srgbClr val="ffffff"/>
                </a:solidFill>
                <a:latin typeface="DS Zombie Cyr"/>
              </a:rPr>
              <a:t>с</a:t>
            </a:r>
            <a:r>
              <a:rPr b="1" lang="ru-RU" sz="3600" spc="-1" strike="noStrike">
                <a:solidFill>
                  <a:srgbClr val="010199"/>
                </a:solidFill>
                <a:latin typeface="DS Zombie Cyr"/>
              </a:rPr>
              <a:t>ел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7" name="WordArt 13"/>
          <p:cNvSpPr txBox="1"/>
          <p:nvPr/>
        </p:nvSpPr>
        <p:spPr>
          <a:xfrm>
            <a:off x="2209680" y="4876920"/>
            <a:ext cx="22860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cc66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4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cc66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18" name="WordArt 14"/>
          <p:cNvSpPr txBox="1"/>
          <p:nvPr/>
        </p:nvSpPr>
        <p:spPr>
          <a:xfrm>
            <a:off x="7238880" y="5943600"/>
            <a:ext cx="2574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cc66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cc66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19" name="WordArt 15"/>
          <p:cNvSpPr txBox="1"/>
          <p:nvPr/>
        </p:nvSpPr>
        <p:spPr>
          <a:xfrm>
            <a:off x="1523880" y="4876920"/>
            <a:ext cx="228600" cy="20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cc66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cc66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20" name="WordArt 16"/>
          <p:cNvSpPr txBox="1"/>
          <p:nvPr/>
        </p:nvSpPr>
        <p:spPr>
          <a:xfrm>
            <a:off x="2590920" y="5410080"/>
            <a:ext cx="2286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Lef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cc66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0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cc66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21" name="WordArt 17"/>
          <p:cNvSpPr txBox="1"/>
          <p:nvPr/>
        </p:nvSpPr>
        <p:spPr>
          <a:xfrm>
            <a:off x="8001000" y="4800600"/>
            <a:ext cx="685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cc66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cc66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22" name="WordArt 18"/>
          <p:cNvSpPr txBox="1"/>
          <p:nvPr/>
        </p:nvSpPr>
        <p:spPr>
          <a:xfrm>
            <a:off x="838080" y="3886200"/>
            <a:ext cx="152640" cy="5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3" name="WordArt 19"/>
          <p:cNvSpPr txBox="1"/>
          <p:nvPr/>
        </p:nvSpPr>
        <p:spPr>
          <a:xfrm>
            <a:off x="6019920" y="5791320"/>
            <a:ext cx="180720" cy="66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cc66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cc66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4" name="WordArt 20"/>
          <p:cNvSpPr txBox="1"/>
          <p:nvPr/>
        </p:nvSpPr>
        <p:spPr>
          <a:xfrm>
            <a:off x="1828800" y="4495680"/>
            <a:ext cx="15228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cc66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cc66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5" name="WordArt 21"/>
          <p:cNvSpPr txBox="1"/>
          <p:nvPr/>
        </p:nvSpPr>
        <p:spPr>
          <a:xfrm>
            <a:off x="8381880" y="2666880"/>
            <a:ext cx="257400" cy="89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20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20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10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141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9efee"/>
                </a:solidFill>
                <a:latin typeface="Garamond"/>
              </a:rPr>
              <a:t>Тур </a:t>
            </a: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V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 type="subTitle"/>
          </p:nvPr>
        </p:nvSpPr>
        <p:spPr>
          <a:xfrm>
            <a:off x="9144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«ПОМОГИ СВОЕЙ КОМАНДЕ»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4" dur="2000"/>
                                        <p:tgtEl>
                                          <p:spTgt spid="1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Text Box 4"/>
          <p:cNvSpPr/>
          <p:nvPr/>
        </p:nvSpPr>
        <p:spPr>
          <a:xfrm>
            <a:off x="533520" y="457200"/>
            <a:ext cx="297180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Подарил  утятам ёж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Восемь кожаных сапоже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Кто ответит из ребя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Сколько было всех утят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5" name="Text Box 5"/>
          <p:cNvSpPr/>
          <p:nvPr/>
        </p:nvSpPr>
        <p:spPr>
          <a:xfrm>
            <a:off x="1219320" y="32004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99ff"/>
                </a:solidFill>
                <a:latin typeface="Arial"/>
              </a:rPr>
              <a:t>4 утён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6" name="Text Box 7"/>
          <p:cNvSpPr/>
          <p:nvPr/>
        </p:nvSpPr>
        <p:spPr>
          <a:xfrm>
            <a:off x="4419720" y="609480"/>
            <a:ext cx="3733560" cy="43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Шёл Кондрат в Ленинград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А навстречу двенадцать ребя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У каждого по три лукошк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В каждом лукошке – кошк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У каждой кошки – 12 котя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У каждого котён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В зубах по 4 мышон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И задумался Кондрат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Сколько мышат и котя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Ребята несут в Ленинград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7" name="Text Box 8"/>
          <p:cNvSpPr/>
          <p:nvPr/>
        </p:nvSpPr>
        <p:spPr>
          <a:xfrm>
            <a:off x="4572000" y="5334120"/>
            <a:ext cx="4245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99ff"/>
                </a:solidFill>
                <a:latin typeface="Arial"/>
              </a:rPr>
              <a:t>(Глупый, глупый Кондрат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99ff"/>
                </a:solidFill>
                <a:latin typeface="Arial"/>
              </a:rPr>
              <a:t>Он один лишь шёл в Ленинград!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1" dur="10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6" dur="10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Text Box 4"/>
          <p:cNvSpPr/>
          <p:nvPr/>
        </p:nvSpPr>
        <p:spPr>
          <a:xfrm>
            <a:off x="1523880" y="609480"/>
            <a:ext cx="64771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от и время пошло в дел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 уже вот пролетело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о не будем огорчатьс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м не раз ещё встречаться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9" name="Text Box 5"/>
          <p:cNvSpPr/>
          <p:nvPr/>
        </p:nvSpPr>
        <p:spPr>
          <a:xfrm>
            <a:off x="1371600" y="4648320"/>
            <a:ext cx="6400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сего наилучшего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о встречи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79" dur="50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380" dur="50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381" dur="50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8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animClr clrSpc="rgb">
                                      <p:cBhvr>
                                        <p:cTn id="38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set>
                                      <p:cBhvr>
                                        <p:cTn id="38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8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8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9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Тур 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«МАРАФОНЕЦ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28" name="Picture 6" descr="18"/>
          <p:cNvPicPr/>
          <p:nvPr/>
        </p:nvPicPr>
        <p:blipFill>
          <a:blip r:embed="rId1"/>
          <a:stretch/>
        </p:blipFill>
        <p:spPr>
          <a:xfrm>
            <a:off x="6934320" y="0"/>
            <a:ext cx="167616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0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1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Text Box 8"/>
          <p:cNvSpPr/>
          <p:nvPr/>
        </p:nvSpPr>
        <p:spPr>
          <a:xfrm>
            <a:off x="152280" y="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. На прямолинейном участке пути каждое колесо двухколёсного велосипеда проехало  15 км. Сколько километров проехал велосипед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0" name="Text Box 9"/>
          <p:cNvSpPr/>
          <p:nvPr/>
        </p:nvSpPr>
        <p:spPr>
          <a:xfrm>
            <a:off x="380880" y="6094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А)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1" name="Rectangle 10"/>
          <p:cNvSpPr/>
          <p:nvPr/>
        </p:nvSpPr>
        <p:spPr>
          <a:xfrm>
            <a:off x="2745720" y="6094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в)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2" name="Rectangle 11"/>
          <p:cNvSpPr/>
          <p:nvPr/>
        </p:nvSpPr>
        <p:spPr>
          <a:xfrm>
            <a:off x="4041000" y="609480"/>
            <a:ext cx="60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г)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3" name="Rectangle 12"/>
          <p:cNvSpPr/>
          <p:nvPr/>
        </p:nvSpPr>
        <p:spPr>
          <a:xfrm>
            <a:off x="1754280" y="60948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б)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4" name="Text Box 14"/>
          <p:cNvSpPr/>
          <p:nvPr/>
        </p:nvSpPr>
        <p:spPr>
          <a:xfrm>
            <a:off x="228600" y="106668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. Доску длиной в 4 м распилили на части  по 1 м. Чтобы отпилить 1 м доски, нужно 5 минут. За сколько времени можно распилить всю доску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5" name="Rectangle 15"/>
          <p:cNvSpPr/>
          <p:nvPr/>
        </p:nvSpPr>
        <p:spPr>
          <a:xfrm>
            <a:off x="612000" y="19051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А)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6" name="Rectangle 16"/>
          <p:cNvSpPr/>
          <p:nvPr/>
        </p:nvSpPr>
        <p:spPr>
          <a:xfrm>
            <a:off x="1983240" y="19051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б)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7" name="Rectangle 17"/>
          <p:cNvSpPr/>
          <p:nvPr/>
        </p:nvSpPr>
        <p:spPr>
          <a:xfrm>
            <a:off x="3355560" y="19051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в)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8" name="Text Box 18"/>
          <p:cNvSpPr/>
          <p:nvPr/>
        </p:nvSpPr>
        <p:spPr>
          <a:xfrm>
            <a:off x="304920" y="236232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. Сколько сотен содержится в 48 десятках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9" name="Text Box 19"/>
          <p:cNvSpPr/>
          <p:nvPr/>
        </p:nvSpPr>
        <p:spPr>
          <a:xfrm>
            <a:off x="685800" y="2743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А)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0" name="Text Box 20"/>
          <p:cNvSpPr/>
          <p:nvPr/>
        </p:nvSpPr>
        <p:spPr>
          <a:xfrm>
            <a:off x="3200400" y="2743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в)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1" name="Text Box 21"/>
          <p:cNvSpPr/>
          <p:nvPr/>
        </p:nvSpPr>
        <p:spPr>
          <a:xfrm>
            <a:off x="2057400" y="2743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б) 4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2" name="Text Box 22"/>
          <p:cNvSpPr/>
          <p:nvPr/>
        </p:nvSpPr>
        <p:spPr>
          <a:xfrm>
            <a:off x="4343400" y="2743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г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) ни одн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" name="Text Box 23"/>
          <p:cNvSpPr/>
          <p:nvPr/>
        </p:nvSpPr>
        <p:spPr>
          <a:xfrm>
            <a:off x="228600" y="350532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cc00"/>
                </a:solidFill>
                <a:latin typeface="Arial"/>
              </a:rPr>
              <a:t>4. По стеблю растения, высота которого 1м, ползёт улитка. Днём она поднимается на 4 дм, а ночью опускается на 2 дм. Через сколько дней улитка будет на вершине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" name="Text Box 24"/>
          <p:cNvSpPr/>
          <p:nvPr/>
        </p:nvSpPr>
        <p:spPr>
          <a:xfrm>
            <a:off x="533520" y="45720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А) на 5-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5" name="Text Box 26"/>
          <p:cNvSpPr/>
          <p:nvPr/>
        </p:nvSpPr>
        <p:spPr>
          <a:xfrm>
            <a:off x="1905120" y="45720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б) на 2-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Text Box 27"/>
          <p:cNvSpPr/>
          <p:nvPr/>
        </p:nvSpPr>
        <p:spPr>
          <a:xfrm>
            <a:off x="3276720" y="44956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в) на 4-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7" name="Text Box 28"/>
          <p:cNvSpPr/>
          <p:nvPr/>
        </p:nvSpPr>
        <p:spPr>
          <a:xfrm>
            <a:off x="4648320" y="44197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г) через д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8" name="Text Box 29"/>
          <p:cNvSpPr/>
          <p:nvPr/>
        </p:nvSpPr>
        <p:spPr>
          <a:xfrm>
            <a:off x="6477120" y="43434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А) на 3-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" name="Text Box 30"/>
          <p:cNvSpPr/>
          <p:nvPr/>
        </p:nvSpPr>
        <p:spPr>
          <a:xfrm>
            <a:off x="304920" y="518148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cc00"/>
                </a:solidFill>
                <a:latin typeface="Arial"/>
              </a:rPr>
              <a:t>5. Одна сторона прямоугольника </a:t>
            </a:r>
            <a:r>
              <a:rPr b="1" i="1" lang="ru-RU" sz="1800" spc="-1" strike="noStrike">
                <a:solidFill>
                  <a:srgbClr val="cccc00"/>
                </a:solidFill>
                <a:latin typeface="Arial"/>
              </a:rPr>
              <a:t>х </a:t>
            </a:r>
            <a:r>
              <a:rPr b="1" lang="ru-RU" sz="1800" spc="-1" strike="noStrike">
                <a:solidFill>
                  <a:srgbClr val="cccc00"/>
                </a:solidFill>
                <a:latin typeface="Arial"/>
              </a:rPr>
              <a:t>см</a:t>
            </a:r>
            <a:r>
              <a:rPr b="1" i="1" lang="ru-RU" sz="1800" spc="-1" strike="noStrike">
                <a:solidFill>
                  <a:srgbClr val="cccc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cccc00"/>
                </a:solidFill>
                <a:latin typeface="Arial"/>
              </a:rPr>
              <a:t> а другая на 2 см короче, выразите периметр прямо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" name="Text Box 32"/>
          <p:cNvSpPr/>
          <p:nvPr/>
        </p:nvSpPr>
        <p:spPr>
          <a:xfrm>
            <a:off x="4724280" y="6095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в) х(х-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Text Box 33"/>
          <p:cNvSpPr/>
          <p:nvPr/>
        </p:nvSpPr>
        <p:spPr>
          <a:xfrm>
            <a:off x="2666880" y="60958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б) 2</a:t>
            </a:r>
            <a:r>
              <a:rPr b="1" i="1" lang="ru-RU" sz="1800" spc="-1" strike="noStrike">
                <a:solidFill>
                  <a:srgbClr val="ffcc00"/>
                </a:solidFill>
                <a:latin typeface="Arial"/>
              </a:rPr>
              <a:t>х+2(х-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Text Box 35"/>
          <p:cNvSpPr/>
          <p:nvPr/>
        </p:nvSpPr>
        <p:spPr>
          <a:xfrm>
            <a:off x="533520" y="609588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А) </a:t>
            </a:r>
            <a:r>
              <a:rPr b="1" i="1" lang="ru-RU" sz="1800" spc="-1" strike="noStrike">
                <a:solidFill>
                  <a:srgbClr val="ffcc00"/>
                </a:solidFill>
                <a:latin typeface="Arial"/>
              </a:rPr>
              <a:t>х+(х-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20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6" dur="2000" fill="hold"/>
                                        <p:tgtEl>
                                          <p:spTgt spid="14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7" dur="2000" fill="hold"/>
                                        <p:tgtEl>
                                          <p:spTgt spid="14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82" dur="2000" fill="hold"/>
                                        <p:tgtEl>
                                          <p:spTgt spid="14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3" dur="2000" fill="hold"/>
                                        <p:tgtEl>
                                          <p:spTgt spid="14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7" dur="2000" fill="hold"/>
                                        <p:tgtEl>
                                          <p:spTgt spid="14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3581280" cy="746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66"/>
                </a:solidFill>
                <a:latin typeface="Tahoma"/>
              </a:rPr>
              <a:t>Тур </a:t>
            </a:r>
            <a:r>
              <a:rPr b="0" lang="en-US" sz="5400" spc="-1" strike="noStrike">
                <a:solidFill>
                  <a:srgbClr val="000066"/>
                </a:solidFill>
                <a:latin typeface="Tahoma"/>
              </a:rPr>
              <a:t>II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 type="subTitle"/>
          </p:nvPr>
        </p:nvSpPr>
        <p:spPr>
          <a:xfrm>
            <a:off x="1905120" y="1218960"/>
            <a:ext cx="579096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Tahoma"/>
              </a:rPr>
              <a:t>«МЫСЛИТЕЛЬ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770"/>
                                        <p:tgtEl>
                                          <p:spTgt spid="1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5" dur="770" fill="hold"/>
                                        <p:tgtEl>
                                          <p:spTgt spid="1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7" dur="770" fill="hold"/>
                                        <p:tgtEl>
                                          <p:spTgt spid="1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9" dur="770" fill="hold"/>
                                        <p:tgtEl>
                                          <p:spTgt spid="1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Text Box 4"/>
          <p:cNvSpPr/>
          <p:nvPr/>
        </p:nvSpPr>
        <p:spPr>
          <a:xfrm>
            <a:off x="457200" y="1371600"/>
            <a:ext cx="8305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МАЛЬЧИК РЕШИЛ ОПРЕДЕЛИТЬ ДЛИНУ МОСТ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ЧЕРЕЗ РЕК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ОН ЗАМЕТИЛ, ЧТО РАССТОЯ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МЕЖДУ ДВУМЯ СТОЛБИКАМИ, НА КОТОР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КРЕПЯТСЯ ПЕРИЛА, РАВНО ДВУМ ШАГА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А СТОЛБИКОВ ВСЕГО 30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КАКОВА ДЛИНА МОСТА, ЕСЛИ ОДИН ША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МАЛЬЧИКА 0,4 М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3809880" y="38052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Тур 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III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 type="subTitle"/>
          </p:nvPr>
        </p:nvSpPr>
        <p:spPr>
          <a:xfrm>
            <a:off x="761760" y="2743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6600cc"/>
                </a:solidFill>
                <a:latin typeface="Verdana"/>
              </a:rPr>
              <a:t>         </a:t>
            </a:r>
            <a:r>
              <a:rPr b="1" lang="ru-RU" sz="3700" spc="-1" strike="noStrike">
                <a:solidFill>
                  <a:srgbClr val="6600cc"/>
                </a:solidFill>
                <a:latin typeface="Verdana"/>
              </a:rPr>
              <a:t>«ВЕРНЫЙ ГЛАЗ»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8" name="Picture 4" descr="images"/>
          <p:cNvPicPr/>
          <p:nvPr/>
        </p:nvPicPr>
        <p:blipFill>
          <a:blip r:embed="rId1"/>
          <a:stretch/>
        </p:blipFill>
        <p:spPr>
          <a:xfrm>
            <a:off x="5791320" y="3886200"/>
            <a:ext cx="2514600" cy="21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AutoShape 34"/>
          <p:cNvSpPr/>
          <p:nvPr/>
        </p:nvSpPr>
        <p:spPr>
          <a:xfrm rot="20731200">
            <a:off x="4495680" y="6324480"/>
            <a:ext cx="457200" cy="381240"/>
          </a:xfrm>
          <a:prstGeom prst="flowChartTerminator">
            <a:avLst/>
          </a:prstGeom>
          <a:solidFill>
            <a:srgbClr val="99ffcc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" name="AutoShape 33"/>
          <p:cNvSpPr/>
          <p:nvPr/>
        </p:nvSpPr>
        <p:spPr>
          <a:xfrm rot="20731200">
            <a:off x="3886200" y="6324480"/>
            <a:ext cx="457200" cy="381240"/>
          </a:xfrm>
          <a:prstGeom prst="flowChartTerminator">
            <a:avLst/>
          </a:prstGeom>
          <a:solidFill>
            <a:srgbClr val="99ffcc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1" name="AutoShape 7"/>
          <p:cNvSpPr/>
          <p:nvPr/>
        </p:nvSpPr>
        <p:spPr>
          <a:xfrm rot="18747600">
            <a:off x="2629080" y="1713960"/>
            <a:ext cx="1600200" cy="1676160"/>
          </a:xfrm>
          <a:prstGeom prst="flowChartExtract">
            <a:avLst/>
          </a:prstGeom>
          <a:solidFill>
            <a:srgbClr val="99ffcc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2" name="AutoShape 6"/>
          <p:cNvSpPr/>
          <p:nvPr/>
        </p:nvSpPr>
        <p:spPr>
          <a:xfrm rot="19827000">
            <a:off x="2666520" y="1904760"/>
            <a:ext cx="1143000" cy="1676160"/>
          </a:xfrm>
          <a:prstGeom prst="flowChartExtract">
            <a:avLst/>
          </a:prstGeom>
          <a:solidFill>
            <a:srgbClr val="99ffcc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3" name="AutoShape 5"/>
          <p:cNvSpPr/>
          <p:nvPr/>
        </p:nvSpPr>
        <p:spPr>
          <a:xfrm>
            <a:off x="3733920" y="4495680"/>
            <a:ext cx="1600200" cy="1905120"/>
          </a:xfrm>
          <a:prstGeom prst="flowChartExtract">
            <a:avLst/>
          </a:prstGeom>
          <a:solidFill>
            <a:srgbClr val="99ffcc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4" name="AutoShape 8"/>
          <p:cNvSpPr/>
          <p:nvPr/>
        </p:nvSpPr>
        <p:spPr>
          <a:xfrm rot="1546200">
            <a:off x="5433480" y="1912680"/>
            <a:ext cx="1067040" cy="1885680"/>
          </a:xfrm>
          <a:prstGeom prst="flowChartExtract">
            <a:avLst/>
          </a:prstGeom>
          <a:solidFill>
            <a:srgbClr val="99ffcc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5" name="AutoShape 9"/>
          <p:cNvSpPr/>
          <p:nvPr/>
        </p:nvSpPr>
        <p:spPr>
          <a:xfrm rot="3252600">
            <a:off x="5219640" y="1638000"/>
            <a:ext cx="990720" cy="1676160"/>
          </a:xfrm>
          <a:prstGeom prst="flowChartExtract">
            <a:avLst/>
          </a:prstGeom>
          <a:solidFill>
            <a:srgbClr val="99ffcc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AutoShape 10"/>
          <p:cNvSpPr/>
          <p:nvPr/>
        </p:nvSpPr>
        <p:spPr>
          <a:xfrm>
            <a:off x="2514600" y="1905120"/>
            <a:ext cx="4038480" cy="2590560"/>
          </a:xfrm>
          <a:prstGeom prst="flowChartExtract">
            <a:avLst/>
          </a:prstGeom>
          <a:solidFill>
            <a:srgbClr val="99ffcc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AutoShape 4"/>
          <p:cNvSpPr/>
          <p:nvPr/>
        </p:nvSpPr>
        <p:spPr>
          <a:xfrm rot="18112800">
            <a:off x="3746520" y="3035520"/>
            <a:ext cx="466560" cy="49212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AutoShape 12"/>
          <p:cNvSpPr/>
          <p:nvPr/>
        </p:nvSpPr>
        <p:spPr>
          <a:xfrm rot="16968600">
            <a:off x="4905000" y="4619520"/>
            <a:ext cx="542880" cy="905040"/>
          </a:xfrm>
          <a:prstGeom prst="flowChartExtract">
            <a:avLst/>
          </a:prstGeom>
          <a:solidFill>
            <a:srgbClr val="99ffcc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9" name="AutoShape 13"/>
          <p:cNvSpPr/>
          <p:nvPr/>
        </p:nvSpPr>
        <p:spPr>
          <a:xfrm rot="3343800">
            <a:off x="4812840" y="3035160"/>
            <a:ext cx="466560" cy="49212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0" name="AutoShape 14"/>
          <p:cNvSpPr/>
          <p:nvPr/>
        </p:nvSpPr>
        <p:spPr>
          <a:xfrm>
            <a:off x="3962520" y="3200400"/>
            <a:ext cx="228600" cy="304920"/>
          </a:xfrm>
          <a:prstGeom prst="flowChartConnector">
            <a:avLst/>
          </a:prstGeom>
          <a:solidFill>
            <a:srgbClr val="008ae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1" name="AutoShape 15"/>
          <p:cNvSpPr/>
          <p:nvPr/>
        </p:nvSpPr>
        <p:spPr>
          <a:xfrm>
            <a:off x="4038480" y="3276720"/>
            <a:ext cx="152640" cy="152280"/>
          </a:xfrm>
          <a:prstGeom prst="flowChartConnector">
            <a:avLst/>
          </a:prstGeom>
          <a:solidFill>
            <a:srgbClr val="08080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2" name="AutoShape 16"/>
          <p:cNvSpPr/>
          <p:nvPr/>
        </p:nvSpPr>
        <p:spPr>
          <a:xfrm rot="21274800">
            <a:off x="4876560" y="3200040"/>
            <a:ext cx="230040" cy="306360"/>
          </a:xfrm>
          <a:prstGeom prst="flowChartConnector">
            <a:avLst/>
          </a:prstGeom>
          <a:solidFill>
            <a:srgbClr val="008ae8"/>
          </a:solidFill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3" name="AutoShape 17"/>
          <p:cNvSpPr/>
          <p:nvPr/>
        </p:nvSpPr>
        <p:spPr>
          <a:xfrm>
            <a:off x="4876920" y="3276720"/>
            <a:ext cx="152280" cy="152280"/>
          </a:xfrm>
          <a:prstGeom prst="flowChartConnector">
            <a:avLst/>
          </a:prstGeom>
          <a:solidFill>
            <a:srgbClr val="08080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4" name="AutoShape 18"/>
          <p:cNvSpPr/>
          <p:nvPr/>
        </p:nvSpPr>
        <p:spPr>
          <a:xfrm rot="10800000">
            <a:off x="4343040" y="3505320"/>
            <a:ext cx="304920" cy="304560"/>
          </a:xfrm>
          <a:prstGeom prst="flowChartOffpageConnector">
            <a:avLst/>
          </a:prstGeom>
          <a:solidFill>
            <a:srgbClr val="ff99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5" name="Arc 20"/>
          <p:cNvSpPr/>
          <p:nvPr/>
        </p:nvSpPr>
        <p:spPr>
          <a:xfrm flipH="1" flipV="1">
            <a:off x="2057400" y="3733920"/>
            <a:ext cx="838080" cy="457200"/>
          </a:xfrm>
          <a:prstGeom prst="pie">
            <a:avLst/>
          </a:prstGeom>
          <a:noFill/>
          <a:ln w="9360">
            <a:solidFill>
              <a:srgbClr val="08080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6" name="Arc 21"/>
          <p:cNvSpPr/>
          <p:nvPr/>
        </p:nvSpPr>
        <p:spPr>
          <a:xfrm flipH="1" flipV="1" rot="20403000">
            <a:off x="2208600" y="3885120"/>
            <a:ext cx="838440" cy="457200"/>
          </a:xfrm>
          <a:prstGeom prst="pie">
            <a:avLst/>
          </a:prstGeom>
          <a:noFill/>
          <a:ln w="9360">
            <a:solidFill>
              <a:srgbClr val="08080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7" name="Arc 22"/>
          <p:cNvSpPr/>
          <p:nvPr/>
        </p:nvSpPr>
        <p:spPr>
          <a:xfrm flipH="1" flipV="1" rot="1689600">
            <a:off x="2132640" y="3581280"/>
            <a:ext cx="838080" cy="456840"/>
          </a:xfrm>
          <a:prstGeom prst="pie">
            <a:avLst/>
          </a:prstGeom>
          <a:noFill/>
          <a:ln w="9360">
            <a:solidFill>
              <a:srgbClr val="08080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8" name="Arc 27"/>
          <p:cNvSpPr/>
          <p:nvPr/>
        </p:nvSpPr>
        <p:spPr>
          <a:xfrm flipV="1">
            <a:off x="6095880" y="3428280"/>
            <a:ext cx="457200" cy="762120"/>
          </a:xfrm>
          <a:prstGeom prst="pie">
            <a:avLst/>
          </a:prstGeom>
          <a:noFill/>
          <a:ln w="9360">
            <a:solidFill>
              <a:srgbClr val="08080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9" name="Arc 28"/>
          <p:cNvSpPr/>
          <p:nvPr/>
        </p:nvSpPr>
        <p:spPr>
          <a:xfrm flipV="1">
            <a:off x="6248520" y="3886200"/>
            <a:ext cx="685800" cy="380880"/>
          </a:xfrm>
          <a:prstGeom prst="pie">
            <a:avLst/>
          </a:prstGeom>
          <a:noFill/>
          <a:ln w="9360">
            <a:solidFill>
              <a:srgbClr val="08080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0" name="Arc 29"/>
          <p:cNvSpPr/>
          <p:nvPr/>
        </p:nvSpPr>
        <p:spPr>
          <a:xfrm flipV="1">
            <a:off x="6172200" y="3656880"/>
            <a:ext cx="457200" cy="609480"/>
          </a:xfrm>
          <a:prstGeom prst="pie">
            <a:avLst/>
          </a:prstGeom>
          <a:noFill/>
          <a:ln w="9360">
            <a:solidFill>
              <a:srgbClr val="08080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1" name="AutoShape 31"/>
          <p:cNvSpPr/>
          <p:nvPr/>
        </p:nvSpPr>
        <p:spPr>
          <a:xfrm rot="16385400">
            <a:off x="4261680" y="3961440"/>
            <a:ext cx="457200" cy="455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7263" y="2319"/>
                  <a:pt x="12925" y="5080"/>
                  <a:pt x="12925" y="10800"/>
                </a:cubicBezTo>
                <a:cubicBezTo>
                  <a:pt x="12925" y="16520"/>
                  <a:pt x="17263" y="1928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99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2" name="AutoShape 32"/>
          <p:cNvSpPr/>
          <p:nvPr/>
        </p:nvSpPr>
        <p:spPr>
          <a:xfrm rot="4949400">
            <a:off x="3740400" y="4640760"/>
            <a:ext cx="533520" cy="700200"/>
          </a:xfrm>
          <a:prstGeom prst="flowChartExtract">
            <a:avLst/>
          </a:prstGeom>
          <a:solidFill>
            <a:srgbClr val="99ffcc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3" name="AutoShape 35"/>
          <p:cNvSpPr/>
          <p:nvPr/>
        </p:nvSpPr>
        <p:spPr>
          <a:xfrm rot="16887000">
            <a:off x="5562360" y="5028840"/>
            <a:ext cx="457200" cy="380880"/>
          </a:xfrm>
          <a:prstGeom prst="flowChartTerminator">
            <a:avLst/>
          </a:prstGeom>
          <a:solidFill>
            <a:srgbClr val="99ffcc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4" name="AutoShape 37"/>
          <p:cNvSpPr/>
          <p:nvPr/>
        </p:nvSpPr>
        <p:spPr>
          <a:xfrm rot="15781200">
            <a:off x="3238200" y="4838760"/>
            <a:ext cx="457200" cy="380880"/>
          </a:xfrm>
          <a:prstGeom prst="flowChartTerminator">
            <a:avLst/>
          </a:prstGeom>
          <a:solidFill>
            <a:srgbClr val="99ffcc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5" name="AutoShape 38"/>
          <p:cNvSpPr/>
          <p:nvPr/>
        </p:nvSpPr>
        <p:spPr>
          <a:xfrm>
            <a:off x="3200400" y="4876920"/>
            <a:ext cx="152280" cy="1522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6" name="AutoShape 39"/>
          <p:cNvSpPr/>
          <p:nvPr/>
        </p:nvSpPr>
        <p:spPr>
          <a:xfrm>
            <a:off x="3200400" y="5029200"/>
            <a:ext cx="152280" cy="1522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7" name="AutoShape 40"/>
          <p:cNvSpPr/>
          <p:nvPr/>
        </p:nvSpPr>
        <p:spPr>
          <a:xfrm>
            <a:off x="3276720" y="5105520"/>
            <a:ext cx="152280" cy="1522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8" name="AutoShape 41"/>
          <p:cNvSpPr/>
          <p:nvPr/>
        </p:nvSpPr>
        <p:spPr>
          <a:xfrm>
            <a:off x="5867280" y="5029200"/>
            <a:ext cx="152640" cy="1522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9" name="AutoShape 42"/>
          <p:cNvSpPr/>
          <p:nvPr/>
        </p:nvSpPr>
        <p:spPr>
          <a:xfrm>
            <a:off x="5867280" y="5181480"/>
            <a:ext cx="152640" cy="15264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0" name="AutoShape 43"/>
          <p:cNvSpPr/>
          <p:nvPr/>
        </p:nvSpPr>
        <p:spPr>
          <a:xfrm>
            <a:off x="5791320" y="5257800"/>
            <a:ext cx="152280" cy="1522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1" name="AutoShape 44"/>
          <p:cNvSpPr/>
          <p:nvPr/>
        </p:nvSpPr>
        <p:spPr>
          <a:xfrm>
            <a:off x="4114800" y="6553080"/>
            <a:ext cx="152280" cy="15264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2" name="AutoShape 46"/>
          <p:cNvSpPr/>
          <p:nvPr/>
        </p:nvSpPr>
        <p:spPr>
          <a:xfrm>
            <a:off x="4800600" y="6477120"/>
            <a:ext cx="152280" cy="1522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3" name="AutoShape 47"/>
          <p:cNvSpPr/>
          <p:nvPr/>
        </p:nvSpPr>
        <p:spPr>
          <a:xfrm>
            <a:off x="4648320" y="6553080"/>
            <a:ext cx="152280" cy="15264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4" name="AutoShape 48"/>
          <p:cNvSpPr/>
          <p:nvPr/>
        </p:nvSpPr>
        <p:spPr>
          <a:xfrm>
            <a:off x="4495680" y="6553080"/>
            <a:ext cx="152640" cy="15264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5" name="AutoShape 49"/>
          <p:cNvSpPr/>
          <p:nvPr/>
        </p:nvSpPr>
        <p:spPr>
          <a:xfrm>
            <a:off x="4191120" y="6477120"/>
            <a:ext cx="152280" cy="1522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6" name="AutoShape 50"/>
          <p:cNvSpPr/>
          <p:nvPr/>
        </p:nvSpPr>
        <p:spPr>
          <a:xfrm>
            <a:off x="3962520" y="6553080"/>
            <a:ext cx="152280" cy="15264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7" name="Arc 51"/>
          <p:cNvSpPr/>
          <p:nvPr/>
        </p:nvSpPr>
        <p:spPr>
          <a:xfrm flipV="1">
            <a:off x="5867280" y="2590920"/>
            <a:ext cx="1752840" cy="2590560"/>
          </a:xfrm>
          <a:prstGeom prst="pie">
            <a:avLst/>
          </a:prstGeom>
          <a:noFill/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8" name="Oval 53"/>
          <p:cNvSpPr/>
          <p:nvPr/>
        </p:nvSpPr>
        <p:spPr>
          <a:xfrm rot="910800">
            <a:off x="6324120" y="1905120"/>
            <a:ext cx="121932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9" name="Oval 54"/>
          <p:cNvSpPr/>
          <p:nvPr/>
        </p:nvSpPr>
        <p:spPr>
          <a:xfrm rot="20790600">
            <a:off x="6324480" y="2362320"/>
            <a:ext cx="121932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0" name="Oval 60"/>
          <p:cNvSpPr/>
          <p:nvPr/>
        </p:nvSpPr>
        <p:spPr>
          <a:xfrm rot="19576800">
            <a:off x="7620120" y="1676160"/>
            <a:ext cx="121896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1" name="Oval 61"/>
          <p:cNvSpPr/>
          <p:nvPr/>
        </p:nvSpPr>
        <p:spPr>
          <a:xfrm rot="21255600">
            <a:off x="7772400" y="2133720"/>
            <a:ext cx="121932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2" name="Oval 62"/>
          <p:cNvSpPr/>
          <p:nvPr/>
        </p:nvSpPr>
        <p:spPr>
          <a:xfrm rot="1210800">
            <a:off x="7772040" y="2514240"/>
            <a:ext cx="121932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3" name="Oval 63"/>
          <p:cNvSpPr/>
          <p:nvPr/>
        </p:nvSpPr>
        <p:spPr>
          <a:xfrm rot="2945400">
            <a:off x="6590880" y="1562040"/>
            <a:ext cx="121932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" name="Oval 64"/>
          <p:cNvSpPr/>
          <p:nvPr/>
        </p:nvSpPr>
        <p:spPr>
          <a:xfrm rot="5400000">
            <a:off x="7048080" y="1409760"/>
            <a:ext cx="121932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5" name="AutoShape 52"/>
          <p:cNvSpPr/>
          <p:nvPr/>
        </p:nvSpPr>
        <p:spPr>
          <a:xfrm>
            <a:off x="7467480" y="2133720"/>
            <a:ext cx="381240" cy="457200"/>
          </a:xfrm>
          <a:prstGeom prst="flowChartSummingJunction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6" name="AutoShape 65"/>
          <p:cNvSpPr/>
          <p:nvPr/>
        </p:nvSpPr>
        <p:spPr>
          <a:xfrm rot="15536400">
            <a:off x="7200720" y="3314160"/>
            <a:ext cx="838080" cy="1066680"/>
          </a:xfrm>
          <a:prstGeom prst="rtTriangl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7" name="AutoShape 66"/>
          <p:cNvSpPr/>
          <p:nvPr/>
        </p:nvSpPr>
        <p:spPr>
          <a:xfrm rot="17247600">
            <a:off x="10800" y="98280"/>
            <a:ext cx="2362320" cy="2590920"/>
          </a:xfrm>
          <a:prstGeom prst="cloudCallout">
            <a:avLst>
              <a:gd name="adj1" fmla="val 10486"/>
              <a:gd name="adj2" fmla="val 99699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8" name="Text Box 68"/>
          <p:cNvSpPr/>
          <p:nvPr/>
        </p:nvSpPr>
        <p:spPr>
          <a:xfrm>
            <a:off x="228600" y="609480"/>
            <a:ext cx="244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Arial"/>
              </a:rPr>
              <a:t>Из каки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Arial"/>
              </a:rPr>
              <a:t>фигур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Arial"/>
              </a:rPr>
              <a:t>я состою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Arial"/>
              </a:rPr>
              <a:t>сколько их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2b2b2"/>
                </a:solidFill>
                <a:latin typeface="Arial"/>
              </a:rPr>
              <a:t>Тур </a:t>
            </a: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IV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 type="subTitle"/>
          </p:nvPr>
        </p:nvSpPr>
        <p:spPr>
          <a:xfrm>
            <a:off x="838080" y="2437920"/>
            <a:ext cx="79250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«КАПИТАНЫ В  КОСМОС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0" dur="2000"/>
                                        <p:tgtEl>
                                          <p:spTgt spid="1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Text Box 4"/>
          <p:cNvSpPr/>
          <p:nvPr/>
        </p:nvSpPr>
        <p:spPr>
          <a:xfrm>
            <a:off x="2514600" y="380880"/>
            <a:ext cx="662940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Скорость движения Земли во круг Солнца 29,8 км/с, скорость Марса 24,1 км/с, скорость Меркурия 47,8 км/с, скорость Венеры 35 км/с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Представьте, что  появилась новая планета, а её скорость нечто среднее от данных планет. Найдите её скорость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17" dur="20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8-24T07:18:57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