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FA3A-6CF1-42F3-93A6-13091A7A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4E9-788E-4C50-A908-BAE258E2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123-2E2D-4EB7-BC4B-0CBAC023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237-34BF-4A33-8B6D-301780CD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374-0CF4-4BFD-9ED9-7ECB5C00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A9FA-87C2-4525-84BA-576A2689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B34-67B4-45A4-8D98-057AFD0A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809E-4C52-4B35-B020-5D220C48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F9F-540F-4FC3-B6EE-19BDC5ED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DE4-3C70-43AA-9D6C-CA7002C3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CED-DE3E-4D05-8FFE-4DB84CD6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4115-EF5F-42B4-BD35-E2058814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5BB8-D0E7-40F1-B2FD-EBAD3D62DC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000080" y="785880"/>
            <a:ext cx="685656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туан де Сент - Экзюп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ленький прин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ное чтение 2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итель начальны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гафонова Маргарита Пав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ГБОУ СОШ №139 Г. 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357960" y="2857680"/>
            <a:ext cx="2190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857160" y="214200"/>
            <a:ext cx="7500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так,  мне  пришлось  выбирать  другую  профессию,  и я выучилс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чика.   Облетел  я  чуть  ли  не  весь  свет.  И география, по прав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азать, мне очень пригодилась. Я умел с первого взгляда отличить  Ки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Аризоны.  Это очень полезно, если ночью собьешься с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своем  веку я  много встречал  разных серьезных  людей.  Я дол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л среди взрослых.  Я видел  их совсем близко. И от этого,  призн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стал думать о них луч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я   встречал   взрослого,  который  казался  мне  разумней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ятливей других,  я показывал ему свой рисунок N 1 - я его  сохранил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да  носил  с  собою.  Я хотел знать,  вправду ли этот человек что-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имает.  Но все они отвечали мне:  "Это шляпа".  И я уже не говорил 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ми  ни  об  удавах,  ни  о джунглях,  ни о звездах.  Я применялся к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нятиям.  Я говорил с ними об игре в бридж и  гольф,  о  политике  и 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алстуках.  И  взрослые  были очень довольны,  что познакомились с та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равомыслящим челове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00040" y="5000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 мне  было  шесть  лет,  в  книге  под  названием  "Правди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тории",  где  рассказывалось  про  девственные  леса, я увидел однаж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ивительную  картинку.   На  картинке  огромная  змея  - удав - гло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ищного зве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357880" y="785880"/>
            <a:ext cx="3514680" cy="20286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3214800" y="29289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книге  говорилось:   "Удав  заглатывает  свою жертву целиком,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уя. После  этого он  уже не  может шевельнуться  и спит полгода подря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 не переварит пищу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 много  раздумывал   о  полной  приключений жизни джунглей и то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исовал цветным карандашом свою первую картинку.  Это был мой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N 1. Вот что я нарисовал. Я показал мое творение взрослым и спросил,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шно ли 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1680" y="642960"/>
            <a:ext cx="4200480" cy="11858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4143240" y="3571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Разве шляпа страшная? - возразили м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 это  была  совсем  не  шляпа.   Это  был удав, который проглот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на.  Тогда я нарисовал  удава изнутри, чтобы взрослым было  понят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 ведь всегда нужно все объяснять.  Это мой рисунок N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357120" y="3214800"/>
            <a:ext cx="4346640" cy="129528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4071960" y="30718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ые посоветовали мне не рисовать змей ни снаружи, ни  изнут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  побольше   интересоваться   географией,   историей,   арифметикой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описанием.   Вот  как  случилось,  что  шести  лет  я  отказался 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лестящей карьеры художника.  Потерпев неудачу с рисунками N 1 и N 2, 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тратил веру в себя.   Взрослые никогда ничего не  понимают сами, а 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тей очень утомительно без конца им все объяснять и растолковы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642960" y="285840"/>
            <a:ext cx="8001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 я жил в одиночестве, и  не с кем было мне поговорить  по душ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вот шесть  лет тому назад  пришлось мне сделать  вынужденную посадку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харе.  Что-то сломалось в моторе  моего самолета.  Со мной не  было 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ханика, ни пассажиров, и я решил, что попробую сам все починить,  хо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и очень трудно.  Я должен был исправить мотор или погибнуть. Воды  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ня едва хватило бы на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так, в первый вечер я уснул на песке в пустыне, где на тысячи ми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круг не было никакого жилья.  Человек,  потерпевший кораблекрушение 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терянный  на  плоту  посреди  океана,  -  и  тот был бы не так оди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образите же мое удивление,  когда на  рассвете  меня  разбудил  чей-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ненький голосок. Он сказ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жалуйста... нарисуй мне бараш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?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рисуй мне барашк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928800" y="928800"/>
            <a:ext cx="5929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так, я  во  все  глаза  смотрел  на  это  необычайное явление.  Не забудьте, я находился за тысячи миль от человеческого жилья. А между тем ничуть не похоже было,  чтобы этот малыш заблудился, или до смерти ус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напуган,  или умирает от голода и жажды. По его виду никак нельзя бы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азать, что это ребенок, потерявшийся в необитаемой пустыне, вдалеке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якого жилья. Наконец ко мне вернулся дар речи, и я спрос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о... что ты здесь дела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57120" y="285840"/>
            <a:ext cx="7715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он опять попросил тихо и очень серьез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жалуйста... нарисуй барашк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это  было  так  таинственно  и  непостижимо,  что  я  не посм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азаться. Как ни нелепо это  было  здесь,  в  пустыне,  на  волосок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ерти,  я все-таки достал из кармана лист бумаги и вечное перо.  Но т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 вспомнил,  что учился-то я больше географии,  истории,  арифметике 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описанию,  и  сказал малышу (немножко даже сердито сказал),  что 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ю рисовать. Он ответ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се равно. Нарисуй бара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 как я никогда в жизни  не рисовал баранов, я повторил для  н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у из двух старых картинок, которые  я только и умею рисовать -  уд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ружи.  И очень изумился, когда малыш воскликну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ет, нет!   Мне не надо слона  в удаве!  Удав  слишком опасен, 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н  слишком  большой.   У  меня  дома  все  очень маленькое. Мне нуж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рашек. Нарисуй бара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я нарисов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642960" y="28584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вскочил,  точно  надо  мною   грянул  гром.  Протер  глаза.  С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матриваться. И увидел забавного маленького человечка, который серье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ня разглядывал. Вот самый лучший его портрет,  какой мне после уд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исовать. Но на моем рисунке он, конечно, далеко не так хорош, как бы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самом деле.  Это не моя вина.  Когда мне было  шесть  лет,   взросл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бедили  меня,  что  художник  из меня не выйдет, и я ничего не научил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овать, кроме удавов - снаружи и из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572080" y="2357280"/>
            <a:ext cx="25621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071720" y="642960"/>
            <a:ext cx="1352520" cy="1133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3000240" y="428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внимательно посмотрел на мой рисунок и сказ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ет, этот барашек уже совсем хилый. Нарисуй друг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нарисов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857160" y="2500200"/>
            <a:ext cx="1219320" cy="11811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2286000" y="25509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й новый друг мягко, снисходительно улыбну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Ты  же  сам видишь,  - сказал он,  - это не барашек.  Это 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ран. У него рог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опять нарисовал по-друго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857160" y="5214960"/>
            <a:ext cx="1352520" cy="12286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6"/>
          <p:cNvSpPr/>
          <p:nvPr/>
        </p:nvSpPr>
        <p:spPr>
          <a:xfrm>
            <a:off x="3071880" y="47862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он и от этого рисунка отказал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Этот слишком старый. Мне нужен такой барашек, чтобы жил дол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ут я  потерял  терпение  -  ведь  мне надо было поскорей разобр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тор - и нацарапал ящ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714240" y="357120"/>
            <a:ext cx="2162160" cy="9619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3214800" y="428760"/>
            <a:ext cx="5715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сказал малыш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от тебе ящик. А в нем сидит такой барашек, какого тебе хоч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как же я удивился, когда мой строгий судья вдруг просия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от это хорошо! Как ты думаешь, много этому барашку надо трав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 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едь у меня дома всего очень мал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Ему хватит. Я тебе даю совсем маленького бара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е  такой уж он маленький...  -  сказал  он,  наклонив голову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глядывая рисунок.  - Смотри-ка! Он уснул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 я познакомился с Маленьким принц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571680" y="3714840"/>
            <a:ext cx="256212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3962520" cy="52480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4357800" y="928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 я сделал еще одно  важное открытие:  его родная  планета вся-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личиной с д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5214960" y="2643120"/>
            <a:ext cx="26100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214720" y="57168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3227760" y="571500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ЛЕНЬКИЙ ПРИН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000080" y="463680"/>
            <a:ext cx="7429680" cy="61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500040" y="42876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ленький прин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 Маленького принца одновременно и глубоко автобиографичен, и как бы отстранён от взрослого автора-летчика. Он рождён из тоски по умирающему в себе маленькому Тонио — потомку обнищавшего дворянского рода, которого в семье называли за его белокурые (сперва) волосы «Королём-Солнце», а в колледже прозвали Лунатиком за привычку подолгу смотреть на звёздное небо. Само словосочетание «Маленький принц» встречается, как вы наверно заметили, ещё в «Планете людей» (как и многие другие образы и мысли). А в 1940 году в перерывах между боями с нацистами Экзюпери часто рисовал на листке мальчика — когда крылатого, когда верхом на облаке. Постепенно крылья сменит длинный шарф (какой, кстати, носил и сам автор), а облако станет астероидом Б-6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000080" y="71424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образ капризной и трогательной Розы тоже хорошо известен, это, безусловно, жена Экзюпери Консуэло — импульсивная латиноамериканка, которую друзья прозвали «маленьким сальвадорским вулканом». Кстати, в оригинале автор всегда пишет не «Роза», а «la fleur» — цветок. Но во французском языке это слово женского рода. Поэтому в русском переводе Нора Галь заменила цветок Розой (на рисунке это действительно роза). А вот в украинском варианте ничего заменять не пришлось — «ля флёр» без труда стала «квітко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714240" y="357120"/>
            <a:ext cx="61437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счет Лиса споров о прообразах и вариантах перевода было побольше. Вот что пишет переводчица Нора Галь в статье «Под звездой Сент-Экса»: «Когда „Маленький принц“ печатался у нас впервые, вышел жаркий спор в редакции: Лис в сказке или Лиса — опять-таки, женский род или мужской? Кое-кто считал, что лисица в сказке — соперница Розы. Здесь спор уже не об одном слове, не о фразе, но о понимании всего образа. Даже больше, в известной мере — о понимании всей сказки: её интонация, окраска, глубинный внутренний смысл — всё менялось от этой „мелочи“. А я убеждена: биографическая справка о роли женщин в жизни Сент-Экзюпери понять сказку не помогает и к делу не относится. Уж не говорю о том, что по-французски le renard мужского рода. Главное, в сказке Лис — прежде всего друг. Роза — любовь, Лис — дружба, и верный друг Лис учит Маленького принца верности, учит всегда чувствовать себя в ответе за любимую и за всех близких и любимы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но добавить ещё одно наблюдение. Необычно большие уши Лиса на рисунке Экзюпери, скорее всего, навеяны маленькой пустынной лисичкой фенек — одно из многочисленных существ, прирученных писателем во время службы в Марок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357120" y="0"/>
            <a:ext cx="8286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туан де Сент-Экзюпери родился 29 июня 1900 года в Лионе, в аристократической семье. Был одним из первых пилотов авиапочты, работал во Франции, Африке, Южной Америке. Как военный летчик участвовал во Второй мировой войне. Большинство книг Сент-Экзюпери выросли из его опыта летчика. Это романы Южный почтовый, Ночной полет, Земля людей, Военный летч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долго до своей гибели Экзюпери написал одну небольшую, совсем не похожую на другие книжку-сказку Маленький принц и сам ее иллюстрировал. Сказка, рассказанная Антуаном де Сент-Экзюпери, - мудрая и человечная, и автор ее не только поэт, но и философ. В последний день июля 1944 года Антуан де Сент-Экзюпери растворился в лазурном небе над французской Ривьерой, ушел навстречу звездам - так же, как и его Маленький прин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4595760" cy="62373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5857920" y="1428840"/>
            <a:ext cx="27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уан де Сент-Экзюпе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3191040" cy="2867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786120" y="2286000"/>
            <a:ext cx="5037120" cy="40291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586440" y="464328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уан де Сент-Экзюпе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3976560" cy="54766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4429080" y="0"/>
            <a:ext cx="4714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туан де Сент-Экзюпери родился во французском городе Лион, происходил из старинного провинциального дворянского рода, и был третьим из пятерых детей виконта Жана де Сент-Экзюпери и его супруги Мари де Фонколомб. В возрасте четырёх лет потерял отца. Воспитанием маленького Антуана занималась м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12 году на авиационном поле в Амберье Сент-Экзюпери впервые поднялся в воздух на самолёте. Машиной управлял знаменитый лётчик Габриэль Вроблев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зюпери поступил в Школу братьев-христиан Святого Варфоломея в Лионе (1908 г.), затем с братом Франсуа учился в иезуитском колледже Сент-Круа в Мансе — до 1914 года, после чего они продолжили учёбу во Фрибуре (Швейцария) в колледже маристов, готовился к поступлению в «Эколь Наваль» (проходил подготовительный курс Военно-морского лицея Сент-Луи в Париже), но не прошёл по конкурсу. В 1919 году записывается вольнослушателем в Академию изящных искусств на отделение архитек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Рисунок1.png"/>
          <p:cNvPicPr/>
          <p:nvPr/>
        </p:nvPicPr>
        <p:blipFill>
          <a:blip r:embed="rId1"/>
          <a:stretch/>
        </p:blipFill>
        <p:spPr>
          <a:xfrm>
            <a:off x="928800" y="857160"/>
            <a:ext cx="71164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4286160" y="1428840"/>
            <a:ext cx="45720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туан де Сент-Экзюпер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орко одно лишь сердце. Самого главного глазами не увид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Рисунок11.png"/>
          <p:cNvPicPr/>
          <p:nvPr/>
        </p:nvPicPr>
        <p:blipFill>
          <a:blip r:embed="rId1"/>
          <a:stretch/>
        </p:blipFill>
        <p:spPr>
          <a:xfrm>
            <a:off x="142920" y="571680"/>
            <a:ext cx="4086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380988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4357800" y="1214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лософская сказка Антуана де Сент-Экзюпери (1900–1944) «Маленький принц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5:40:02Z</dcterms:created>
  <dc:creator>HP</dc:creator>
  <dc:description/>
  <dc:language>en-US</dc:language>
  <cp:lastModifiedBy>HP</cp:lastModifiedBy>
  <dcterms:modified xsi:type="dcterms:W3CDTF">2012-06-05T08:54:41Z</dcterms:modified>
  <cp:revision>19</cp:revision>
  <dc:subject/>
  <dc:title>Слайд 1</dc:title>
</cp:coreProperties>
</file>