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2A7-6AD7-4643-AFB6-07872CE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009-18D9-4FB0-A972-F20D77C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EB4-B230-4024-94B0-8266B172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515-2364-4E27-9021-684FA969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B7A-90D9-48B3-9968-B1ED9E4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93E-492F-4D88-B546-99CCC4F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09D-6929-4F48-9820-05284A8D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42C-8635-4FEC-916F-91437CF3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C53-F8AC-477A-B6D3-EF90BB0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D4B-C818-48CC-8973-7FA9638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4A6-B8CF-48AC-9A57-C61CD95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8F0-938B-4C37-85E4-2ED87A0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E745-0F92-4149-A3FF-E4D336D8D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000080" y="785880"/>
            <a:ext cx="685656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уан де Сент - Экзю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ное чтение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гафонова Маргарит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БОУ СОШ №13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357960" y="2857680"/>
            <a:ext cx="2190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857160" y="21420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ак,  мне  пришлось  выбирать  другую  профессию,  и я выучил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чика.   Облетел  я  чуть  ли  не  весь  свет.  И география, по прав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, мне очень пригодилась. Я умел с первого взгляда отличить  Ки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Аризоны.  Это очень полезно, если ночью собьешься с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воем  веку я  много встречал  разных серьезных  людей.  Я дол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 среди взрослых.  Я видел  их совсем близко. И от этого,  призн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тал думать о них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я   встречал   взрослого,  который  казался  мне  разумней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ливей других,  я показывал ему свой рисунок N 1 - я его  сохрани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 носил  с  собою.  Я хотел знать,  вправду ли этот человек что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имает.  Но все они отвечали мне:  "Это шляпа".  И я уже не говорил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ми  ни  об  удавах,  ни  о джунглях,  ни о звездах.  Я применялся к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ям.  Я говорил с ними об игре в бридж и  гольф,  о  политике  и 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лстуках.  И  взрослые  были очень довольны,  что познакомились с т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равомыслящим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00040" y="5000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 мне  было  шесть  лет,  в  книге  под  названием  "Правд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и",  где  рассказывалось  про  девственные  леса, я увидел одна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ивительную  картинку.   На  картинке  огромная  змея  - удав - гло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щного зве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57880" y="785880"/>
            <a:ext cx="3514680" cy="2028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214800" y="2928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книге  говорилось:   "Удав  заглатывает  свою жертву целиком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я. После  этого он  уже не  может шевельнуться  и спит полгода подря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переварит пищу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 много  раздумывал   о  полной  приключений жизни джунглей и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исовал цветным карандашом свою первую картинку.  Это был мо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 1. Вот что я нарисовал. Я показал мое творение взрослым и спросил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шно ли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4200480" cy="1185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143240" y="357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е шляпа страшная? - возразили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 это  была  совсем  не  шляпа.   Это  был удав, который прогло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а.  Тогда я нарисовал  удава изнутри, чтобы взрослым было  понят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 ведь всегда нужно все объяснять.  Это мой рисунок 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57120" y="3214800"/>
            <a:ext cx="434664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071960" y="30718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е посоветовали мне не рисовать змей ни снаружи, ни 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  побольше   интересоваться   географией,   историей,   арифметикой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писанием.   Вот  как  случилось,  что  шести  лет  я  отказался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естящей карьеры художника.  Потерпев неудачу с рисунками N 1 и N 2,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ратил веру в себя.   Взрослые никогда ничего не  понимают сами, а 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ей очень утомительно без конца им все объяснять и растолков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42960" y="28584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я жил в одиночестве, и  не с кем было мне поговорить  по душ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от шесть  лет тому назад  пришлось мне сделать  вынужденную посадку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харе.  Что-то сломалось в моторе  моего самолета.  Со мной не  было 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ка, ни пассажиров, и я решил, что попробую сам все починить,  х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и очень трудно.  Я должен был исправить мотор или погибнуть. Воды 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я едва хватило бы на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ак, в первый вечер я уснул на песке в пустыне, где на тысячи м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круг не было никакого жилья.  Человек,  потерпевший кораблекрушение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рянный  на  плоту  посреди  океана,  -  и  тот был бы не так од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бразите же мое удивление,  когда на  рассвете  меня  разбудил  чей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ненький голосок. Он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жалуйста... нарисуй мне бараш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рисуй мне барашк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928800" y="928800"/>
            <a:ext cx="5929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ак, я  во  все  глаза  смотрел  на  это  необычайное явление.  Не забудьте, я находился за тысячи миль от человеческого жилья. А между тем ничуть не похоже было,  чтобы этот малыш заблудился, или до смерти у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пуган,  или умирает от голода и жажды. По его виду никак нельзя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, что это ребенок, потерявшийся в необитаемой пустыне, вдалеке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кого жилья. Наконец ко мне вернулся дар речи, и я спрос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о... что ты здесь дела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8584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н опять попросил тихо и очень серье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жалуйста... нарисуй барашк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это  было  так  таинственно  и  непостижимо,  что  я  не посм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азаться. Как ни нелепо это  было  здесь,  в  пустыне,  на  волосок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рти,  я все-таки достал из кармана лист бумаги и вечное перо.  Но т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 вспомнил,  что учился-то я больше географии,  истории,  арифметике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писанию,  и  сказал малышу (немножко даже сердито сказал),  что 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ю рисовать. Он отв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се равно. Нарисуй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как я никогда в жизни  не рисовал баранов, я повторил для  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у из двух старых картинок, которые  я только и умею рисовать -  уд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ружи.  И очень изумился, когда малыш воскликну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т, нет!   Мне не надо слона  в удаве!  Удав  слишком опасен,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  слишком  большой.   У  меня  дома  все  очень маленькое. Мне нуж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шек. Нарисуй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я нарис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642960" y="285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скочил,  точно  надо  мною   грянул  гром.  Протер  глаза.  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матриваться. И увидел забавного маленького человечка, который серье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ня разглядывал. Вот самый лучший его портрет,  какой мне после уд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исовать. Но на моем рисунке он, конечно, далеко не так хорош, как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ом деле.  Это не моя вина.  Когда мне было  шесть  лет,   взрос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дили  меня,  что  художник  из меня не выйдет, и я ничего не научи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, кроме удавов - снаружи и из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357280"/>
            <a:ext cx="2562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1720" y="642960"/>
            <a:ext cx="1352520" cy="1133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3000240" y="428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внимательно посмотрел на мой рисунок и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т, этот барашек уже совсем хилый. Нарисуй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арис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857160" y="250020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86000" y="2550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новый друг мягко, снисходительно улыбну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ы  же  сам видишь,  - сказал он,  - это не барашек.  Это 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н. У него рог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опять нарисовал по-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57160" y="5214960"/>
            <a:ext cx="1352520" cy="1228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3071880" y="4786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он и от этого рисунка отказал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т слишком старый. Мне нужен такой барашек, чтобы жил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т я  потерял  терпение  -  ведь  мне надо было поскорей разоб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ор - и нацарапал я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162160" cy="961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3214800" y="428760"/>
            <a:ext cx="571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казал малы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от тебе ящик. А в нем сидит такой барашек, какого тебе хоч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как же я удивился, когда мой строгий судья вдруг просия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от это хорошо! Как ты думаешь, много этому барашку надо тра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едь у меня дома всего очень мал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му хватит. Я тебе даю совсем маленького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  такой уж он маленький...  -  сказал  он,  наклонив голо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лядывая рисунок.  - Смотри-ка! Он усну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я познакомился с Маленьким принц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25621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962520" cy="5248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4357800" y="9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я сделал еще одно  важное открытие:  его родная  планета вся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личиной с д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214960" y="2643120"/>
            <a:ext cx="2610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14720" y="57168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227760" y="57150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00080" y="463680"/>
            <a:ext cx="742968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00040" y="4287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Маленького принца одновременно и глубоко автобиографичен, и как бы отстранён от взрослого автора-летчика. Он рождён из тоски по умирающему в себе маленькому Тонио — потомку обнищавшего дворянского рода, которого в семье называли за его белокурые (сперва) волосы «Королём-Солнце», а в колледже прозвали Лунатиком за привычку подолгу смотреть на звёздное небо. Само словосочетание «Маленький принц» встречается, как вы наверно заметили, ещё в «Планете людей» (как и многие другие образы и мысли). А в 1940 году в перерывах между боями с нацистами Экзюпери часто рисовал на листке мальчика — когда крылатого, когда верхом на облаке. Постепенно крылья сменит длинный шарф (какой, кстати, носил и сам автор), а облако станет астероидом Б-6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000080" y="71424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образ капризной и трогательной Розы тоже хорошо известен, это, безусловно, жена Экзюпери Консуэло — импульсивная латиноамериканка, которую друзья прозвали «маленьким сальвадорским вулканом». Кстати, в оригинале автор всегда пишет не «Роза», а «la fleur» — цветок. Но во французском языке это слово женского рода. Поэтому в русском переводе Нора Галь заменила цветок Розой (на рисунке это действительно роза). А вот в украинском варианте ничего заменять не пришлось — «ля флёр» без труда стала «квітко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714240" y="357120"/>
            <a:ext cx="6143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чет Лиса споров о прообразах и вариантах перевода было побольше. Вот что пишет переводчица Нора Галь в статье «Под звездой Сент-Экса»: «Когда „Маленький принц“ печатался у нас впервые, вышел жаркий спор в редакции: Лис в сказке или Лиса — опять-таки, женский род или мужской? Кое-кто считал, что лисица в сказке — соперница Розы. Здесь спор уже не об одном слове, не о фразе, но о понимании всего образа. Даже больше, в известной мере — о понимании всей сказки: её интонация, окраска, глубинный внутренний смысл — всё менялось от этой „мелочи“. А я убеждена: биографическая справка о роли женщин в жизни Сент-Экзюпери понять сказку не помогает и к делу не относится. Уж не говорю о том, что по-французски le renard мужского рода. Главное, в сказке Лис — прежде всего друг. Роза — любовь, Лис — дружба, и верный друг Лис учит Маленького принца верности, учит всегда чувствовать себя в ответе за любимую и за всех близких и любим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добавить ещё одно наблюдение. Необычно большие уши Лиса на рисунке Экзюпери, скорее всего, навеяны маленькой пустынной лисичкой фенек — одно из многочисленных существ, прирученных писателем во время службы в Марок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357120" y="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уан де Сент-Экзюпери родился 29 июня 1900 года в Лионе, в аристократической семье. Был одним из первых пилотов авиапочты, работал во Франции, Африке, Южной Америке. Как военный летчик участвовал во Второй мировой войне. Большинство книг Сент-Экзюпери выросли из его опыта летчика. Это романы Южный почтовый, Ночной полет, Земля людей, Военный летч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долго до своей гибели Экзюпери написал одну небольшую, совсем не похожую на другие книжку-сказку Маленький принц и сам ее иллюстрировал. Сказка, рассказанная Антуаном де Сент-Экзюпери, - мудрая и человечная, и автор ее не только поэт, но и философ. В последний день июля 1944 года Антуан де Сент-Экзюпери растворился в лазурном небе над французской Ривьерой, ушел навстречу звездам - так же, как и его Маленький прин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4595760" cy="6237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857920" y="142884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191040" cy="286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5037120" cy="4029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86440" y="464328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76560" cy="5476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429080" y="0"/>
            <a:ext cx="4714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 родился во французском городе Лион, происходил из старинного провинциального дворянского рода, и был третьим из пятерых детей виконта Жана де Сент-Экзюпери и его супруги Мари де Фонколомб. В возрасте четырёх лет потерял отца. Воспитанием маленького Антуана занималась 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12 году на авиационном поле в Амберье Сент-Экзюпери впервые поднялся в воздух на самолёте. Машиной управлял знаменитый лётчик Габриэль Вроблев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зюпери поступил в Школу братьев-христиан Святого Варфоломея в Лионе (1908 г.), затем с братом Франсуа учился в иезуитском колледже Сент-Круа в Мансе — до 1914 года, после чего они продолжили учёбу во Фрибуре (Швейцария) в колледже маристов, готовился к поступлению в «Эколь Наваль» (проходил подготовительный курс Военно-морского лицея Сент-Луи в Париже), но не прошёл по конкурсу. В 1919 году записывается вольнослушателем в Академию изящных искусств на отделение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Рисунок1.png"/>
          <p:cNvPicPr/>
          <p:nvPr/>
        </p:nvPicPr>
        <p:blipFill>
          <a:blip r:embed="rId1"/>
          <a:stretch/>
        </p:blipFill>
        <p:spPr>
          <a:xfrm>
            <a:off x="928800" y="857160"/>
            <a:ext cx="7116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286160" y="1428840"/>
            <a:ext cx="4572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уан де Сент-Экзюпер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орко одно лишь сердце. Самого главного глазами не уви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11.png"/>
          <p:cNvPicPr/>
          <p:nvPr/>
        </p:nvPicPr>
        <p:blipFill>
          <a:blip r:embed="rId1"/>
          <a:stretch/>
        </p:blipFill>
        <p:spPr>
          <a:xfrm>
            <a:off x="142920" y="571680"/>
            <a:ext cx="4086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357800" y="121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ская сказка Антуана де Сент-Экзюпери (1900–1944) «Маленький прин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02Z</dcterms:created>
  <dc:creator>HP</dc:creator>
  <dc:description/>
  <dc:language>en-US</dc:language>
  <cp:lastModifiedBy>HP</cp:lastModifiedBy>
  <dcterms:modified xsi:type="dcterms:W3CDTF">2012-06-05T08:54:41Z</dcterms:modified>
  <cp:revision>19</cp:revision>
  <dc:subject/>
  <dc:title>Слайд 1</dc:title>
</cp:coreProperties>
</file>