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493C-273A-42E7-B0D9-7E2F123B78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F363-B63A-4C72-BAAC-41E8B475DF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D879-65FB-43B0-BFFD-46ECD3A047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4B67-9D45-4FB0-8287-8D4A8ACA45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776-7CC0-4BFA-A119-D947E2D523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3AA7-3988-4D16-8106-5AC2E195ED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E1DE-6FF1-443D-8A3A-1A6498BE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A830-95C5-4D2D-A9D2-F25E252A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EC21-A6A5-4431-9380-E7DDD01C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0DF6-D06D-4EC8-A5AE-B2AB2734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D103B-E44C-47D7-A408-5FF8BC59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B71A5-575D-4176-B2A6-4672EFC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F37C5-0011-41C9-A359-8C44BAF9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5A6AB-08DB-47EB-A72B-AE675CA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06F81-F084-4BE5-92B0-DFA1D68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2540D-28CD-4F05-8078-00385199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5D84A-7B85-439D-9FCB-D213E35E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18AD-8BC7-49A9-9333-D83A3178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D6EF0-3A22-409B-90B9-3EB10DD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25021-0283-4A7E-9C83-05DFECD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F380F-DA0C-4EEF-B485-9824EF36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D0D04-C658-4B99-94EB-88892B9E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DFA5D-76B4-43D7-94B1-7ED0D8B2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999F-5F57-4EF4-92F7-4EADA847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7529-940B-4E6A-9435-9E13D9CF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076FB-A0BA-4AF6-9DC4-BBFF601E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F7DE-7CA7-4394-9BDB-C85335EB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2DBB-AFA5-45F8-8920-80E7772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BC7B-2D4E-42BA-B386-FEFF7C17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DB44-256E-4DBE-86B1-4259E8F8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3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A3C-47F4-4C11-B393-8CC0D2540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cc66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5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6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cc66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7F49-5E81-4A94-B024-7F04364F7C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екция " Баскетбол"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ческой культуры Моргунова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Гимназия № 30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Цели 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енаправленное развитие и совершенствование духовных и природных сил  и нравственного воспитания  девушек, развитие познавательных интересов, выработка воли и характера, воспитания чувства  коллективизма и создание условий развития лич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1066680" y="1752480"/>
            <a:ext cx="7925040" cy="46483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ширение двигательного опыта за счет овладения двигательными действиями и использования их в качестве средств укрепления здоровья и формирования основ индивидуального образа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ункциональных возможностей организма путем направленной подгот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ние индивидуальных психических черт и особенностей в общении и коллективном взаимодействии средствами и методами спортивной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  практических   умений   в   организации   и     проведении самостоятельных форм занятий баскетбол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в соревнования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66680" y="3581280"/>
            <a:ext cx="7925040" cy="28195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3366cc"/>
              </a:gs>
              <a:gs pos="100000">
                <a:srgbClr val="0033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борная команда гимназии 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езниченко Юля 11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Мельникова Настя 11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Фомина Юля 10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Иванова Настя 10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Суслова Даша 10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Родионова Настя 10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Коваль Даша 10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Карпова Полина 7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Галичина Анна 6-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Дегаева Оля 5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 Сазонова Лиза 5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Комар Маша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 Мялицына Маша 5 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Глинская Кристина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 Кривоногова Валерия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 Волкова Даша 5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 Ханьжина Лиза 5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 Калабина Настя 5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 Шалькова Катя 5 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Младшая баскетбольная лиг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1" name="Picture 5" descr="баскетбол"/>
          <p:cNvPicPr/>
          <p:nvPr/>
        </p:nvPicPr>
        <p:blipFill>
          <a:blip r:embed="rId1"/>
          <a:stretch/>
        </p:blipFill>
        <p:spPr>
          <a:xfrm>
            <a:off x="2108160" y="179064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Старшая баскетбольная лиг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3" name="Picture 5" descr="баскетбол старшие"/>
          <p:cNvPicPr/>
          <p:nvPr/>
        </p:nvPicPr>
        <p:blipFill>
          <a:blip r:embed="rId1"/>
          <a:stretch/>
        </p:blipFill>
        <p:spPr>
          <a:xfrm>
            <a:off x="2108160" y="179064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Наш девиз 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« Один за все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и все за одного !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24640" cy="15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cc66"/>
                </a:solidFill>
                <a:latin typeface="Garamond"/>
              </a:rPr>
              <a:t>Наши достижения :</a:t>
            </a:r>
            <a:endParaRPr b="0" lang="en-US" sz="7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отри филь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MM900336443[1]"/>
          <p:cNvPicPr/>
          <p:nvPr/>
        </p:nvPicPr>
        <p:blipFill>
          <a:blip r:embed="rId1"/>
          <a:stretch/>
        </p:blipFill>
        <p:spPr>
          <a:xfrm>
            <a:off x="6019920" y="2590920"/>
            <a:ext cx="1371600" cy="12096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4"/>
          <p:cNvSpPr/>
          <p:nvPr/>
        </p:nvSpPr>
        <p:spPr>
          <a:xfrm>
            <a:off x="1523880" y="45720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youtu.be/mElE19Vnj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оман</cp:lastModifiedBy>
  <dcterms:modified xsi:type="dcterms:W3CDTF">2012-06-05T04:23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