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46A7-0E18-401C-8AA2-EE115288B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A10F-F9D3-45BD-AAB6-94F5D952C0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EC5-3634-4DB4-A6FD-3F5B35199A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5BD5-3C1A-4E18-AC10-1EC6D0BFF0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E61-26B5-4A08-A23E-BF1D60C66B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A48-B9A0-4EFD-AA95-AD65EEF435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6FEB-3DBA-4404-A60C-2ED114E7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A566-F966-4C08-AF00-D2C50790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410D-07FE-442F-9DED-61AB883D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4337-BC4C-4222-A64B-B9EE8E7C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05B0-C485-445B-90A5-C2432B8B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C97ED-38DD-4FC0-8040-CBF2078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41475-F69C-4B89-934F-ABD2263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4FCAA-BD11-4315-90EB-C22BF71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75958-8634-47C5-8547-11DA10D3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49645-AF10-4CF8-BC35-70F80865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6B038-E579-4688-B7C1-F9E5D62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E814-5555-494D-991C-796699D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6BD8-B442-465F-9020-73A5E59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DAFE3-0427-407A-8D58-65A2C41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70F7A-02CC-4C7A-94ED-C902737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1440D-0F3F-44B2-B16A-58495E8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201AA-5872-4AE2-80A1-16D31DC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B7DA-76AF-46DD-8CD9-143758B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948B-928E-435F-A33B-DE30853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6FE4-5025-4B83-8515-E94BC20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35C4-D690-47B1-B5C9-BF960A2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25B9-F56D-420C-B59E-7345A3F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6592-2E9A-40DD-A888-4BC0C75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01F8-53D5-47C0-85E9-7BB9F2E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3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661-D8DD-43CF-9E37-854EC4720D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cc66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5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6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cc66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265D-FA64-4164-896E-0A2CD63888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екция " Баскетбол"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ческой культуры Моргуно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Гимназия № 30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Цели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енаправленное развитие и совершенствование духовных и природных сил  и нравственного воспитания  девушек, развитие познавательных интересов, выработка воли и характера, воспитания чувства  коллективизма и создание условий развития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1752480"/>
            <a:ext cx="7925040" cy="4648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двигательного опыта за счет овладения двигательными действиями и использования их в качестве средств укрепления здоровья и формирования основ индивидуального образа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ункциональных возможностей организма путем направленной подгот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ние индивидуальных психических черт и особенностей в общении и коллективном взаимодействии средствами и методами спортив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  практических   умений   в   организации   и     проведении самостоятельных форм занятий баскетбо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соревнования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борная команда гимназии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езниченко Юля 11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Мельникова Настя 11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омина Юля 10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Иванова Настя 10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Суслова Даша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Родионова Настя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Коваль Даша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Карпова Полина 7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Галичина Анна 6-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Дегаева Оля 5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Сазонова Лиза 5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Комар Маш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Мялицына Маша 5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Глинская Кристин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Кривоногова Валерия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 Волкова Даш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 Ханьжина Лиза 5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 Калабина Настя 5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 Шалькова Катя 5 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Младшая баскетбольная лиг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1" name="Picture 5" descr="баскетбол"/>
          <p:cNvPicPr/>
          <p:nvPr/>
        </p:nvPicPr>
        <p:blipFill>
          <a:blip r:embed="rId1"/>
          <a:stretch/>
        </p:blipFill>
        <p:spPr>
          <a:xfrm>
            <a:off x="2108160" y="17906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таршая баскетбольная лиг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3" name="Picture 5" descr="баскетбол старшие"/>
          <p:cNvPicPr/>
          <p:nvPr/>
        </p:nvPicPr>
        <p:blipFill>
          <a:blip r:embed="rId1"/>
          <a:stretch/>
        </p:blipFill>
        <p:spPr>
          <a:xfrm>
            <a:off x="2108160" y="17906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 девиз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 Один за все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 все за одного 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5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Garamond"/>
              </a:rPr>
              <a:t>Наши достижения :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три филь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MM900336443[1]"/>
          <p:cNvPicPr/>
          <p:nvPr/>
        </p:nvPicPr>
        <p:blipFill>
          <a:blip r:embed="rId1"/>
          <a:stretch/>
        </p:blipFill>
        <p:spPr>
          <a:xfrm>
            <a:off x="6019920" y="2590920"/>
            <a:ext cx="137160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1523880" y="45720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youtu.be/mElE19Vnj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</cp:lastModifiedBy>
  <dcterms:modified xsi:type="dcterms:W3CDTF">2012-06-05T04:23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