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973-9F67-4822-A864-C003B147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580-8E98-4BF4-9620-9AF70389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429-21D8-4F39-AE7B-AFCE7EFF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DE7-3A5F-45F8-9A71-8FDD607D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303-C675-4D58-B64E-A12243AC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2D8-8438-4717-8DE4-4F1B5484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089-58C0-419E-B951-8E254DD7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28F-5DA6-4103-B183-C170554C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6E0-0223-4133-BF36-BFDFE7D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FA2-48FA-4E4A-91B0-22BA2EE5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9FD-7687-4FB8-B040-7DDF0A6F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9B9-6288-4EDD-990A-903F0916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1A19-83F5-4EBA-887F-A2E19C233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ru.wikipedia.org/wiki/&#1060;&#1072;&#1081;&#1083;:Chukovsky.jpg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орней Иванович Чуковски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(1882 - 1969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2" name="Picture 6" descr="Chukovsky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362320" y="18288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друг откуда-то лет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Маленький Комари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И в руке его гор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Маленький фона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"/>
          <p:cNvPicPr/>
          <p:nvPr/>
        </p:nvPicPr>
        <p:blipFill>
          <a:blip r:embed="rId1"/>
          <a:srcRect l="0" t="0" r="32894" b="42459"/>
          <a:stretch/>
        </p:blipFill>
        <p:spPr>
          <a:xfrm>
            <a:off x="1828800" y="1752480"/>
            <a:ext cx="4952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172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urier New"/>
              </a:rPr>
              <a:t>«Слава, слава Комару-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urier New"/>
              </a:rPr>
              <a:t>Победителю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7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2388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urier New"/>
              </a:rPr>
              <a:t>Произведения Чуков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1"/>
          <a:srcRect l="5758" t="0" r="0" b="0"/>
          <a:stretch/>
        </p:blipFill>
        <p:spPr>
          <a:xfrm>
            <a:off x="6019920" y="1295280"/>
            <a:ext cx="2286000" cy="2490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3429000" cy="510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5943600" y="3938760"/>
            <a:ext cx="2362320" cy="2462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219320" y="1600200"/>
            <a:ext cx="3047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006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Муха, Муха-Цокотух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Позолоченное брюхо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Муха по полю пошла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Муха денежку на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0" r="38809" b="0"/>
          <a:stretch/>
        </p:blipFill>
        <p:spPr>
          <a:xfrm>
            <a:off x="457200" y="1676520"/>
            <a:ext cx="411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1532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Пошла Муха на базар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 И купила самовар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Приходите, тараканы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urier New"/>
              </a:rPr>
              <a:t>Я вас чаем угощу!”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715000" cy="4647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2"/>
          <a:srcRect l="58671" t="0" r="0" b="0"/>
          <a:stretch/>
        </p:blipFill>
        <p:spPr>
          <a:xfrm>
            <a:off x="5114880" y="1676520"/>
            <a:ext cx="2962440" cy="4800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3"/>
          <a:srcRect l="58671" t="0" r="0" b="0"/>
          <a:stretch/>
        </p:blipFill>
        <p:spPr>
          <a:xfrm>
            <a:off x="6095880" y="1828800"/>
            <a:ext cx="198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23992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А букашки - по три чашк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С молоком и кренделько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Нынче Муха-Цокотух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Именинница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ukashechka"/>
          <p:cNvPicPr/>
          <p:nvPr/>
        </p:nvPicPr>
        <p:blipFill>
          <a:blip r:embed="rId1"/>
          <a:stretch/>
        </p:blipFill>
        <p:spPr>
          <a:xfrm>
            <a:off x="1371600" y="2133720"/>
            <a:ext cx="3029040" cy="3962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ukashechka"/>
          <p:cNvPicPr/>
          <p:nvPr/>
        </p:nvPicPr>
        <p:blipFill>
          <a:blip r:embed="rId2"/>
          <a:stretch/>
        </p:blipFill>
        <p:spPr>
          <a:xfrm>
            <a:off x="5029200" y="2133720"/>
            <a:ext cx="3098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2239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Приходили к Мухе блошк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Приносили ей сапожки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А сапожки не простые -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В них застежки золоты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0" t="55566" r="69902" b="0"/>
          <a:stretch/>
        </p:blipFill>
        <p:spPr>
          <a:xfrm>
            <a:off x="4114800" y="1981080"/>
            <a:ext cx="4191120" cy="4343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rcRect l="68359" t="48387" r="0" b="0"/>
          <a:stretch/>
        </p:blipFill>
        <p:spPr>
          <a:xfrm>
            <a:off x="1066680" y="198108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Приходила к Мух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Бабушка-пчел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Мухе-Цокотухе     Меду принесла..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019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"Бабочка-красавиц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Кушайте варенье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    Или вам не нравитс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Наше угощенье?"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"/>
          <p:cNvPicPr/>
          <p:nvPr/>
        </p:nvPicPr>
        <p:blipFill>
          <a:blip r:embed="rId1">
            <a:lum bright="-18000"/>
          </a:blip>
          <a:srcRect l="58337" t="40411" r="0" b="2882"/>
          <a:stretch/>
        </p:blipFill>
        <p:spPr>
          <a:xfrm>
            <a:off x="1905120" y="1752480"/>
            <a:ext cx="5562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5-16T05:20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