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E87-6DE9-4B9B-AE76-65AC0615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D40-C81B-410E-BBB7-62A8CA57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6FF-7878-46B1-8FB2-88D731A1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E07-A1CF-467B-93E9-CE6FC33E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C3F-5002-4066-B320-E6696A4C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779-20BC-4A61-987C-B1C2E818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026-55DA-4DE0-A051-C733693D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117-4D2B-4E4F-ADBD-5411D219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234-561F-44FB-968D-0CFDD5DD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BF4-0716-417E-AD3A-D5B9744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277-1D28-49D5-B929-C4BB680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CCC-5D09-4EE7-A39F-FC730B3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3E79-9C13-4C35-B79A-577C5B350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ru.wikipedia.org/wiki/&#1060;&#1072;&#1081;&#1083;:Chukovsky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орней Иванович Чуковски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(1882 - 196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" name="Picture 6" descr="Chukovsky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62320" y="18288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696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друг откуда-то лети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Маленький Комари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И в руке его гори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Маленький фона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1"/>
          <a:srcRect l="0" t="0" r="32894" b="42459"/>
          <a:stretch/>
        </p:blipFill>
        <p:spPr>
          <a:xfrm>
            <a:off x="1828800" y="1752480"/>
            <a:ext cx="4952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172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</a:rPr>
              <a:t>«Слава, слава Комару-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urier New"/>
              </a:rPr>
              <a:t>Победителю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2388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urier New"/>
              </a:rPr>
              <a:t>Произведения Чуко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1"/>
          <a:srcRect l="5758" t="0" r="0" b="0"/>
          <a:stretch/>
        </p:blipFill>
        <p:spPr>
          <a:xfrm>
            <a:off x="6019920" y="1295280"/>
            <a:ext cx="2286000" cy="2490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3429000" cy="510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5943600" y="3938760"/>
            <a:ext cx="2362320" cy="2462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219320" y="1600200"/>
            <a:ext cx="3047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006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Муха, Муха-Цокотуха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золоченное брюхо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Муха по полю пошла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Муха денежку на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0" t="0" r="38809" b="0"/>
          <a:stretch/>
        </p:blipFill>
        <p:spPr>
          <a:xfrm>
            <a:off x="457200" y="1676520"/>
            <a:ext cx="411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153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Пошла Муха на базар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 И купила самовар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Приходите, тараканы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Я вас чаем угощу!”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46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2"/>
          <a:srcRect l="58671" t="0" r="0" b="0"/>
          <a:stretch/>
        </p:blipFill>
        <p:spPr>
          <a:xfrm>
            <a:off x="5114880" y="1676520"/>
            <a:ext cx="2962440" cy="48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3"/>
          <a:srcRect l="58671" t="0" r="0" b="0"/>
          <a:stretch/>
        </p:blipFill>
        <p:spPr>
          <a:xfrm>
            <a:off x="6095880" y="1828800"/>
            <a:ext cx="19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23992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А букашки - по три чаш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С молоком и кренделько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Нынче Муха-Цокотух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Именинница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ukashechka"/>
          <p:cNvPicPr/>
          <p:nvPr/>
        </p:nvPicPr>
        <p:blipFill>
          <a:blip r:embed="rId1"/>
          <a:stretch/>
        </p:blipFill>
        <p:spPr>
          <a:xfrm>
            <a:off x="1371600" y="2133720"/>
            <a:ext cx="3029040" cy="39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bukashechka"/>
          <p:cNvPicPr/>
          <p:nvPr/>
        </p:nvPicPr>
        <p:blipFill>
          <a:blip r:embed="rId2"/>
          <a:stretch/>
        </p:blipFill>
        <p:spPr>
          <a:xfrm>
            <a:off x="5029200" y="2133720"/>
            <a:ext cx="30988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Приходили к Мухе блошки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Приносили ей сапожки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А сапожки не простые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В них застежки золоты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55566" r="69902" b="0"/>
          <a:stretch/>
        </p:blipFill>
        <p:spPr>
          <a:xfrm>
            <a:off x="4114800" y="1981080"/>
            <a:ext cx="4191120" cy="434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68359" t="48387" r="0" b="0"/>
          <a:stretch/>
        </p:blipFill>
        <p:spPr>
          <a:xfrm>
            <a:off x="1066680" y="198108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Приходила к Мух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Бабушка-пчел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Мухе-Цокотухе     Меду принесла..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"Бабочка-красавиц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Кушайте варенье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  Или вам не нравитс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Наше угощенье?"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"/>
          <p:cNvPicPr/>
          <p:nvPr/>
        </p:nvPicPr>
        <p:blipFill>
          <a:blip r:embed="rId1">
            <a:lum bright="-18000"/>
          </a:blip>
          <a:srcRect l="58337" t="40411" r="0" b="2882"/>
          <a:stretch/>
        </p:blipFill>
        <p:spPr>
          <a:xfrm>
            <a:off x="1905120" y="1752480"/>
            <a:ext cx="5562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16T05:20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