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49E1-8F3E-45B7-B6A6-AC0E61CB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1AB-26CE-4E71-93A9-D7CF413A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C5A-F765-491B-8595-AE2CDB69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048-E41E-4DC9-8799-5D1AAD2B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481C-E4D5-4A78-A570-2F4FAF68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383-F537-4D25-B65E-C753C6F2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4C3-A791-4A34-B8C7-B23CE682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61F-5C64-478A-B945-11399830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98A-B9A0-49D7-9F00-D8AD45EB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808-8262-41CD-8B6E-A8B73B39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275-FC77-4A57-816D-0967F0FA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646-0E53-4662-AD07-B6C9BDCE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5867-2A2C-465D-87C0-8CEFFF181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fr.wikipedia.org/wiki/Renault_TN6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fr.wikipedia.org/wiki/Renault_Celtaquatre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fr.wikipedia.org/wiki/Renault_4CV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fr.wikipedia.org/wiki/Marcel_Renault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623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Voiturette Renault Type D Série B de 190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95640" y="61657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Autobus 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nault TN6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 de 19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623736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Berline 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nault Celtaquatre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 de 193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51280" y="6237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a 4 CV Ren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61657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3300"/>
                </a:solidFill>
                <a:latin typeface="Arial"/>
              </a:rPr>
              <a:t>La voiture de 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rcel Renault</a:t>
            </a:r>
            <a:r>
              <a:rPr b="0" i="1" lang="fr-FR" sz="1800" spc="-1" strike="noStrike">
                <a:solidFill>
                  <a:srgbClr val="ff3300"/>
                </a:solidFill>
                <a:latin typeface="Arial"/>
              </a:rPr>
              <a:t> dans lecourse automobile Paris-Madrid en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190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595008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Usine Renault de l'Ile Seguin à Boulogne-Billancour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5:58:58Z</dcterms:created>
  <dc:creator>Serj</dc:creator>
  <dc:description/>
  <dc:language>en-US</dc:language>
  <cp:lastModifiedBy>Serj</cp:lastModifiedBy>
  <dcterms:modified xsi:type="dcterms:W3CDTF">2012-06-04T06:06:24Z</dcterms:modified>
  <cp:revision>8</cp:revision>
  <dc:subject/>
  <dc:title>Слайд 1</dc:title>
</cp:coreProperties>
</file>