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9B6-43D1-4025-996F-EB409901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674-5654-491C-9BC8-484D4E40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FBB-C4FF-4E63-9AC0-DEAEF54E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D70-F251-4BD7-9C75-F9E0EEBC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022-467B-4531-96DC-81536C2C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A59F-ABEB-4587-A897-8C67A88A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1ECF-398E-4F38-9070-84B6BA21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F8E-9DB2-4E7A-86C7-198C9938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6FEA-10A7-468C-9C56-96230D2D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390-CAD8-4305-9691-57546633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322-48B9-4003-BFDE-5B10EC58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84B-DF1B-4D9B-A0D3-E6279207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7643-96E6-4089-BD31-1335E244AF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fr.wikipedia.org/wiki/Renault_TN6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fr.wikipedia.org/wiki/Renault_Celtaquatre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fr.wikipedia.org/wiki/Renault_4CV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fr.wikipedia.org/wiki/Marcel_Renault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623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Voiturette Renault Type D Série B de 190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95640" y="61657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Autobus 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nault TN6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 de 19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623736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Berline 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nault Celtaquatre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 de 193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51280" y="62373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a 4 CV Ren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61657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3300"/>
                </a:solidFill>
                <a:latin typeface="Arial"/>
              </a:rPr>
              <a:t>La voiture de </a:t>
            </a: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rcel Renault</a:t>
            </a:r>
            <a:r>
              <a:rPr b="0" i="1" lang="fr-FR" sz="1800" spc="-1" strike="noStrike">
                <a:solidFill>
                  <a:srgbClr val="ff3300"/>
                </a:solidFill>
                <a:latin typeface="Arial"/>
              </a:rPr>
              <a:t> dans lecourse automobile Paris-Madrid en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190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595008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Usine Renault de l'Ile Seguin à Boulogne-Billancour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5:58:58Z</dcterms:created>
  <dc:creator>Serj</dc:creator>
  <dc:description/>
  <dc:language>en-US</dc:language>
  <cp:lastModifiedBy>Serj</cp:lastModifiedBy>
  <dcterms:modified xsi:type="dcterms:W3CDTF">2012-06-04T06:06:24Z</dcterms:modified>
  <cp:revision>8</cp:revision>
  <dc:subject/>
  <dc:title>Слайд 1</dc:title>
</cp:coreProperties>
</file>