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AE6-B3E5-4950-95E5-3141BC4F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F7B-3715-4A5B-B53E-6717867B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4F5-E335-4005-A0C5-7D485865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CCD-E62E-4C75-AF65-550E08C6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3F85-8F28-45DC-BE1B-A7E01EA9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D34C-849A-4A0A-9913-F2D192DD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7EC7-68DD-47AF-ABB8-6F1C0E5D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6F96-62EF-4A64-9F65-A9970C0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8434-68F8-4E61-A117-1C848A16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6174-6C77-48BE-90CC-F10A945E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F6FF-4B24-4F83-85F1-5D5180A0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1B2-EA28-4DAA-90AE-BC552D4F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2EEC-2942-4993-9E9D-26A0A3D8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E67D-2B1F-48F0-8BD3-0B99735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7DEB-0E4F-4EAC-97B3-5FE3C111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DFE0-1592-467A-AEC3-55A4E29B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F20C-F6AF-43BB-B168-6EA64ECC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68D02-58CA-4065-9EFA-E183496B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9356-F09E-497F-A192-18F3E318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BD4AE-8107-4633-8C87-1482F490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2935-8F49-481C-A37E-6BDB78DE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0ABBD-06C9-4512-B5D1-88775A28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F92-96B7-419B-AA56-931D9117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320A-D04E-41C8-B09A-04A41827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4CC09-2255-4589-887C-03F9C48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C083-E9A3-4A1E-AAD0-D7D29B7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3E5C-F765-4E9D-AE3A-E27D016A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6C8B-4B7C-423D-84A1-CB4774F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4EC5-B0F2-44E0-961C-A13A79B0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6FCC-C809-4DCC-9A3A-8488873C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D2CE0-18DE-4F98-AD64-66285E67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89DD4-FD76-495E-BD47-9CAF86CA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07B54-2B85-4EB5-BE9F-23900527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AEC-2508-494A-8644-93220157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8890-45D0-4E08-8292-EB9D4DA1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C274-15FC-46AF-907E-DBE66224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9A593-2D57-40F3-B0F5-8131BC18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4A197-57C6-4F66-817F-34E039F9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7C3A-69EF-469B-8E3A-AB6125B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98F26-F1C4-4E92-9E6F-441F3BE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5830-F66C-4FAB-AE18-5C55134F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2F043-3873-4F79-AF5D-6DECB4BD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B490B-C33A-4F9C-B9E9-B70F9853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925-7F04-4EAF-A60F-49EB8ED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3B6-7E81-4AF8-8374-230224E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C7E-2581-4B1B-9C5E-B19838E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0F5-023C-4083-BE2D-657F538B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2C0-8D1E-4030-A4DF-C3AFD116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1B1-78CC-4D80-989C-7A79A40078F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BE3-B8D4-4EC7-AAB7-EBFAD76AB5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A63E-D590-4B28-B41D-D1D7F4C873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2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6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3E06-DBEC-40F3-ABF3-10C546EF821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image" Target="../media/image7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2057400" y="91440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ревнеславянская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фология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133720" y="3809880"/>
            <a:ext cx="6324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АРПОТА Ви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ащийся 5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МБОУ «ООШ № 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г. ПОЛЯР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читель:Э.С.Белокон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2895480" y="76320"/>
            <a:ext cx="3048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овид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35160" y="1067040"/>
            <a:ext cx="84225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адные славяне называ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ятовитом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вентовит, Световид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его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арог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деда Бог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73080" y="2436480"/>
            <a:ext cx="89697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имени этого славянского б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сходит само название свят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о святого, святых правед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то есть людей, следующих по пути Прав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божественного све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ливающегося на земл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юбой праздник на мног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вянских языках называется свя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5480280"/>
            <a:ext cx="8610480" cy="12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вятовита представляли с четырьмя головами. Каждый лик смотри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 определенную сторону све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Святовит01"/>
          <p:cNvPicPr/>
          <p:nvPr/>
        </p:nvPicPr>
        <p:blipFill>
          <a:blip r:embed="rId1"/>
          <a:stretch/>
        </p:blipFill>
        <p:spPr>
          <a:xfrm>
            <a:off x="228600" y="228600"/>
            <a:ext cx="4260960" cy="6248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4726080" y="4266000"/>
            <a:ext cx="292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вето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404440" y="5561640"/>
            <a:ext cx="46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аздник Свентов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льфонс Муха 19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Святовит02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3200400" y="228600"/>
            <a:ext cx="2590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да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40040" y="1349640"/>
            <a:ext cx="88689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а - славянская богин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юбви и красоты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менем Лада древние славяне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азывали не только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значальную богиню любви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о и весь строй жизни — лад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где все должно было ладно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то есть хорошо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се люди должны ладить друг с другом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33520" y="1295280"/>
            <a:ext cx="80769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«Лады», — говорят люди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когда решили какое-то важное дело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а в древности ладником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азывали уговор о приданом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ы — помолвк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ило — сват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ладканя — свадебная песн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 даже оладьи, которые пекли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о весне в честь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озрождающейся жизни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т того же корн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4952160" y="4418640"/>
            <a:ext cx="389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а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Священный з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дрей Клименк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Лада01"/>
          <p:cNvPicPr/>
          <p:nvPr/>
        </p:nvPicPr>
        <p:blipFill>
          <a:blip r:embed="rId1"/>
          <a:stretch/>
        </p:blipFill>
        <p:spPr>
          <a:xfrm>
            <a:off x="33660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258160" y="4342320"/>
            <a:ext cx="30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лади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ост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Лада02"/>
          <p:cNvPicPr/>
          <p:nvPr/>
        </p:nvPicPr>
        <p:blipFill>
          <a:blip r:embed="rId1"/>
          <a:stretch/>
        </p:blipFill>
        <p:spPr>
          <a:xfrm>
            <a:off x="60948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3505320" y="762120"/>
            <a:ext cx="21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ун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14120" y="1832400"/>
            <a:ext cx="89773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еру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— самый знаменит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братьев Сварожич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 бог грозовых туч, грома и молни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052640" y="3336840"/>
            <a:ext cx="712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ителями Перуна бы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арог и Ла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от ее второго имени, Сла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зошло название славян)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24280" y="459360"/>
            <a:ext cx="857340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унов день - Четвер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о отме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Ильи-пророка (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период с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0 июл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-4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же отмечают Перунов день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1 ию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металл - олов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мень - белемнит, сапфир, лазури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ево - дуб, б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ывался с плодороди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авославии соотнес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Ильей Пророк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ащитником явьего мира от навье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турно в позднее время соотнес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Зевсом, владеющим перун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тносится с Перкунасом бал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ром скандинав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ринисом - кель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5747040" y="4191120"/>
            <a:ext cx="240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ер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им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Перун01"/>
          <p:cNvPicPr/>
          <p:nvPr/>
        </p:nvPicPr>
        <p:blipFill>
          <a:blip r:embed="rId1"/>
          <a:stretch/>
        </p:blipFill>
        <p:spPr>
          <a:xfrm>
            <a:off x="457200" y="228600"/>
            <a:ext cx="4363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637600" y="4266000"/>
            <a:ext cx="25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Громов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Перун02"/>
          <p:cNvPicPr/>
          <p:nvPr/>
        </p:nvPicPr>
        <p:blipFill>
          <a:blip r:embed="rId1"/>
          <a:stretch/>
        </p:blipFill>
        <p:spPr>
          <a:xfrm>
            <a:off x="457200" y="228600"/>
            <a:ext cx="4363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09480" y="1625400"/>
            <a:ext cx="81075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V — VII веках после Великого переселения народов, славяне заняли территории Центральной и Восточной Европы от Эльбы (Лабы) до Днепра и Волги, от южных берегов Балтийского моря до севера Балканского полуостр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ли века, и славяне все более отделялись друг от друга, образовав три современные ветви самой многочисленной семьи родственных народов Евро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slav_map"/>
          <p:cNvPicPr/>
          <p:nvPr/>
        </p:nvPicPr>
        <p:blipFill>
          <a:blip r:embed="rId1"/>
          <a:stretch/>
        </p:blipFill>
        <p:spPr>
          <a:xfrm>
            <a:off x="0" y="0"/>
            <a:ext cx="4722840" cy="64771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4724280" y="1569960"/>
            <a:ext cx="4419720" cy="52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осточные славя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это белорусы, русские, украинц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пад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— поляки, словаки и чехи (балтийские славяне были ассимилированы соседями-германц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XII веке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юж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болгары, македонцы, сербы, словенцы, хорваты, босний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756720" y="5538240"/>
            <a:ext cx="266328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ев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очь Перу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ри 199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Перун03"/>
          <p:cNvPicPr/>
          <p:nvPr/>
        </p:nvPicPr>
        <p:blipFill>
          <a:blip r:embed="rId1"/>
          <a:stretch/>
        </p:blipFill>
        <p:spPr>
          <a:xfrm>
            <a:off x="228600" y="152280"/>
            <a:ext cx="3637080" cy="533412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"/>
          <p:cNvSpPr/>
          <p:nvPr/>
        </p:nvSpPr>
        <p:spPr>
          <a:xfrm>
            <a:off x="4895640" y="5538240"/>
            <a:ext cx="358992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жена Перу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иктор Король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Перун04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665800" y="5486040"/>
            <a:ext cx="40899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ов 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ктор Король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Перун05"/>
          <p:cNvPicPr/>
          <p:nvPr/>
        </p:nvPicPr>
        <p:blipFill>
          <a:blip r:embed="rId1"/>
          <a:stretch/>
        </p:blipFill>
        <p:spPr>
          <a:xfrm>
            <a:off x="990720" y="15228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5258520" y="441864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дрей М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Перун06"/>
          <p:cNvPicPr/>
          <p:nvPr/>
        </p:nvPicPr>
        <p:blipFill>
          <a:blip r:embed="rId1"/>
          <a:stretch/>
        </p:blipFill>
        <p:spPr>
          <a:xfrm>
            <a:off x="60948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-115920" y="790920"/>
            <a:ext cx="905544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Итак, Перун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Бог грома и молний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ак небесного огн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2. Покровитель воино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и княжеской дружин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3. Бог-управитель, бог карающий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за неисполнение законов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4. Защитник Яви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5. Податель мужской сил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380880" y="1070280"/>
            <a:ext cx="83822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ле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— один из величайших богов древнего мира. Его главным деянием стало то, что Велес привел сотворенный Родом и Сварогом мир в движен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стал сменять ноч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зимой неизбежно следовали весна, лето и осен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выдохом — вдо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ле печали — радос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3"/>
          <p:cNvSpPr txBox="1"/>
          <p:nvPr/>
        </p:nvSpPr>
        <p:spPr>
          <a:xfrm>
            <a:off x="3581280" y="152280"/>
            <a:ext cx="2105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лес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1160640" y="5581800"/>
            <a:ext cx="7000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дно из его имен Мокос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ж Макоши, богини судь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952880" y="4344120"/>
            <a:ext cx="38102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лесова Кни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Велес01"/>
          <p:cNvPicPr/>
          <p:nvPr/>
        </p:nvPicPr>
        <p:blipFill>
          <a:blip r:embed="rId1"/>
          <a:stretch/>
        </p:blipFill>
        <p:spPr>
          <a:xfrm>
            <a:off x="282600" y="228600"/>
            <a:ext cx="4518000" cy="63244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5"/>
          <p:cNvSpPr/>
          <p:nvPr/>
        </p:nvSpPr>
        <p:spPr>
          <a:xfrm>
            <a:off x="685800" y="1521000"/>
            <a:ext cx="815328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«Велесова книга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(«Влесова книга», «Книга Велеса») —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еревод священных текстов новгородских волхвов IX век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 которой рассказана древнейшая история славян и других народов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т конца II тысячелетия до н.э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о конца I тысячелетия н.э. (IX век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Велес02"/>
          <p:cNvPicPr/>
          <p:nvPr/>
        </p:nvPicPr>
        <p:blipFill>
          <a:blip r:embed="rId1"/>
          <a:stretch/>
        </p:blipFill>
        <p:spPr>
          <a:xfrm>
            <a:off x="666720" y="76320"/>
            <a:ext cx="2762280" cy="66294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"/>
          <p:cNvSpPr/>
          <p:nvPr/>
        </p:nvSpPr>
        <p:spPr>
          <a:xfrm>
            <a:off x="3659400" y="4267440"/>
            <a:ext cx="418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Царевна-волх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ихаил Вруб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Велес03"/>
          <p:cNvPicPr/>
          <p:nvPr/>
        </p:nvPicPr>
        <p:blipFill>
          <a:blip r:embed="rId1"/>
          <a:stretch/>
        </p:blipFill>
        <p:spPr>
          <a:xfrm>
            <a:off x="1371600" y="304920"/>
            <a:ext cx="6095880" cy="4813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437760" y="5197320"/>
            <a:ext cx="852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лес мог принимать любые обличь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ще всего его изображали мудрым стари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ником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Велес04"/>
          <p:cNvPicPr/>
          <p:nvPr/>
        </p:nvPicPr>
        <p:blipFill>
          <a:blip r:embed="rId1"/>
          <a:stretch/>
        </p:blipFill>
        <p:spPr>
          <a:xfrm>
            <a:off x="1676520" y="0"/>
            <a:ext cx="5867280" cy="47577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2274120" y="521136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е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Клименк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76320" y="391320"/>
            <a:ext cx="899136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так, Веле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1. "Скотий бог" - хозяин Дикой Природ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2. Водчий на всех Дорогах, господин Путей, покровитель всех путешественни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3. Хозяин Нави, властитель Непознанного, Черный бог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4. Посмертный судья и прижизненный испытател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5. Могучий волшебник и повелитель магии, оборотень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6. Покровитель торговли, посредник в договорах и толкователь закон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7. Податель богатст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8. Покровитель знающих и ищущих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учитель искусства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9. Бог удачи.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079640" y="1977480"/>
            <a:ext cx="72262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вянская мифолог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религия славя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галась из обоготвор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л прир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культа предков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Dajdbog"/>
          <p:cNvPicPr/>
          <p:nvPr/>
        </p:nvPicPr>
        <p:blipFill>
          <a:blip r:embed="rId1"/>
          <a:stretch/>
        </p:blipFill>
        <p:spPr>
          <a:xfrm>
            <a:off x="1066680" y="38862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Jarilo"/>
          <p:cNvPicPr/>
          <p:nvPr/>
        </p:nvPicPr>
        <p:blipFill>
          <a:blip r:embed="rId2"/>
          <a:stretch/>
        </p:blipFill>
        <p:spPr>
          <a:xfrm>
            <a:off x="2286000" y="449568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Hors"/>
          <p:cNvPicPr/>
          <p:nvPr/>
        </p:nvPicPr>
        <p:blipFill>
          <a:blip r:embed="rId3"/>
          <a:stretch/>
        </p:blipFill>
        <p:spPr>
          <a:xfrm>
            <a:off x="3581280" y="48006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Белбог"/>
          <p:cNvPicPr/>
          <p:nvPr/>
        </p:nvPicPr>
        <p:blipFill>
          <a:blip r:embed="rId4"/>
          <a:stretch/>
        </p:blipFill>
        <p:spPr>
          <a:xfrm>
            <a:off x="4878360" y="4876920"/>
            <a:ext cx="988920" cy="1447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Догода"/>
          <p:cNvPicPr/>
          <p:nvPr/>
        </p:nvPicPr>
        <p:blipFill>
          <a:blip r:embed="rId5"/>
          <a:stretch/>
        </p:blipFill>
        <p:spPr>
          <a:xfrm>
            <a:off x="6129360" y="4419720"/>
            <a:ext cx="10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Доля"/>
          <p:cNvPicPr/>
          <p:nvPr/>
        </p:nvPicPr>
        <p:blipFill>
          <a:blip r:embed="rId6"/>
          <a:stretch/>
        </p:blipFill>
        <p:spPr>
          <a:xfrm>
            <a:off x="7469280" y="3962520"/>
            <a:ext cx="988920" cy="1447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Svarog"/>
          <p:cNvPicPr/>
          <p:nvPr/>
        </p:nvPicPr>
        <p:blipFill>
          <a:blip r:embed="rId7"/>
          <a:stretch/>
        </p:blipFill>
        <p:spPr>
          <a:xfrm>
            <a:off x="4160880" y="76320"/>
            <a:ext cx="868320" cy="1447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Берегиня"/>
          <p:cNvPicPr/>
          <p:nvPr/>
        </p:nvPicPr>
        <p:blipFill>
          <a:blip r:embed="rId8"/>
          <a:stretch/>
        </p:blipFill>
        <p:spPr>
          <a:xfrm>
            <a:off x="2819520" y="76320"/>
            <a:ext cx="987480" cy="1447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Китоврас"/>
          <p:cNvPicPr/>
          <p:nvPr/>
        </p:nvPicPr>
        <p:blipFill>
          <a:blip r:embed="rId9"/>
          <a:stretch/>
        </p:blipFill>
        <p:spPr>
          <a:xfrm>
            <a:off x="5337000" y="76320"/>
            <a:ext cx="987480" cy="144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Коляда"/>
          <p:cNvPicPr/>
          <p:nvPr/>
        </p:nvPicPr>
        <p:blipFill>
          <a:blip r:embed="rId10"/>
          <a:stretch/>
        </p:blipFill>
        <p:spPr>
          <a:xfrm>
            <a:off x="1523880" y="76320"/>
            <a:ext cx="986040" cy="14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Девана"/>
          <p:cNvPicPr/>
          <p:nvPr/>
        </p:nvPicPr>
        <p:blipFill>
          <a:blip r:embed="rId11"/>
          <a:stretch/>
        </p:blipFill>
        <p:spPr>
          <a:xfrm>
            <a:off x="6632640" y="76320"/>
            <a:ext cx="987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0520" y="4952520"/>
            <a:ext cx="853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Почитание приходилось на </a:t>
            </a:r>
            <a:r>
              <a:rPr b="1" i="1" lang="ru-RU" sz="3300" spc="-1" strike="noStrike">
                <a:solidFill>
                  <a:srgbClr val="000099"/>
                </a:solidFill>
                <a:latin typeface="Arial"/>
              </a:rPr>
              <a:t>19 декаб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23120" y="1300320"/>
            <a:ext cx="902160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ень Велеса - сред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камень - опал или обсидиан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металл - свинец или ртуть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ерево - ель, сосна, орех или ясень (тис)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менно из них следует делать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береги, посохи, кумиров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 прочие предметы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вязанные с культом Велеса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76320" y="422640"/>
            <a:ext cx="883908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елесовы, дни праздновали особо торжественно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2-24 декабр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31 декабр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6 январ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в дни Николы Зимнего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4 феврал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просили "скотьего бога"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шибить рога с Зимы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А также чтили его и в дни чествования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Николы Вешнего -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2 ма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(Ярилин день, семик)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12 июля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- когда ставят первый сноп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и начинают косить, заготавливая сено для скота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Между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18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августа Велесу завивали клок на убранном поле "на бородку" - Николина бород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3048120" y="3049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ждьбог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75320" y="1698480"/>
            <a:ext cx="87044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реди даров Сварога людям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были и его сыновья — Сварожичи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ервый из них </a:t>
            </a: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Даждьбог 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— бог Солнц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одатель тепла и света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Его имя слышится в самой краткой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ожившей до наших дней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молитве: «Дай, Боже!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28600" y="1753920"/>
            <a:ext cx="86868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аждьбог –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абь, Радегаст, Радигош, Сварожич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Это разные вариации имени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одного и того же бога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Бог плодородия и солнечного света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живительной силы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Первопредок славян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5075280" y="418824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аждь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Dajdbog"/>
          <p:cNvPicPr/>
          <p:nvPr/>
        </p:nvPicPr>
        <p:blipFill>
          <a:blip r:embed="rId1"/>
          <a:stretch/>
        </p:blipFill>
        <p:spPr>
          <a:xfrm>
            <a:off x="336600" y="228600"/>
            <a:ext cx="4311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022080" y="3582000"/>
            <a:ext cx="27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лесни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Даждь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лим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Дажьдбог02"/>
          <p:cNvPicPr/>
          <p:nvPr/>
        </p:nvPicPr>
        <p:blipFill>
          <a:blip r:embed="rId1"/>
          <a:stretch/>
        </p:blipFill>
        <p:spPr>
          <a:xfrm>
            <a:off x="380880" y="22860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088720" y="5181480"/>
            <a:ext cx="461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лава Даждьб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орис Ольша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Слава Даждьбога"/>
          <p:cNvPicPr/>
          <p:nvPr/>
        </p:nvPicPr>
        <p:blipFill>
          <a:blip r:embed="rId1"/>
          <a:srcRect l="0" t="0" r="0" b="7248"/>
          <a:stretch/>
        </p:blipFill>
        <p:spPr>
          <a:xfrm>
            <a:off x="228600" y="53352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36640" y="226800"/>
            <a:ext cx="7457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щенным животным Даждьб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читался ле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арожича изображ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о с львиной голов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бо едущим на колесниц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ряженной львам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291320" y="2555640"/>
            <a:ext cx="6406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а - петух, возвещающ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им криком приход солн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57800" y="3503160"/>
            <a:ext cx="75495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ждьбога именовали Спас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.е. Спасител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мысле воинской - защит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ому яблочный (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9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едовый Спас (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4 авгус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дни чествования Сварожи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о вместе с Ярил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ут и на Юрия Зимнего (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9 декабр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3048120" y="3049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кош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49760" y="1422720"/>
            <a:ext cx="880488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кош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Мокошь) - Богиня всей Судьб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шая из богинь прях судьб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также покровитель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нских рукоделий – на Земл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ечительствует женскому плодород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урожайности, хозяйств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достатку в до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силу того, что богини - пряхи судь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рованиях предстают по тр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кать Пряжу Судеб Макоши помог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гини Доля и Недо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ующие покутными нитями челове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плодами его трудов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брыми или зл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-43920" y="142200"/>
            <a:ext cx="9231840" cy="65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нь Макоши - Пятниц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православии образ слил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 Параскевой Пятницей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.е. она покровительница хозяек и ж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дин из дней, в который особо чтят Макошь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ближайшая к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8 апреля Пятница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вещание Макош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27 октября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бственно Параскева Пятниц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Ее металл - серебр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амень - горный хрусталь и  "лунный камень"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верь Макоши - кош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мволом этой богини является пряж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лубок шерсти, верете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умиры Макоши могли быть изготовлен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з "женских пород дерева"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первую очередь - из ос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умир Макоши зачастую мог быть рог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ли иметь в руках ро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Макошь01"/>
          <p:cNvPicPr/>
          <p:nvPr/>
        </p:nvPicPr>
        <p:blipFill>
          <a:blip r:embed="rId1"/>
          <a:stretch/>
        </p:blipFill>
        <p:spPr>
          <a:xfrm>
            <a:off x="488880" y="228600"/>
            <a:ext cx="4311720" cy="63244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5184000" y="4495680"/>
            <a:ext cx="343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Андрей Маз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Макошь02"/>
          <p:cNvPicPr/>
          <p:nvPr/>
        </p:nvPicPr>
        <p:blipFill>
          <a:blip r:embed="rId1"/>
          <a:stretch/>
        </p:blipFill>
        <p:spPr>
          <a:xfrm>
            <a:off x="228600" y="228600"/>
            <a:ext cx="4260960" cy="62485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4726440" y="4219920"/>
            <a:ext cx="37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ть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колай Рер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9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838080" y="645480"/>
            <a:ext cx="77803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диным высшим богом, "творцом молнии"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им был у индусов Индр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греков Зевс, у римлян Юпитер, у германцев Тор, у литовцев Перкунас — у славян был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ерун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Понятие о боге-громовнике сливалось у славян с понятием неба вообщ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именно — движущегося, облачного неба), олицетворение которого некоторые ученые видят в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арог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9"/>
          <p:cNvGrpSpPr/>
          <p:nvPr/>
        </p:nvGrpSpPr>
        <p:grpSpPr>
          <a:xfrm>
            <a:off x="457200" y="228600"/>
            <a:ext cx="3494160" cy="6705720"/>
            <a:chOff x="457200" y="228600"/>
            <a:chExt cx="3494160" cy="6705720"/>
          </a:xfrm>
        </p:grpSpPr>
        <p:pic>
          <p:nvPicPr>
            <p:cNvPr id="198" name="Picture 4" descr="Perun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34941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WordArt 5"/>
            <p:cNvSpPr txBox="1"/>
            <p:nvPr/>
          </p:nvSpPr>
          <p:spPr>
            <a:xfrm>
              <a:off x="685800" y="5486400"/>
              <a:ext cx="289548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Перу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0" name="Group 8"/>
          <p:cNvGrpSpPr/>
          <p:nvPr/>
        </p:nvGrpSpPr>
        <p:grpSpPr>
          <a:xfrm>
            <a:off x="5257800" y="0"/>
            <a:ext cx="3429000" cy="6629400"/>
            <a:chOff x="5257800" y="0"/>
            <a:chExt cx="3429000" cy="6629400"/>
          </a:xfrm>
        </p:grpSpPr>
        <p:pic>
          <p:nvPicPr>
            <p:cNvPr id="201" name="Picture 3" descr="Svarog"/>
            <p:cNvPicPr/>
            <p:nvPr/>
          </p:nvPicPr>
          <p:blipFill>
            <a:blip r:embed="rId2"/>
            <a:stretch/>
          </p:blipFill>
          <p:spPr>
            <a:xfrm>
              <a:off x="5257800" y="1295280"/>
              <a:ext cx="3429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WordArt 7"/>
            <p:cNvSpPr txBox="1"/>
            <p:nvPr/>
          </p:nvSpPr>
          <p:spPr>
            <a:xfrm>
              <a:off x="5638680" y="0"/>
              <a:ext cx="2895840" cy="14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Сварог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5717880" y="3733920"/>
            <a:ext cx="264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икто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роль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Макошь03"/>
          <p:cNvPicPr/>
          <p:nvPr/>
        </p:nvPicPr>
        <p:blipFill>
          <a:blip r:embed="rId1"/>
          <a:stretch/>
        </p:blipFill>
        <p:spPr>
          <a:xfrm>
            <a:off x="615960" y="228600"/>
            <a:ext cx="4260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1220760" y="548604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ревнеславянская вышив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Макошь04"/>
          <p:cNvPicPr/>
          <p:nvPr/>
        </p:nvPicPr>
        <p:blipFill>
          <a:blip r:embed="rId1"/>
          <a:stretch/>
        </p:blipFill>
        <p:spPr>
          <a:xfrm>
            <a:off x="1828800" y="304920"/>
            <a:ext cx="51055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4"/>
          <p:cNvSpPr/>
          <p:nvPr/>
        </p:nvSpPr>
        <p:spPr>
          <a:xfrm>
            <a:off x="224280" y="309240"/>
            <a:ext cx="8728920" cy="63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Итак, сама Макош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Богиня всей Судь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Великая Мать, богиня плодород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язана с урожа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ет 12-13 годовых праз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может чествоваться каждое полнолу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Богиня магии и волшеб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ена Велеса и Хозяйка перекрест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роздания между ми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защитница и покровительница хозя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. В нижней ипостаси явл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менитой Ягой, в этом случа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жно говорить, что она мать ветр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жизнь и смерть ей подвласт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авной ме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. Хозяйка Живой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4"/>
          <p:cNvSpPr txBox="1"/>
          <p:nvPr/>
        </p:nvSpPr>
        <p:spPr>
          <a:xfrm>
            <a:off x="1828800" y="2057400"/>
            <a:ext cx="6019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те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и современные ветви славян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09800" y="5410080"/>
            <a:ext cx="2038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точ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6"/>
          <p:cNvSpPr txBox="1"/>
          <p:nvPr/>
        </p:nvSpPr>
        <p:spPr>
          <a:xfrm>
            <a:off x="3809880" y="5410080"/>
            <a:ext cx="2038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д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6572160" y="5410080"/>
            <a:ext cx="203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южн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08" name="Group 11"/>
          <p:cNvGrpSpPr/>
          <p:nvPr/>
        </p:nvGrpSpPr>
        <p:grpSpPr>
          <a:xfrm>
            <a:off x="2209320" y="3962520"/>
            <a:ext cx="5105880" cy="1371600"/>
            <a:chOff x="2209320" y="3962520"/>
            <a:chExt cx="5105880" cy="1371600"/>
          </a:xfrm>
        </p:grpSpPr>
        <p:sp>
          <p:nvSpPr>
            <p:cNvPr id="309" name="Line 8"/>
            <p:cNvSpPr/>
            <p:nvPr/>
          </p:nvSpPr>
          <p:spPr>
            <a:xfrm flipH="1">
              <a:off x="2209320" y="3962520"/>
              <a:ext cx="2210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9"/>
            <p:cNvSpPr/>
            <p:nvPr/>
          </p:nvSpPr>
          <p:spPr>
            <a:xfrm>
              <a:off x="4724280" y="39625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0"/>
            <p:cNvSpPr/>
            <p:nvPr/>
          </p:nvSpPr>
          <p:spPr>
            <a:xfrm>
              <a:off x="5105520" y="3962520"/>
              <a:ext cx="2209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WordArt 3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те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вного Бога славян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WordArt 11"/>
          <p:cNvSpPr txBox="1"/>
          <p:nvPr/>
        </p:nvSpPr>
        <p:spPr>
          <a:xfrm>
            <a:off x="1523880" y="48006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г (Световид, Святовит)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WordArt 3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называют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ов-сыновей Сварога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7" name="WordArt 4"/>
          <p:cNvSpPr txBox="1"/>
          <p:nvPr/>
        </p:nvSpPr>
        <p:spPr>
          <a:xfrm>
            <a:off x="1523880" y="4800600"/>
            <a:ext cx="6477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жичам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4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WordArt 3"/>
          <p:cNvSpPr txBox="1"/>
          <p:nvPr/>
        </p:nvSpPr>
        <p:spPr>
          <a:xfrm>
            <a:off x="838080" y="1828800"/>
            <a:ext cx="7772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вянская Богиня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юбви и красот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0" name="WordArt 4"/>
          <p:cNvSpPr txBox="1"/>
          <p:nvPr/>
        </p:nvSpPr>
        <p:spPr>
          <a:xfrm>
            <a:off x="3124080" y="4800600"/>
            <a:ext cx="2971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ад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WordArt 3"/>
          <p:cNvSpPr txBox="1"/>
          <p:nvPr/>
        </p:nvSpPr>
        <p:spPr>
          <a:xfrm>
            <a:off x="838080" y="1828800"/>
            <a:ext cx="77724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жич,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 грозовых туч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ома и молни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WordArt 4"/>
          <p:cNvSpPr txBox="1"/>
          <p:nvPr/>
        </p:nvSpPr>
        <p:spPr>
          <a:xfrm>
            <a:off x="2438280" y="541008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ун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WordArt 3"/>
          <p:cNvSpPr txBox="1"/>
          <p:nvPr/>
        </p:nvSpPr>
        <p:spPr>
          <a:xfrm>
            <a:off x="838080" y="1828800"/>
            <a:ext cx="7772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 удачи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зяин Дикой природ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WordArt 4"/>
          <p:cNvSpPr txBox="1"/>
          <p:nvPr/>
        </p:nvSpPr>
        <p:spPr>
          <a:xfrm>
            <a:off x="2362320" y="5105520"/>
            <a:ext cx="4190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е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609480" y="1236600"/>
            <a:ext cx="815364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Другие вышние боги считались сыновьями Сварога —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Сварожичами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такими богами были солнце и огонь. Солнце обоготворялось под названием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Даждьбога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, а также Хорса. Брат Сварога, самый таинственный бог и хранитель стад </a:t>
            </a: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Велес</a:t>
            </a: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 первоначально также был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Arial"/>
              </a:rPr>
              <a:t>солнечным богом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9"/>
          <p:cNvGrpSpPr/>
          <p:nvPr/>
        </p:nvGrpSpPr>
        <p:grpSpPr>
          <a:xfrm>
            <a:off x="304920" y="380880"/>
            <a:ext cx="3325680" cy="6153120"/>
            <a:chOff x="304920" y="380880"/>
            <a:chExt cx="3325680" cy="6153120"/>
          </a:xfrm>
        </p:grpSpPr>
        <p:pic>
          <p:nvPicPr>
            <p:cNvPr id="205" name="Picture 4" descr="Dajdbog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332568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WordArt 6"/>
            <p:cNvSpPr txBox="1"/>
            <p:nvPr/>
          </p:nvSpPr>
          <p:spPr>
            <a:xfrm>
              <a:off x="380880" y="5334120"/>
              <a:ext cx="3200400" cy="1199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Дажьдбог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7" name="Group 8"/>
          <p:cNvGrpSpPr/>
          <p:nvPr/>
        </p:nvGrpSpPr>
        <p:grpSpPr>
          <a:xfrm>
            <a:off x="5334120" y="380880"/>
            <a:ext cx="3473280" cy="6096240"/>
            <a:chOff x="5334120" y="380880"/>
            <a:chExt cx="3473280" cy="6096240"/>
          </a:xfrm>
        </p:grpSpPr>
        <p:pic>
          <p:nvPicPr>
            <p:cNvPr id="208" name="Picture 5" descr="Veles"/>
            <p:cNvPicPr/>
            <p:nvPr/>
          </p:nvPicPr>
          <p:blipFill>
            <a:blip r:embed="rId2"/>
            <a:stretch/>
          </p:blipFill>
          <p:spPr>
            <a:xfrm>
              <a:off x="5334120" y="1752480"/>
              <a:ext cx="347328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WordArt 7"/>
            <p:cNvSpPr txBox="1"/>
            <p:nvPr/>
          </p:nvSpPr>
          <p:spPr>
            <a:xfrm>
              <a:off x="5715000" y="380880"/>
              <a:ext cx="2514600" cy="1200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Велес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3"/>
          <p:cNvSpPr txBox="1"/>
          <p:nvPr/>
        </p:nvSpPr>
        <p:spPr>
          <a:xfrm>
            <a:off x="838080" y="1828800"/>
            <a:ext cx="7772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к называется книга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торой рассказан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р. история славян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WordArt 4"/>
          <p:cNvSpPr txBox="1"/>
          <p:nvPr/>
        </p:nvSpPr>
        <p:spPr>
          <a:xfrm>
            <a:off x="1523880" y="5181480"/>
            <a:ext cx="6477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Велесова книга"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8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3"/>
          <p:cNvSpPr txBox="1"/>
          <p:nvPr/>
        </p:nvSpPr>
        <p:spPr>
          <a:xfrm>
            <a:off x="990720" y="1828800"/>
            <a:ext cx="76197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арожич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 Солнц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WordArt 4"/>
          <p:cNvSpPr txBox="1"/>
          <p:nvPr/>
        </p:nvSpPr>
        <p:spPr>
          <a:xfrm>
            <a:off x="2362320" y="5029200"/>
            <a:ext cx="464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ждьбог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9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WordArt 3"/>
          <p:cNvSpPr txBox="1"/>
          <p:nvPr/>
        </p:nvSpPr>
        <p:spPr>
          <a:xfrm>
            <a:off x="838080" y="1828800"/>
            <a:ext cx="7772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иня всей Судьбы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зяйка Живой Природ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WordArt 4"/>
          <p:cNvSpPr txBox="1"/>
          <p:nvPr/>
        </p:nvSpPr>
        <p:spPr>
          <a:xfrm>
            <a:off x="2286000" y="5410080"/>
            <a:ext cx="5105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кош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2"/>
          <p:cNvSpPr txBox="1"/>
          <p:nvPr/>
        </p:nvSpPr>
        <p:spPr>
          <a:xfrm>
            <a:off x="2057400" y="38088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прос № 10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3"/>
          <p:cNvSpPr txBox="1"/>
          <p:nvPr/>
        </p:nvSpPr>
        <p:spPr>
          <a:xfrm>
            <a:off x="838080" y="1828800"/>
            <a:ext cx="77724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зовите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вянских Богов и Богинь,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торых Вы запомнил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453240" y="4341600"/>
            <a:ext cx="71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авянская и древнерусская мифолог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фы, боги, духи и демоны древних слав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ttp://godsbay.ru/slav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53600" y="1357200"/>
            <a:ext cx="752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фология древнего мира, - М.:Белфакс, 20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.А.Рыбаков «Язычество древних славян»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:Русское слово, 19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.Калашников «Боги древних славян»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:Белый город,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.Гаврилов, А.Наговиц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Боги славян. Язычество. Традиция»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.:Рефл-Бук,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3200400" y="619200"/>
            <a:ext cx="232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чники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581280" y="1641600"/>
            <a:ext cx="524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западных славя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сшим богом считался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вятови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ему соответствовал Триглав 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ехголовый ид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Святовит01"/>
          <p:cNvPicPr/>
          <p:nvPr/>
        </p:nvPicPr>
        <p:blipFill>
          <a:blip r:embed="rId1"/>
          <a:stretch/>
        </p:blipFill>
        <p:spPr>
          <a:xfrm>
            <a:off x="228600" y="838080"/>
            <a:ext cx="3376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28600" y="225360"/>
            <a:ext cx="8555040" cy="63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вянская мифология характерна тем, что она - всеобъемлюща и представляет собою не отдельную область народного представления о мире и мироздании (как фантазия или религия), а находит воплощение даже в быту - будь то обряды, ритуалы, культы или земледельческий календарь, сохранившаяся демонология (от домовых, ведьм и леших до банников и русалок) или забытое отождествление (например, языческого Перуна с христианским святым Илье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му, практически уничтоженная на уровне текстов до XI 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продолжает жить в образах, символике, ритуалах и в самом я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4800600" y="1454040"/>
            <a:ext cx="26668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а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в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марг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и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игл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рно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р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1143000" y="1319040"/>
            <a:ext cx="36576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л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л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ждь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товр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ыш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п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в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5"/>
          <p:cNvSpPr txBox="1"/>
          <p:nvPr/>
        </p:nvSpPr>
        <p:spPr>
          <a:xfrm>
            <a:off x="3048120" y="466560"/>
            <a:ext cx="31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6" name="Picture 6" descr="Svarog"/>
          <p:cNvPicPr/>
          <p:nvPr/>
        </p:nvPicPr>
        <p:blipFill>
          <a:blip r:embed="rId1"/>
          <a:stretch/>
        </p:blipFill>
        <p:spPr>
          <a:xfrm>
            <a:off x="7772400" y="228600"/>
            <a:ext cx="8683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Коляда"/>
          <p:cNvPicPr/>
          <p:nvPr/>
        </p:nvPicPr>
        <p:blipFill>
          <a:blip r:embed="rId2"/>
          <a:stretch/>
        </p:blipFill>
        <p:spPr>
          <a:xfrm>
            <a:off x="533520" y="4876920"/>
            <a:ext cx="985680" cy="1447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ors"/>
          <p:cNvPicPr/>
          <p:nvPr/>
        </p:nvPicPr>
        <p:blipFill>
          <a:blip r:embed="rId3"/>
          <a:stretch/>
        </p:blipFill>
        <p:spPr>
          <a:xfrm>
            <a:off x="533520" y="2286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Jarilo"/>
          <p:cNvPicPr/>
          <p:nvPr/>
        </p:nvPicPr>
        <p:blipFill>
          <a:blip r:embed="rId4"/>
          <a:stretch/>
        </p:blipFill>
        <p:spPr>
          <a:xfrm>
            <a:off x="7772400" y="48006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Dajdbog"/>
          <p:cNvPicPr/>
          <p:nvPr/>
        </p:nvPicPr>
        <p:blipFill>
          <a:blip r:embed="rId5"/>
          <a:stretch/>
        </p:blipFill>
        <p:spPr>
          <a:xfrm>
            <a:off x="533520" y="2590920"/>
            <a:ext cx="987480" cy="1447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Догода"/>
          <p:cNvPicPr/>
          <p:nvPr/>
        </p:nvPicPr>
        <p:blipFill>
          <a:blip r:embed="rId6"/>
          <a:stretch/>
        </p:blipFill>
        <p:spPr>
          <a:xfrm>
            <a:off x="7696080" y="2438280"/>
            <a:ext cx="1033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819520" y="1256040"/>
            <a:ext cx="3581280" cy="51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ереги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в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тр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кош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р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ыра 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3"/>
          <p:cNvSpPr txBox="1"/>
          <p:nvPr/>
        </p:nvSpPr>
        <p:spPr>
          <a:xfrm>
            <a:off x="2971800" y="466560"/>
            <a:ext cx="3276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гини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4" name="Picture 4" descr="Девана"/>
          <p:cNvPicPr/>
          <p:nvPr/>
        </p:nvPicPr>
        <p:blipFill>
          <a:blip r:embed="rId1"/>
          <a:stretch/>
        </p:blipFill>
        <p:spPr>
          <a:xfrm>
            <a:off x="1143000" y="16002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Берегиня"/>
          <p:cNvPicPr/>
          <p:nvPr/>
        </p:nvPicPr>
        <p:blipFill>
          <a:blip r:embed="rId2"/>
          <a:stretch/>
        </p:blipFill>
        <p:spPr>
          <a:xfrm>
            <a:off x="2209680" y="320040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Доля"/>
          <p:cNvPicPr/>
          <p:nvPr/>
        </p:nvPicPr>
        <p:blipFill>
          <a:blip r:embed="rId3"/>
          <a:stretch/>
        </p:blipFill>
        <p:spPr>
          <a:xfrm>
            <a:off x="7391520" y="160020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Макошь01"/>
          <p:cNvPicPr/>
          <p:nvPr/>
        </p:nvPicPr>
        <p:blipFill>
          <a:blip r:embed="rId4"/>
          <a:stretch/>
        </p:blipFill>
        <p:spPr>
          <a:xfrm>
            <a:off x="6324480" y="3124080"/>
            <a:ext cx="987480" cy="1447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Лада01"/>
          <p:cNvPicPr/>
          <p:nvPr/>
        </p:nvPicPr>
        <p:blipFill>
          <a:blip r:embed="rId5"/>
          <a:stretch/>
        </p:blipFill>
        <p:spPr>
          <a:xfrm>
            <a:off x="1143000" y="4800600"/>
            <a:ext cx="988920" cy="144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Кострома01"/>
          <p:cNvPicPr/>
          <p:nvPr/>
        </p:nvPicPr>
        <p:blipFill>
          <a:blip r:embed="rId6"/>
          <a:stretch/>
        </p:blipFill>
        <p:spPr>
          <a:xfrm>
            <a:off x="7315200" y="4800600"/>
            <a:ext cx="985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05T19:07:1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