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490-D80F-4B8F-A5B3-027FE967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F30-8810-4D2B-9D73-34747A6A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7A6-12F2-4AED-824F-13152C80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955-71B0-4214-8F2A-A0CFC136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D275-AF66-41A9-B5D5-71EC0C6C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AAFE-D594-49B3-8EEA-EE201576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DEAA-9145-4F2B-AFC1-34DF2854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9EE1-28E3-471D-BE30-5D7EE49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E8D0-5445-408C-A371-595FDC21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4AFB-E5BE-4381-A304-676B669A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BF7-8C57-4486-92DF-FCFF534B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860-C74E-4C43-AECD-4056D435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16FB-F5AA-48CE-9622-7B2E475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098-4AC4-403D-9EF2-81ED684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8B36-2B2B-4D59-B135-344ED098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6C15-CEA8-4FB0-BC06-067E7022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C8D7-C6A0-4231-9D32-A5F91E1D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1081-F51A-41B3-9590-C39A6A96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9A1F-3BF0-45DC-858F-498EE01E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F154C-233E-4509-94CA-EEBB69A0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2E65-6E8F-40D5-B87D-B8B361AA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C750-5D57-43D9-BEE2-CE52B00D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13F-2AF1-44A5-B00B-430C889A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732C-5C5B-456C-8FE9-E86DD4F4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2346-8E54-4D47-B882-6D63D05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D98C-2C6D-42F4-ADBB-C569EF40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914D-7171-4C77-B295-41C0FC2E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15BE-0439-4DEC-8CF3-0863AB9D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1C79B-5A5A-4CA2-8330-D41681DA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A917-1E59-4955-BDAA-8CC96BF3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F9BA-D704-4388-856A-93A3F901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EC0A-211E-4DDF-B36C-4D059D76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5EF3-1D45-4763-B24D-050EEC68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627-27CD-4C0D-B22C-B410CCFD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4127-3B78-4241-825B-EDBE98A0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932A-D9DB-4E42-8FCA-4636C686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9583-4D28-4A2B-995E-39990D86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EB27-BF94-433A-A3A9-4001787F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FA3A-217D-43D4-A178-21F8287F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1AC93-E85C-4091-B36C-D23FF0F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C1BA-74BA-47D0-B701-0380FC0F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992A-D205-45D9-AE3E-6EB41108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65B02-7E94-4C7B-A3F4-C8544F8E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948-67EC-4A85-97D5-247E8C46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28A-5344-4A46-A0CB-115BB609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FA6-D346-4A8A-9E2A-799A860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53D-0808-4416-9799-C97F26E0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2C1-00A9-4410-887B-F96EFCC5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E7BD-3167-457A-8764-15AD74DAAC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9AEB-420D-4409-88F0-71A19728F2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A97A-F0EB-4B35-BCDA-7B6A0055C6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4D3F-FD88-42D3-87E3-D1B652EC40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2057400" y="91440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еславянская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фология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133720" y="3809880"/>
            <a:ext cx="6324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РПОТА Ви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чащийся 5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БОУ «ООШ № 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. ПОЛЯР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читель:Э.С.Белоко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2895480" y="76320"/>
            <a:ext cx="3048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товид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35160" y="1067040"/>
            <a:ext cx="84225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адные славяне назы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вятовит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вентовит, Световид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его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варог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деда Бог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3080" y="2436480"/>
            <a:ext cx="8969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имени этого славянского б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сходит само название свят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о святого, святых правед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то есть людей, следующих по пути Прав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божественного све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ливающегося на зем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ой праздник на мног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авянских языках называется свя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5480280"/>
            <a:ext cx="861048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вятовита представляли с четырьмя головами. Каждый лик смотрит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 определенную сторону све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Святовит01"/>
          <p:cNvPicPr/>
          <p:nvPr/>
        </p:nvPicPr>
        <p:blipFill>
          <a:blip r:embed="rId1"/>
          <a:stretch/>
        </p:blipFill>
        <p:spPr>
          <a:xfrm>
            <a:off x="228600" y="228600"/>
            <a:ext cx="4260960" cy="6248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4726080" y="4266000"/>
            <a:ext cx="292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вето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404440" y="5561640"/>
            <a:ext cx="46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аздник Свентов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льфонс Муха 19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Святовит02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3200400" y="2286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да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40040" y="1349640"/>
            <a:ext cx="886896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ада - славянская богин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юбви и красоты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менем Лада древние славян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называли не только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значальную богиню любви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но и весь строй жизни — лад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где все должно было ладно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то есть хорошо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се люди должны ладить друг с другом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33520" y="1295280"/>
            <a:ext cx="80769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«Лады», — говорят люди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когда решили какое-то важное дело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а в древности ладником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называли уговор о приданом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ады — помолвк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адило — сват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адканя — свадебная песн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 даже оладьи, которые пекли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о весне в честь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озрождающейся жизни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т того же корн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4952160" y="4418640"/>
            <a:ext cx="389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а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Священный з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дрей Клименк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Лада01"/>
          <p:cNvPicPr/>
          <p:nvPr/>
        </p:nvPicPr>
        <p:blipFill>
          <a:blip r:embed="rId1"/>
          <a:stretch/>
        </p:blipFill>
        <p:spPr>
          <a:xfrm>
            <a:off x="336600" y="228600"/>
            <a:ext cx="4311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258160" y="4342320"/>
            <a:ext cx="30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ди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ост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Лада02"/>
          <p:cNvPicPr/>
          <p:nvPr/>
        </p:nvPicPr>
        <p:blipFill>
          <a:blip r:embed="rId1"/>
          <a:stretch/>
        </p:blipFill>
        <p:spPr>
          <a:xfrm>
            <a:off x="609480" y="228600"/>
            <a:ext cx="4311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3505320" y="762120"/>
            <a:ext cx="21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ун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14120" y="1832400"/>
            <a:ext cx="89773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еру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— самый знаменит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 братьев Сварожич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 бог грозовых туч, грома и молни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052640" y="3336840"/>
            <a:ext cx="712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ителями Перуна бы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арог и Ла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от ее второго имени, Сла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зошло название славян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24280" y="459360"/>
            <a:ext cx="8573400" cy="58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унов день - Четвер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о отме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ь Ильи-пророка (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 авгу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ериод с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0 июл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-4 авгу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же отмечают Перунов день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1 ию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о металл - оло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мень - белемнит, сапфир, лазури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ево - дуб, б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ывался с плодороди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авославии соотнес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Ильей Пророк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ащитником явьего мира от навье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ературно в позднее время соотнес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Зевсом, владеющим перу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тносится с Перкунасом бал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ром скандинав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ринисом - кель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5747040" y="4191120"/>
            <a:ext cx="240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др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им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Перун01"/>
          <p:cNvPicPr/>
          <p:nvPr/>
        </p:nvPicPr>
        <p:blipFill>
          <a:blip r:embed="rId1"/>
          <a:stretch/>
        </p:blipFill>
        <p:spPr>
          <a:xfrm>
            <a:off x="457200" y="228600"/>
            <a:ext cx="4363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637600" y="4266000"/>
            <a:ext cx="25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ромов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Перун02"/>
          <p:cNvPicPr/>
          <p:nvPr/>
        </p:nvPicPr>
        <p:blipFill>
          <a:blip r:embed="rId1"/>
          <a:stretch/>
        </p:blipFill>
        <p:spPr>
          <a:xfrm>
            <a:off x="457200" y="228600"/>
            <a:ext cx="4363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1625400"/>
            <a:ext cx="81075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V — VII веках после Великого переселения народов, славяне заняли территории Центральной и Восточной Европы от Эльбы (Лабы) до Днепра и Волги, от южных берегов Балтийского моря до севера Балканского полуостр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ли века, и славяне все более отделялись друг от друга, образовав три современные ветви самой многочисленной семьи родственных народов Евро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slav_map"/>
          <p:cNvPicPr/>
          <p:nvPr/>
        </p:nvPicPr>
        <p:blipFill>
          <a:blip r:embed="rId1"/>
          <a:stretch/>
        </p:blipFill>
        <p:spPr>
          <a:xfrm>
            <a:off x="0" y="0"/>
            <a:ext cx="4722840" cy="64771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4724280" y="1569960"/>
            <a:ext cx="441972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сточные славя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это белорусы, русские, украинц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пад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поляки, словаки и чехи (балтийские славяне были ассимилированы соседями-германц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XII веке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юж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болгары, македонцы, сербы, словенцы, хорваты, босний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756720" y="5538240"/>
            <a:ext cx="266328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ев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очь Перу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ри 199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Перун03"/>
          <p:cNvPicPr/>
          <p:nvPr/>
        </p:nvPicPr>
        <p:blipFill>
          <a:blip r:embed="rId1"/>
          <a:stretch/>
        </p:blipFill>
        <p:spPr>
          <a:xfrm>
            <a:off x="228600" y="152280"/>
            <a:ext cx="3637080" cy="533412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4"/>
          <p:cNvSpPr/>
          <p:nvPr/>
        </p:nvSpPr>
        <p:spPr>
          <a:xfrm>
            <a:off x="4895640" y="5538240"/>
            <a:ext cx="358992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у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жена Перу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ктор Король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Перун04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665800" y="5486040"/>
            <a:ext cx="40899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унов 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ктор Король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Перун05"/>
          <p:cNvPicPr/>
          <p:nvPr/>
        </p:nvPicPr>
        <p:blipFill>
          <a:blip r:embed="rId1"/>
          <a:stretch/>
        </p:blipFill>
        <p:spPr>
          <a:xfrm>
            <a:off x="990720" y="15228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5258520" y="441864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дрей М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Перун06"/>
          <p:cNvPicPr/>
          <p:nvPr/>
        </p:nvPicPr>
        <p:blipFill>
          <a:blip r:embed="rId1"/>
          <a:stretch/>
        </p:blipFill>
        <p:spPr>
          <a:xfrm>
            <a:off x="609480" y="228600"/>
            <a:ext cx="4311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-115920" y="790920"/>
            <a:ext cx="905544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Итак, Перу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Бог грома и молний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ак небесного огн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2. Покровитель воино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и княжеской дружин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3. Бог-управитель, бог карающий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за неисполнение законов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4. Защитник Яв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5. Податель мужской сил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80880" y="1070280"/>
            <a:ext cx="83822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ле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— один из величайших богов древнего мира. Его главным деянием стало то, что Велес привел сотворенный Родом и Сварогом мир в движ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стал сменять ноч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зимой неизбежно следовали весна, лето и осен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выдохом — вдо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ле печали — рад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3"/>
          <p:cNvSpPr txBox="1"/>
          <p:nvPr/>
        </p:nvSpPr>
        <p:spPr>
          <a:xfrm>
            <a:off x="3581280" y="152280"/>
            <a:ext cx="210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ес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160640" y="5581800"/>
            <a:ext cx="7000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о из его имен Мокос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ж Макоши, богини судьб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952880" y="4344120"/>
            <a:ext cx="38102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лесова Кни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Велес01"/>
          <p:cNvPicPr/>
          <p:nvPr/>
        </p:nvPicPr>
        <p:blipFill>
          <a:blip r:embed="rId1"/>
          <a:stretch/>
        </p:blipFill>
        <p:spPr>
          <a:xfrm>
            <a:off x="282600" y="228600"/>
            <a:ext cx="4518000" cy="63244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685800" y="1521000"/>
            <a:ext cx="8153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«Велесова книг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(«Влесова книга», «Книга Велеса») —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еревод священных текстов новгородских волхвов IX век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 которой рассказана древнейшая история славян и других народов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т конца II тысячелетия до н.э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о конца I тысячелетия н.э. (IX век)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Велес02"/>
          <p:cNvPicPr/>
          <p:nvPr/>
        </p:nvPicPr>
        <p:blipFill>
          <a:blip r:embed="rId1"/>
          <a:stretch/>
        </p:blipFill>
        <p:spPr>
          <a:xfrm>
            <a:off x="666720" y="76320"/>
            <a:ext cx="2762280" cy="66294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"/>
          <p:cNvSpPr/>
          <p:nvPr/>
        </p:nvSpPr>
        <p:spPr>
          <a:xfrm>
            <a:off x="3659400" y="4267440"/>
            <a:ext cx="418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аревна-волх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ихаил Вруб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Велес03"/>
          <p:cNvPicPr/>
          <p:nvPr/>
        </p:nvPicPr>
        <p:blipFill>
          <a:blip r:embed="rId1"/>
          <a:stretch/>
        </p:blipFill>
        <p:spPr>
          <a:xfrm>
            <a:off x="1371600" y="304920"/>
            <a:ext cx="6095880" cy="4813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437760" y="5197320"/>
            <a:ext cx="852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ес мог принимать любые облич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ще всего его изображали мудрым стар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ником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Велес04"/>
          <p:cNvPicPr/>
          <p:nvPr/>
        </p:nvPicPr>
        <p:blipFill>
          <a:blip r:embed="rId1"/>
          <a:stretch/>
        </p:blipFill>
        <p:spPr>
          <a:xfrm>
            <a:off x="1676520" y="0"/>
            <a:ext cx="5867280" cy="47577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2274120" y="521136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дрей Клименк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6320" y="391320"/>
            <a:ext cx="899136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так, Веле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1. "Скотий бог" - хозяин Дикой Природы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2. Водчий на всех Дорогах, господин Путей, покровитель всех путешественни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3. Хозяин Нави, властитель Непознанного, Черный бог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4. Посмертный судья и прижизненный испытател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5. Могучий волшебник и повелитель магии, оборотен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6. Покровитель торговли, посредник в договорах и толкователь закон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7. Податель богатст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8. Покровитель знающих и ищущих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учитель искусства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9. Бог удачи.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079640" y="1977480"/>
            <a:ext cx="7226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авянская миф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религия славя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агалась из обоготвор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л при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культа предко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Dajdbog"/>
          <p:cNvPicPr/>
          <p:nvPr/>
        </p:nvPicPr>
        <p:blipFill>
          <a:blip r:embed="rId1"/>
          <a:stretch/>
        </p:blipFill>
        <p:spPr>
          <a:xfrm>
            <a:off x="1066680" y="38862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Jarilo"/>
          <p:cNvPicPr/>
          <p:nvPr/>
        </p:nvPicPr>
        <p:blipFill>
          <a:blip r:embed="rId2"/>
          <a:stretch/>
        </p:blipFill>
        <p:spPr>
          <a:xfrm>
            <a:off x="2286000" y="449568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Hors"/>
          <p:cNvPicPr/>
          <p:nvPr/>
        </p:nvPicPr>
        <p:blipFill>
          <a:blip r:embed="rId3"/>
          <a:stretch/>
        </p:blipFill>
        <p:spPr>
          <a:xfrm>
            <a:off x="3581280" y="48006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Белбог"/>
          <p:cNvPicPr/>
          <p:nvPr/>
        </p:nvPicPr>
        <p:blipFill>
          <a:blip r:embed="rId4"/>
          <a:stretch/>
        </p:blipFill>
        <p:spPr>
          <a:xfrm>
            <a:off x="4878360" y="4876920"/>
            <a:ext cx="988920" cy="1447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Догода"/>
          <p:cNvPicPr/>
          <p:nvPr/>
        </p:nvPicPr>
        <p:blipFill>
          <a:blip r:embed="rId5"/>
          <a:stretch/>
        </p:blipFill>
        <p:spPr>
          <a:xfrm>
            <a:off x="6129360" y="4419720"/>
            <a:ext cx="10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Доля"/>
          <p:cNvPicPr/>
          <p:nvPr/>
        </p:nvPicPr>
        <p:blipFill>
          <a:blip r:embed="rId6"/>
          <a:stretch/>
        </p:blipFill>
        <p:spPr>
          <a:xfrm>
            <a:off x="7469280" y="3962520"/>
            <a:ext cx="988920" cy="1447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Svarog"/>
          <p:cNvPicPr/>
          <p:nvPr/>
        </p:nvPicPr>
        <p:blipFill>
          <a:blip r:embed="rId7"/>
          <a:stretch/>
        </p:blipFill>
        <p:spPr>
          <a:xfrm>
            <a:off x="4160880" y="76320"/>
            <a:ext cx="868320" cy="1447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Берегиня"/>
          <p:cNvPicPr/>
          <p:nvPr/>
        </p:nvPicPr>
        <p:blipFill>
          <a:blip r:embed="rId8"/>
          <a:stretch/>
        </p:blipFill>
        <p:spPr>
          <a:xfrm>
            <a:off x="2819520" y="76320"/>
            <a:ext cx="987480" cy="1447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Китоврас"/>
          <p:cNvPicPr/>
          <p:nvPr/>
        </p:nvPicPr>
        <p:blipFill>
          <a:blip r:embed="rId9"/>
          <a:stretch/>
        </p:blipFill>
        <p:spPr>
          <a:xfrm>
            <a:off x="5337000" y="76320"/>
            <a:ext cx="987480" cy="1447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Коляда"/>
          <p:cNvPicPr/>
          <p:nvPr/>
        </p:nvPicPr>
        <p:blipFill>
          <a:blip r:embed="rId10"/>
          <a:stretch/>
        </p:blipFill>
        <p:spPr>
          <a:xfrm>
            <a:off x="1523880" y="76320"/>
            <a:ext cx="986040" cy="144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Девана"/>
          <p:cNvPicPr/>
          <p:nvPr/>
        </p:nvPicPr>
        <p:blipFill>
          <a:blip r:embed="rId11"/>
          <a:stretch/>
        </p:blipFill>
        <p:spPr>
          <a:xfrm>
            <a:off x="6632640" y="76320"/>
            <a:ext cx="987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0520" y="4952520"/>
            <a:ext cx="853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Почитание приходилось на </a:t>
            </a:r>
            <a:r>
              <a:rPr b="1" i="1" lang="ru-RU" sz="3300" spc="-1" strike="noStrike">
                <a:solidFill>
                  <a:srgbClr val="000099"/>
                </a:solidFill>
                <a:latin typeface="Arial"/>
              </a:rPr>
              <a:t>19 дека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23120" y="1300320"/>
            <a:ext cx="902160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ень Велеса - сред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камень - опал или обсидиан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металл - свинец или ртуть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ерево - ель, сосна, орех или ясень (тис)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менно из них следует делать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береги, посохи, кумиров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 прочие предметы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вязанные с культом Велес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76320" y="422640"/>
            <a:ext cx="883908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елесовы, дни праздновали особо торжественно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2-24 декабр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31 декабр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6 январ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 дни Николы Зимнего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4 феврал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просили "скотьего бога"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шибить рога с Зимы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А также чтили его и в дни чествовани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Николы Вешнего -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2 ма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(Ярилин день, семик)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12 июл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- когда ставят первый сноп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 начинают косить, заготавливая сено для скота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Между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18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августа Велесу завивали клок на убранном поле "на бородку" - Николина бород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3048120" y="3049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ждьбог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75320" y="1698480"/>
            <a:ext cx="87044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реди даров Сварога людям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были и его сыновья — Сварожичи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ервый из них </a:t>
            </a:r>
            <a:r>
              <a:rPr b="1" lang="ru-RU" sz="3300" spc="-1" strike="noStrike">
                <a:solidFill>
                  <a:srgbClr val="0000ff"/>
                </a:solidFill>
                <a:latin typeface="Arial"/>
              </a:rPr>
              <a:t>Даждьбог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— бог Солнц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одатель тепла и света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Его имя слышится в самой краткой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ожившей до наших дней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молитве: «Дай, Боже!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28600" y="1753920"/>
            <a:ext cx="86868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аждьбог –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абь, Радегаст, Радигош, Сварожич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Это разные вариации имени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дного и того же бога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Бог плодородия и солнечного свет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живительной силы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ервопредок славян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5075280" y="4188240"/>
            <a:ext cx="29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аждь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Dajdbog"/>
          <p:cNvPicPr/>
          <p:nvPr/>
        </p:nvPicPr>
        <p:blipFill>
          <a:blip r:embed="rId1"/>
          <a:stretch/>
        </p:blipFill>
        <p:spPr>
          <a:xfrm>
            <a:off x="336600" y="228600"/>
            <a:ext cx="4311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6022080" y="3582000"/>
            <a:ext cx="27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лесни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аждьб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др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им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Дажьдбог02"/>
          <p:cNvPicPr/>
          <p:nvPr/>
        </p:nvPicPr>
        <p:blipFill>
          <a:blip r:embed="rId1"/>
          <a:stretch/>
        </p:blipFill>
        <p:spPr>
          <a:xfrm>
            <a:off x="380880" y="22860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088720" y="5181480"/>
            <a:ext cx="461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лава Даждьб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орис Ольша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Слава Даждьбога"/>
          <p:cNvPicPr/>
          <p:nvPr/>
        </p:nvPicPr>
        <p:blipFill>
          <a:blip r:embed="rId1"/>
          <a:srcRect l="0" t="0" r="0" b="7248"/>
          <a:stretch/>
        </p:blipFill>
        <p:spPr>
          <a:xfrm>
            <a:off x="228600" y="53352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836640" y="226800"/>
            <a:ext cx="7457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щенным животным Даждьбо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читался ле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арожича изображ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о с львиной голов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о едущим на колесниц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ряженной льва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291320" y="2555640"/>
            <a:ext cx="6406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а - петух, возвещающ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им криком приход сол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57800" y="3503160"/>
            <a:ext cx="75495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ждьбога именовали Спас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.е. Спасител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мысле воинской - защит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му яблочный (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9 авгу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едовый Спас (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4 авгу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дни чествования Сварожи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о вместе с Ярил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ут и на Юрия Зимнего (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9 декабр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3048120" y="3049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ошь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49760" y="1422720"/>
            <a:ext cx="880488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кош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Мокошь) - Богиня всей Судьб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шая из богинь прях судьб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также покровитель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нских рукоделий – на Земл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ечительствует женскому плодород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урожайности, хозяйств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достатку в до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илу того, что богини - пряхи судь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ованиях предстают по тр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кать Пряжу Судеб Макоши помог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гини Доля и Недо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ующие покутными нитями челов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плодами его трудов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брыми или зл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-43920" y="142200"/>
            <a:ext cx="9231840" cy="65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нь Макоши - Пятниц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православии образ слил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 Параскевой Пятницей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.е. она покровительница хозяек и ж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ин из дней, в который особо чтят Макошь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о ближайшая к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8 апреля Пятница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щание Макош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27 октября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бственно Параскева Пятни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е металл - серебр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мень - горный хрусталь и  "лунный камень"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верь Макоши - кош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ом этой богини является пряж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убок шерсти, веретен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умиры Макоши могли быть изготовлен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 "женских пород дерева"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первую очередь - из оси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умир Макоши зачастую мог быть рог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ли иметь в руках р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Макошь01"/>
          <p:cNvPicPr/>
          <p:nvPr/>
        </p:nvPicPr>
        <p:blipFill>
          <a:blip r:embed="rId1"/>
          <a:stretch/>
        </p:blipFill>
        <p:spPr>
          <a:xfrm>
            <a:off x="488880" y="228600"/>
            <a:ext cx="4311720" cy="63244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5184000" y="4495680"/>
            <a:ext cx="343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ко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дрей Маз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Макошь02"/>
          <p:cNvPicPr/>
          <p:nvPr/>
        </p:nvPicPr>
        <p:blipFill>
          <a:blip r:embed="rId1"/>
          <a:stretch/>
        </p:blipFill>
        <p:spPr>
          <a:xfrm>
            <a:off x="228600" y="228600"/>
            <a:ext cx="4260960" cy="62485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4726440" y="4219920"/>
            <a:ext cx="37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ть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иколай Рер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9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838080" y="645480"/>
            <a:ext cx="77803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диным высшим богом, "творцом молнии"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м был у индусов Индр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греков Зевс, у римлян Юпитер, у германцев Тор, у литовцев Перкунас — у славян был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еру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Понятие о боге-громовнике сливалось у славян с понятием неба вообщ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именно — движущегося, облачного неба), олицетворение которого некоторые ученые видят в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варог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457200" y="228600"/>
            <a:ext cx="3494160" cy="6705720"/>
            <a:chOff x="457200" y="228600"/>
            <a:chExt cx="3494160" cy="6705720"/>
          </a:xfrm>
        </p:grpSpPr>
        <p:pic>
          <p:nvPicPr>
            <p:cNvPr id="198" name="Picture 4" descr="Perun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34941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WordArt 5"/>
            <p:cNvSpPr txBox="1"/>
            <p:nvPr/>
          </p:nvSpPr>
          <p:spPr>
            <a:xfrm>
              <a:off x="685800" y="5486400"/>
              <a:ext cx="2895480" cy="14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Перун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0" name="Group 8"/>
          <p:cNvGrpSpPr/>
          <p:nvPr/>
        </p:nvGrpSpPr>
        <p:grpSpPr>
          <a:xfrm>
            <a:off x="5257800" y="0"/>
            <a:ext cx="3429000" cy="6629400"/>
            <a:chOff x="5257800" y="0"/>
            <a:chExt cx="3429000" cy="6629400"/>
          </a:xfrm>
        </p:grpSpPr>
        <p:pic>
          <p:nvPicPr>
            <p:cNvPr id="201" name="Picture 3" descr="Svarog"/>
            <p:cNvPicPr/>
            <p:nvPr/>
          </p:nvPicPr>
          <p:blipFill>
            <a:blip r:embed="rId2"/>
            <a:stretch/>
          </p:blipFill>
          <p:spPr>
            <a:xfrm>
              <a:off x="5257800" y="1295280"/>
              <a:ext cx="3429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WordArt 7"/>
            <p:cNvSpPr txBox="1"/>
            <p:nvPr/>
          </p:nvSpPr>
          <p:spPr>
            <a:xfrm>
              <a:off x="5638680" y="0"/>
              <a:ext cx="2895840" cy="14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Сварог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5717880" y="3733920"/>
            <a:ext cx="264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ко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Макошь03"/>
          <p:cNvPicPr/>
          <p:nvPr/>
        </p:nvPicPr>
        <p:blipFill>
          <a:blip r:embed="rId1"/>
          <a:stretch/>
        </p:blipFill>
        <p:spPr>
          <a:xfrm>
            <a:off x="615960" y="228600"/>
            <a:ext cx="42609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1220760" y="5486040"/>
            <a:ext cx="68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ко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ревнеславянская вышив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Макошь04"/>
          <p:cNvPicPr/>
          <p:nvPr/>
        </p:nvPicPr>
        <p:blipFill>
          <a:blip r:embed="rId1"/>
          <a:stretch/>
        </p:blipFill>
        <p:spPr>
          <a:xfrm>
            <a:off x="1828800" y="304920"/>
            <a:ext cx="5105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224280" y="309240"/>
            <a:ext cx="8728920" cy="63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так, сама Макош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Богиня всей Судь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Великая Мать, богиня плодород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ана с урожа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ет 12-13 годовых праз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может чествоваться каждое полнолу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Богиня магии и волшеб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на Велеса и Хозяйка перекрест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роздания между ми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защитница и покровительница хозя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В нижней ипостаси я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менитой Ягой, в этом случа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говорить, что она мать ветр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жизнь и смерть ей подвласт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вной ме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Хозяйка Живой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4"/>
          <p:cNvSpPr txBox="1"/>
          <p:nvPr/>
        </p:nvSpPr>
        <p:spPr>
          <a:xfrm>
            <a:off x="1828800" y="2057400"/>
            <a:ext cx="6019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1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838080" y="18288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овите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 современные ветви славян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09800" y="5410080"/>
            <a:ext cx="2038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точ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6"/>
          <p:cNvSpPr txBox="1"/>
          <p:nvPr/>
        </p:nvSpPr>
        <p:spPr>
          <a:xfrm>
            <a:off x="3809880" y="5410080"/>
            <a:ext cx="2038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6572160" y="5410080"/>
            <a:ext cx="203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ж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08" name="Group 11"/>
          <p:cNvGrpSpPr/>
          <p:nvPr/>
        </p:nvGrpSpPr>
        <p:grpSpPr>
          <a:xfrm>
            <a:off x="2209320" y="3962520"/>
            <a:ext cx="5105880" cy="1371600"/>
            <a:chOff x="2209320" y="3962520"/>
            <a:chExt cx="5105880" cy="1371600"/>
          </a:xfrm>
        </p:grpSpPr>
        <p:sp>
          <p:nvSpPr>
            <p:cNvPr id="309" name="Line 8"/>
            <p:cNvSpPr/>
            <p:nvPr/>
          </p:nvSpPr>
          <p:spPr>
            <a:xfrm flipH="1">
              <a:off x="2209320" y="3962520"/>
              <a:ext cx="2210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9"/>
            <p:cNvSpPr/>
            <p:nvPr/>
          </p:nvSpPr>
          <p:spPr>
            <a:xfrm>
              <a:off x="472428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0"/>
            <p:cNvSpPr/>
            <p:nvPr/>
          </p:nvSpPr>
          <p:spPr>
            <a:xfrm>
              <a:off x="5105520" y="3962520"/>
              <a:ext cx="2209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3" name="WordArt 3"/>
          <p:cNvSpPr txBox="1"/>
          <p:nvPr/>
        </p:nvSpPr>
        <p:spPr>
          <a:xfrm>
            <a:off x="838080" y="18288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овите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вного Бога славян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WordArt 11"/>
          <p:cNvSpPr txBox="1"/>
          <p:nvPr/>
        </p:nvSpPr>
        <p:spPr>
          <a:xfrm>
            <a:off x="1523880" y="4800600"/>
            <a:ext cx="647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арог (Световид, Святовит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WordArt 3"/>
          <p:cNvSpPr txBox="1"/>
          <p:nvPr/>
        </p:nvSpPr>
        <p:spPr>
          <a:xfrm>
            <a:off x="838080" y="18288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называют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ов-сыновей Сварога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WordArt 4"/>
          <p:cNvSpPr txBox="1"/>
          <p:nvPr/>
        </p:nvSpPr>
        <p:spPr>
          <a:xfrm>
            <a:off x="1523880" y="4800600"/>
            <a:ext cx="647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арожичам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4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WordArt 3"/>
          <p:cNvSpPr txBox="1"/>
          <p:nvPr/>
        </p:nvSpPr>
        <p:spPr>
          <a:xfrm>
            <a:off x="838080" y="18288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авянская Богиня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бви и красот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0" name="WordArt 4"/>
          <p:cNvSpPr txBox="1"/>
          <p:nvPr/>
        </p:nvSpPr>
        <p:spPr>
          <a:xfrm>
            <a:off x="3124080" y="4800600"/>
            <a:ext cx="2971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ад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5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WordArt 3"/>
          <p:cNvSpPr txBox="1"/>
          <p:nvPr/>
        </p:nvSpPr>
        <p:spPr>
          <a:xfrm>
            <a:off x="838080" y="1828800"/>
            <a:ext cx="77724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арожич,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 грозовых туч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ома и молни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WordArt 4"/>
          <p:cNvSpPr txBox="1"/>
          <p:nvPr/>
        </p:nvSpPr>
        <p:spPr>
          <a:xfrm>
            <a:off x="2438280" y="541008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у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6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5" name="WordArt 3"/>
          <p:cNvSpPr txBox="1"/>
          <p:nvPr/>
        </p:nvSpPr>
        <p:spPr>
          <a:xfrm>
            <a:off x="838080" y="1828800"/>
            <a:ext cx="7772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 удачи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зяин Дикой природ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4"/>
          <p:cNvSpPr txBox="1"/>
          <p:nvPr/>
        </p:nvSpPr>
        <p:spPr>
          <a:xfrm>
            <a:off x="2362320" y="5105520"/>
            <a:ext cx="4190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е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09480" y="1236600"/>
            <a:ext cx="81536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ругие вышние боги считались сыновьями Сварога —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Сварожичами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такими богами были солнце и огонь. Солнце обоготворялось под названием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Даждьбога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, а также Хорса. Брат Сварога, самый таинственный бог и хранитель стад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Веле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первоначально также был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олнечным богом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304920" y="380880"/>
            <a:ext cx="3325680" cy="6153120"/>
            <a:chOff x="304920" y="380880"/>
            <a:chExt cx="3325680" cy="6153120"/>
          </a:xfrm>
        </p:grpSpPr>
        <p:pic>
          <p:nvPicPr>
            <p:cNvPr id="205" name="Picture 4" descr="Dajdbog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332568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WordArt 6"/>
            <p:cNvSpPr txBox="1"/>
            <p:nvPr/>
          </p:nvSpPr>
          <p:spPr>
            <a:xfrm>
              <a:off x="380880" y="5334120"/>
              <a:ext cx="3200400" cy="119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Дажьдбог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7" name="Group 8"/>
          <p:cNvGrpSpPr/>
          <p:nvPr/>
        </p:nvGrpSpPr>
        <p:grpSpPr>
          <a:xfrm>
            <a:off x="5334120" y="380880"/>
            <a:ext cx="3473280" cy="6096240"/>
            <a:chOff x="5334120" y="380880"/>
            <a:chExt cx="3473280" cy="6096240"/>
          </a:xfrm>
        </p:grpSpPr>
        <p:pic>
          <p:nvPicPr>
            <p:cNvPr id="208" name="Picture 5" descr="Veles"/>
            <p:cNvPicPr/>
            <p:nvPr/>
          </p:nvPicPr>
          <p:blipFill>
            <a:blip r:embed="rId2"/>
            <a:stretch/>
          </p:blipFill>
          <p:spPr>
            <a:xfrm>
              <a:off x="5334120" y="1752480"/>
              <a:ext cx="347328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WordArt 7"/>
            <p:cNvSpPr txBox="1"/>
            <p:nvPr/>
          </p:nvSpPr>
          <p:spPr>
            <a:xfrm>
              <a:off x="5715000" y="380880"/>
              <a:ext cx="2514600" cy="120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Велес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7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3"/>
          <p:cNvSpPr txBox="1"/>
          <p:nvPr/>
        </p:nvSpPr>
        <p:spPr>
          <a:xfrm>
            <a:off x="838080" y="1828800"/>
            <a:ext cx="7772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называется книга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торой рассказан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. история славян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WordArt 4"/>
          <p:cNvSpPr txBox="1"/>
          <p:nvPr/>
        </p:nvSpPr>
        <p:spPr>
          <a:xfrm>
            <a:off x="1523880" y="5181480"/>
            <a:ext cx="6477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елесова книг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8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WordArt 3"/>
          <p:cNvSpPr txBox="1"/>
          <p:nvPr/>
        </p:nvSpPr>
        <p:spPr>
          <a:xfrm>
            <a:off x="990720" y="1828800"/>
            <a:ext cx="76197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арожич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 Солнц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WordArt 4"/>
          <p:cNvSpPr txBox="1"/>
          <p:nvPr/>
        </p:nvSpPr>
        <p:spPr>
          <a:xfrm>
            <a:off x="2362320" y="5029200"/>
            <a:ext cx="4647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ждьбог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9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3"/>
          <p:cNvSpPr txBox="1"/>
          <p:nvPr/>
        </p:nvSpPr>
        <p:spPr>
          <a:xfrm>
            <a:off x="838080" y="182880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иня всей Судьбы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зяйка Живой Природ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4"/>
          <p:cNvSpPr txBox="1"/>
          <p:nvPr/>
        </p:nvSpPr>
        <p:spPr>
          <a:xfrm>
            <a:off x="2286000" y="5410080"/>
            <a:ext cx="5105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кош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10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3"/>
          <p:cNvSpPr txBox="1"/>
          <p:nvPr/>
        </p:nvSpPr>
        <p:spPr>
          <a:xfrm>
            <a:off x="838080" y="1828800"/>
            <a:ext cx="7772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овите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авянских Богов и Богинь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орых Вы запомнил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453240" y="4341600"/>
            <a:ext cx="71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вянская и древнерусская мифолог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фы, боги, духи и демоны древних слав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ttp://godsbay.ru/slavs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453600" y="1357200"/>
            <a:ext cx="75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фология древнего мира, - М.:Белфакс, 20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.А.Рыбаков «Язычество древних славян»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:Русское слово, 19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Калашников «Боги древних славян»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:Белый город, 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.Гаврилов, А.Наговиц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Боги славян. Язычество. Традиция»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:Рефл-Бук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4"/>
          <p:cNvSpPr txBox="1"/>
          <p:nvPr/>
        </p:nvSpPr>
        <p:spPr>
          <a:xfrm>
            <a:off x="3200400" y="619200"/>
            <a:ext cx="2324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чник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581280" y="1641600"/>
            <a:ext cx="524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западных славя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сшим богом считался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вятови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ему соответствовал Триглав 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ехголовый ид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Святовит01"/>
          <p:cNvPicPr/>
          <p:nvPr/>
        </p:nvPicPr>
        <p:blipFill>
          <a:blip r:embed="rId1"/>
          <a:stretch/>
        </p:blipFill>
        <p:spPr>
          <a:xfrm>
            <a:off x="228600" y="838080"/>
            <a:ext cx="3376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28600" y="225360"/>
            <a:ext cx="8555040" cy="63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авянская мифология характерна тем, что она - всеобъемлюща и представляет собою не отдельную область народного представления о мире и мироздании (как фантазия или религия), а находит воплощение даже в быту - будь то обряды, ритуалы, культы или земледельческий календарь, сохранившаяся демонология (от домовых, ведьм и леших до банников и русалок) или забытое отождествление (например, языческого Перуна с христианским святым Иль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му, практически уничтоженная на уровне текстов до XI ве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 продолжает жить в образах, символике, ритуалах и в сам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800600" y="1454040"/>
            <a:ext cx="26668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ар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в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арг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и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игл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рно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р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143000" y="1319040"/>
            <a:ext cx="36576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ждь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товр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ы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п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в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5"/>
          <p:cNvSpPr txBox="1"/>
          <p:nvPr/>
        </p:nvSpPr>
        <p:spPr>
          <a:xfrm>
            <a:off x="3048120" y="466560"/>
            <a:ext cx="312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6" name="Picture 6" descr="Svarog"/>
          <p:cNvPicPr/>
          <p:nvPr/>
        </p:nvPicPr>
        <p:blipFill>
          <a:blip r:embed="rId1"/>
          <a:stretch/>
        </p:blipFill>
        <p:spPr>
          <a:xfrm>
            <a:off x="7772400" y="228600"/>
            <a:ext cx="86832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Коляда"/>
          <p:cNvPicPr/>
          <p:nvPr/>
        </p:nvPicPr>
        <p:blipFill>
          <a:blip r:embed="rId2"/>
          <a:stretch/>
        </p:blipFill>
        <p:spPr>
          <a:xfrm>
            <a:off x="533520" y="4876920"/>
            <a:ext cx="985680" cy="144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ors"/>
          <p:cNvPicPr/>
          <p:nvPr/>
        </p:nvPicPr>
        <p:blipFill>
          <a:blip r:embed="rId3"/>
          <a:stretch/>
        </p:blipFill>
        <p:spPr>
          <a:xfrm>
            <a:off x="533520" y="2286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Jarilo"/>
          <p:cNvPicPr/>
          <p:nvPr/>
        </p:nvPicPr>
        <p:blipFill>
          <a:blip r:embed="rId4"/>
          <a:stretch/>
        </p:blipFill>
        <p:spPr>
          <a:xfrm>
            <a:off x="7772400" y="48006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Dajdbog"/>
          <p:cNvPicPr/>
          <p:nvPr/>
        </p:nvPicPr>
        <p:blipFill>
          <a:blip r:embed="rId5"/>
          <a:stretch/>
        </p:blipFill>
        <p:spPr>
          <a:xfrm>
            <a:off x="533520" y="2590920"/>
            <a:ext cx="987480" cy="1447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Догода"/>
          <p:cNvPicPr/>
          <p:nvPr/>
        </p:nvPicPr>
        <p:blipFill>
          <a:blip r:embed="rId6"/>
          <a:stretch/>
        </p:blipFill>
        <p:spPr>
          <a:xfrm>
            <a:off x="7696080" y="2438280"/>
            <a:ext cx="1033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819520" y="1256040"/>
            <a:ext cx="358128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реги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в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стр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ко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ыра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3"/>
          <p:cNvSpPr txBox="1"/>
          <p:nvPr/>
        </p:nvSpPr>
        <p:spPr>
          <a:xfrm>
            <a:off x="2971800" y="466560"/>
            <a:ext cx="3276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ин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4" name="Picture 4" descr="Девана"/>
          <p:cNvPicPr/>
          <p:nvPr/>
        </p:nvPicPr>
        <p:blipFill>
          <a:blip r:embed="rId1"/>
          <a:stretch/>
        </p:blipFill>
        <p:spPr>
          <a:xfrm>
            <a:off x="1143000" y="16002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Берегиня"/>
          <p:cNvPicPr/>
          <p:nvPr/>
        </p:nvPicPr>
        <p:blipFill>
          <a:blip r:embed="rId2"/>
          <a:stretch/>
        </p:blipFill>
        <p:spPr>
          <a:xfrm>
            <a:off x="2209680" y="32004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Доля"/>
          <p:cNvPicPr/>
          <p:nvPr/>
        </p:nvPicPr>
        <p:blipFill>
          <a:blip r:embed="rId3"/>
          <a:stretch/>
        </p:blipFill>
        <p:spPr>
          <a:xfrm>
            <a:off x="7391520" y="1600200"/>
            <a:ext cx="988920" cy="144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Макошь01"/>
          <p:cNvPicPr/>
          <p:nvPr/>
        </p:nvPicPr>
        <p:blipFill>
          <a:blip r:embed="rId4"/>
          <a:stretch/>
        </p:blipFill>
        <p:spPr>
          <a:xfrm>
            <a:off x="6324480" y="312408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Лада01"/>
          <p:cNvPicPr/>
          <p:nvPr/>
        </p:nvPicPr>
        <p:blipFill>
          <a:blip r:embed="rId5"/>
          <a:stretch/>
        </p:blipFill>
        <p:spPr>
          <a:xfrm>
            <a:off x="1143000" y="4800600"/>
            <a:ext cx="988920" cy="144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Кострома01"/>
          <p:cNvPicPr/>
          <p:nvPr/>
        </p:nvPicPr>
        <p:blipFill>
          <a:blip r:embed="rId6"/>
          <a:stretch/>
        </p:blipFill>
        <p:spPr>
          <a:xfrm>
            <a:off x="7315200" y="4800600"/>
            <a:ext cx="985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05T19:07:1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