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4D4-DE1F-4F92-B7AB-01185997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D45-C2DF-48BE-BC0A-805E5180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F66F2-A6B6-4C2D-84D8-61A7B79D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8BCEA-EB5A-4BE6-8B19-FE098CDE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B1DC2-55B0-4BDA-9D97-71304E9F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C3466-E71C-430A-8C20-BBF9A10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0F6F7-1E40-4D51-B1B3-DA3C567F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DC8FE-194E-455E-8E09-5EFDC33B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AB565-1A15-4414-A76A-2F6A86D7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DC0CC-63F3-4269-BFC1-6F88B94B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08E7C-ADD8-46D4-901E-2B81C62A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6830B-2CFD-43C7-B4CA-39754C6A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096-832C-45A6-9CD1-B9458C70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AA7DC-36AF-4945-9BF7-18B76D5D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1BDA7-CF11-428A-B269-84DD6A41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88D7A-C072-4915-A295-1623A1A5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26395-1549-49AF-A24F-074528B3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B2CB3-7249-497A-A484-56202A0E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CBEEC-9AF5-4610-83E7-F2D42C6A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FC819-935E-4252-88DD-071459D7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66E84-0428-480F-9420-3BDF5E6C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8A521-34B2-416F-B436-69B858C8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677AC-AFC0-42F2-8B79-3A9BA5C7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02C-76CC-4000-B4BE-1902B5CC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98386-CC5E-4FC4-8193-196A8D39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2484-E7A3-41C3-A554-E0B2DF25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FC1E-2D60-416D-AFB0-1AB239B9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ADBE-BAE8-4AB6-94CC-58FE3731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9A1B-2CCB-4183-ACE6-5D79EA15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2F22-186D-4FAB-BC54-940FA745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1E62-3BE7-4555-8DD1-005EBB4D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46E6-C866-4092-8D9E-161E8AE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D3F-6FB1-4B01-B0DB-A3ADEBA1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CBC3-C76D-45C2-A7F0-EEFB1F65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E9B6-BB36-4A90-BA0B-DA6BAFC4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8AC4-FC27-44D3-BD9F-3BF8B8F0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D38C-3920-4A73-B2C2-35A7B55B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B1FE-F731-440F-8EFE-842D7860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E8B6-DABF-4D9B-8611-27F05F70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6B8A-5B3B-4339-899C-0872F515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2CF8-891F-4A9E-AD5F-89213414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E453-4C68-47F1-9202-41713255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ED4C-33EF-44A7-9022-799567AB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D5C-D4A5-48F8-A1FC-05BD27C3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2733-E335-4C8C-909E-D025DD68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E8F3-BA48-4586-AB9D-1802A6F1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B06B-FC8C-4229-A75F-3300C865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F14D-94FA-42C9-88DB-9F3A2A96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7CB2-F1CD-4AD7-BB85-E0673DC8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2280-6BFF-4EBB-88DD-73EED671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6260-7B42-4AF1-B0D2-AA71847B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1EAB2-89AE-46FE-88EC-F6E4D527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04520-27AE-4B76-B376-36BB4748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D5DE-3B1A-4F5D-A214-0E57D6CB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5C9-76B2-4DB1-B819-010A6075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9F2C3-A77A-49D3-9CB9-93C15AD0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9C1D-3113-4287-9BD7-389E4207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02CB-0A39-42E3-BE24-00C34877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8426-D08C-48CE-8F31-4012FF94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7819-C089-4F42-A2C0-F4A42431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17C3-8DD8-46B6-A3F8-E18002F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D895-A177-4CB2-9102-E2227610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5289-83AE-4FEF-B975-9C60B499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632D2-B56B-4AD4-B882-B2FBD21B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0ADDB-E738-404D-96C9-F525F84D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E34-E01F-4D7E-8513-833DF965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8E18C-286E-479B-B1F5-78B577E6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83269-6D6E-4124-A90D-4E43A291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F7F90-67B8-4490-B844-D57889CE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BFFF6-A190-4BED-B96D-DB6FF55A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9105-8CFA-40B9-B5A9-8E00F8FC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524ED-D6D2-416B-8E1B-2CCACFB1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A7138-750C-4764-A861-CB53BAFE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FF7FD-1D19-461E-8E41-F3B9CD9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48AA7-B659-47C2-820D-9BFFD285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32483-BEBF-44AF-B8CE-79523A64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176-7880-4957-A1D3-4FFE8C25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1D9D0-1357-41B1-8A71-75B7A396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03F8D-09DA-4A91-9EA8-CD660710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509C9-50C7-497C-BF57-9556108C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F74D7-5FC7-4D03-9315-820AB2F5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17AB6-715D-4B36-8A4A-AF5C0374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3DD81-5A54-40B5-845E-DDA5384D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B5120-C306-42BD-B80C-10F638E4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E2B4A-88A8-45FC-B2E5-398120BB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4A87E-4B00-4FB3-9694-93297361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4EBFD-7914-4B4C-9123-08C2D9C4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3B2-22FE-408E-9CC0-5F7AC85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5E3B-8B1B-4FF6-B921-B198870C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BF909-D990-416E-AFDC-5D924737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28E75-FC7C-4962-AD79-A1C8FE8B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E7BA4-2531-4CE7-82BF-417E0F12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0C7F6-3CFD-4B08-8E9D-9565AF01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2B1E0-A767-48F6-A457-BBB235D9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152E0-2595-4B74-88F3-909433A0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17859-E21E-405D-9870-213D8184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33159-5874-459C-BF4A-81087A74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6E2C7-29CA-4C4D-B39E-0F97CEDB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375-6DE1-424B-91EE-EFFCB5FC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59113-04F3-43B9-8E11-8F3058AC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BD291-AA14-44D5-8BF5-CFF5B50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E279E-6A78-4962-8027-E6A9ED2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20256-8870-4F96-BA1F-75C89314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ED525-495B-488C-8A3F-1C3031CF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BC67D-5EB3-4A6D-AC3B-4E00FB78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34615-BFC1-483F-940B-FF6C3E0E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D9A6-44B8-4726-858F-EAD772B8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AEB44-9769-4130-A1EE-AF9B09F1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B85E7-7617-412E-91FD-BD4D655C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8E3-8BA5-46BA-B3CE-67D457DE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A0FBE-D0BB-4676-96FB-594FB9AE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D3D13-9B9D-462B-B1E5-C45F754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69E4C-A6D9-4AEA-9D46-27A8F64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E2D6E-61E5-469A-9866-0F253B84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9E5CE-CC6F-4643-9FF2-E10B782A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8DA11-9275-43D4-850D-D10BCF7E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4F867-13FC-404B-B2C3-43C7D9AE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FD48A-1AC3-46EF-B6F2-FDE94B9E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0EE35-3EB1-49E7-9DE8-1BDEBE51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4500B-272F-46E3-8FB9-C41004FA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18DC-CCB2-470F-BC73-81A040D5702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5C99-4FC6-4667-9A71-C3FBE9422BF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7092-F1F4-4FE9-B7D6-F521533383B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F07E-653A-4E96-AD3A-39E965E408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5D86-D365-4BCF-8F1B-0646509FA4D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1AD4-35CC-46DC-A4BF-D282EC2A5C5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940-75CF-4156-A426-C010504220D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B4C3-D818-44E1-B0B0-366D5E4C58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F3EC-B1FF-4F8F-B353-D21E250A69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73AF-B24E-4491-A326-16259F64C30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TextBox 6"/>
          <p:cNvGrpSpPr/>
          <p:nvPr/>
        </p:nvGrpSpPr>
        <p:grpSpPr>
          <a:xfrm>
            <a:off x="-60480" y="2328840"/>
            <a:ext cx="9259920" cy="1816200"/>
            <a:chOff x="-60480" y="2328840"/>
            <a:chExt cx="9259920" cy="1816200"/>
          </a:xfrm>
        </p:grpSpPr>
        <p:pic>
          <p:nvPicPr>
            <p:cNvPr id="411" name="TextBox 6" descr=""/>
            <p:cNvPicPr/>
            <p:nvPr/>
          </p:nvPicPr>
          <p:blipFill>
            <a:blip r:embed="rId2"/>
            <a:stretch/>
          </p:blipFill>
          <p:spPr>
            <a:xfrm>
              <a:off x="-60480" y="2328840"/>
              <a:ext cx="925992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0" y="2500200"/>
              <a:ext cx="914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2060"/>
                  </a:solidFill>
                  <a:latin typeface="Monotype Corsiva"/>
                </a:rPr>
                <a:t>Классный час :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2060"/>
                  </a:solidFill>
                  <a:latin typeface="Monotype Corsiva"/>
                </a:rPr>
                <a:t>"Судьба и Родина едины!"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10" descr="MCj04046430000[1]"/>
          <p:cNvPicPr/>
          <p:nvPr/>
        </p:nvPicPr>
        <p:blipFill>
          <a:blip r:embed="rId3"/>
          <a:stretch/>
        </p:blipFill>
        <p:spPr>
          <a:xfrm flipH="1" rot="343800">
            <a:off x="5094360" y="3629160"/>
            <a:ext cx="4057560" cy="32061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9"/>
          <p:cNvSpPr/>
          <p:nvPr/>
        </p:nvSpPr>
        <p:spPr>
          <a:xfrm>
            <a:off x="1000080" y="478620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абота учеников 11 «А» класса , руководитель Сомко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3 проект «Живые хранят память о павших.».</a:t>
            </a:r>
            <a:endParaRPr b="0" lang="en-US" sz="2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57160" y="642960"/>
            <a:ext cx="77868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каз гражданину города-геро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«Помни: ты живешь на священной земле…  Знай и люби свой город, овеянный бессмертной трудовой и ратной славой, где каждый камень обильно полит кровью защитников Отечества, город, земля которого хранит священный прах многих и многих из них»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6" descr="about2_pic7_h.jpg"/>
          <p:cNvPicPr/>
          <p:nvPr/>
        </p:nvPicPr>
        <p:blipFill>
          <a:blip r:embed="rId1"/>
          <a:stretch/>
        </p:blipFill>
        <p:spPr>
          <a:xfrm>
            <a:off x="1428840" y="2357280"/>
            <a:ext cx="6491160" cy="428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Текст 3"/>
          <p:cNvGrpSpPr/>
          <p:nvPr/>
        </p:nvGrpSpPr>
        <p:grpSpPr>
          <a:xfrm>
            <a:off x="-6480" y="133200"/>
            <a:ext cx="9156960" cy="2372040"/>
            <a:chOff x="-6480" y="133200"/>
            <a:chExt cx="9156960" cy="2372040"/>
          </a:xfrm>
        </p:grpSpPr>
        <p:pic>
          <p:nvPicPr>
            <p:cNvPr id="446" name="Текст 3" descr=""/>
            <p:cNvPicPr/>
            <p:nvPr/>
          </p:nvPicPr>
          <p:blipFill>
            <a:blip r:embed="rId1"/>
            <a:stretch/>
          </p:blipFill>
          <p:spPr>
            <a:xfrm>
              <a:off x="-6480" y="133200"/>
              <a:ext cx="9156960" cy="23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0" y="142920"/>
              <a:ext cx="914400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лощадь Героев — центр военно-патриотического воспитан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 9 мая 1975 г. у мемориальной стены установлен комсомольско-пионерский Пост № 1. Одетые в форму военных моряков, юные новороссийцы несут почетный караул у могил павших героев. Здесь проводятся торжественные  линейки, слеты, митинги, воины принимают присягу на верность Родине. Отсюда начинается ежегодное факельное шествие молодых патриотов, посвященное высадке морского десанта на Малую землю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8" name="Рисунок 6" descr="3068.jpg"/>
          <p:cNvPicPr/>
          <p:nvPr/>
        </p:nvPicPr>
        <p:blipFill>
          <a:blip r:embed="rId2"/>
          <a:stretch/>
        </p:blipFill>
        <p:spPr>
          <a:xfrm>
            <a:off x="2071800" y="2714760"/>
            <a:ext cx="5429160" cy="36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807228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 вахту памяти у поста № 1 заступают новые отряды юных армейцев — школьников, для которых побывать в почетном карауле у Вечного огня — большая честь. Командует ими капитан I ранга Виталий Лесик. Ему сейчас 92 года. Уже больше 30 лет ветеран стоит на самом важном капитанском мостике в своей жизни.</a:t>
            </a:r>
            <a:br>
              <a:rPr sz="2000"/>
            </a:br>
            <a:endParaRPr b="0" lang="en-US" sz="20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450" name="Picture 2" descr="C:\Users\Lena\Pictures\ЛИДЕРЫ 8-11 КЛАССЫ\Пост на площади героев.jpg"/>
          <p:cNvPicPr/>
          <p:nvPr/>
        </p:nvPicPr>
        <p:blipFill>
          <a:blip r:embed="rId1"/>
          <a:stretch/>
        </p:blipFill>
        <p:spPr>
          <a:xfrm>
            <a:off x="2071800" y="2286000"/>
            <a:ext cx="5621400" cy="4216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213920" y="4929120"/>
            <a:ext cx="7643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Форма с иголочки, до блеска начищенные ботинки и военная выправка. 92-летний ветеран Великой Отечественной войны Виталий Лесик чеканит строевой шаг лучше 17-летних подростков. Вот уже 34 года командир поста № 1 готовит школьников для почетного караула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C:\Users\Lena\Pictures\ЛИДЕРЫ 8-11 КЛАССЫ\Открытие месячника оборонно-массовой работы.JPG"/>
          <p:cNvPicPr/>
          <p:nvPr/>
        </p:nvPicPr>
        <p:blipFill>
          <a:blip r:embed="rId1"/>
          <a:stretch/>
        </p:blipFill>
        <p:spPr>
          <a:xfrm>
            <a:off x="2071800" y="1428840"/>
            <a:ext cx="6072120" cy="34606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"/>
          <p:cNvSpPr/>
          <p:nvPr/>
        </p:nvSpPr>
        <p:spPr>
          <a:xfrm>
            <a:off x="1357200" y="169920"/>
            <a:ext cx="75009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152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Виталий Лесик 35 лет на своем по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14360" y="213840"/>
            <a:ext cx="44859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2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00080" y="1571760"/>
            <a:ext cx="81439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Благодаря участию в социальном проекте я узнал(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 проекте я был(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 результате участия в проекте я (могу, планирую, мечтаю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7" descr="solnet-ee-golub-1.gif"/>
          <p:cNvPicPr/>
          <p:nvPr/>
        </p:nvPicPr>
        <p:blipFill>
          <a:blip r:embed="rId1"/>
          <a:stretch/>
        </p:blipFill>
        <p:spPr>
          <a:xfrm>
            <a:off x="7500960" y="0"/>
            <a:ext cx="147492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1500120" y="13464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ить отношение молодежи к проблемам патриотизма и помочь стать позитивными творцами, так как молодежь сегодня – это Россия зав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формировать у школьников понятия и представления, связанные с патриотизм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ение результатов проектной деятельности класса по теме классного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Рисунок7"/>
          <p:cNvPicPr/>
          <p:nvPr/>
        </p:nvPicPr>
        <p:blipFill>
          <a:blip r:embed="rId1"/>
          <a:stretch/>
        </p:blipFill>
        <p:spPr>
          <a:xfrm>
            <a:off x="2428920" y="3714840"/>
            <a:ext cx="512928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"/>
          <p:cNvSpPr/>
          <p:nvPr/>
        </p:nvSpPr>
        <p:spPr>
          <a:xfrm>
            <a:off x="1214280" y="55800"/>
            <a:ext cx="792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Monotype Corsiva"/>
                <a:ea typeface="Times New Roman"/>
              </a:rPr>
              <a:t>«Что значит быть патрио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Monotype Corsiv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33cc"/>
                </a:solidFill>
                <a:latin typeface="Monotype Corsiva"/>
                <a:ea typeface="Times New Roman"/>
              </a:rPr>
              <a:t>Любить – да, но не только любить землю свою, но и обязательно, что-то конкретное для нее делать.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Monotype Corsiva"/>
                <a:ea typeface="Calibri"/>
              </a:rPr>
              <a:t>Василий Роз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2043360" y="2857680"/>
            <a:ext cx="546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Подумай и отв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6"/>
          <p:cNvSpPr/>
          <p:nvPr/>
        </p:nvSpPr>
        <p:spPr>
          <a:xfrm>
            <a:off x="2786040" y="378612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пытайтесь самостоятельно охарактеризовать человека, который обладает чувством Родины и является патриот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9" descr="Рисунок8"/>
          <p:cNvPicPr/>
          <p:nvPr/>
        </p:nvPicPr>
        <p:blipFill>
          <a:blip r:embed="rId1"/>
          <a:stretch/>
        </p:blipFill>
        <p:spPr>
          <a:xfrm>
            <a:off x="285840" y="2786040"/>
            <a:ext cx="157140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57240" y="571680"/>
            <a:ext cx="5486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Подумай и ответь…</a:t>
            </a:r>
            <a:br>
              <a:rPr sz="4000"/>
            </a:b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71720" y="85680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"Патриотизм", "любовь к Родине", "Отчизны верные сыны"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8" descr="I_6264-2.jpg"/>
          <p:cNvPicPr/>
          <p:nvPr/>
        </p:nvPicPr>
        <p:blipFill>
          <a:blip r:embed="rId1"/>
          <a:stretch/>
        </p:blipFill>
        <p:spPr>
          <a:xfrm>
            <a:off x="1857240" y="2286000"/>
            <a:ext cx="6715440" cy="3432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142640" y="214200"/>
            <a:ext cx="7643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«Там, где предается забвению культурное и историческое прошлое страны, неизменно начинается нравственное разложение нации«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1143000" y="192924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1 проект  «Уважение к прошлому своей стра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4500720" y="228636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Данини Вален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13" descr="http://www.ballion.ru/uploads/posts/2012-04/thumbs/1335431759_x_c6794bb1.jpg"/>
          <p:cNvPicPr/>
          <p:nvPr/>
        </p:nvPicPr>
        <p:blipFill>
          <a:blip r:embed="rId1"/>
          <a:stretch/>
        </p:blipFill>
        <p:spPr>
          <a:xfrm>
            <a:off x="1109520" y="2408400"/>
            <a:ext cx="3279960" cy="430344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8"/>
          <p:cNvSpPr/>
          <p:nvPr/>
        </p:nvSpPr>
        <p:spPr>
          <a:xfrm>
            <a:off x="4286160" y="271476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43 году правительство Советского Союза уже было озабочено возрождением разрушенных городов. Был произведен набор архитекторов на должность руководителей городских отделов архитектуры. Так Данини оказался в Новороссийске. Как известно, город был сильно разрушен, и  согласно  Постановлению Совета Министров РСФСР был включен в список 15 наиболее пострадавших во время сражений и подлежащих первоочередному восстановлению городов России. В эти города были посланы специальные творческие группы, во главе которых стали маститые архитекторы. Так в Новороссийске оказалась группа под руководством  Бориса Иофана, которой было поручено разработать план, по которому отстраивался Новороссийск. Конечно, Данини работал в тесном контакте с группой Иофана. В заслугу ему можно поставить то, что он, по существу, подарил городу набережную. Ранее здесь проходило через все побережье до Малой земли железнодорожное полотн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3920" y="214200"/>
            <a:ext cx="75726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Новороссийская музыкальная школа № 1 носит имя Данини. Она названа в честь супруги архитектора Анны Сергеевны. В их семье царил дух творчества. Дом Данини был хлебосольным, здесь могли подкормить голодных студентов, утешить в беде. Проживала семья на улице Грибоедова, недалеко от центра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1143000" y="1896120"/>
            <a:ext cx="785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3030"/>
                </a:solidFill>
                <a:latin typeface="inherit"/>
                <a:ea typeface="Times New Roman"/>
              </a:rPr>
              <a:t>17 апреля исполнилось 110 лет со дня рождения архитектора Валентина Данини, с именем которого связано восстановление послевоенного Новороссийска. На посту главного архитектора города он находился целых десять лет, с 1944-го по 1954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1214280" y="3071880"/>
            <a:ext cx="7715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В Новороссийске оказалась группа под руководством Бориса Иофана, которой было поручено разработать план, по которому отстраивался бы будущий Новороссийск. Конечно, Данини работал в тесном контакте с группой Иоф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В заслугу ему можно поставить то, что он, по существу, подарил городу набережную. Ранее здесь проходило через все побережье до Малой земли железнодорожное полотно. Данини добился того, чтобы эту ветку ликвидиро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71360" y="4800600"/>
            <a:ext cx="8072280" cy="5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офан Борис Михайлович  – одна из наиболее ярких и значительных фигур в советской архитектуре 30- 40-х годов</a:t>
            </a:r>
            <a:r>
              <a:rPr b="1" lang="ru-RU" sz="2000" spc="-1" strike="noStrike">
                <a:solidFill>
                  <a:srgbClr val="676a55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433" name="Рисунок 17" descr="http://www.ballion.ru/uploads/posts/2012-04/thumbs/1335432378_13-3.jpg"/>
          <p:cNvPicPr/>
          <p:nvPr/>
        </p:nvPicPr>
        <p:blipFill>
          <a:blip r:embed="rId1"/>
          <a:stretch/>
        </p:blipFill>
        <p:spPr>
          <a:xfrm>
            <a:off x="2762280" y="128520"/>
            <a:ext cx="3693960" cy="47055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4"/>
          <p:cNvSpPr/>
          <p:nvPr/>
        </p:nvSpPr>
        <p:spPr>
          <a:xfrm>
            <a:off x="2500200" y="5504400"/>
            <a:ext cx="6500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итулы Б. М. Иофан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Академик архитектуры СССР, почетный гражданин Нью – йорка, почетный член- корреспондент Королевского института британских архитекторов, дважды удостоен французского диплома «Гран- Пр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000080" y="142920"/>
            <a:ext cx="81439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Проект города, определяющий будущие контуры  восстанавливаемого Новороссийска, был утверждён Советом Министров РСФСР и вынесен на общее обсуждение.  Особое внимание некоторых критиков привлек проект центра, ибо в проекте центра наиболее остро выражен образ будущего Новороссийска и его архитектуры. Иофан считал, что Новороссийску нужен парадный  и красивый центр. Проектируя центральную часть города, архитектор, в первую очередь, ориентировался на богатства пространственного построения композиции и используя замечательную природу Новороссийска - и море и рельеф.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В проекте Новороссийск был задуман как второй порт на Чёрном море, как крупнейший центр цементной промышленности СССР, как город, призванный дать представление приезжающему из других стран о Советском Союзе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4" descr="советов.jpg"/>
          <p:cNvPicPr/>
          <p:nvPr/>
        </p:nvPicPr>
        <p:blipFill>
          <a:blip r:embed="rId1"/>
          <a:stretch/>
        </p:blipFill>
        <p:spPr>
          <a:xfrm>
            <a:off x="1785960" y="2571840"/>
            <a:ext cx="6408720" cy="374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814392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Arial"/>
              </a:rPr>
              <a:t>2 проект «Вера в возрождение России как сильной державы».</a:t>
            </a:r>
            <a:br>
              <a:rPr sz="2000"/>
            </a:br>
            <a:endParaRPr b="0" lang="en-US" sz="2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357800" y="107172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перский Евгений Валентинович – специалист мирового уровня в области антивирусной защиты информации, один из основателей, ведущих разработчиков и крупнейших акционеров ЗАО «Лаборатория Касперского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перский родился в Новороссийске, 4 октября 1965 года в семье архивного работника и инженера. С детства любимым занятием Евгения было решение математических задач. Сам он утверждает, что уже давно превратился в вычислительное и анализирующее устро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1143000" y="61416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асперский Евгений Валенти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19" descr="http://www.ballion.ru/uploads/posts/2012-04/thumbs/1335432961_eugene_kaspersky_2007.jpg"/>
          <p:cNvPicPr/>
          <p:nvPr/>
        </p:nvPicPr>
        <p:blipFill>
          <a:blip r:embed="rId1"/>
          <a:stretch/>
        </p:blipFill>
        <p:spPr>
          <a:xfrm>
            <a:off x="1182600" y="1060560"/>
            <a:ext cx="3279960" cy="457812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3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4:24:24Z</dcterms:created>
  <dc:creator>Лена</dc:creator>
  <dc:description/>
  <dc:language>en-US</dc:language>
  <cp:lastModifiedBy>Lena</cp:lastModifiedBy>
  <dcterms:modified xsi:type="dcterms:W3CDTF">2012-06-05T15:35:54Z</dcterms:modified>
  <cp:revision>194</cp:revision>
  <dc:subject/>
  <dc:title>Воспитательные и организационные возможности урока при  работе с родителями учащихся класса</dc:title>
</cp:coreProperties>
</file>