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png" ContentType="image/png"/>
  <Override PartName="/ppt/media/image5.wmf" ContentType="image/x-wmf"/>
  <Override PartName="/ppt/media/image9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B78-FE6F-4DB9-B727-CAFB8826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D9F-7F0B-4F52-9014-FC129E38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7BB25-84A8-4310-9A84-078D0B50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64103-4662-44CF-B8C2-0D960D13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69C7F-41D6-46C3-8C9D-C89D49E3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CA9A3-E376-4A24-A38A-0BBBCD6A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37DC2-5739-460D-B5E2-38252198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58BB7-DF07-4C8D-978D-8E3FDF22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5EF3B-68F8-4164-AEF4-B6801324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7486D-865D-4ABE-A9E2-E9851D9E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722F2-308D-4BD4-B287-747A7772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582F9-A65C-44FA-918E-493895D4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47C-3F48-4E5C-9146-217C3685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2D70C-9380-4E1C-893E-32EC2E3C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205A3-D6CE-4794-AB5C-E6F9045D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C165B-4B5B-45A7-ACCC-D55CF6FE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8AE1A-DBAC-4719-AF0B-5D9066E8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F0AB4-B3D6-4A65-8954-01E978B8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C18FA-3E4C-4C83-A5DB-F5B6606E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77AEE-6E4D-4970-84B5-5ABFC1E8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412E0-0C77-4094-8A95-98169199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FB1FC-218C-45B1-941D-30B7352A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CF558-E869-459F-9D93-0C6AC69B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C8B-AF7B-4166-B3C6-AB7E7B6A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BA7CA-2E62-4B55-AF25-04692662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8A68-56B1-4489-8985-1E2D3DBF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A272-895C-4119-861B-852C15C9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2A87-4EE5-4768-A5BB-6A786D70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7DBB-1CC9-40BB-8EA9-B5CBB1C2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8396-37C0-4E2B-904D-6537BE02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D362-90B0-410A-AC9B-56620E4C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D5BF-9CFD-45B5-8A73-4488970C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C22-3150-4433-A780-CB0BEA45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DA27-673F-43F0-AD20-00E90667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63AD-14F3-4D52-A82D-05943795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232A-B5EF-456D-97C7-E8A2D9B8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308E-5C29-436B-B846-4A66DFD5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8A9F-547E-412A-999A-F2D7DC32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D6220-FB0A-4483-BA3F-BFDFC638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DDE0-4128-4A89-9A03-161FF43C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ACF43-EC7A-4E5D-B93D-03E203D4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2DC04-A605-4C84-BBDA-EA56E9C6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D8C9-5345-4409-8C42-255684A5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7BD-C1AB-4A5B-892D-D4F0098F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5CDCB-C86E-4963-B914-A88E93ED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3F96-725C-4AAE-B840-F4CCC0D6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82A1-0E5F-4154-A59B-CAAAEEDF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AB642-6FB1-4E31-A729-7F9E5AC5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59E84-8312-45B1-8C8B-EA1D4FBF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FCF21-D13A-49A8-A9B9-DC140A81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0A18F-C641-4146-A860-8944D745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C3488-3ECC-4123-9D4D-B12DBFB5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2DA73-3077-4148-86A4-09B4711F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6505A-C027-4BB4-AD54-9C3AD387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C4B-1300-4A02-897C-B3698A7F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AAB4D-10A2-4D0E-904B-803DC284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110D9-391D-4694-B8E0-B2B84726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9CA78-C370-4FE4-B432-756B9D55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F24C2-55E4-4E9A-A8D9-F4BACC78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2198A-1420-4EFA-8E6C-42F617A0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68DD5-DB74-40C3-AA1E-3DEF4B2D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E548D-66A7-4A03-97EB-5231C07F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0F96F-B05B-41E5-9C6E-1FE2E136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AA60D-9415-4357-8174-F582A0C7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B70DA-CD91-4F02-B1EB-8F53B80E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E86-32DA-42B0-BBCF-C619099D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531C3-426D-4C79-B7B7-A0B42B94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FD760-9439-46AD-9B8A-551C7DA4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18F9B-B0A0-44E7-8E61-B891A8E0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23222-39DA-45BD-A154-518456A1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CB7F3-D7CD-446E-B6A5-3C12BBF0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EC190-3BC7-41B2-8FF9-039CD78F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254FA-AF2F-44B4-9B8D-C4E99295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F9B41-2E11-4CB0-9259-A2E3D9C2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70F8D-8951-480C-B667-A0E37FE1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25778-8A0C-44B2-A209-A82B7FE6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6EF-E5D6-43EF-A60F-84BC3AC3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337F0-166E-4D5E-8C86-26027719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F58F3-A9D0-4EBA-9567-94919AFE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06454-8260-43CA-9697-E930CE28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7E06F-A315-4B7C-9A8D-0F835EAB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75364-D417-4666-AE19-2FB5286D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4816D-C96C-4424-873D-CF9F7B5D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6CCDB-4A2B-491E-8EBA-BEF6251F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56571-48F8-4C31-8ACF-90675928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EA957-A8E4-4E72-9185-F13120AE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DAD82-4FD8-46A5-9F7B-3381C649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B73-9B43-4CD3-AB27-FDFCC13A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B4148-093B-4946-9190-14D7AAF4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35C52-F2A8-42B6-8543-D1122904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6D80F-A7A5-4DA9-AE4B-1A71B790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E9865-56B0-4072-94AA-C6B1CEE1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7F825-0BFB-4EAE-84D6-38848E59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CC819-C92C-473A-8191-15869858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A6BCC-0C21-4607-B821-130C8441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7693B-A4C7-40F5-928B-616ADF63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F980F-3E2C-4D6B-BA1B-8FD22701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E958A-56C3-4121-95E5-09C19E0D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8FD-7A94-4F0C-AA0E-CF0A041B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9DDC3-B9D5-4972-8CBC-FBD3A6D7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F5CE3-699F-4842-B5B3-7D1FA2A3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9480F-E4F2-4940-8C02-5E56FE49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D5BAA-B149-44C7-8616-5C2EEBB9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222AA-7E78-44C4-B2A9-BBE3CE02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91974-FAA8-4E94-A9E0-E5614F2D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4491B-A866-45C3-BC4E-3C0C469F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1A968-675B-48A4-B6B3-7B547994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11D06-02DC-4A78-BE82-A4E87FB6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CE178-A59A-4394-89FB-5DC242EF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17B-D46B-48C0-8767-73030858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AFF9B-A8AB-4DFF-ACA3-DAE8D19B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85C1D-A724-40DC-A28E-2526D1D0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3865B-44C8-455B-8B1C-EB55B9D8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02EDF-DF1A-4FF2-BB87-48FD4CB2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EC901-FDAA-4A21-B982-39F22E2D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14A19-EF3E-4966-8E8D-2105E927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5A1E6-D2E3-444C-B081-4ACF1FB4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7D011-1102-4B67-8675-D5831E53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F9FF5-BC30-457E-9C23-0D7A77A2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15C32-B6D7-41C0-9260-C6E04ED9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C732-1CB0-4733-AA80-4D295BAF637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7518-24B9-4C37-AA9D-D25322C27A8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BDC8-34A2-4E8A-997F-5D9A2C19E70C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C07F-C010-4A13-A789-292553F3D9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00CB-D507-4EB7-B702-E9AFAE1AAB9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77B6-D441-4884-918C-EDBAF06DE00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2884-427D-42C1-AE28-022F241EA85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4D28-E19C-44AF-9722-60662A0F37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a5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5079-39BB-4FB9-96D6-89997881B7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20EB-0EC8-460D-9828-5F325C4DEBD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TextBox 6"/>
          <p:cNvGrpSpPr/>
          <p:nvPr/>
        </p:nvGrpSpPr>
        <p:grpSpPr>
          <a:xfrm>
            <a:off x="-60480" y="2328840"/>
            <a:ext cx="9259920" cy="1816200"/>
            <a:chOff x="-60480" y="2328840"/>
            <a:chExt cx="9259920" cy="1816200"/>
          </a:xfrm>
        </p:grpSpPr>
        <p:pic>
          <p:nvPicPr>
            <p:cNvPr id="411" name="TextBox 6" descr=""/>
            <p:cNvPicPr/>
            <p:nvPr/>
          </p:nvPicPr>
          <p:blipFill>
            <a:blip r:embed="rId2"/>
            <a:stretch/>
          </p:blipFill>
          <p:spPr>
            <a:xfrm>
              <a:off x="-60480" y="2328840"/>
              <a:ext cx="925992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0" y="2500200"/>
              <a:ext cx="914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2060"/>
                  </a:solidFill>
                  <a:latin typeface="Monotype Corsiva"/>
                </a:rPr>
                <a:t>Классный час :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2060"/>
                  </a:solidFill>
                  <a:latin typeface="Monotype Corsiva"/>
                </a:rPr>
                <a:t>"Судьба и Родина едины!"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Picture 10" descr="MCj04046430000[1]"/>
          <p:cNvPicPr/>
          <p:nvPr/>
        </p:nvPicPr>
        <p:blipFill>
          <a:blip r:embed="rId3"/>
          <a:stretch/>
        </p:blipFill>
        <p:spPr>
          <a:xfrm flipH="1" rot="343800">
            <a:off x="5094360" y="3629160"/>
            <a:ext cx="4057560" cy="320616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9"/>
          <p:cNvSpPr/>
          <p:nvPr/>
        </p:nvSpPr>
        <p:spPr>
          <a:xfrm>
            <a:off x="1000080" y="478620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Работа учеников 11 «А» класса , руководитель Сомко Еле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Arial"/>
              </a:rPr>
              <a:t>3 проект «Живые хранят память о павших.».</a:t>
            </a:r>
            <a:endParaRPr b="0" lang="en-US" sz="2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57160" y="642960"/>
            <a:ext cx="77868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аказ гражданину города-геро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«Помни: ты живешь на священной земле…  Знай и люби свой город, овеянный бессмертной трудовой и ратной славой, где каждый камень обильно полит кровью защитников Отечества, город, земля которого хранит священный прах многих и многих из них»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6" descr="about2_pic7_h.jpg"/>
          <p:cNvPicPr/>
          <p:nvPr/>
        </p:nvPicPr>
        <p:blipFill>
          <a:blip r:embed="rId1"/>
          <a:stretch/>
        </p:blipFill>
        <p:spPr>
          <a:xfrm>
            <a:off x="1428840" y="2357280"/>
            <a:ext cx="6491160" cy="428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Текст 3"/>
          <p:cNvGrpSpPr/>
          <p:nvPr/>
        </p:nvGrpSpPr>
        <p:grpSpPr>
          <a:xfrm>
            <a:off x="-6480" y="133200"/>
            <a:ext cx="9156960" cy="2372040"/>
            <a:chOff x="-6480" y="133200"/>
            <a:chExt cx="9156960" cy="2372040"/>
          </a:xfrm>
        </p:grpSpPr>
        <p:pic>
          <p:nvPicPr>
            <p:cNvPr id="446" name="Текст 3" descr=""/>
            <p:cNvPicPr/>
            <p:nvPr/>
          </p:nvPicPr>
          <p:blipFill>
            <a:blip r:embed="rId1"/>
            <a:stretch/>
          </p:blipFill>
          <p:spPr>
            <a:xfrm>
              <a:off x="-6480" y="133200"/>
              <a:ext cx="9156960" cy="23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0" y="142920"/>
              <a:ext cx="9144000" cy="23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лощадь Героев — центр военно-патриотического воспитани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 9 мая 1975 г. у мемориальной стены установлен комсомольско-пионерский Пост № 1. Одетые в форму военных моряков, юные новороссийцы несут почетный караул у могил павших героев. Здесь проводятся торжественные  линейки, слеты, митинги, воины принимают присягу на верность Родине. Отсюда начинается ежегодное факельное шествие молодых патриотов, посвященное высадке морского десанта на Малую землю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8" name="Рисунок 6" descr="3068.jpg"/>
          <p:cNvPicPr/>
          <p:nvPr/>
        </p:nvPicPr>
        <p:blipFill>
          <a:blip r:embed="rId2"/>
          <a:stretch/>
        </p:blipFill>
        <p:spPr>
          <a:xfrm>
            <a:off x="2071800" y="2714760"/>
            <a:ext cx="5429160" cy="3612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71360" y="142560"/>
            <a:ext cx="807228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 вахту памяти у поста № 1 заступают новые отряды юных армейцев — школьников, для которых побывать в почетном карауле у Вечного огня — большая честь. Командует ими капитан I ранга Виталий Лесик. Ему сейчас 92 года. Уже больше 30 лет ветеран стоит на самом важном капитанском мостике в своей жизни.</a:t>
            </a:r>
            <a:br>
              <a:rPr sz="2000"/>
            </a:br>
            <a:endParaRPr b="0" lang="en-US" sz="2000" spc="-1" strike="noStrike">
              <a:solidFill>
                <a:srgbClr val="676a55"/>
              </a:solidFill>
              <a:latin typeface="Arial"/>
            </a:endParaRPr>
          </a:p>
        </p:txBody>
      </p:sp>
      <p:pic>
        <p:nvPicPr>
          <p:cNvPr id="450" name="Picture 2" descr="C:\Users\Lena\Pictures\ЛИДЕРЫ 8-11 КЛАССЫ\Пост на площади героев.jpg"/>
          <p:cNvPicPr/>
          <p:nvPr/>
        </p:nvPicPr>
        <p:blipFill>
          <a:blip r:embed="rId1"/>
          <a:stretch/>
        </p:blipFill>
        <p:spPr>
          <a:xfrm>
            <a:off x="2071800" y="2286000"/>
            <a:ext cx="5621400" cy="4216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213920" y="4929120"/>
            <a:ext cx="7643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Форма с иголочки, до блеска начищенные ботинки и военная выправка. 92-летний ветеран Великой Отечественной войны Виталий Лесик чеканит строевой шаг лучше 17-летних подростков. Вот уже 34 года командир поста № 1 готовит школьников для почетного караула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C:\Users\Lena\Pictures\ЛИДЕРЫ 8-11 КЛАССЫ\Открытие месячника оборонно-массовой работы.JPG"/>
          <p:cNvPicPr/>
          <p:nvPr/>
        </p:nvPicPr>
        <p:blipFill>
          <a:blip r:embed="rId1"/>
          <a:stretch/>
        </p:blipFill>
        <p:spPr>
          <a:xfrm>
            <a:off x="2071800" y="1428840"/>
            <a:ext cx="6072120" cy="346068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3"/>
          <p:cNvSpPr/>
          <p:nvPr/>
        </p:nvSpPr>
        <p:spPr>
          <a:xfrm>
            <a:off x="1357200" y="169920"/>
            <a:ext cx="75009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152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Виталий Лесик 35 лет на своем по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14360" y="213840"/>
            <a:ext cx="448596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флексия</a:t>
            </a:r>
            <a:endParaRPr b="0" lang="en-US" sz="24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00080" y="1571760"/>
            <a:ext cx="814392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Благодаря участию в социальном проекте я узнал(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 проекте я был(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 результате участия в проекте я (могу, планирую, мечтаю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7" descr="solnet-ee-golub-1.gif"/>
          <p:cNvPicPr/>
          <p:nvPr/>
        </p:nvPicPr>
        <p:blipFill>
          <a:blip r:embed="rId1"/>
          <a:stretch/>
        </p:blipFill>
        <p:spPr>
          <a:xfrm>
            <a:off x="7500960" y="0"/>
            <a:ext cx="147492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1500120" y="13464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ить отношение молодежи к проблемам патриотизма и помочь стать позитивными творцами, так как молодежь сегодня – это Россия завт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формировать у школьников понятия и представления, связанные с патриотизм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ление результатов проектной деятельности класса по теме классного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Рисунок7"/>
          <p:cNvPicPr/>
          <p:nvPr/>
        </p:nvPicPr>
        <p:blipFill>
          <a:blip r:embed="rId1"/>
          <a:stretch/>
        </p:blipFill>
        <p:spPr>
          <a:xfrm>
            <a:off x="2428920" y="3714840"/>
            <a:ext cx="512928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"/>
          <p:cNvSpPr/>
          <p:nvPr/>
        </p:nvSpPr>
        <p:spPr>
          <a:xfrm>
            <a:off x="1214280" y="55800"/>
            <a:ext cx="7929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Monotype Corsiva"/>
                <a:ea typeface="Times New Roman"/>
              </a:rPr>
              <a:t>«Что значит быть патриот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Monotype Corsiv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33cc"/>
                </a:solidFill>
                <a:latin typeface="Monotype Corsiva"/>
                <a:ea typeface="Times New Roman"/>
              </a:rPr>
              <a:t>Любить – да, но не только любить землю свою, но и обязательно, что-то конкретное для нее делать.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Monotype Corsiva"/>
                <a:ea typeface="Calibri"/>
              </a:rPr>
              <a:t>Василий Роз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2043360" y="2857680"/>
            <a:ext cx="546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Подумай и ответ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6"/>
          <p:cNvSpPr/>
          <p:nvPr/>
        </p:nvSpPr>
        <p:spPr>
          <a:xfrm>
            <a:off x="2786040" y="3786120"/>
            <a:ext cx="521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пытайтесь самостоятельно охарактеризовать человека, который обладает чувством Родины и является патриото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9" descr="Рисунок8"/>
          <p:cNvPicPr/>
          <p:nvPr/>
        </p:nvPicPr>
        <p:blipFill>
          <a:blip r:embed="rId1"/>
          <a:stretch/>
        </p:blipFill>
        <p:spPr>
          <a:xfrm>
            <a:off x="285840" y="2786040"/>
            <a:ext cx="1571400" cy="4071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57240" y="571680"/>
            <a:ext cx="5486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Подумай и ответь…</a:t>
            </a:r>
            <a:br>
              <a:rPr sz="4000"/>
            </a:br>
            <a:endParaRPr b="0" lang="en-US" sz="4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71720" y="85680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"Патриотизм", "любовь к Родине", "Отчизны верные сыны"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8" descr="I_6264-2.jpg"/>
          <p:cNvPicPr/>
          <p:nvPr/>
        </p:nvPicPr>
        <p:blipFill>
          <a:blip r:embed="rId1"/>
          <a:stretch/>
        </p:blipFill>
        <p:spPr>
          <a:xfrm>
            <a:off x="1857240" y="2286000"/>
            <a:ext cx="6715440" cy="34322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1142640" y="214200"/>
            <a:ext cx="7643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«Там, где предается забвению культурное и историческое прошлое страны, неизменно начинается нравственное разложение нации«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"/>
          <p:cNvSpPr/>
          <p:nvPr/>
        </p:nvSpPr>
        <p:spPr>
          <a:xfrm>
            <a:off x="1143000" y="192924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33cc"/>
                </a:solidFill>
                <a:uFillTx/>
                <a:latin typeface="Arial"/>
                <a:ea typeface="Times New Roman"/>
              </a:rPr>
              <a:t>1 проект  «Уважение к прошлому своей стран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4500720" y="2286360"/>
            <a:ext cx="33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Данини Вален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13" descr="http://www.ballion.ru/uploads/posts/2012-04/thumbs/1335431759_x_c6794bb1.jpg"/>
          <p:cNvPicPr/>
          <p:nvPr/>
        </p:nvPicPr>
        <p:blipFill>
          <a:blip r:embed="rId1"/>
          <a:stretch/>
        </p:blipFill>
        <p:spPr>
          <a:xfrm>
            <a:off x="1109520" y="2408400"/>
            <a:ext cx="3279960" cy="430344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8"/>
          <p:cNvSpPr/>
          <p:nvPr/>
        </p:nvSpPr>
        <p:spPr>
          <a:xfrm>
            <a:off x="4286160" y="2714760"/>
            <a:ext cx="457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1943 году правительство Советского Союза уже было озабочено возрождением разрушенных городов. Был произведен набор архитекторов на должность руководителей городских отделов архитектуры. Так Данини оказался в Новороссийске. Как известно, город был сильно разрушен, и  согласно  Постановлению Совета Министров РСФСР был включен в список 15 наиболее пострадавших во время сражений и подлежащих первоочередному восстановлению городов России. В эти города были посланы специальные творческие группы, во главе которых стали маститые архитекторы. Так в Новороссийске оказалась группа под руководством  Бориса Иофана, которой было поручено разработать план, по которому отстраивался Новороссийск. Конечно, Данини работал в тесном контакте с группой Иофана. В заслугу ему можно поставить то, что он, по существу, подарил городу набережную. Ранее здесь проходило через все побережье до Малой земли железнодорожное полотн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13920" y="214200"/>
            <a:ext cx="75726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Новороссийская музыкальная школа № 1 носит имя Данини. Она названа в честь супруги архитектора Анны Сергеевны. В их семье царил дух творчества. Дом Данини был хлебосольным, здесь могли подкормить голодных студентов, утешить в беде. Проживала семья на улице Грибоедова, недалеко от центра </a:t>
            </a:r>
            <a:r>
              <a:rPr b="1" lang="ru-RU" sz="16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1143000" y="1896120"/>
            <a:ext cx="785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03030"/>
                </a:solidFill>
                <a:latin typeface="inherit"/>
                <a:ea typeface="Times New Roman"/>
              </a:rPr>
              <a:t>17 апреля исполнилось 110 лет со дня рождения архитектора Валентина Данини, с именем которого связано восстановление послевоенного Новороссийска. На посту главного архитектора города он находился целых десять лет, с 1944-го по 1954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5"/>
          <p:cNvSpPr/>
          <p:nvPr/>
        </p:nvSpPr>
        <p:spPr>
          <a:xfrm>
            <a:off x="1214280" y="3071880"/>
            <a:ext cx="77155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В Новороссийске оказалась группа под руководством Бориса Иофана, которой было поручено разработать план, по которому отстраивался бы будущий Новороссийск. Конечно, Данини работал в тесном контакте с группой Иоф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В заслугу ему можно поставить то, что он, по существу, подарил городу набережную. Ранее здесь проходило через все побережье до Малой земли железнодорожное полотно. Данини добился того, чтобы эту ветку ликвидиров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71360" y="4800600"/>
            <a:ext cx="8072280" cy="5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офан Борис Михайлович  – одна из наиболее ярких и значительных фигур в советской архитектуре 30- 40-х годов</a:t>
            </a:r>
            <a:r>
              <a:rPr b="1" lang="ru-RU" sz="2000" spc="-1" strike="noStrike">
                <a:solidFill>
                  <a:srgbClr val="676a55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676a55"/>
              </a:solidFill>
              <a:latin typeface="Arial"/>
            </a:endParaRPr>
          </a:p>
        </p:txBody>
      </p:sp>
      <p:pic>
        <p:nvPicPr>
          <p:cNvPr id="433" name="Рисунок 17" descr="http://www.ballion.ru/uploads/posts/2012-04/thumbs/1335432378_13-3.jpg"/>
          <p:cNvPicPr/>
          <p:nvPr/>
        </p:nvPicPr>
        <p:blipFill>
          <a:blip r:embed="rId1"/>
          <a:stretch/>
        </p:blipFill>
        <p:spPr>
          <a:xfrm>
            <a:off x="2762280" y="128520"/>
            <a:ext cx="3693960" cy="470556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4"/>
          <p:cNvSpPr/>
          <p:nvPr/>
        </p:nvSpPr>
        <p:spPr>
          <a:xfrm>
            <a:off x="2500200" y="5504400"/>
            <a:ext cx="6500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итулы Б. М. Иофан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Академик архитектуры СССР, почетный гражданин Нью – йорка, почетный член- корреспондент Королевского института британских архитекторов, дважды удостоен французского диплома «Гран- Пр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000080" y="142920"/>
            <a:ext cx="81439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Проект города, определяющий будущие контуры  восстанавливаемого Новороссийска, был утверждён Советом Министров РСФСР и вынесен на общее обсуждение.  Особое внимание некоторых критиков привлек проект центра, ибо в проекте центра наиболее остро выражен образ будущего Новороссийска и его архитектуры. Иофан считал, что Новороссийску нужен парадный  и красивый центр. Проектируя центральную часть города, архитектор, в первую очередь, ориентировался на богатства пространственного построения композиции и используя замечательную природу Новороссийска - и море и рельеф.</a:t>
            </a:r>
            <a:br>
              <a:rPr sz="1400"/>
            </a:b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В проекте Новороссийск был задуман как второй порт на Чёрном море, как крупнейший центр цементной промышленности СССР, как город, призванный дать представление приезжающему из других стран о Советском Союзе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4" descr="советов.jpg"/>
          <p:cNvPicPr/>
          <p:nvPr/>
        </p:nvPicPr>
        <p:blipFill>
          <a:blip r:embed="rId1"/>
          <a:stretch/>
        </p:blipFill>
        <p:spPr>
          <a:xfrm>
            <a:off x="1785960" y="2571840"/>
            <a:ext cx="6408720" cy="37400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0080" y="213840"/>
            <a:ext cx="814392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cc"/>
                </a:solidFill>
                <a:uFillTx/>
                <a:latin typeface="Arial"/>
              </a:rPr>
              <a:t>2 проект «Вера в возрождение России как сильной державы».</a:t>
            </a:r>
            <a:br>
              <a:rPr sz="2000"/>
            </a:br>
            <a:endParaRPr b="0" lang="en-US" sz="2000" spc="-1" strike="noStrike">
              <a:solidFill>
                <a:srgbClr val="676a55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357800" y="1071720"/>
            <a:ext cx="464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сперский Евгений Валентинович – специалист мирового уровня в области антивирусной защиты информации, один из основателей, ведущих разработчиков и крупнейших акционеров ЗАО «Лаборатория Касперского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сперский родился в Новороссийске, 4 октября 1965 года в семье архивного работника и инженера. С детства любимым занятием Евгения было решение математических задач. Сам он утверждает, что уже давно превратился в вычислительное и анализирующее устро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"/>
          <p:cNvSpPr/>
          <p:nvPr/>
        </p:nvSpPr>
        <p:spPr>
          <a:xfrm>
            <a:off x="1143000" y="61416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асперский Евгений Валенти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19" descr="http://www.ballion.ru/uploads/posts/2012-04/thumbs/1335432961_eugene_kaspersky_2007.jpg"/>
          <p:cNvPicPr/>
          <p:nvPr/>
        </p:nvPicPr>
        <p:blipFill>
          <a:blip r:embed="rId1"/>
          <a:stretch/>
        </p:blipFill>
        <p:spPr>
          <a:xfrm>
            <a:off x="1182600" y="1060560"/>
            <a:ext cx="3279960" cy="457812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3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4:24:24Z</dcterms:created>
  <dc:creator>Лена</dc:creator>
  <dc:description/>
  <dc:language>en-US</dc:language>
  <cp:lastModifiedBy>Lena</cp:lastModifiedBy>
  <dcterms:modified xsi:type="dcterms:W3CDTF">2012-06-05T15:35:54Z</dcterms:modified>
  <cp:revision>194</cp:revision>
  <dc:subject/>
  <dc:title>Воспитательные и организационные возможности урока при  работе с родителями учащихся класса</dc:title>
</cp:coreProperties>
</file>