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CF3-1AE5-4E7E-A9F9-8C09862A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3DA-C36E-462A-9394-3FD1BC9A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E6F-1E84-4B48-86C6-A031E9B8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F53-A67D-441D-A464-D57CFC4D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62EE-8366-4B53-852F-B88A7E30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4DD8-3347-4EF4-979D-1A2A69FC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320E-FB22-47D4-A430-471D6FE3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1005-A806-4B4A-AD4A-9DBE971A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F708-2809-44FE-8E3B-770AF67B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7E85-F38D-4956-B3B1-BAC4FF09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2F7-A099-433C-A5FF-72E95867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EDA-137E-4ADA-8260-78279D82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2A10-624C-4D0B-AB98-C5BBEAA6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A0C6-74C2-4A8F-9F1E-46A39BA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0D2E-7ECF-49E6-92E1-44093129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9957-9C92-4E70-8730-A8EBC10F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555F-4506-421C-AC28-0B8916B7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8A6-71EC-464C-9380-40CD867D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07E-0454-4455-ABD1-70CDEA1A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EE5-5FDE-4262-9DC9-8A7399C7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E03-42F3-4405-9ACB-D41350DF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46D-E1BB-4FE6-B6BE-ED45994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1A5-86EC-4BAD-A1A0-6A7D5C5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78A-BF0B-494E-A6AD-106E3560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9AD4-BE6D-4461-AD6C-4DA352B05BB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D136-4EF4-4572-9C32-8655CEDF40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Проект  2 класса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МОУ СОШ № 30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bf39"/>
                </a:solidFill>
                <a:latin typeface="Arial"/>
              </a:rPr>
              <a:t>«Уход за комнатными раст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03236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4248360" cy="3114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00720" y="54936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еродендр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213000"/>
            <a:ext cx="13347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Устинова Алё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лиана по сути, очень быстро раст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ли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если ее обрезать постоян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кустится и цветет как на фо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долго, сначала бел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ом розовеют, потом зелене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1"/>
          <p:cNvSpPr/>
          <p:nvPr/>
        </p:nvSpPr>
        <p:spPr>
          <a:xfrm>
            <a:off x="468360" y="476280"/>
            <a:ext cx="2619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33"/>
                </a:solidFill>
                <a:uFillTx/>
                <a:latin typeface="Garamond"/>
              </a:rPr>
              <a:t>Денежное дерево</a:t>
            </a:r>
            <a:r>
              <a:rPr b="0" lang="en-US" sz="2000" spc="-1" strike="noStrike" u="sng">
                <a:solidFill>
                  <a:srgbClr val="006633"/>
                </a:solidFill>
                <a:uFillTx/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DSC02529.JPG"/>
          <p:cNvPicPr/>
          <p:nvPr/>
        </p:nvPicPr>
        <p:blipFill>
          <a:blip r:embed="rId1"/>
          <a:stretch/>
        </p:blipFill>
        <p:spPr>
          <a:xfrm>
            <a:off x="539640" y="1052640"/>
            <a:ext cx="2617920" cy="242892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4"/>
          <p:cNvSpPr/>
          <p:nvPr/>
        </p:nvSpPr>
        <p:spPr>
          <a:xfrm>
            <a:off x="3635280" y="907920"/>
            <a:ext cx="32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Мое любимое комнатное растение называется денежное дерево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70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о так называется потому, что похоже на дерево. У него, как и у дерева есть ствол, ветки и лист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5" descr="DSC02539.JPG"/>
          <p:cNvPicPr/>
          <p:nvPr/>
        </p:nvPicPr>
        <p:blipFill>
          <a:blip r:embed="rId2"/>
          <a:stretch/>
        </p:blipFill>
        <p:spPr>
          <a:xfrm>
            <a:off x="7093080" y="549360"/>
            <a:ext cx="1577880" cy="1871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48000" y="299736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ежным  его называют потому, что его листья похожи на мон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DSC02537.JPG"/>
          <p:cNvPicPr/>
          <p:nvPr/>
        </p:nvPicPr>
        <p:blipFill>
          <a:blip r:embed="rId3"/>
          <a:stretch/>
        </p:blipFill>
        <p:spPr>
          <a:xfrm>
            <a:off x="5364000" y="2637000"/>
            <a:ext cx="2664000" cy="1757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3645000"/>
            <a:ext cx="28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растение было привезено из Африки, поэтому оно любит свет и его не надо часто поли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этим растением в нашей семье ухаживает мама. Я его только полив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целуйко Алё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0" y="333360"/>
            <a:ext cx="187164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Заголовок 3" descr=""/>
          <p:cNvPicPr/>
          <p:nvPr/>
        </p:nvPicPr>
        <p:blipFill>
          <a:blip r:embed="rId2">
            <a:lum bright="-70000"/>
          </a:blip>
          <a:stretch/>
        </p:blipFill>
        <p:spPr>
          <a:xfrm>
            <a:off x="0" y="1197000"/>
            <a:ext cx="4356000" cy="7920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100_0892.JPG"/>
          <p:cNvPicPr/>
          <p:nvPr/>
        </p:nvPicPr>
        <p:blipFill>
          <a:blip r:embed="rId3"/>
          <a:stretch/>
        </p:blipFill>
        <p:spPr>
          <a:xfrm>
            <a:off x="755640" y="191628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126" name="Заголовок 7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148360" y="260280"/>
            <a:ext cx="251928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Текст 9"/>
          <p:cNvSpPr/>
          <p:nvPr/>
        </p:nvSpPr>
        <p:spPr>
          <a:xfrm>
            <a:off x="4140360" y="1700280"/>
            <a:ext cx="188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 Black"/>
              </a:rPr>
              <a:t>Фиалки </a:t>
            </a: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не</a:t>
            </a:r>
            <a:r>
              <a:rPr b="0" lang="ru-RU" sz="1500" spc="-1" strike="noStrike">
                <a:solidFill>
                  <a:srgbClr val="ff9900"/>
                </a:solidFill>
                <a:latin typeface="Arial Black"/>
              </a:rPr>
              <a:t> любят солнечный св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Они быстро обгараю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Заголовок 6" descr=""/>
          <p:cNvPicPr/>
          <p:nvPr/>
        </p:nvPicPr>
        <p:blipFill>
          <a:blip r:embed="rId5">
            <a:lum bright="-84000"/>
          </a:blip>
          <a:stretch/>
        </p:blipFill>
        <p:spPr>
          <a:xfrm>
            <a:off x="0" y="3645000"/>
            <a:ext cx="363528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Текст 8"/>
          <p:cNvSpPr/>
          <p:nvPr/>
        </p:nvSpPr>
        <p:spPr>
          <a:xfrm>
            <a:off x="-181080" y="4653000"/>
            <a:ext cx="411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87000"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За фиалками ухаживает  мама , я ей часто помогаю поливать цве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476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aa8b"/>
                </a:solidFill>
                <a:latin typeface="Arial"/>
              </a:rPr>
              <a:t>Саблина 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Заголовок 4" descr="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5651640" y="3213000"/>
            <a:ext cx="3149640" cy="97020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7" descr="Фото080.jpg"/>
          <p:cNvPicPr/>
          <p:nvPr/>
        </p:nvPicPr>
        <p:blipFill>
          <a:blip r:embed="rId7"/>
          <a:stretch/>
        </p:blipFill>
        <p:spPr>
          <a:xfrm>
            <a:off x="5364000" y="3860640"/>
            <a:ext cx="11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4" descr="Фото035.jpg"/>
          <p:cNvPicPr/>
          <p:nvPr/>
        </p:nvPicPr>
        <p:blipFill>
          <a:blip r:embed="rId8"/>
          <a:stretch/>
        </p:blipFill>
        <p:spPr>
          <a:xfrm>
            <a:off x="7780320" y="3716280"/>
            <a:ext cx="1363680" cy="181944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5" descr="Фото102.jpg"/>
          <p:cNvPicPr/>
          <p:nvPr/>
        </p:nvPicPr>
        <p:blipFill>
          <a:blip r:embed="rId9"/>
          <a:stretch/>
        </p:blipFill>
        <p:spPr>
          <a:xfrm>
            <a:off x="3924360" y="3213000"/>
            <a:ext cx="1353960" cy="180504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4" descr="Фото101.jpg"/>
          <p:cNvPicPr/>
          <p:nvPr/>
        </p:nvPicPr>
        <p:blipFill>
          <a:blip r:embed="rId10"/>
          <a:stretch/>
        </p:blipFill>
        <p:spPr>
          <a:xfrm>
            <a:off x="3995640" y="5084640"/>
            <a:ext cx="1190880" cy="1587600"/>
          </a:xfrm>
          <a:prstGeom prst="rect">
            <a:avLst/>
          </a:prstGeom>
          <a:ln w="0">
            <a:noFill/>
          </a:ln>
        </p:spPr>
      </p:pic>
      <p:pic>
        <p:nvPicPr>
          <p:cNvPr id="136" name="Содержимое 8" descr="Фото056.jpg"/>
          <p:cNvPicPr/>
          <p:nvPr/>
        </p:nvPicPr>
        <p:blipFill>
          <a:blip r:embed="rId11"/>
          <a:stretch/>
        </p:blipFill>
        <p:spPr>
          <a:xfrm>
            <a:off x="6516720" y="4581360"/>
            <a:ext cx="12999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664000" cy="259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40360" y="765000"/>
            <a:ext cx="4319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стинова Алё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щивают глоксинии на подоконниках, где они замечательно растут. Эти замечательные цветочки в летнюю пору могут цвести до 4-х меся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ход за глоксинией сводится к нескольким правилам. Для нее необходима умеренная влажность, при этом ее не стоит опрыскивать, так как могут испортиться листья.  Поливать надо регулярно, лучше использовать нижний по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ой у глоксинии период покоя – все повядшие листочки необходимо удалить. Горшок стоит поставить в темное место, понизив температур до 15 градусов. Такой период покоя длиться до 4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887640" cy="345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59280" y="333360"/>
            <a:ext cx="37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Устинова Алё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ица предпочитает интенсивный рассеянный свет. В летнее время следует притенять от прямых солнечных лучей, а в зимнее время можно даже немного досвечивать, если стоит преимущественно пасмурная по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 оптимальная температура 20-25°С, обильный полив и опрыскивания, каждые 2-3 недели комплексные подкормки. Зимой у растения наступает период покоя, полив нужно немного сократить и понизить температуру (в зависимости от вида рекомендуется зимняя температура 12-18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1777680" cy="1333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1777680" cy="1333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64000" y="765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опокова 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все кактусы растут очень медл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корневая система и ткани не могут быстро усваивать большое количество питательных веществ и воды из окружающей среды, и как следствие этого не могут быстро образовывать прирост.Кроме того все кактусы имеют ярко выраженные периоды покоя, роста и цве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4200" y="355320"/>
            <a:ext cx="76975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Garamond"/>
              </a:rPr>
              <a:t>Главная цель: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мочь учителю выявить психофизиологическую готовность каждого ребенка к обучению, степень адаптации ребенка в школ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азвитие реч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ормирование умения пользоваться справочной литературо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накомство с комнатными растениями, условиями их произрастания, способами ухода за растения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784692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Продолжительность (планируемая по проекту в целом):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Ресурсы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, справочники, энциклопедии, слов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Люди :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, ученики, 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Организация деятельности: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ая, фронт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Оборудовани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нтер,проэктор, фотоаппарат, комнатные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 Black"/>
              </a:rPr>
              <a:t>Система оценивания, подведение итогов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бальная оценка, эмоциональное восприятие одноклассников, выставка работ, классная миниэнциклопедия «Растения на подоконнике»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02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ПЛАНИРУЕМЫЕ РЕЗУЛЬТАТЫ НАЧАЛЬНОГО ОБЩЕГО ОБРАЗОВАНИЯ.</a:t>
            </a:r>
            <a:br>
              <a:rPr sz="2000"/>
            </a:b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ПРОГРАММА ФОРМИРОВАНИЯ УНИВЕРСАЛЬНЫХ УЧЕБНЫХ ДЕЙСТВИЙ</a:t>
            </a:r>
            <a:br>
              <a:rPr sz="1800"/>
            </a:b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(ЛИЧНОСТНЫЕ И МЕТАПРЕДМЕТНЫЕ РЕЗУЛЬТАТЫ)</a:t>
            </a:r>
            <a:br>
              <a:rPr sz="18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240" y="1919160"/>
            <a:ext cx="7691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Раздел «Личностные универсальные учебные действи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нутренняя позиция школьника на уровне положительного отношения к школе, ориентации на содержательные моменты школьной действительности и принятия образца «хорошего  ученика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иентация на понимание причин успеха в учебной деятель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ебно-познавательный интерес к новому учебному материалу и способам решения новой частной задач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Раздел «Регулятивные универсальные учебные действи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ланировать свое действие в соответствии с поставленной  задачей и условиями ее реализации, в том числе во внутреннем пла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ыполнять учебные действия в материализованно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ромкоречевой и умственной форм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7840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ff"/>
                </a:solidFill>
                <a:latin typeface="Arial"/>
              </a:rPr>
              <a:t>Раздел «Познавательные</a:t>
            </a: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ff"/>
                </a:solidFill>
                <a:latin typeface="Arial"/>
              </a:rPr>
              <a:t>универсальные учеб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ff"/>
                </a:solidFill>
                <a:latin typeface="Arial"/>
              </a:rPr>
              <a:t>действ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ять поиск необходимой информации для выполнения учебных зада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ь речевое высказывание в устной и письмен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Раздел «Коммуникативные универсальные учеб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действ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вать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о использовать речевые средства для решения различных коммуникатив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ь монологическое высказывание, владеть диалогической форм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План проведения:</a:t>
            </a:r>
            <a:br>
              <a:rPr sz="2000"/>
            </a:br>
            <a:br>
              <a:rPr sz="3800"/>
            </a:b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1 урок: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знакомство с растениями классного зелёного уголка, тренировка в распознавании комнатных растений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распределение по группам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источники информации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планирование работы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2 урок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сбор  фактического материала, подбор и создание материалов изобразительного ряда (рисунки, фотографии)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составление и оформление личной странички  будущей миниэнциклопедии;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 урок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отчёты,( рассказы, презентации) участников групп, обсуждение и оценка работ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380360" y="549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Мороз Серг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2592360" cy="2592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08360" y="1557360"/>
            <a:ext cx="3672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геранью достаточно легко ухажива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ножать, она очень долго, оби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расиво цветет. Помимо красо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порадует вас своими полез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йствами. Её листья выделя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цидные вещества, котор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бивают микробы (считается, ч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борется даже с бактериями стафилококк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пугивает насекомых, обладает противоотечны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септическим, мочегонны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воостанавливающим действием. А мас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ани является прекрасным релаксант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 его часто используют в ароматерап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00000" y="692280"/>
            <a:ext cx="367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Фикус Бенджам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Рисунок 10" descr="фикус бенджамина copy.jpg"/>
          <p:cNvPicPr/>
          <p:nvPr/>
        </p:nvPicPr>
        <p:blipFill>
          <a:blip r:embed="rId1"/>
          <a:stretch/>
        </p:blipFill>
        <p:spPr>
          <a:xfrm>
            <a:off x="250920" y="1268280"/>
            <a:ext cx="2438280" cy="3057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фикус бенджамина 2.jpg"/>
          <p:cNvPicPr/>
          <p:nvPr/>
        </p:nvPicPr>
        <p:blipFill>
          <a:blip r:embed="rId2"/>
          <a:stretch/>
        </p:blipFill>
        <p:spPr>
          <a:xfrm>
            <a:off x="3924360" y="1484280"/>
            <a:ext cx="2257200" cy="22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8000" y="3850560"/>
            <a:ext cx="5704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Устинова Алё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большое дерево, ствол переплетается, листьев много, опадают, но очень мало, листья зеленые с белыми пятнами, а с другой стороны они светло-зеле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кус Бенджамина не цветет и не пахнет. Это растение любит свет, поэтому стоит у нас на подоконнике, но он не любит яркого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поливаю фикус Бенджамина раз в неделю, а еще иногда мою его душем в ван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292720" y="33372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92720" y="33372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92720" y="33228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5475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4500720" y="333360"/>
            <a:ext cx="131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лиана по су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4525920" y="476280"/>
            <a:ext cx="132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лиана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7:58:23Z</dcterms:created>
  <dc:creator>Марина</dc:creator>
  <dc:description/>
  <dc:language>en-US</dc:language>
  <cp:lastModifiedBy>Наталья</cp:lastModifiedBy>
  <dcterms:modified xsi:type="dcterms:W3CDTF">2012-06-05T00:47:58Z</dcterms:modified>
  <cp:revision>44</cp:revision>
  <dc:subject/>
  <dc:title>Проэкт 1 класса «Б» ГОУ СОШ №1623</dc:title>
</cp:coreProperties>
</file>