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8ED-114B-46FF-B2FA-C5989DE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5DA-F1AA-434B-AA09-E6BAE559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970-B1E8-44DA-8F84-73DB285B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59E-6A08-4185-9C6A-5C296AB8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AB9A-44DA-4C50-ACAA-E969A7CD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83AC-38B2-4D61-AC16-D8C3BA11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A132-6451-45A4-8BE6-72F2A522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970B-495C-49F5-B4E5-428675B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7B3E-421D-448C-AE4A-61BCEA5A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E8C1-5E05-4F31-90B6-1CE1FD79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559C-E19B-46AE-A608-F775858D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14C-5DC9-4D9F-8C80-12B87DE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681-4439-41BE-8B5D-7B2C370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B38-E84F-4A5F-A58F-DD2401D2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4675-AC16-401D-856B-0705DC31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919C-E7AB-48EB-AE5E-83CD384B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286-8BF3-460F-863E-DD866C37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111-28CB-4AEB-B3A1-2E9E7929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D8D-F5C8-4391-AE79-FD8EC49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3B8-3EBA-4472-9E02-DEE34670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B4F-1D3C-4B7E-813C-6ECA88F5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B90-205D-4122-AC46-1D2CF1BE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306-3446-4633-A8DE-07311F18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C518-0123-48AE-9643-0AB52FEC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04B5-3ADC-442B-BF34-31A480D162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BD5-09BD-4DFB-A8E1-7C4B92A7A7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роект  2 класса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МОУ СОШ № 30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bf39"/>
                </a:solidFill>
                <a:latin typeface="Arial"/>
              </a:rPr>
              <a:t>«Уход за комнатными раст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03236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248360" cy="3114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00720" y="54936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леродендро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213000"/>
            <a:ext cx="13347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сути, очень быстро рас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лин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если ее обрезать постоян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кустится и цветет как на фот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долго, сначала бел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ом розовеют, потом зелене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Заголовок 1"/>
          <p:cNvSpPr/>
          <p:nvPr/>
        </p:nvSpPr>
        <p:spPr>
          <a:xfrm>
            <a:off x="468360" y="476280"/>
            <a:ext cx="261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33"/>
                </a:solidFill>
                <a:uFillTx/>
                <a:latin typeface="Garamond"/>
              </a:rPr>
              <a:t>Денежное дерево</a:t>
            </a:r>
            <a:r>
              <a:rPr b="0" lang="en-US" sz="2000" spc="-1" strike="noStrike" u="sng">
                <a:solidFill>
                  <a:srgbClr val="006633"/>
                </a:solidFill>
                <a:uFillTx/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DSC02529.JPG"/>
          <p:cNvPicPr/>
          <p:nvPr/>
        </p:nvPicPr>
        <p:blipFill>
          <a:blip r:embed="rId1"/>
          <a:stretch/>
        </p:blipFill>
        <p:spPr>
          <a:xfrm>
            <a:off x="539640" y="1052640"/>
            <a:ext cx="2617920" cy="242892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4"/>
          <p:cNvSpPr/>
          <p:nvPr/>
        </p:nvSpPr>
        <p:spPr>
          <a:xfrm>
            <a:off x="3635280" y="907920"/>
            <a:ext cx="32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Мое любимое комнатное растение называется денежное дерево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70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 так называется потому, что похоже на дерево. У него, как и у дерева есть ствол, ветки и лист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15" descr="DSC02539.JPG"/>
          <p:cNvPicPr/>
          <p:nvPr/>
        </p:nvPicPr>
        <p:blipFill>
          <a:blip r:embed="rId2"/>
          <a:stretch/>
        </p:blipFill>
        <p:spPr>
          <a:xfrm>
            <a:off x="7093080" y="549360"/>
            <a:ext cx="1577880" cy="1871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48000" y="299736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ежным  его называют потому, что его листья похожи на моне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DSC02537.JPG"/>
          <p:cNvPicPr/>
          <p:nvPr/>
        </p:nvPicPr>
        <p:blipFill>
          <a:blip r:embed="rId3"/>
          <a:stretch/>
        </p:blipFill>
        <p:spPr>
          <a:xfrm>
            <a:off x="5364000" y="2637000"/>
            <a:ext cx="2664000" cy="1757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3645000"/>
            <a:ext cx="28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астение было привезено из Африки, поэтому оно любит свет и его не надо часто пол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этим растением в нашей семье ухаживает мама. Я его только полив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6360" y="333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целуйко Алё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187164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Заголовок 3" descr=""/>
          <p:cNvPicPr/>
          <p:nvPr/>
        </p:nvPicPr>
        <p:blipFill>
          <a:blip r:embed="rId2">
            <a:lum bright="-70000"/>
          </a:blip>
          <a:stretch/>
        </p:blipFill>
        <p:spPr>
          <a:xfrm>
            <a:off x="0" y="1197000"/>
            <a:ext cx="4356000" cy="792000"/>
          </a:xfrm>
          <a:prstGeom prst="rect">
            <a:avLst/>
          </a:prstGeom>
          <a:ln w="0">
            <a:noFill/>
          </a:ln>
        </p:spPr>
      </p:pic>
      <p:pic>
        <p:nvPicPr>
          <p:cNvPr id="125" name="Содержимое 7" descr="100_0892.JPG"/>
          <p:cNvPicPr/>
          <p:nvPr/>
        </p:nvPicPr>
        <p:blipFill>
          <a:blip r:embed="rId3"/>
          <a:stretch/>
        </p:blipFill>
        <p:spPr>
          <a:xfrm>
            <a:off x="755640" y="1916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26" name="Заголовок 7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5148360" y="260280"/>
            <a:ext cx="251928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Текст 9"/>
          <p:cNvSpPr/>
          <p:nvPr/>
        </p:nvSpPr>
        <p:spPr>
          <a:xfrm>
            <a:off x="4140360" y="1700280"/>
            <a:ext cx="1882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9900"/>
                </a:solidFill>
                <a:latin typeface="Arial Black"/>
              </a:rPr>
              <a:t>Фиалки </a:t>
            </a:r>
            <a:r>
              <a:rPr b="0" lang="ru-RU" sz="1500" spc="-1" strike="noStrike">
                <a:solidFill>
                  <a:srgbClr val="ff9900"/>
                </a:solidFill>
                <a:latin typeface="Arial"/>
              </a:rPr>
              <a:t>не</a:t>
            </a:r>
            <a:r>
              <a:rPr b="0" lang="ru-RU" sz="1500" spc="-1" strike="noStrike">
                <a:solidFill>
                  <a:srgbClr val="ff9900"/>
                </a:solidFill>
                <a:latin typeface="Arial Black"/>
              </a:rPr>
              <a:t> любят солнечный св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Они быстро обгараю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Заголовок 6" descr=""/>
          <p:cNvPicPr/>
          <p:nvPr/>
        </p:nvPicPr>
        <p:blipFill>
          <a:blip r:embed="rId5">
            <a:lum bright="-84000"/>
          </a:blip>
          <a:stretch/>
        </p:blipFill>
        <p:spPr>
          <a:xfrm>
            <a:off x="0" y="3645000"/>
            <a:ext cx="363528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Текст 8"/>
          <p:cNvSpPr/>
          <p:nvPr/>
        </p:nvSpPr>
        <p:spPr>
          <a:xfrm>
            <a:off x="-181080" y="4653000"/>
            <a:ext cx="411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 fontScale="87000"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За фиалками ухаживает  мама , я ей часто помогаю поливать цве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476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aa8b"/>
                </a:solidFill>
                <a:latin typeface="Arial"/>
              </a:rPr>
              <a:t>Саблин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Заголовок 4" descr=""/>
          <p:cNvPicPr/>
          <p:nvPr/>
        </p:nvPicPr>
        <p:blipFill>
          <a:blip r:embed="rId6">
            <a:lum bright="-30000"/>
          </a:blip>
          <a:stretch/>
        </p:blipFill>
        <p:spPr>
          <a:xfrm>
            <a:off x="5651640" y="3213000"/>
            <a:ext cx="3149640" cy="97020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7" descr="Фото080.jpg"/>
          <p:cNvPicPr/>
          <p:nvPr/>
        </p:nvPicPr>
        <p:blipFill>
          <a:blip r:embed="rId7"/>
          <a:stretch/>
        </p:blipFill>
        <p:spPr>
          <a:xfrm>
            <a:off x="5364000" y="3860640"/>
            <a:ext cx="11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4" descr="Фото035.jpg"/>
          <p:cNvPicPr/>
          <p:nvPr/>
        </p:nvPicPr>
        <p:blipFill>
          <a:blip r:embed="rId8"/>
          <a:stretch/>
        </p:blipFill>
        <p:spPr>
          <a:xfrm>
            <a:off x="7780320" y="3716280"/>
            <a:ext cx="1363680" cy="181944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5" descr="Фото102.jpg"/>
          <p:cNvPicPr/>
          <p:nvPr/>
        </p:nvPicPr>
        <p:blipFill>
          <a:blip r:embed="rId9"/>
          <a:stretch/>
        </p:blipFill>
        <p:spPr>
          <a:xfrm>
            <a:off x="3924360" y="3213000"/>
            <a:ext cx="1353960" cy="18050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Фото101.jpg"/>
          <p:cNvPicPr/>
          <p:nvPr/>
        </p:nvPicPr>
        <p:blipFill>
          <a:blip r:embed="rId10"/>
          <a:stretch/>
        </p:blipFill>
        <p:spPr>
          <a:xfrm>
            <a:off x="3995640" y="5084640"/>
            <a:ext cx="1190880" cy="1587600"/>
          </a:xfrm>
          <a:prstGeom prst="rect">
            <a:avLst/>
          </a:prstGeom>
          <a:ln w="0">
            <a:noFill/>
          </a:ln>
        </p:spPr>
      </p:pic>
      <p:pic>
        <p:nvPicPr>
          <p:cNvPr id="136" name="Содержимое 8" descr="Фото056.jpg"/>
          <p:cNvPicPr/>
          <p:nvPr/>
        </p:nvPicPr>
        <p:blipFill>
          <a:blip r:embed="rId11"/>
          <a:stretch/>
        </p:blipFill>
        <p:spPr>
          <a:xfrm>
            <a:off x="6516720" y="4581360"/>
            <a:ext cx="129996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2664000" cy="2592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40360" y="765000"/>
            <a:ext cx="4319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щивают глоксинии на подоконниках, где они замечательно растут. Эти замечательные цветочки в летнюю пору могут цвести до 4-х меся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ход за глоксинией сводится к нескольким правилам. Для нее необходима умеренная влажность, при этом ее не стоит опрыскивать, так как могут испортиться листья.  Поливать надо регулярно, лучше использовать нижний пол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ой у глоксинии период покоя – все повядшие листочки необходимо удалить. Горшок стоит поставить в темное место, понизив температур до 15 градусов. Такой период покоя длиться до 4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887640" cy="3456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9280" y="333360"/>
            <a:ext cx="37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Устин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ица предпочитает интенсивный рассеянный свет. В летнее время следует притенять от прямых солнечных лучей, а в зимнее время можно даже немного досвечивать, если стоит преимущественно пасмурная по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 оптимальная температура 20-25°С, обильный полив и опрыскивания, каждые 2-3 недели комплексные подкормки. Зимой у растения наступает период покоя, полив нужно немного сократить и понизить температуру (в зависимости от вида рекомендуется зимняя температура 12-18°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1777680" cy="1333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1777680" cy="1333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564000" y="765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опокова 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все кактусы растут очень медл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корневая система и ткани не могут быстро усваивать большое количество питательных веществ и воды из окружающей среды, и как следствие этого не могут быстро образовывать прирост.Кроме того все кактусы имеют ярко выраженные периоды покоя, роста и цве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4200" y="355320"/>
            <a:ext cx="76975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Garamond"/>
              </a:rPr>
              <a:t>Главная цель: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мочь учителю выявить психофизиологическую готовность каждого ребенка к обучению, степень адаптации ребенка в школ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азвитие реч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формирование умения пользоваться справочной литератур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накомство с комнатными растениями, условиями их произрастания, способами ухода за растениям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784692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Продолжительность (планируемая по проекту в целом)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Ресурсы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ья, справочники, энциклопедии, слов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юди 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, ученики, 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Организация деятельности: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ая, фро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Оборудовани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нтер,проэктор, фотоаппарат, комнатны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 Black"/>
              </a:rPr>
              <a:t>Система оценивания, подведение итогов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бальная оценка, эмоциональное восприятие одноклассников, выставка работ, классная миниэнциклопедия «Растения на подоконнике»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025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Garamond"/>
              </a:rPr>
              <a:t>ПЛАНИРУЕМЫЕ РЕЗУЛЬТАТЫ НАЧАЛЬНОГО ОБЩЕГО ОБРАЗОВАНИЯ.</a:t>
            </a:r>
            <a:br>
              <a:rPr sz="2000"/>
            </a:b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ПРОГРАММА ФОРМИРОВАНИЯ УНИВЕРСАЛЬНЫХ УЧЕБНЫХ ДЕЙСТВИЙ</a:t>
            </a:r>
            <a:br>
              <a:rPr sz="1800"/>
            </a:br>
            <a:r>
              <a:rPr b="1" lang="en-US" sz="1800" spc="-1" strike="noStrike">
                <a:solidFill>
                  <a:srgbClr val="333333"/>
                </a:solidFill>
                <a:latin typeface="Garamond"/>
              </a:rPr>
              <a:t>(ЛИЧНОСТНЫЕ И МЕТАПРЕДМЕТНЫЕ РЕЗУЛЬТАТЫ)</a:t>
            </a:r>
            <a:br>
              <a:rPr sz="1800"/>
            </a:b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71240" y="1919160"/>
            <a:ext cx="7691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Раздел «Личностные универсальные учебные действ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нутренняя позиция школьника на уровне положительного отношения к школе, ориентации на содержательные моменты школьной действительности и принятия образца «хорошего  ученика»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иентация на понимание причин успеха в учебн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ебно-познавательный интерес к новому учебному материалу и способам решения новой частной задач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Раздел «Регулятивные универсальные учебные действи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анировать свое действие в соответствии с поставленной  задачей и условиями ее реализации, в том числе во внутреннем пла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ыполнять учебные действия в материализованной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ромкоречевой и умственной форм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840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Раздел «Познавательные</a:t>
            </a: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универсальные учеб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действ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ть поиск необходимой информации для выполнения учебных задан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ь речевое высказывание в устной и письмен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Раздел «Коммуникативные универсальные учеб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действ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вать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о использовать речевые средства для решения различных коммуникатив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ь монологическое высказывание, владеть диалогической формой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План проведения:</a:t>
            </a:r>
            <a:br>
              <a:rPr sz="2000"/>
            </a:br>
            <a:br>
              <a:rPr sz="38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1 урок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знакомство с растениями классного зелёного уголка, тренировка в распознавании комнатных растений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распределение по группам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источники информации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планирование работы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2 урок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сбор  фактического материала, подбор и создание материалов изобразительного ряда (рисунки, фотографии)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составление и оформление личной странички  будущей миниэнциклопедии;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урок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отчёты,( рассказы, презентации) участников групп, обсуждение и оценка работ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380360" y="549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Мороз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8360" y="1557360"/>
            <a:ext cx="3672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геранью достаточно легко ухаживат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ножать, она очень долго, оби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асиво цветет. Помимо красо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порадует вас своими полез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ствами. Её листья выделяю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цидные вещества, котор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ивают микробы (считается, ч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борется даже с бактериями стафилококк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пугивает насекомых, обладает противоотечны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септическим, мочегонны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воостанавливающим действием. А мас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рани является прекрасным релаксан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 его часто используют в ароматерап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00000" y="692280"/>
            <a:ext cx="367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Фикус Бенджам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Рисунок 10" descr="фикус бенджамина copy.jpg"/>
          <p:cNvPicPr/>
          <p:nvPr/>
        </p:nvPicPr>
        <p:blipFill>
          <a:blip r:embed="rId1"/>
          <a:stretch/>
        </p:blipFill>
        <p:spPr>
          <a:xfrm>
            <a:off x="250920" y="1268280"/>
            <a:ext cx="2438280" cy="3057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фикус бенджамина 2.jpg"/>
          <p:cNvPicPr/>
          <p:nvPr/>
        </p:nvPicPr>
        <p:blipFill>
          <a:blip r:embed="rId2"/>
          <a:stretch/>
        </p:blipFill>
        <p:spPr>
          <a:xfrm>
            <a:off x="3924360" y="1484280"/>
            <a:ext cx="2257200" cy="2257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08000" y="3850560"/>
            <a:ext cx="570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Устинова Алё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ое дерево, ствол переплетается, листьев много, опадают, но очень мало, листья зеленые с белыми пятнами, а с другой стороны они светло-зеле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кус Бенджамина не цветет и не пахнет. Это растение любит свет, поэтому стоит у нас на подоконнике, но он не любит яркого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поливаю фикус Бенджамина раз в неделю, а еще иногда мою его душем в ван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292720" y="33372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92720" y="33372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292720" y="3322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5475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4500720" y="333360"/>
            <a:ext cx="131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су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4525920" y="476280"/>
            <a:ext cx="132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лиана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07:58:23Z</dcterms:created>
  <dc:creator>Марина</dc:creator>
  <dc:description/>
  <dc:language>en-US</dc:language>
  <cp:lastModifiedBy>Наталья</cp:lastModifiedBy>
  <dcterms:modified xsi:type="dcterms:W3CDTF">2012-06-05T00:47:58Z</dcterms:modified>
  <cp:revision>44</cp:revision>
  <dc:subject/>
  <dc:title>Проэкт 1 класса «Б» ГОУ СОШ №1623</dc:title>
</cp:coreProperties>
</file>