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01B-8304-4E61-92C0-C74464EF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B7E-A350-4703-86FB-86803D97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8D5CAE-B21C-403B-B12A-C55182D9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5BA460-1C01-42AA-A60C-530C06B9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6ECC91-49B1-4B6A-BB38-63C3E3DF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E92604-0EFD-4771-8EEF-80A14BA8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007B26-194A-4E94-BF71-5FC36C38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1B9B5F-5E66-4D03-A133-F989CE2B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87F7D5-13C0-4F01-A12F-EFBE19A4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07AF23-4534-425C-B191-CB909DCA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7DF3C6-7038-4EE3-ACD4-A5F969D9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E46-AAFE-4912-9E25-AFDD7545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9F4-708B-4DF0-BCAC-3E0EE013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D0705-5C7E-45A4-B45A-E6B45DDB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818F9-D01A-4B27-84D9-839B0CBE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F246D-B317-486A-90DA-2822BF88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ABB5B-76C6-409F-A415-76F5987E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55083-E0C9-4B7F-80F9-A031792A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AE783-6336-449D-8FC4-11FCE6A1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B5015-3ACD-43FD-8C90-4CFE7114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CE3-6E51-4578-83E0-42D4E79B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44BDD-40FB-46FF-A116-D36174D0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0A64F-9637-4D52-B69B-C40C9ED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B5812-F3E7-469B-A879-852C3E35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F2923-3A85-4FD0-9E4E-593020A7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D1538-48B0-4A65-AC33-5B50F126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B0266-EBA4-40E8-A8F5-84D3F077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B35D-DB05-42A8-B6B0-2BBB9A8A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A6D0F-400E-4C2B-A8BA-7FB36C81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D71F3-753D-4F27-9EFB-E8F84FF6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EE3A-0D2B-4E2B-9E03-F29DDFF5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ABA-9DC8-40E4-BF04-8DEE5432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0498-0475-4BDC-ABF7-403A83D2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555A-E2F2-436B-9620-2D663E86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3039-F7DC-4DE0-B26B-C383AC4A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1FDBB-0810-4674-ABC6-7FB9E1D2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2893-D4D2-46F0-97CC-3EC6C92C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036E-B37E-40FA-A414-040B4348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9AF80-4EC5-4449-9B18-F3B2E8FA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A5119-BBB7-44B8-BBE3-F7A0E856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3F26F2-74E0-4761-B698-B4604D0A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6AA26-C6E1-4BF2-BE2B-9745DD7C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1E8-A2AC-40D7-93BB-06E54BBA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13E21-4B8C-40BD-91D0-E6C3F465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2E486-EFE4-4638-B274-4701DE16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90253-1D11-47AC-9A75-76BA8CEF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41574-04F2-41E7-B327-36DC6796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A29C7-B4B3-4C5D-AF0C-DAB8B159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94E36-5644-4D4A-8D93-10C2BDB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D13FB-C577-4773-861E-01488608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140ED-4383-4C02-9027-18B73A76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D0D54-8031-4C44-B489-0A2C5380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F169-0DE9-415E-A2A0-B773656E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293-F0DC-4EC5-8B28-1AF4A5FF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906D1-1796-4099-A6B6-45325D26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CAEBE-FF42-4D94-A342-2AE57C53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6E87E-891B-48CC-A25D-088069D6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17636-0583-4901-B8C1-79AFA7C7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6AD87-2E78-4726-BC67-7B30C587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BEB43-495E-49EB-BB40-39C9806D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5115C-C871-4BC0-8887-C50BE90E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E754B-188D-4771-AF78-6ABE0937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86A90-7974-44D9-8731-BE7016AA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14EA0-EB93-4F63-A5AD-58588235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160-CB58-4A3A-8BCB-38CCCAE3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A8C0-1914-4675-A559-A0A78221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26404-2268-4F99-8BE8-EE223251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C001E-BC4B-48BD-8C25-42C32F54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EA611-638B-4208-85C6-E9343E4E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9C22F-4CD0-4E4E-A0F4-565BAA9D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2EEDF-4CFF-4B33-9060-0F20D437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BEFDE-8052-4DA3-8BDF-A36ED2AD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3398-8CC7-4599-A3F9-24C9F4C1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671F9-BDE6-4279-A64E-B218C45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38C77-AC4D-42F9-A9D1-3818669C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407-C946-4311-8211-44EC405E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65513-47AF-486E-90D6-DBAF282F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1597F-55EE-413F-8ED7-C2F28F12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C27F5-4902-49E4-ABA5-6D2A0B9B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6CDF6-D469-4BE0-AE01-073E57CD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F56AA-BA08-43A9-A713-EFA60AAE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18CDA-AE4D-497A-BEA7-4063ABAF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C7F30-3107-4C39-864C-4160066C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40203-AA9D-4786-89AF-CE6D4CD0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3970F-A072-4068-B041-B3D1F04A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5670A-876A-4D51-8B81-2E920934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447-64AF-4270-B06B-37FBD161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7A98D-779B-4AED-A2E2-456FEBC8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39013-D500-46F3-A32A-121294E2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536C2-6444-407F-8B8F-5BD3036E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0D8E3-0835-4BAE-BFBB-6B7D5768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B3AB5-55DD-447E-9DF7-A82D9A7F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6DE37A-DF8A-4E4C-96CC-5AE47E03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A694F5-079E-4D54-86BA-2E966997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66461-F289-4790-95D3-3365C4F7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4DBBCE-497E-46AB-8427-69377B76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EE7C5C-D62A-4DB9-A92B-2F7845DB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471-63F8-48C1-882F-0869248F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9FE33B-F865-49A0-88A8-D705513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8438D2-EB42-4763-B757-0CEC2FA9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D8E7CC-921F-43DA-AE4D-24785EFB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6BFF79-AEFC-4FEA-AEE9-382A270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AD14AF-F97D-4A33-B13A-18361206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36D0CF-ECB7-4AD1-8976-65BB4242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355557-BCBA-4F2B-9618-98E8318E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0A0796-213F-436B-8480-15085699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7AFF3-61AB-43DD-A660-C5DDC5A5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56391D-A9C7-4290-B630-B8771EDA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DE77-1790-4C3B-8C23-2C0AAEC749E2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2191-89F6-4AFC-B6B4-67D81C13399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4932-BFA6-411D-B827-DD1A42607CE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033E-9747-42AF-BD37-730F5B59D09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3D83-9B4A-401B-A6DE-D69AA4586C9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145F-402E-4FF6-94A7-C78B636D718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A919-B37B-47B4-9A0A-61E432B80A90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7F86-57CF-4D3D-AE84-DFB50AE503A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0589-A5AA-42B6-9794-8BCCB687416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ru.wikipedia.org/wiki/&#1060;&#1072;&#1081;&#1083;:Parus_major_m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ru.wikipedia.org/wiki/&#1060;&#1072;&#1081;&#1083;:Sroka_Pica_Pica_II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378000" y="3565440"/>
            <a:ext cx="8467560" cy="21654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80520" y="571680"/>
            <a:ext cx="8458200" cy="242856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лтайский кра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Алтайский район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.Сарас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85840" y="3357360"/>
            <a:ext cx="42098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Иволга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еобщительна, встречается в одиночку или парами. Шумная и подвижная, обычно держится в кроне деревьев. Питается насекомыми (гусеницами), ягодам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214880" y="3499920"/>
            <a:ext cx="46432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Обыкновенная горлица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встречается в лиственных лесах, парках. Питается семенами и частями растений (пищу ищет на открытых пространствах).  Считается символом счастья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285840" y="28584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робьинообраз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2" descr="Обыкновенная иволга"/>
          <p:cNvPicPr/>
          <p:nvPr/>
        </p:nvPicPr>
        <p:blipFill>
          <a:blip r:embed="rId1"/>
          <a:stretch/>
        </p:blipFill>
        <p:spPr>
          <a:xfrm>
            <a:off x="571680" y="878040"/>
            <a:ext cx="3214440" cy="24080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6"/>
          <p:cNvSpPr/>
          <p:nvPr/>
        </p:nvSpPr>
        <p:spPr>
          <a:xfrm>
            <a:off x="4572000" y="28584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убеобраз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3" descr="Обыкновенная горлица"/>
          <p:cNvPicPr/>
          <p:nvPr/>
        </p:nvPicPr>
        <p:blipFill>
          <a:blip r:embed="rId2"/>
          <a:srcRect l="14730" t="0" r="3453" b="15630"/>
          <a:stretch/>
        </p:blipFill>
        <p:spPr>
          <a:xfrm>
            <a:off x="4338720" y="857160"/>
            <a:ext cx="449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85840" y="3571920"/>
            <a:ext cx="42098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Кукушка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распространена очень широко. Летом кукушки ведут преимущественно одиночный образ жизни, гнёзд не строят, яиц не насиживают. Самки подкладывают свои яйца в гнёзда птиц других видов. Уничтожает насекомых – вредителей леса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00720" y="3571560"/>
            <a:ext cx="41860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Кряква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наиболее известная дикая утка. Населяет пресные водоёмы. Питается водной растительной и животной пищей. Кормится чаще всего на мелководье с глубиной до 30—35 см, где добывает пищу со дна, переворачиваясь при этом вертикально вниз головой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357120" y="2142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укушкообраз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" descr="Обыкновенная кукушка"/>
          <p:cNvPicPr/>
          <p:nvPr/>
        </p:nvPicPr>
        <p:blipFill>
          <a:blip r:embed="rId1"/>
          <a:srcRect l="17029" t="12299" r="0" b="13941"/>
          <a:stretch/>
        </p:blipFill>
        <p:spPr>
          <a:xfrm>
            <a:off x="357120" y="1143000"/>
            <a:ext cx="3863880" cy="228600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>
            <a:off x="5214960" y="21420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усеобраз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3" descr="Кряквы"/>
          <p:cNvPicPr/>
          <p:nvPr/>
        </p:nvPicPr>
        <p:blipFill>
          <a:blip r:embed="rId2"/>
          <a:srcRect l="0" t="8485" r="9447" b="12264"/>
          <a:stretch/>
        </p:blipFill>
        <p:spPr>
          <a:xfrm>
            <a:off x="5122800" y="911160"/>
            <a:ext cx="28782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47960" y="3428640"/>
            <a:ext cx="42814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Домовый воробей – обитает рядом с жилищем человека. Питается в основном растительной пищей, лишь весной частично насекомыми, которыми также вскармливает птенцов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8" name="Picture 2" descr="Parus major m.jpg">
            <a:hlinkClick r:id="rId2"/>
          </p:cNvPr>
          <p:cNvPicPr/>
          <p:nvPr/>
        </p:nvPicPr>
        <p:blipFill>
          <a:blip r:embed="rId3"/>
          <a:srcRect l="11321" t="18853" r="0" b="9555"/>
          <a:stretch/>
        </p:blipFill>
        <p:spPr>
          <a:xfrm>
            <a:off x="714240" y="1357200"/>
            <a:ext cx="3181320" cy="19288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285840" y="3357720"/>
            <a:ext cx="42148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Большая синица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- встречается в разнообразных лесах, обычно на открытых участках, опушках, по берегам водоёмов, тяготеет к жилью человека.  Питается мелкими насекомыми, уничтожает вредителей леса.  Зимой кормится семечками подсолнечника, несолёным салом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0" name="Picture 4" descr="D:\Фото\Помоги птицам\SAM_3274.JPG"/>
          <p:cNvPicPr/>
          <p:nvPr/>
        </p:nvPicPr>
        <p:blipFill>
          <a:blip r:embed="rId4"/>
          <a:srcRect l="13162" t="10530" r="13162" b="19306"/>
          <a:stretch/>
        </p:blipFill>
        <p:spPr>
          <a:xfrm>
            <a:off x="5143680" y="1357200"/>
            <a:ext cx="28000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Содержимое 4" descr="Ворона.jpg"/>
          <p:cNvPicPr/>
          <p:nvPr/>
        </p:nvPicPr>
        <p:blipFill>
          <a:blip r:embed="rId1"/>
          <a:srcRect l="12522" t="7744" r="14238" b="21833"/>
          <a:stretch/>
        </p:blipFill>
        <p:spPr>
          <a:xfrm>
            <a:off x="857160" y="28584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429080" y="3857400"/>
            <a:ext cx="4500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Сорока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 - обитает в небольших лесах, парках, садах, рощах, перелесках, неподалёку от человеческого жилья. Избегает густого леса. Сороки парные птицы. Всеядная. Единственное известное немлекопитающее, способное узнать себя в зеркале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285840" y="4071960"/>
            <a:ext cx="4214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ambria"/>
              </a:rPr>
              <a:t>Серая ворона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обитает в лесах, сельской местности, в пригородах. Всеядная. Ворона прекрасно различает и соответственно реагирует на просто прогуливающегося человека и на охотника с ружьё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2" descr="Соро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65520" y="357120"/>
            <a:ext cx="41706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85840" y="3857400"/>
            <a:ext cx="420984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Снегирь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 – оседло-кочующая птица, живёт в лесах с густым подлеском, можно встретить в садах и парках. Питается семенами, почками и ягодами. Кормясь ягодами, выедает из них семена, оставляя мякоть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6" name="Содержимое 6" descr="Большой пёстрый дятел.jpg"/>
          <p:cNvPicPr/>
          <p:nvPr/>
        </p:nvPicPr>
        <p:blipFill>
          <a:blip r:embed="rId1"/>
          <a:srcRect l="6407" t="3942" r="9887" b="5241"/>
          <a:stretch/>
        </p:blipFill>
        <p:spPr>
          <a:xfrm>
            <a:off x="6072120" y="928800"/>
            <a:ext cx="1695600" cy="328608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928800" y="21420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вьюрков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Снегирь самец"/>
          <p:cNvPicPr/>
          <p:nvPr/>
        </p:nvPicPr>
        <p:blipFill>
          <a:blip r:embed="rId2"/>
          <a:srcRect l="14633" t="13734" r="0" b="20329"/>
          <a:stretch/>
        </p:blipFill>
        <p:spPr>
          <a:xfrm>
            <a:off x="857160" y="928800"/>
            <a:ext cx="2847960" cy="2928960"/>
          </a:xfrm>
          <a:prstGeom prst="rect">
            <a:avLst/>
          </a:prstGeom>
          <a:ln w="0">
            <a:noFill/>
          </a:ln>
        </p:spPr>
      </p:pic>
      <p:sp>
        <p:nvSpPr>
          <p:cNvPr id="409" name="TextBox 7"/>
          <p:cNvSpPr/>
          <p:nvPr/>
        </p:nvSpPr>
        <p:spPr>
          <a:xfrm>
            <a:off x="5000760" y="214200"/>
            <a:ext cx="38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дятлообраз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8"/>
          <p:cNvSpPr/>
          <p:nvPr/>
        </p:nvSpPr>
        <p:spPr>
          <a:xfrm>
            <a:off x="4500720" y="4286160"/>
            <a:ext cx="442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ambria"/>
              </a:rPr>
              <a:t>Большой пёстрый дятел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– обитает везде, где есть деревья. Играет важную роль в экологии леса, оставляя выдолбленные им дупла для других гнездящихся в них мелких птиц, поедает лесных вреди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85896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4" descr="Тетерев 1.jpg"/>
          <p:cNvPicPr/>
          <p:nvPr/>
        </p:nvPicPr>
        <p:blipFill>
          <a:blip r:embed="rId2"/>
          <a:srcRect l="4594" t="15611" r="5191" b="10704"/>
          <a:stretch/>
        </p:blipFill>
        <p:spPr>
          <a:xfrm>
            <a:off x="642960" y="928800"/>
            <a:ext cx="3286080" cy="2512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357440" y="3357360"/>
            <a:ext cx="45003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Глухарь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 – обитает в хвойных, смешанных и лиственных лесах. Летает тяжело, с большим шумом, часто хлопая крыльями, и не делает больших перелётов. День обыкновенно проводит на земле, ночует на деревьях. Преобладает растительная пища (цветы, почки, хвоя, побеги, лесные ягоды).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214200" y="3500280"/>
            <a:ext cx="4214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ambria"/>
              </a:rPr>
              <a:t>Тетерев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- лесная птица, обитает в смешанных и лиственных лесах. Самца называют косачом или чернышом, а самку — тетеркой или рябушкой. Летом кормится на опушках ягодами или на полях зёрнами, а зимой почками и серёжками берёзы. Зимой тетерева ночуют под снегом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1" descr="http://upload.wikimedia.org/wikipedia/commons/4/42/Tetrao_urogallus_Richard_Bartz.jpg"/>
          <p:cNvPicPr/>
          <p:nvPr/>
        </p:nvPicPr>
        <p:blipFill>
          <a:blip r:embed="rId3"/>
          <a:stretch/>
        </p:blipFill>
        <p:spPr>
          <a:xfrm>
            <a:off x="6429240" y="284040"/>
            <a:ext cx="22147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3357720"/>
            <a:ext cx="40384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Рябчик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 – небольшая лесная куриная птица. Летает мало, предпочитая бегать по земле. Взлетает с шумом, перемещаясь на небольшие расстояния. Держится обыкновенно парами. Питается семенами, ягодами, почками.  Ночует в снегу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48320" y="342864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Обыкновенный перепел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– обитает в лесостепях и смешанных лесах. Когда поспевают хлеба, перепелы переселяются в поля, быстро откармливаются и сильно жиреют. Пища главным образом растительная.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8" name="Picture 2" descr="Haselhuhn-01"/>
          <p:cNvPicPr/>
          <p:nvPr/>
        </p:nvPicPr>
        <p:blipFill>
          <a:blip r:embed="rId1"/>
          <a:srcRect l="17443" t="0" r="0" b="0"/>
          <a:stretch/>
        </p:blipFill>
        <p:spPr>
          <a:xfrm>
            <a:off x="857160" y="428760"/>
            <a:ext cx="3130560" cy="28573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Самец перепела"/>
          <p:cNvPicPr/>
          <p:nvPr/>
        </p:nvPicPr>
        <p:blipFill>
          <a:blip r:embed="rId2"/>
          <a:stretch/>
        </p:blipFill>
        <p:spPr>
          <a:xfrm>
            <a:off x="4648320" y="428760"/>
            <a:ext cx="40226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85840" y="3142800"/>
            <a:ext cx="420984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f0"/>
                </a:solidFill>
                <a:latin typeface="Cambria"/>
              </a:rPr>
              <a:t>Куропатка серая </a:t>
            </a: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– живёт в степях и лесостепях. Здесь они и питаются, и гнезда строят, и детишек воспитывают. Жизнь на земле ни на что не меняет.  Быстро бегает.  Серые куропатки  очень заботливые родители. Уничтожает много вредных насекомых и семена сорных растений.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1" name="Содержимое 5" descr="Белая куропатка.jpg"/>
          <p:cNvPicPr/>
          <p:nvPr/>
        </p:nvPicPr>
        <p:blipFill>
          <a:blip r:embed="rId1"/>
          <a:srcRect l="22876" t="20386" r="4601" b="16678"/>
          <a:stretch/>
        </p:blipFill>
        <p:spPr>
          <a:xfrm>
            <a:off x="5214960" y="428760"/>
            <a:ext cx="3071880" cy="2547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серая куропатка"/>
          <p:cNvPicPr/>
          <p:nvPr/>
        </p:nvPicPr>
        <p:blipFill>
          <a:blip r:embed="rId2"/>
          <a:stretch/>
        </p:blipFill>
        <p:spPr>
          <a:xfrm>
            <a:off x="428760" y="428760"/>
            <a:ext cx="3987720" cy="2571480"/>
          </a:xfrm>
          <a:prstGeom prst="rect">
            <a:avLst/>
          </a:prstGeom>
          <a:ln w="0">
            <a:noFill/>
          </a:ln>
        </p:spPr>
      </p:pic>
      <p:sp>
        <p:nvSpPr>
          <p:cNvPr id="423" name="TextBox 6"/>
          <p:cNvSpPr/>
          <p:nvPr/>
        </p:nvSpPr>
        <p:spPr>
          <a:xfrm>
            <a:off x="4429080" y="3071880"/>
            <a:ext cx="442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Cambria"/>
              </a:rPr>
              <a:t>Куропатка белая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привязана к кустарниковой растительности, дающей ей основной корм. Держится и кормится в основном на земле, взлетает только в крайнем случае. Приспособлена к наземному образу жизни: быстро бегает, благодаря покровительственной окраске искусно затаивается.  Зимой ночует под сне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285840" y="3571920"/>
            <a:ext cx="42098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Грач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сеядная птица, но главным образом питается червями и личинками насекомых, которых он находит, копаясь в земле своим крепким клювом. Весной грач прилетает весьма рано, еще лежит снег на полях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00720" y="3642840"/>
            <a:ext cx="4186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Галка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едет стайный образ жизни. Питается червями, фруктами и ягодами, отбросами, яйцами мелких птиц. Гнездится в укромных местах зданий, на столбах, мостах, в гнездах крупных птиц.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7" name="Picture 2" descr="Грач"/>
          <p:cNvPicPr/>
          <p:nvPr/>
        </p:nvPicPr>
        <p:blipFill>
          <a:blip r:embed="rId2"/>
          <a:stretch/>
        </p:blipFill>
        <p:spPr>
          <a:xfrm>
            <a:off x="430200" y="1357200"/>
            <a:ext cx="3260880" cy="2181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Галка"/>
          <p:cNvPicPr/>
          <p:nvPr/>
        </p:nvPicPr>
        <p:blipFill>
          <a:blip r:embed="rId3"/>
          <a:stretch/>
        </p:blipFill>
        <p:spPr>
          <a:xfrm>
            <a:off x="4786200" y="1357200"/>
            <a:ext cx="3327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8398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285840" y="3786120"/>
            <a:ext cx="42098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Скворец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нездится в дуплах, охотно селится в «скворечниках». Питается крупными насекомыми, растительной пищей. Способен подражать  всевозможным звука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428720" y="3714480"/>
            <a:ext cx="44290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Cambria"/>
              </a:rPr>
              <a:t>Белая трясогузка 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нездится на земле или в дуплах, держится возле воды.  По земле передвигается бегом. Питается исключительно насекомыми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2" name="Picture 2" descr="15skvorec01"/>
          <p:cNvPicPr/>
          <p:nvPr/>
        </p:nvPicPr>
        <p:blipFill>
          <a:blip r:embed="rId2"/>
          <a:srcRect l="12233" t="11952" r="14399" b="13350"/>
          <a:stretch/>
        </p:blipFill>
        <p:spPr>
          <a:xfrm>
            <a:off x="500040" y="928800"/>
            <a:ext cx="2129040" cy="2957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Файл:Motacilla alba alba cropped.JPG"/>
          <p:cNvPicPr/>
          <p:nvPr/>
        </p:nvPicPr>
        <p:blipFill>
          <a:blip r:embed="rId3"/>
          <a:stretch/>
        </p:blipFill>
        <p:spPr>
          <a:xfrm>
            <a:off x="4714920" y="974880"/>
            <a:ext cx="3725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3:19:01Z</dcterms:created>
  <dc:creator>виктория</dc:creator>
  <dc:description/>
  <dc:language>en-US</dc:language>
  <cp:lastModifiedBy>виктория</cp:lastModifiedBy>
  <dcterms:modified xsi:type="dcterms:W3CDTF">2012-03-28T14:19:39Z</dcterms:modified>
  <cp:revision>28</cp:revision>
  <dc:subject/>
  <dc:title>Птицы нашей местности</dc:title>
</cp:coreProperties>
</file>