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4FE-9DFC-4800-8C83-381D7956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5B3-3FED-45B7-915D-3B62C6B8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37F131-731B-4290-9108-98375253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5A473A-E2A6-484E-8E1A-801714CD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A22CB3-8D5D-468A-A237-5E3E50F4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51AD5C-0FB6-4E88-947E-3C569931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791FDA-7739-48BF-AB2A-3131E232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B98417-5AC3-49F2-BD0B-C7FD547A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5963E2-C859-4BC1-910C-62B2215F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E21E3-FC08-40A8-A9DE-F735AC01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F8E4B0-6AAE-4191-B94D-1BA5D451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E1F-C449-4E1B-9497-6AAD68F0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C4C-4703-4332-A3D1-89F791A0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F9327-4DFB-4D75-BE1A-5BCB6230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C3AF3-8D79-4D08-A22E-720C71E5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85FA1-9A23-4FC6-AB54-108CB6A3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3A324-DD97-4E94-A91C-F7833B38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7F49C-B6E7-46C4-A65F-D36E124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22AA7-6BA3-4AE5-8F7B-77C4570D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D2719-91A1-4759-AA8D-183CD23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894-53DF-4E1C-81DC-7800916C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DF828-EAA8-4D57-B426-5FEB763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3EB29-7D23-4A89-B33B-E14E67DD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326E3-62A3-468A-AAF5-8372D169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63158-756F-45C9-9649-2D806D83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13AEF-952A-46B8-96CC-9F6FD20C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45D0-02CC-4894-BEC6-ECA19B02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1F6B-F765-4845-8D1E-9399AE01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EFBB0-B7F5-439D-A5AE-B0C4B860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7E2D-EFB1-4580-8AB7-E15B674E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BD02-E8CD-4105-B04F-0183DC59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1F5-807C-42D4-BE74-55CD39F8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32F5C-301F-4C3D-B778-84D4B6AA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283B-50AB-4C75-B255-3891C6AD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BAF2-6BD5-48E6-B7A7-22EE313F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6B0A-CB9C-4264-BF36-F05389B3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D994C-9C4B-460E-94BD-00C7187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F9AF-4D1D-44E2-A572-0FF6DDBD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B639-F603-4B38-9BD5-75E575E1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E36695-0682-4778-8416-37F2F62A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87EBA-7BD9-4F51-9811-8BE5A363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C3D7D0-D19D-428B-9DFA-DCED0D7B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427-0CDC-4605-8AA3-8F78455F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73305-D209-48CD-9C00-3EB68345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F2F16-5091-4DA4-A432-D0E9C435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0D93B-506E-4861-803B-1999BDC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35A29-B787-4FA1-9BB5-821AC8D7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D0E0C-C8A9-4AE2-834E-8163DA26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FC250-D8F5-4718-B02A-08F2EB64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7186C-3EBE-42B2-AFA8-D93D594B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7C2D8-108B-41D3-B3A0-0DC84DDF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C53885-78E6-457F-B634-FB21FBE8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05776-DA97-47D9-9B97-8A0D34D3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C6C-89F9-4E17-91DB-85B29414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B681F-C300-4A7E-91ED-89382F19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52E9-7351-422F-8A7B-9E9793C7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26068-53DB-4976-A06D-8590E48E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9CEAB-49FB-4FAB-8C1E-5A78B4B0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3063B-3974-40BA-AD55-5D00E38B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E4EF3-9867-4ED4-A608-8402912A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CDB41-E088-42CC-8CAC-38B6D30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99A8E-51CF-4E41-8CC9-1AAC8959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73A7A-61D2-40DD-BCD1-89219D27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17B69-1EC9-4502-9818-BE3559D1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7CA-F173-4594-8A4B-6A20E6CF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E3E7F-4CD2-4D32-A95E-BCF2A658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0D0C4-9F34-4CE1-AB6E-885E44D0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D1120-28A8-4576-B147-BCE54CF7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3C23F-E957-418C-8C85-8554E62B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831B3-6BCD-4A80-8E0C-18FB405F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FFC91-0725-484F-BB25-84DB8D02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E799D-A7E9-44EC-A666-CFB4710E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5FE3D-C290-45E3-ADDC-088A4CAD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8D03-D181-44C2-AB36-94B6864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4D89E-E152-4E42-8908-9DA57B8D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669-E216-4BF3-8B2F-815F96A2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98A01-856C-490A-A482-AF8FEB47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17EF7-A9AD-40D9-A953-B2962151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7357E-6E89-4F45-AB3E-4B7D1ADC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1EE66-D765-4F1E-8848-3BB806CD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BC21C-2078-4751-8D8E-037CFF14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7B3DE-2125-4EAE-AEA7-A415A26D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B47C8-BD18-4B9A-89E0-0FF9D503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852E5-6C43-4CF3-A1A9-44A62A27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7DDA1-7419-460F-A63B-21788976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89107-C9BA-4F03-B847-7B82B718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BDD-3A74-4DCF-AEAE-4BF1EE75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E076E-108A-439A-941B-5BCF24E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4556B-A252-42C1-A87B-04BA17C8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48AA2-01E6-4D0B-B1D3-7EE180A6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63CF8-0D51-4E16-BCE6-B9690DA3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BA5E6-7634-4D63-A7B2-A3F47140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B7E169-7CEC-48C9-88C9-5C288A60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533328-2738-4714-8051-89F75EA6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EE4508-D9E5-48C2-A4AD-F7CDE315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2D2049-A852-4254-AAA4-6FABCC1B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C519E7-94F2-47D0-BD2C-5B225448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6B5-1828-4C7F-B265-0A8635AC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35C133-0353-474E-88E2-317692BE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AE42AB-B032-4534-B8DF-E3382FCB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065FFF-0AAC-40CB-81A8-CB14674A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D5454-7661-4357-B197-3CAC4386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852E77-FEB8-4080-86E7-32E92735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D8553A-ECA6-44DE-B1DA-BA0771B3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488018-CFE9-426A-AD90-5C84F272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EFCA7C-A4B4-4D78-AA5D-35805136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B7A83F-7A98-4899-BFA5-A4A5E0C3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2FFFA1-E6F7-4085-8542-A11E577C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F027-E564-4981-97E2-A983F4F60C3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8202-2E36-457A-A1B3-783F583910D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50B8-814F-4DE8-A375-4988A2DF563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4AC1-CA9C-411F-8155-6166B975601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9119-0989-4582-AE89-2F626B9ED75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D403-656C-412B-A68E-37E4797A939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1721-9398-4D52-B8CF-6EDCF6A8B03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BCC4-9E46-4B3E-B569-C0EAAC44626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5A6A-0BCD-424C-A218-4666911E57F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&#1060;&#1072;&#1081;&#1083;:Parus_major_m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ru.wikipedia.org/wiki/&#1060;&#1072;&#1081;&#1083;:Sroka_Pica_Pica_II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378000" y="3565440"/>
            <a:ext cx="8467560" cy="21654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80520" y="571680"/>
            <a:ext cx="8458200" cy="242856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лтайский кра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лтайский район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.Сарас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85840" y="3357360"/>
            <a:ext cx="42098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Иволга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еобщительна, встречается в одиночку или парами. Шумная и подвижная, обычно держится в кроне деревьев. Питается насекомыми (гусеницами), ягодам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214880" y="3499920"/>
            <a:ext cx="46432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Обыкновенная горлица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стречается в лиственных лесах, парках. Питается семенами и частями растений (пищу ищет на открытых пространствах).  Считается символом счастья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285840" y="28584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робьинообраз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2" descr="Обыкновенная иволга"/>
          <p:cNvPicPr/>
          <p:nvPr/>
        </p:nvPicPr>
        <p:blipFill>
          <a:blip r:embed="rId1"/>
          <a:stretch/>
        </p:blipFill>
        <p:spPr>
          <a:xfrm>
            <a:off x="571680" y="878040"/>
            <a:ext cx="3214440" cy="24080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6"/>
          <p:cNvSpPr/>
          <p:nvPr/>
        </p:nvSpPr>
        <p:spPr>
          <a:xfrm>
            <a:off x="4572000" y="28584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убеобраз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3" descr="Обыкновенная горлица"/>
          <p:cNvPicPr/>
          <p:nvPr/>
        </p:nvPicPr>
        <p:blipFill>
          <a:blip r:embed="rId2"/>
          <a:srcRect l="14730" t="0" r="3453" b="15630"/>
          <a:stretch/>
        </p:blipFill>
        <p:spPr>
          <a:xfrm>
            <a:off x="4338720" y="857160"/>
            <a:ext cx="449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85840" y="3571920"/>
            <a:ext cx="42098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Кукушка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спространена очень широко. Летом кукушки ведут преимущественно одиночный образ жизни, гнёзд не строят, яиц не насиживают. Самки подкладывают свои яйца в гнёзда птиц других видов. Уничтожает насекомых – вредителей лес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00720" y="3571560"/>
            <a:ext cx="41860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Кряква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иболее известная дикая утка. Населяет пресные водоёмы. Питается водной растительной и животной пищей. Кормится чаще всего на мелководье с глубиной до 30—35 см, где добывает пищу со дна, переворачиваясь при этом вертикально вниз головой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357120" y="2142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укушкообраз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" descr="Обыкновенная кукушка"/>
          <p:cNvPicPr/>
          <p:nvPr/>
        </p:nvPicPr>
        <p:blipFill>
          <a:blip r:embed="rId1"/>
          <a:srcRect l="17029" t="12299" r="0" b="13941"/>
          <a:stretch/>
        </p:blipFill>
        <p:spPr>
          <a:xfrm>
            <a:off x="357120" y="1143000"/>
            <a:ext cx="3863880" cy="22860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>
            <a:off x="5214960" y="21420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усеобраз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3" descr="Кряквы"/>
          <p:cNvPicPr/>
          <p:nvPr/>
        </p:nvPicPr>
        <p:blipFill>
          <a:blip r:embed="rId2"/>
          <a:srcRect l="0" t="8485" r="9447" b="12264"/>
          <a:stretch/>
        </p:blipFill>
        <p:spPr>
          <a:xfrm>
            <a:off x="5122800" y="911160"/>
            <a:ext cx="28782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47960" y="3428640"/>
            <a:ext cx="4281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Домовый воробей – обитает рядом с жилищем человека. Питается в основном растительной пищей, лишь весной частично насекомыми, которыми также вскармливает птенцов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8" name="Picture 2" descr="Parus major m.jpg">
            <a:hlinkClick r:id="rId2"/>
          </p:cNvPr>
          <p:cNvPicPr/>
          <p:nvPr/>
        </p:nvPicPr>
        <p:blipFill>
          <a:blip r:embed="rId3"/>
          <a:srcRect l="11321" t="18853" r="0" b="9555"/>
          <a:stretch/>
        </p:blipFill>
        <p:spPr>
          <a:xfrm>
            <a:off x="714240" y="1357200"/>
            <a:ext cx="3181320" cy="19288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285840" y="3357720"/>
            <a:ext cx="42148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Большая синица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- встречается в разнообразных лесах, обычно на открытых участках, опушках, по берегам водоёмов, тяготеет к жилью человека.  Питается мелкими насекомыми, уничтожает вредителей леса.  Зимой кормится семечками подсолнечника, несолёным салом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0" name="Picture 4" descr="D:\Фото\Помоги птицам\SAM_3274.JPG"/>
          <p:cNvPicPr/>
          <p:nvPr/>
        </p:nvPicPr>
        <p:blipFill>
          <a:blip r:embed="rId4"/>
          <a:srcRect l="13162" t="10530" r="13162" b="19306"/>
          <a:stretch/>
        </p:blipFill>
        <p:spPr>
          <a:xfrm>
            <a:off x="5143680" y="1357200"/>
            <a:ext cx="28000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Содержимое 4" descr="Ворона.jpg"/>
          <p:cNvPicPr/>
          <p:nvPr/>
        </p:nvPicPr>
        <p:blipFill>
          <a:blip r:embed="rId1"/>
          <a:srcRect l="12522" t="7744" r="14238" b="21833"/>
          <a:stretch/>
        </p:blipFill>
        <p:spPr>
          <a:xfrm>
            <a:off x="857160" y="28584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429080" y="3857400"/>
            <a:ext cx="4500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Сорока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 - обитает в небольших лесах, парках, садах, рощах, перелесках, неподалёку от человеческого жилья. Избегает густого леса. Сороки парные птицы. Всеядная. Единственное известное немлекопитающее, способное узнать себя в зеркале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285840" y="4071960"/>
            <a:ext cx="4214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ambria"/>
              </a:rPr>
              <a:t>Серая ворона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обитает в лесах, сельской местности, в пригородах. Всеядная. Ворона прекрасно различает и соответственно реагирует на просто прогуливающегося человека и на охотника с ружьё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2" descr="Соро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65520" y="357120"/>
            <a:ext cx="4170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85840" y="3857400"/>
            <a:ext cx="420984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Снегирь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 – оседло-кочующая птица, живёт в лесах с густым подлеском, можно встретить в садах и парках. Питается семенами, почками и ягодами. Кормясь ягодами, выедает из них семена, оставляя мякоть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6" name="Содержимое 6" descr="Большой пёстрый дятел.jpg"/>
          <p:cNvPicPr/>
          <p:nvPr/>
        </p:nvPicPr>
        <p:blipFill>
          <a:blip r:embed="rId1"/>
          <a:srcRect l="6407" t="3942" r="9887" b="5241"/>
          <a:stretch/>
        </p:blipFill>
        <p:spPr>
          <a:xfrm>
            <a:off x="6072120" y="928800"/>
            <a:ext cx="1695600" cy="328608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928800" y="21420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вьюрков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Снегирь самец"/>
          <p:cNvPicPr/>
          <p:nvPr/>
        </p:nvPicPr>
        <p:blipFill>
          <a:blip r:embed="rId2"/>
          <a:srcRect l="14633" t="13734" r="0" b="20329"/>
          <a:stretch/>
        </p:blipFill>
        <p:spPr>
          <a:xfrm>
            <a:off x="857160" y="928800"/>
            <a:ext cx="2847960" cy="2928960"/>
          </a:xfrm>
          <a:prstGeom prst="rect">
            <a:avLst/>
          </a:prstGeom>
          <a:ln w="0">
            <a:noFill/>
          </a:ln>
        </p:spPr>
      </p:pic>
      <p:sp>
        <p:nvSpPr>
          <p:cNvPr id="409" name="TextBox 7"/>
          <p:cNvSpPr/>
          <p:nvPr/>
        </p:nvSpPr>
        <p:spPr>
          <a:xfrm>
            <a:off x="5000760" y="214200"/>
            <a:ext cx="38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дятлообраз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8"/>
          <p:cNvSpPr/>
          <p:nvPr/>
        </p:nvSpPr>
        <p:spPr>
          <a:xfrm>
            <a:off x="4500720" y="4286160"/>
            <a:ext cx="442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ambria"/>
              </a:rPr>
              <a:t>Большой пёстрый дятел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обитает везде, где есть деревья. Играет важную роль в экологии леса, оставляя выдолбленные им дупла для других гнездящихся в них мелких птиц, поедает лесных вре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85896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4" descr="Тетерев 1.jpg"/>
          <p:cNvPicPr/>
          <p:nvPr/>
        </p:nvPicPr>
        <p:blipFill>
          <a:blip r:embed="rId2"/>
          <a:srcRect l="4594" t="15611" r="5191" b="10704"/>
          <a:stretch/>
        </p:blipFill>
        <p:spPr>
          <a:xfrm>
            <a:off x="642960" y="928800"/>
            <a:ext cx="3286080" cy="2512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357440" y="3357360"/>
            <a:ext cx="45003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Глухарь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 – обитает в хвойных, смешанных и лиственных лесах. Летает тяжело, с большим шумом, часто хлопая крыльями, и не делает больших перелётов. День обыкновенно проводит на земле, ночует на деревьях. Преобладает растительная пища (цветы, почки, хвоя, побеги, лесные ягоды).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214200" y="3500280"/>
            <a:ext cx="4214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ambria"/>
              </a:rPr>
              <a:t>Тетерев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- лесная птица, обитает в смешанных и лиственных лесах. Самца называют косачом или чернышом, а самку — тетеркой или рябушкой. Летом кормится на опушках ягодами или на полях зёрнами, а зимой почками и серёжками берёзы. Зимой тетерева ночуют под снего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1" descr="http://upload.wikimedia.org/wikipedia/commons/4/42/Tetrao_urogallus_Richard_Bartz.jpg"/>
          <p:cNvPicPr/>
          <p:nvPr/>
        </p:nvPicPr>
        <p:blipFill>
          <a:blip r:embed="rId3"/>
          <a:stretch/>
        </p:blipFill>
        <p:spPr>
          <a:xfrm>
            <a:off x="6429240" y="284040"/>
            <a:ext cx="22147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3357720"/>
            <a:ext cx="40384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Рябчик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 – небольшая лесная куриная птица. Летает мало, предпочитая бегать по земле. Взлетает с шумом, перемещаясь на небольшие расстояния. Держится обыкновенно парами. Питается семенами, ягодами, почками.  Ночует в снегу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342864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Обыкновенный перепел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– обитает в лесостепях и смешанных лесах. Когда поспевают хлеба, перепелы переселяются в поля, быстро откармливаются и сильно жиреют. Пища главным образом растительная.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8" name="Picture 2" descr="Haselhuhn-01"/>
          <p:cNvPicPr/>
          <p:nvPr/>
        </p:nvPicPr>
        <p:blipFill>
          <a:blip r:embed="rId1"/>
          <a:srcRect l="17443" t="0" r="0" b="0"/>
          <a:stretch/>
        </p:blipFill>
        <p:spPr>
          <a:xfrm>
            <a:off x="857160" y="428760"/>
            <a:ext cx="3130560" cy="2857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Самец перепела"/>
          <p:cNvPicPr/>
          <p:nvPr/>
        </p:nvPicPr>
        <p:blipFill>
          <a:blip r:embed="rId2"/>
          <a:stretch/>
        </p:blipFill>
        <p:spPr>
          <a:xfrm>
            <a:off x="4648320" y="428760"/>
            <a:ext cx="40226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85840" y="3142800"/>
            <a:ext cx="42098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Куропатка серая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– живёт в степях и лесостепях. Здесь они и питаются, и гнезда строят, и детишек воспитывают. Жизнь на земле ни на что не меняет.  Быстро бегает.  Серые куропатки  очень заботливые родители. Уничтожает много вредных насекомых и семена сорных растений.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1" name="Содержимое 5" descr="Белая куропатка.jpg"/>
          <p:cNvPicPr/>
          <p:nvPr/>
        </p:nvPicPr>
        <p:blipFill>
          <a:blip r:embed="rId1"/>
          <a:srcRect l="22876" t="20386" r="4601" b="16678"/>
          <a:stretch/>
        </p:blipFill>
        <p:spPr>
          <a:xfrm>
            <a:off x="5214960" y="428760"/>
            <a:ext cx="3071880" cy="2547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серая куропатка"/>
          <p:cNvPicPr/>
          <p:nvPr/>
        </p:nvPicPr>
        <p:blipFill>
          <a:blip r:embed="rId2"/>
          <a:stretch/>
        </p:blipFill>
        <p:spPr>
          <a:xfrm>
            <a:off x="428760" y="428760"/>
            <a:ext cx="3987720" cy="2571480"/>
          </a:xfrm>
          <a:prstGeom prst="rect">
            <a:avLst/>
          </a:prstGeom>
          <a:ln w="0">
            <a:noFill/>
          </a:ln>
        </p:spPr>
      </p:pic>
      <p:sp>
        <p:nvSpPr>
          <p:cNvPr id="423" name="TextBox 6"/>
          <p:cNvSpPr/>
          <p:nvPr/>
        </p:nvSpPr>
        <p:spPr>
          <a:xfrm>
            <a:off x="4429080" y="3071880"/>
            <a:ext cx="442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ambria"/>
              </a:rPr>
              <a:t>Куропатка белая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привязана к кустарниковой растительности, дающей ей основной корм. Держится и кормится в основном на земле, взлетает только в крайнем случае. Приспособлена к наземному образу жизни: быстро бегает, благодаря покровительственной окраске искусно затаивается.  Зимой ночует под сне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285840" y="3571920"/>
            <a:ext cx="42098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Грач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сеядная птица, но главным образом питается червями и личинками насекомых, которых он находит, копаясь в земле своим крепким клювом. Весной грач прилетает весьма рано, еще лежит снег на полях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00720" y="3642840"/>
            <a:ext cx="4186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Галка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едет стайный образ жизни. Питается червями, фруктами и ягодами, отбросами, яйцами мелких птиц. Гнездится в укромных местах зданий, на столбах, мостах, в гнездах крупных птиц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7" name="Picture 2" descr="Грач"/>
          <p:cNvPicPr/>
          <p:nvPr/>
        </p:nvPicPr>
        <p:blipFill>
          <a:blip r:embed="rId2"/>
          <a:stretch/>
        </p:blipFill>
        <p:spPr>
          <a:xfrm>
            <a:off x="430200" y="1357200"/>
            <a:ext cx="3260880" cy="2181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Галка"/>
          <p:cNvPicPr/>
          <p:nvPr/>
        </p:nvPicPr>
        <p:blipFill>
          <a:blip r:embed="rId3"/>
          <a:stretch/>
        </p:blipFill>
        <p:spPr>
          <a:xfrm>
            <a:off x="4786200" y="1357200"/>
            <a:ext cx="3327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8398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285840" y="3786120"/>
            <a:ext cx="42098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Скворец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нездится в дуплах, охотно селится в «скворечниках». Питается крупными насекомыми, растительной пищей. Способен подражать  всевозможным звука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428720" y="3714480"/>
            <a:ext cx="44290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Белая трясогузка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нездится на земле или в дуплах, держится возле воды.  По земле передвигается бегом. Питается исключительно насекомым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2" name="Picture 2" descr="15skvorec01"/>
          <p:cNvPicPr/>
          <p:nvPr/>
        </p:nvPicPr>
        <p:blipFill>
          <a:blip r:embed="rId2"/>
          <a:srcRect l="12233" t="11952" r="14399" b="13350"/>
          <a:stretch/>
        </p:blipFill>
        <p:spPr>
          <a:xfrm>
            <a:off x="500040" y="928800"/>
            <a:ext cx="2129040" cy="2957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Файл:Motacilla alba alba cropped.JPG"/>
          <p:cNvPicPr/>
          <p:nvPr/>
        </p:nvPicPr>
        <p:blipFill>
          <a:blip r:embed="rId3"/>
          <a:stretch/>
        </p:blipFill>
        <p:spPr>
          <a:xfrm>
            <a:off x="4714920" y="974880"/>
            <a:ext cx="3725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3:19:01Z</dcterms:created>
  <dc:creator>виктория</dc:creator>
  <dc:description/>
  <dc:language>en-US</dc:language>
  <cp:lastModifiedBy>виктория</cp:lastModifiedBy>
  <dcterms:modified xsi:type="dcterms:W3CDTF">2012-03-28T14:19:39Z</dcterms:modified>
  <cp:revision>28</cp:revision>
  <dc:subject/>
  <dc:title>Птицы нашей местности</dc:title>
</cp:coreProperties>
</file>