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EACB-3E4B-4A8B-8BA2-84B4C5AF3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494A-B8BC-4804-903A-9EA02FE5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8793-5F46-4D2D-B382-C93F9E654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7A1D-93B4-43D9-8F48-A5B3E554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E2D4-B772-4D59-AAA6-21BE1187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5EB5-10B2-472E-A05D-13F4011A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F4D5-7D28-4789-99E2-E7F13BDE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2FF9-F794-4C22-B76D-01AD7676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08BF-A394-4308-A175-31AECA51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48B6-82D2-4796-BD19-B79BAE73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DC37-9F4C-4490-82BB-B7F4B731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2C98-AA12-463E-827E-75980232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2E80-1462-4A10-8D4F-CF85120AFD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302680" cy="1541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" y="1196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ающий этап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8A65-5A14-4C65-A992-5414FCB877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79280" y="2035080"/>
          <a:ext cx="8425080" cy="4556160"/>
        </p:xfrm>
        <a:graphic>
          <a:graphicData uri="http://schemas.openxmlformats.org/drawingml/2006/table">
            <a:tbl>
              <a:tblPr/>
              <a:tblGrid>
                <a:gridCol w="3097440"/>
                <a:gridCol w="1726920"/>
                <a:gridCol w="1872000"/>
                <a:gridCol w="1728720"/>
              </a:tblGrid>
              <a:tr h="35100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дачи эта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е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ный руковод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04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динение собранного материала. Оценка выполнения проекта, поставленных целей, достигнутых результатов, анализ причин недостатков (ошибок); обсуждение презентации конечного продукта. Репетиц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уждение, формулирование вывод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е, участие в оценке достигнутого результа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домашней репетиции перед выступлением в классе по своей сказк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45" name="Picture 4" descr="C:\Documents and Settings\Alexey\Рабочий стол\сказки фото\DSC01486.jpg"/>
          <p:cNvPicPr/>
          <p:nvPr/>
        </p:nvPicPr>
        <p:blipFill>
          <a:blip r:embed="rId2"/>
          <a:stretch/>
        </p:blipFill>
        <p:spPr>
          <a:xfrm>
            <a:off x="4067280" y="4869000"/>
            <a:ext cx="2322360" cy="174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8242560" cy="1481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проек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6B23-4A27-49E3-8EEF-C042EFFE05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68360" y="2136600"/>
          <a:ext cx="8351640" cy="3856320"/>
        </p:xfrm>
        <a:graphic>
          <a:graphicData uri="http://schemas.openxmlformats.org/drawingml/2006/table">
            <a:tbl>
              <a:tblPr/>
              <a:tblGrid>
                <a:gridCol w="2590920"/>
                <a:gridCol w="2160360"/>
                <a:gridCol w="1873440"/>
                <a:gridCol w="1726920"/>
              </a:tblGrid>
              <a:tr h="35100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дачи эта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е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ный руковод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0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крытие содержания и результатов проекта, представление продукта проектной деятельности «Правила жизни нашего коллектив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выступления, коллективная защита получившегося продук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представлении проек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тствие на презентации. Поддержка ребенк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541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267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вный этап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2E7A-5212-4219-B432-4B4DD95369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24000" y="1844640"/>
          <a:ext cx="8569080" cy="3290760"/>
        </p:xfrm>
        <a:graphic>
          <a:graphicData uri="http://schemas.openxmlformats.org/drawingml/2006/table">
            <a:tbl>
              <a:tblPr/>
              <a:tblGrid>
                <a:gridCol w="2879640"/>
                <a:gridCol w="2160360"/>
                <a:gridCol w="1656000"/>
                <a:gridCol w="1873080"/>
              </a:tblGrid>
              <a:tr h="35100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дачи эта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е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ный руковод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38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своей работы и работы других участников. Мини – сочинение «Для чего я пришел в школу?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уждение, обмен впечатлениям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обсужден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обсужден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4" descr="C:\Documents and Settings\Alexey\Рабочий стол\сказки фото\DSC01488.jpg"/>
          <p:cNvPicPr/>
          <p:nvPr/>
        </p:nvPicPr>
        <p:blipFill>
          <a:blip r:embed="rId2"/>
          <a:stretch/>
        </p:blipFill>
        <p:spPr>
          <a:xfrm>
            <a:off x="4788000" y="4292640"/>
            <a:ext cx="307008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52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160020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зультаты проек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ли сказочную азбуку  клас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и правила жизни нашего коллектива и реально оценива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 повед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аучились  вмест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но что-т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умывать 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698E-72D6-470B-A69D-B10CCAEF60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4716360" y="3500280"/>
            <a:ext cx="4127760" cy="3097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ey</cp:lastModifiedBy>
  <dcterms:modified xsi:type="dcterms:W3CDTF">2012-06-05T09:58:41Z</dcterms:modified>
  <cp:revision>8</cp:revision>
  <dc:subject/>
  <dc:title>Слайд 1</dc:title>
</cp:coreProperties>
</file>