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894-B791-440B-9B72-787DFC7E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425-F0CB-4D86-962E-B096AA4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EC5-DA23-409D-A42A-0323AEA9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98A-5F06-41D2-B9B0-BB98FF93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8C2-14D4-4FE7-A8CE-05B3981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179-1EC4-42DD-9764-159C1739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23B-CBC2-4AD7-9A59-1395AB13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3059-EB5E-427F-BCF8-3258BB3F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90E-E1B4-4D23-B251-AE58353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1FA-0C3E-4338-9AB4-EFCA658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3D0E-D933-47FD-94F4-A361A2E8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9F4C-2F52-4933-B1D8-7EC1A60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765D-A8B6-4C7F-AF2B-7EDC3AC93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154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этап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EFC1-35F0-4666-A2B8-C93A436CD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2035080"/>
          <a:ext cx="8425080" cy="4556160"/>
        </p:xfrm>
        <a:graphic>
          <a:graphicData uri="http://schemas.openxmlformats.org/drawingml/2006/table">
            <a:tbl>
              <a:tblPr/>
              <a:tblGrid>
                <a:gridCol w="3097440"/>
                <a:gridCol w="1726920"/>
                <a:gridCol w="1872000"/>
                <a:gridCol w="172872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04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динение собранного материала. Оценка выполнения проекта, поставленных целей, достигнутых результатов, анализ причин недостатков (ошибок); обсуждение презентации конечного продукта. Репетиц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, формулирование вы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, участие в оценке достигнутого результа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домашней репетиции перед выступлением в классе по своей сказк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45" name="Picture 4" descr="C:\Documents and Settings\Alexey\Рабочий стол\сказки фото\DSC01486.jpg"/>
          <p:cNvPicPr/>
          <p:nvPr/>
        </p:nvPicPr>
        <p:blipFill>
          <a:blip r:embed="rId2"/>
          <a:stretch/>
        </p:blipFill>
        <p:spPr>
          <a:xfrm>
            <a:off x="4067280" y="4869000"/>
            <a:ext cx="2322360" cy="174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F4D-4F26-41D0-8C38-A00622319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2136600"/>
          <a:ext cx="8351640" cy="3856320"/>
        </p:xfrm>
        <a:graphic>
          <a:graphicData uri="http://schemas.openxmlformats.org/drawingml/2006/table">
            <a:tbl>
              <a:tblPr/>
              <a:tblGrid>
                <a:gridCol w="2590920"/>
                <a:gridCol w="2160360"/>
                <a:gridCol w="1873440"/>
                <a:gridCol w="172692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ие содержания и результатов проекта, представление продукта проектной деятельности «Правила жизни нашего коллектив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ыступления, коллективная защита получившегося проду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едставлении проек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презентации. Поддержка ребенк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41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ый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3AF-3CA7-46B7-B4A9-8C3D9E149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4000" y="1844640"/>
          <a:ext cx="8569080" cy="3290760"/>
        </p:xfrm>
        <a:graphic>
          <a:graphicData uri="http://schemas.openxmlformats.org/drawingml/2006/table">
            <a:tbl>
              <a:tblPr/>
              <a:tblGrid>
                <a:gridCol w="2879640"/>
                <a:gridCol w="2160360"/>
                <a:gridCol w="1656000"/>
                <a:gridCol w="187308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38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воей работы и работы других участников. Мини – сочинение «Для чего я пришел в школу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, обмен впечатления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бсужд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бсужде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4" descr="C:\Documents and Settings\Alexey\Рабочий стол\сказки фото\DSC01488.jpg"/>
          <p:cNvPicPr/>
          <p:nvPr/>
        </p:nvPicPr>
        <p:blipFill>
          <a:blip r:embed="rId2"/>
          <a:stretch/>
        </p:blipFill>
        <p:spPr>
          <a:xfrm>
            <a:off x="4788000" y="4292640"/>
            <a:ext cx="3070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ы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и сказочную азбуку  кла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и правила жизни нашего коллектива и реально оцени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пове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аучились  вмес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жно что-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ывать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2F23-CD2F-4415-82ED-AB3C5DD6B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716360" y="3500280"/>
            <a:ext cx="41277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ey</cp:lastModifiedBy>
  <dcterms:modified xsi:type="dcterms:W3CDTF">2012-06-05T09:58:41Z</dcterms:modified>
  <cp:revision>8</cp:revision>
  <dc:subject/>
  <dc:title>Слайд 1</dc:title>
</cp:coreProperties>
</file>