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1EB5-246F-4185-9B60-FF70AEAA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3060-B5FB-41FE-AA9C-CAA20446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CBE6-F3AA-4251-8C49-ED81421C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43BD-CF61-4456-929B-566358B1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D9A1-54D9-4A5A-814B-66579183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1ED4-84F2-4954-8CBB-29C02441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D740-3903-422B-A63B-A19B19E2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F53B-8FA0-406F-A452-E915424D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C04B-4FB7-4B89-BF59-8604F6A8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19FE-DAC7-4E3F-BCD3-06F03E4B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8466-6ECE-40D6-A9FE-F7230D69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B984-C462-4F5C-BA1A-0BA0396C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C2BA-45A5-476B-A065-BAB1B2FE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E240-0824-4384-A94D-6173221C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39BC-D007-44BB-8DEF-AD473470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3A58-0194-4366-8B64-C26F8956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8DAF-96F9-46F9-89A5-DB53FA6C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3F9D-4722-46D4-B194-16DA8CB8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57B2-E82B-4D5A-8471-A9FD7B13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AA4A-E23E-43E2-8F5C-18C5A507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CE62-7746-476F-B6D5-24944135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4D8F-866D-4116-BFFC-12BD3E24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3EEF-DCE1-4F47-B37F-1A0E7889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FF9A-8147-4734-BD5F-73D4E09F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BB8D-9981-47EB-9248-5BAB1D55C1B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DB03-C606-461C-93FF-91537591CDA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ffffcc"/>
                </a:solidFill>
                <a:latin typeface="Arial"/>
              </a:rPr>
              <a:t>Туве Янссон</a:t>
            </a:r>
            <a:br>
              <a:rPr sz="5100"/>
            </a:br>
            <a:r>
              <a:rPr b="1" lang="ru-RU" sz="5100" spc="-1" strike="noStrike">
                <a:solidFill>
                  <a:srgbClr val="ffffcc"/>
                </a:solidFill>
                <a:latin typeface="Arial"/>
              </a:rPr>
              <a:t>Знакомство с семьей Муми-троллей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76360" y="4797000"/>
            <a:ext cx="6840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Составила: Саватеева А.В.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учитель начальных класс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ГБОУ СОШ №139 г. Санкт-Петербург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роме Муми-семьи и их ближайших друзей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казки Янссон населяют, казалось бы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преметные крошки-малявки, всякие Кнюты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аломеи, лесные духи, загадочные зверьки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484360" y="2637000"/>
            <a:ext cx="4248360" cy="38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2341440" y="-316080"/>
            <a:ext cx="13896720" cy="750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ffffcc"/>
                </a:solidFill>
                <a:latin typeface="Arial"/>
              </a:rPr>
              <a:t>Семья Муми-троллей.</a:t>
            </a:r>
            <a:br>
              <a:rPr sz="5100"/>
            </a:b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858920" y="2781000"/>
            <a:ext cx="403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Туве Янссо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31784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290520"/>
            <a:ext cx="807732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Муми-тролль.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Ужасно трогательный, добрый и отзывчивый, в целом храбр, но иногда трусит... Легко заводит новые знакомства, чем доставляет некоторую головную боль своей маме..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87640" y="2637000"/>
            <a:ext cx="36640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290160"/>
            <a:ext cx="80773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Муми-мама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Лучшая мама в мире! Всегда готова принять новую порцию друзей любимого сына, накормить, обласкать и положить спать всю эту ораву..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453708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Муми-папа.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79640" y="1267920"/>
            <a:ext cx="5219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ыл рожден при самом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еобычном расположении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звезд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оставлен в Доме Подкидышей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Хемулих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молодости много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путешествовал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ам построил Муми-Дом. Так же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н самый известный писатель в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умидоле и окрестностях.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232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7840" y="290160"/>
            <a:ext cx="80773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Снифф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 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Немного жадный, любит поныть... Неравнодушен ко всему яркому и сладкому. Нашел замечательный грот (правда, не совсем сам).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314460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347760"/>
            <a:ext cx="807732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Снусмумрик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518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тица вольная. Неутомимый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скатель приключений. Люби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ыкурить трубочку и поиграть н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убной гармошке. Не любит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запрещающих табличек, дома 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торожа парка. Каждое лето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оводит в Мумидоле, а осенью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уходит в далекие края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867280" y="1341360"/>
            <a:ext cx="25606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290160"/>
            <a:ext cx="80773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Фрекен Снорк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95640" y="2133720"/>
            <a:ext cx="489744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одруга Муми-тролля,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бладательница шелковистой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елки и золотого ножного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раслета. Любит украшения 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рутиться перед зеркалом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ыла спасена Муми-Тролле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т хищного куста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47720" y="1413000"/>
            <a:ext cx="29289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8:12:50Z</dcterms:created>
  <dc:creator>Яхонт</dc:creator>
  <dc:description/>
  <dc:language>en-US</dc:language>
  <cp:lastModifiedBy>Яхонт</cp:lastModifiedBy>
  <dcterms:modified xsi:type="dcterms:W3CDTF">2012-06-04T20:25:53Z</dcterms:modified>
  <cp:revision>6</cp:revision>
  <dc:subject/>
  <dc:title>Семья Муми-троллей. </dc:title>
</cp:coreProperties>
</file>