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3B7-3566-4558-8678-68464BCE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0D7-A095-4FEB-87D5-A526BA1E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ACE-4D0B-409F-AD49-97E58FBD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94C-600C-4039-B48D-FFE2C6FC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B4A2-9B5B-40DF-AA21-D377CE9D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50B1-857E-412E-8E4A-56F81AEB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0C1E-9830-4AAF-9D47-18134560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2E5C-9F69-4AB1-BD67-95809F18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236E-2E1F-427A-8FE5-2993B848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4F3E-0994-435A-AD09-1B840826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2961-AE92-47B6-9D06-60CA04CC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9BA-664E-4CD5-9442-9E6A5C36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450D-50B5-43E9-A72B-722FE913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EE0C-81B3-456F-B20E-AA3D959B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7018-5235-4E2E-A3B6-544DC22B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66A1-E7A5-4AE7-834E-7C67518F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C03A-799A-43EC-853A-16B2E74F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2BF-3D85-4A37-9AAF-F0E2EDA1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727-171C-4417-BD76-61E3510D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13D-A762-4D66-A972-11CE812F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BB6-D541-4250-97C1-BA640352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7A1-F48F-4BA6-BF48-69921B51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CD0-AECC-4101-B561-6250CE2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8D8-4BD1-48B0-BC3F-88A62D7C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A8D4-866B-4A55-B7C7-58621C96523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E64C-92E6-45AC-870B-E7087D5B397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cc"/>
                </a:solidFill>
                <a:latin typeface="Arial"/>
              </a:rPr>
              <a:t>Туве Янссон</a:t>
            </a:r>
            <a:br>
              <a:rPr sz="5100"/>
            </a:br>
            <a:r>
              <a:rPr b="1" lang="ru-RU" sz="5100" spc="-1" strike="noStrike">
                <a:solidFill>
                  <a:srgbClr val="ffffcc"/>
                </a:solidFill>
                <a:latin typeface="Arial"/>
              </a:rPr>
              <a:t>Знакомство с семьей Муми-троллей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76360" y="4797000"/>
            <a:ext cx="68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Составила: Саватеева А.В.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учитель начальных класс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ГБОУ СОШ №139 г. Санкт-Петербург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роме Муми-семьи и их ближайших друзей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казки Янссон населяют, казалось бы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преметные крошки-малявки, всякие Кнюты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аломеи, лесные духи, загадочные зверьки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84360" y="2637000"/>
            <a:ext cx="424836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2341440" y="-316080"/>
            <a:ext cx="13896720" cy="750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ffffcc"/>
                </a:solidFill>
                <a:latin typeface="Arial"/>
              </a:rPr>
              <a:t>Семья Муми-троллей.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858920" y="2781000"/>
            <a:ext cx="403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Туве Янссо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31784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90520"/>
            <a:ext cx="807732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Муми-тролль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Ужасно трогательный, добрый и отзывчивый, в целом храбр, но иногда трусит... Легко заводит новые знакомства, чем доставляет некоторую головную боль своей маме..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3664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90160"/>
            <a:ext cx="8077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Муми-мама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ая мама в мире! Всегда готова принять новую порцию друзей любимого сына, накормить, обласкать и положить спать всю эту ораву..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4537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Муми-папа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79640" y="1267920"/>
            <a:ext cx="5219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ыл рожден при само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обычном расположении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звезд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 оставлен в Доме Подкидыше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емулих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молодости много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путешествовал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ам построил Муми-Дом. Так же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н самый известный писатель в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умидоле и окрестностях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232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7840" y="290160"/>
            <a:ext cx="80773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Снифф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 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много жадный, любит поныть... Неравнодушен ко всему яркому и сладкому. Нашел замечательный грот (правда, не совсем сам)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31446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47760"/>
            <a:ext cx="80773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Снусмумрик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тица вольная. Неутомимы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катель приключений. Люби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курить трубочку и поиграть н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убной гармошке. Не любит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запрещающих табличек, дома 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торожа парка. Каждое лет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водит в Мумидоле, а осенью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ходит в далекие кра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25606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90160"/>
            <a:ext cx="80773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Фрекен Снорк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5640" y="2133720"/>
            <a:ext cx="48974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друга Муми-тролля,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бладательница шелковисто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лки и золотого ножног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раслета. Любит украшения и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утиться перед зеркалом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ыла спасена Муми-Тролле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 хищного куста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47720" y="1413000"/>
            <a:ext cx="29289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8:12:50Z</dcterms:created>
  <dc:creator>Яхонт</dc:creator>
  <dc:description/>
  <dc:language>en-US</dc:language>
  <cp:lastModifiedBy>Яхонт</cp:lastModifiedBy>
  <dcterms:modified xsi:type="dcterms:W3CDTF">2012-06-04T20:25:53Z</dcterms:modified>
  <cp:revision>6</cp:revision>
  <dc:subject/>
  <dc:title>Семья Муми-троллей. </dc:title>
</cp:coreProperties>
</file>