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6EC-7C60-4A9E-968D-651A1B7F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6D2-1BB3-491A-8819-BC9B4FCD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462-7AAB-48A1-8C5B-322428A7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471-D708-4A7F-81EF-6E61DA0F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6948-E4BF-4AC5-BF18-CA85CD8F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8AEE-33A7-444F-9395-0DCBFA6D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9AE1-D197-4D7E-BEA7-A6B6DFC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8D4E-595D-45DD-9620-A48DF1CE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9DEC-9B06-4417-ACE2-309C405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7A14-D635-4E94-9952-231601E4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C3D4-3720-4E5F-B951-878413A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169-3BDE-4290-A657-3746F27C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59F2-04E6-43D2-A864-03FC49A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0A71-F699-4DE3-80D2-51552EA6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978-37B6-4EAE-B123-77172618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2812-B99E-4C44-B80D-C82CD4AA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92CE-9792-4AAF-9510-E077C4DC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E48E-1EFD-47E0-B451-5A338ADB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706-2BF4-42D7-B651-2ECDEDC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562-F1E3-4F5C-9C80-F2C77A1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97B-395A-48C7-90FD-DFA08032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EBC-39C7-4CCD-9124-6B0B3EF9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BA4-844C-486F-81A3-07C578B0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8E5-F7B0-402B-8872-C24258E7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E371-4621-465A-9FEE-A82BC9C639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2B1-F8CF-478B-8F70-46CD5283F9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Устный счет. </a:t>
            </a:r>
            <a:r>
              <a:rPr b="1" lang="ru-RU" sz="2400" spc="-1" strike="noStrike">
                <a:solidFill>
                  <a:srgbClr val="996600"/>
                </a:solidFill>
                <a:latin typeface="Garamond"/>
              </a:rPr>
              <a:t>Пример 1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772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С, если длины отрезков АВ и ВС равны 5 см и 1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С, если длины отрезков АВ и ВС равны 2 см и 10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ВС, если длины отрезков АС и АВ равны 17 см и 3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В, если длины отрезков АС и ВС равны 8 см и 11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С, если длины отрезков АВ и ВС равны 1 см и 100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755640" y="1484280"/>
            <a:ext cx="7561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684360" y="141300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8244000" y="141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2556000" y="141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68360" y="83664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39640" y="907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268360" y="90792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411280" y="9079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8115480" y="86184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471600" y="1916280"/>
            <a:ext cx="8280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ли длина отрезка АВ быть больше длины отрезка В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 длину отрезка АВ, если длины отрезков АС и ВС равны 100 см и 1 см соответств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ли длина отрезка АВ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жет ли длина отрезка ВС быть больше длины отрезка 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6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Устный счет. </a:t>
            </a:r>
            <a:r>
              <a:rPr b="1" lang="ru-RU" sz="2800" spc="-1" strike="noStrike">
                <a:solidFill>
                  <a:srgbClr val="996600"/>
                </a:solidFill>
                <a:latin typeface="Garamond"/>
              </a:rPr>
              <a:t>Пример 2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ес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вна 1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ес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1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вестно, что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1 с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какова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при условии, чт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539640" y="1268280"/>
            <a:ext cx="806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468360" y="1197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8532720" y="11970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4417920" y="1187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2411280" y="1071720"/>
            <a:ext cx="0" cy="358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6588000" y="1082520"/>
            <a:ext cx="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179280" y="692280"/>
            <a:ext cx="72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68360" y="765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4284720" y="76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8388360" y="763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8360" y="2133720"/>
            <a:ext cx="8207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жет 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быть в 3 раза больше длины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жет 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быть на 2 см меньше длины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йти длину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если длина отрезк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N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 10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6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8T06:23:41Z</dcterms:created>
  <dc:creator>Алексей Зайцев</dc:creator>
  <dc:description/>
  <dc:language>en-US</dc:language>
  <cp:lastModifiedBy>ludi</cp:lastModifiedBy>
  <dcterms:modified xsi:type="dcterms:W3CDTF">2012-06-05T11:43:49Z</dcterms:modified>
  <cp:revision>18</cp:revision>
  <dc:subject/>
  <dc:title>Устный счет</dc:title>
</cp:coreProperties>
</file>