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768-3321-49E7-A4ED-3B51E58C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9DE-0203-496F-B33C-5CF78A6B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A7F-C107-454A-9AC9-5F6D0895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860-402B-41F9-9D7D-E5239DEC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BFE-8DD4-4213-A375-141D7412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32E4-0DB3-4B9A-8D3A-B1910030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CE3-0EEF-4241-A28A-FC63071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569-F996-4082-A856-4660461B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559-1045-4ECF-823C-0BBD331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29D-3046-4D47-8801-6F67AE40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538-2950-4219-BADD-269FBE62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4AE-EF8B-4F63-A885-ECE9983D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B822-1C51-4DAA-BA68-A4081ED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EE26-A27A-42C3-8D1B-2FED202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987-3088-40C3-BF8B-D1FADF3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9223-8E59-4C63-A4CE-FC3817B6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36BD-9FA2-44A6-9709-3FB08016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DEA-47D7-40D0-811D-3D17CE6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422-1AE6-45AC-BB8A-7291AD2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E47-3AD7-4550-B05D-405D3DF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A38-5158-4BFE-9684-F3AC630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2FA-4B0D-412F-B6AB-C066E01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39C-8F8F-419D-94CA-3A950FE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53A-1A16-4B18-B199-DF5D44E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A66-5A49-47D8-970C-CEAEFE77B4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70F2-01E2-4F24-AEF8-44ECF23309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Устный счет. </a:t>
            </a:r>
            <a:r>
              <a:rPr b="1" lang="ru-RU" sz="2400" spc="-1" strike="noStrike">
                <a:solidFill>
                  <a:srgbClr val="996600"/>
                </a:solidFill>
                <a:latin typeface="Garamond"/>
              </a:rPr>
              <a:t>Пример 1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772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5 см и 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2 см и 10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ВС, если длины отрезков АС и АВ равны 17 см и 3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В, если длины отрезков АС и ВС равны 8 см и 1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1 см и 100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755640" y="1484280"/>
            <a:ext cx="756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684360" y="141300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244000" y="141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2556000" y="141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68360" y="836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9640" y="90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268360" y="9079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411280" y="907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8115480" y="86184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471600" y="1916280"/>
            <a:ext cx="828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АВ быть больше длины отрезка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В, если длины отрезков АС и ВС равны 100 см и 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АВ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ВС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Устный счет. </a:t>
            </a:r>
            <a:r>
              <a:rPr b="1" lang="ru-RU" sz="2800" spc="-1" strike="noStrike">
                <a:solidFill>
                  <a:srgbClr val="996600"/>
                </a:solidFill>
                <a:latin typeface="Garamond"/>
              </a:rPr>
              <a:t>Пример 2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а 1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 с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какова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и условии, чт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9640" y="1268280"/>
            <a:ext cx="806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68360" y="119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8532720" y="119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4417920" y="1187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2411280" y="107172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6588000" y="108252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79280" y="6922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8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28472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388360" y="763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8360" y="2133720"/>
            <a:ext cx="8207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жет 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быть в 3 раза больше длины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жет 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быть на 2 см меньше длины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0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6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6:23:41Z</dcterms:created>
  <dc:creator>Алексей Зайцев</dc:creator>
  <dc:description/>
  <dc:language>en-US</dc:language>
  <cp:lastModifiedBy>ludi</cp:lastModifiedBy>
  <dcterms:modified xsi:type="dcterms:W3CDTF">2012-06-05T11:43:49Z</dcterms:modified>
  <cp:revision>18</cp:revision>
  <dc:subject/>
  <dc:title>Устный счет</dc:title>
</cp:coreProperties>
</file>