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9AAC-0835-4B86-BA68-48ED1879E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1213-32F7-4FD6-94A0-8E09ADD26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4284-B671-4704-ACDB-98D22F5B0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DBB2-87F1-4524-838F-8CED98058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A2A91-CC9D-4C9E-9735-9F0F84761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4F59A-EDB4-4E40-89EA-A87FD7BB2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EEAA9-B1C9-47EA-826E-10D4EA0E4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1B249-A0FF-47F2-B131-EE240468C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61688-2FF5-461A-AFB5-F1FB7ABD1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01C6A-3199-48A5-BBD3-C16E0308B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5C19B-BD5B-46E4-8F67-478A2E944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2E85-D209-44F0-8FB8-7A811A6AC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1CDF8-3BCA-4702-8EAA-D2214030E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24DFD-49A9-42A6-AC31-06F1939A1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176EC-7601-4815-926F-572E7E14F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81B4D-EDEF-4BC9-9AE0-5D84403FA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92E51-F267-497C-8B4C-EB51C5885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3FA5-C99F-442C-8282-C039EF909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7692-4DB7-4984-B065-A350B645A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41C0-CE26-4710-ACBC-632DC9531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3708-7F72-4E71-85FA-2CEE5D2A5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24E7-3686-4401-A06C-8A3D3A988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96DF-FA8A-4936-9EE0-5C9E9620B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DC31-A3F7-480D-A1C7-BC499C809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2851cc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D6646-DF0D-4486-AF5A-E11187C2137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2851cc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5000" y="1552680"/>
              <a:ext cx="6726240" cy="5305320"/>
            </a:xfrm>
            <a:custGeom>
              <a:avLst/>
              <a:gdLst/>
              <a:ahLst/>
              <a:rect l="l" t="t" r="r" b="b"/>
              <a:pathLst>
                <a:path fill="none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</a:path>
                <a:path stroke="0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  <a:lnTo>
                    <a:pt x="0" y="21231"/>
                  </a:lnTo>
                  <a:lnTo>
                    <a:pt x="3976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31BDA-585B-4FCA-B349-FA478C6911F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cc66"/>
                </a:solidFill>
                <a:latin typeface="Times New Roman"/>
              </a:rPr>
              <a:t>Упрощение выражений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28240" y="3504960"/>
            <a:ext cx="853452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Times New Roman"/>
              </a:rPr>
              <a:t>Цели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Ввести правило вынесения множителя за скобк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Формировать умение выносить общий множитель за скобк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90400" y="14040"/>
            <a:ext cx="7772400" cy="6858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66ff"/>
                </a:solidFill>
                <a:latin typeface="Times New Roman"/>
              </a:rPr>
              <a:t>Математический диктант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0080" y="704520"/>
            <a:ext cx="4471920" cy="585324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Какие слагаемые называются подобными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ыписать коэффициенты выражений: </a:t>
            </a:r>
            <a:r>
              <a:rPr b="1" i="1" lang="en-US" sz="2400" spc="-1" strike="noStrike">
                <a:solidFill>
                  <a:srgbClr val="990099"/>
                </a:solidFill>
                <a:latin typeface="Times New Roman"/>
              </a:rPr>
              <a:t>3a, </a:t>
            </a:r>
            <a:r>
              <a:rPr b="1" i="1" lang="en-US" sz="2400" spc="-1" strike="noStrike">
                <a:solidFill>
                  <a:srgbClr val="ff0033"/>
                </a:solidFill>
                <a:latin typeface="Times New Roman"/>
              </a:rPr>
              <a:t>17ab</a:t>
            </a:r>
            <a:r>
              <a:rPr b="1" i="1" lang="en-US" sz="2400" spc="-1" strike="noStrike">
                <a:solidFill>
                  <a:srgbClr val="990099"/>
                </a:solidFill>
                <a:latin typeface="Times New Roman"/>
              </a:rPr>
              <a:t>, abc</a:t>
            </a:r>
            <a:r>
              <a:rPr b="1" i="1" lang="ru-RU" sz="2400" spc="-1" strike="noStrike">
                <a:solidFill>
                  <a:srgbClr val="990099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Упростить выражени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99"/>
                </a:solidFill>
                <a:latin typeface="Times New Roman"/>
              </a:rPr>
              <a:t>4x </a:t>
            </a:r>
            <a:r>
              <a:rPr b="1" i="1" lang="en-US" sz="24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· 15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r>
              <a:rPr b="1" i="1" lang="en-US" sz="24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13a · 6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подчеркнуть буквенный множитель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Записать и, если это возможно, упростить выражения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</a:t>
            </a:r>
            <a:r>
              <a:rPr b="1" i="1" lang="ru-RU" sz="24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сумма </a:t>
            </a:r>
            <a:r>
              <a:rPr b="1" i="1" lang="en-US" sz="24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5a </a:t>
            </a:r>
            <a:r>
              <a:rPr b="1" i="1" lang="ru-RU" sz="24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и </a:t>
            </a:r>
            <a:r>
              <a:rPr b="1" i="1" lang="en-US" sz="24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8a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</a:t>
            </a:r>
            <a:r>
              <a:rPr b="1" i="1" lang="ru-RU" sz="24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разность выражений </a:t>
            </a:r>
            <a:r>
              <a:rPr b="1" i="1" lang="en-US" sz="24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6a </a:t>
            </a:r>
            <a:r>
              <a:rPr b="1" i="1" lang="ru-RU" sz="24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и </a:t>
            </a:r>
            <a:r>
              <a:rPr b="1" i="1" lang="en-US" sz="24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3a </a:t>
            </a:r>
            <a:r>
              <a:rPr b="1" i="1" lang="ru-RU" sz="24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увеличить на 1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90600" y="705960"/>
            <a:ext cx="4172040" cy="5867640"/>
          </a:xfrm>
          <a:prstGeom prst="rect">
            <a:avLst/>
          </a:prstGeom>
          <a:blipFill rotWithShape="0">
            <a:blip r:embed="rId3"/>
            <a:tile tx="0" ty="0" sx="100000" sy="100000" algn="ctr"/>
          </a:blipFill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Дайте определение коэффициент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ыписать коэффициенты выражений: </a:t>
            </a:r>
            <a:r>
              <a:rPr b="1" i="1" lang="en-US" sz="24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1" i="1" lang="en-US" sz="2400" spc="-1" strike="noStrike">
                <a:solidFill>
                  <a:srgbClr val="990099"/>
                </a:solidFill>
                <a:latin typeface="Times New Roman"/>
              </a:rPr>
              <a:t>, 324y,</a:t>
            </a:r>
            <a:r>
              <a:rPr b="1" i="1" lang="en-US" sz="2400" spc="-1" strike="noStrike">
                <a:solidFill>
                  <a:srgbClr val="ff0033"/>
                </a:solidFill>
                <a:latin typeface="Times New Roman"/>
              </a:rPr>
              <a:t> 9ab</a:t>
            </a:r>
            <a:r>
              <a:rPr b="1" i="1" lang="ru-RU" sz="2400" spc="-1" strike="noStrike">
                <a:solidFill>
                  <a:srgbClr val="990099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Упростить выражени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99"/>
                </a:solidFill>
                <a:latin typeface="Times New Roman"/>
              </a:rPr>
              <a:t>7 </a:t>
            </a:r>
            <a:r>
              <a:rPr b="1" i="1" lang="en-US" sz="24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· 21a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r>
              <a:rPr b="1" i="1" lang="en-US" sz="24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5c · 36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подчеркнуть буквенный множитель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исать и, если это возможно, упростить выражения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</a:t>
            </a:r>
            <a:r>
              <a:rPr b="1" i="1" lang="ru-RU" sz="24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разность 11</a:t>
            </a:r>
            <a:r>
              <a:rPr b="1" i="1" lang="en-US" sz="24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x </a:t>
            </a:r>
            <a:r>
              <a:rPr b="1" i="1" lang="ru-RU" sz="24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и </a:t>
            </a:r>
            <a:r>
              <a:rPr b="1" i="1" lang="en-US" sz="24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6x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</a:t>
            </a:r>
            <a:r>
              <a:rPr b="1" i="1" lang="ru-RU" sz="24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сумму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выражений </a:t>
            </a:r>
            <a:r>
              <a:rPr b="1" i="1" lang="en-US" sz="24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17x </a:t>
            </a:r>
            <a:r>
              <a:rPr b="1" i="1" lang="ru-RU" sz="24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и </a:t>
            </a:r>
            <a:r>
              <a:rPr b="1" i="1" lang="en-US" sz="24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x </a:t>
            </a:r>
            <a:r>
              <a:rPr b="1" i="1" lang="ru-RU" sz="24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уменьшить на </a:t>
            </a:r>
            <a:r>
              <a:rPr b="1" i="1" lang="en-US" sz="24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5x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cc66"/>
                </a:solidFill>
                <a:latin typeface="Times New Roman"/>
              </a:rPr>
              <a:t>Изучение нового материала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610480" cy="533412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Times New Roman"/>
              </a:rPr>
              <a:t>Используя распределительный закон, вынесите общий множитель за скобки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35712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17 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·</a:t>
            </a:r>
            <a:r>
              <a:rPr b="1" lang="ru-RU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81 + 17 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·</a:t>
            </a:r>
            <a:r>
              <a:rPr b="1" lang="ru-RU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9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35712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24 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·</a:t>
            </a:r>
            <a:r>
              <a:rPr b="1" lang="ru-RU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53 – 35 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·</a:t>
            </a:r>
            <a:r>
              <a:rPr b="1" lang="ru-RU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2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35712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7m + 9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35712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17m – 17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35712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10a + 30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35712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35x – 10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8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8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cc66"/>
                </a:solidFill>
                <a:latin typeface="Times New Roman"/>
              </a:rPr>
              <a:t>Закрепление материала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У № 250 – устно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У № 251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У № 252 (а, в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cc66"/>
                </a:solidFill>
                <a:latin typeface="Times New Roman"/>
              </a:rPr>
              <a:t>Домашнее задание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153280" cy="129564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У № 252 (б, г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онтрольные задания, стр. 74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08:32:32Z</dcterms:created>
  <dc:creator/>
  <dc:description/>
  <cp:keywords/>
  <dc:language>en-US</dc:language>
  <cp:lastModifiedBy>ludi</cp:lastModifiedBy>
  <dcterms:modified xsi:type="dcterms:W3CDTF">2012-06-05T12:01:42Z</dcterms:modified>
  <cp:revision>10</cp:revision>
  <dc:subject/>
  <dc:title>Упрощение выражений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90721049</vt:lpwstr>
  </property>
</Properties>
</file>