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EAA-3980-423F-9AEA-3A67B995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627-D144-4622-9EBF-75686051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522-611F-40B1-9664-F5822ED2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291-4AF5-4412-9968-BEA46DD8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C613-2C75-4ABD-B431-1C65C5EE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862B-826C-4DB2-BE31-8B6C5900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D67F-AE0D-4E54-9C4A-657AB7FA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81D8-362E-4567-8287-63C24856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6F2E-5789-4171-95D8-3000C5A9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AD7F-3262-4143-B322-7C9EBEF8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8E29-1FF7-4370-84C7-769F4082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3A6-D239-413E-BA78-ED210BFA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371D-6A9C-4DD8-8D88-1327C46C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0FE-3CF4-4EB1-A2EC-CE561CC5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34A8-532F-42CC-8C1C-5BB26171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6B9-97BF-4D31-8849-DA243BE6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3F7E-6BA3-454A-A1C3-259336F7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33E-DC35-4D64-BE1F-BBB8426D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76B-1B97-46AB-B678-86A56EE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B76-0B39-40D8-951F-0BAE9352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2B3-065D-4901-9CF0-180BE90F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9BE-868C-4BD0-81DC-FE91A36F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EBB-8880-410F-B47F-049F26C0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5B5-94FE-488B-98C0-D67529C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BE4A-FCAE-45D7-AD62-142E895611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8B9D-9CC4-41B9-B94D-AB022D3B50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Упрощение выраж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35049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Цел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вести правило вынесения множителя за ско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ть умение выносить общий множитель за скоб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0400" y="14040"/>
            <a:ext cx="77724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Times New Roman"/>
              </a:rPr>
              <a:t>Математический диктан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80" y="704520"/>
            <a:ext cx="4471920" cy="5853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акие слагаемые называются подобным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исать коэффициенты выражений: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3a,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17ab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, abc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остить выра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4x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· 1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3a · 6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черкнуть буквенный множ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писать и, если это возможно, упростить выраж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сумма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5a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8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разность выражений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6a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3a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увеличить на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0600" y="705960"/>
            <a:ext cx="4172040" cy="58676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йте определение коэффици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исать коэффициенты выражений: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, 324y,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</a:rPr>
              <a:t> 9ab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остить выра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Times New Roman"/>
              </a:rPr>
              <a:t>7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· 21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c · 36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черкнуть буквенный множ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ть и, если это возможно, упростить выраж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разность 11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x </a:t>
            </a:r>
            <a:r>
              <a:rPr b="1" i="1" lang="ru-RU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6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сумм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выражений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17x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x </a:t>
            </a:r>
            <a:r>
              <a:rPr b="1" i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уменьшить на </a:t>
            </a:r>
            <a:r>
              <a:rPr b="1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5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66"/>
                </a:solidFill>
                <a:latin typeface="Times New Roman"/>
              </a:rPr>
              <a:t>Изучение нового материал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Используя распределительный закон, вынесите общий множитель за скобк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17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81 + 17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4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3 – 35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m + 9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7m – 17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0a + 30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35712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5x – 10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Закрепление материал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№ 250 – устн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№ 25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 № 252 (а, в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66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12956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№ 252 (б, г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ные задания, стр. 7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8:32:32Z</dcterms:created>
  <dc:creator/>
  <dc:description/>
  <cp:keywords/>
  <dc:language>en-US</dc:language>
  <cp:lastModifiedBy>ludi</cp:lastModifiedBy>
  <dcterms:modified xsi:type="dcterms:W3CDTF">2012-06-05T12:01:42Z</dcterms:modified>
  <cp:revision>10</cp:revision>
  <dc:subject/>
  <dc:title>Упрощение выражен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49</vt:lpwstr>
  </property>
</Properties>
</file>