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A10FB-4F91-4227-991B-FB40E056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CCE86-5FD6-4D46-B5F0-830AEBCC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33361-8605-4642-89BE-B9B1F363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6771-0938-4CD1-92EC-0B9E9D8C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5B63B-A23D-44A6-9986-F050B5E3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D35B5-C6DE-4AFD-88A3-464832A6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4F06C-146E-4854-B726-B939F921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6C6A1-BA2C-41A9-8F85-1AA3044C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0B172-8C34-41FD-AEBA-3782E796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E9779-7940-4747-A4C3-F94AD8AE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C9050-65AB-47A2-8683-2773912C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C1F66-C9DC-443C-A22A-3EF2FFD1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ABF05-A1EB-4428-84AC-11AADB06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302C6-4C36-4472-9C09-1C3F3000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D745F-DA51-4D7C-8A2F-BCB5C8F6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91451-3750-465E-A229-CE54E9A0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13EFC-3FCC-413A-AA15-3F508109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77C70-2910-45D8-B99A-275B4A4C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FAF1B-BB4B-4A0F-95A6-06A5D2AC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56A9C-3720-4492-9F54-B69898D1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5ABAA-0D03-44B2-9626-23E2D1FD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7434-ACA0-4623-83DA-54190966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E2452-5DA9-4C84-9FDA-1FAB36A8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C73E-9869-4643-951E-0EA51977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92F4-D6F5-4B76-AA73-1E9AD6CE46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E2A1-822A-4917-BC5D-F5B4D50FEC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.gif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aramond"/>
              </a:rPr>
              <a:t>Открытие европейцами Америки, торговых путей в Азию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З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, читать, вопросы 1,4, пересказ, вопрос 2, пись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Страница 11, иллюстрация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очему рядом с изобретателем художник поместил изображение нечистой силы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Отгадайте о чем речь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«Выйдет из недр некто, кто ужасающими криками оглушит стоящих поблизости и дыханием своим принесет смерть людям и разрушение городам и замкам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Страница 12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28800" y="200016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те в тексте, что позволило людям далеко плав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5072040" y="1500120"/>
            <a:ext cx="3143160" cy="2446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5072040" y="3929040"/>
            <a:ext cx="31431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Сделайте выводы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Схема 6" descr=""/>
          <p:cNvPicPr/>
          <p:nvPr/>
        </p:nvPicPr>
        <p:blipFill>
          <a:blip r:embed="rId1"/>
          <a:stretch/>
        </p:blipFill>
        <p:spPr>
          <a:xfrm>
            <a:off x="1755720" y="1682640"/>
            <a:ext cx="2279880" cy="230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5357880" y="1714680"/>
            <a:ext cx="2925720" cy="1066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5357880" y="2714760"/>
            <a:ext cx="2938320" cy="1071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2711520" cy="768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5"/>
          <a:stretch/>
        </p:blipFill>
        <p:spPr>
          <a:xfrm>
            <a:off x="1857240" y="5143680"/>
            <a:ext cx="2714760" cy="939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6"/>
          <a:stretch/>
        </p:blipFill>
        <p:spPr>
          <a:xfrm>
            <a:off x="4714920" y="4143240"/>
            <a:ext cx="2031840" cy="201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ag00317_"/>
          <p:cNvPicPr/>
          <p:nvPr/>
        </p:nvPicPr>
        <p:blipFill>
          <a:blip r:embed="rId7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8"/>
          <a:stretch/>
        </p:blipFill>
        <p:spPr>
          <a:xfrm>
            <a:off x="6929280" y="3857760"/>
            <a:ext cx="1490760" cy="1160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9"/>
          <a:stretch/>
        </p:blipFill>
        <p:spPr>
          <a:xfrm>
            <a:off x="6929280" y="5000760"/>
            <a:ext cx="15004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Задание на урок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кой эпохе больше соответствуют ВГО – средневековью или новому времен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Предпосылки ВГО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8" name="Organization Chart 5"/>
          <p:cNvGrpSpPr/>
          <p:nvPr/>
        </p:nvGrpSpPr>
        <p:grpSpPr>
          <a:xfrm>
            <a:off x="1143000" y="1790640"/>
            <a:ext cx="7771320" cy="4380840"/>
            <a:chOff x="1143000" y="1790640"/>
            <a:chExt cx="7771320" cy="4380840"/>
          </a:xfrm>
        </p:grpSpPr>
        <p:cxnSp>
          <p:nvCxnSpPr>
            <p:cNvPr id="99" name="_s1028"/>
            <p:cNvCxnSpPr>
              <a:stCxn id="100" idx="1"/>
              <a:endCxn id="101" idx="2"/>
            </p:cNvCxnSpPr>
            <p:nvPr/>
          </p:nvCxnSpPr>
          <p:spPr>
            <a:xfrm rot="10800000">
              <a:off x="3473640" y="2586240"/>
              <a:ext cx="777600" cy="3187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029"/>
            <p:cNvCxnSpPr>
              <a:stCxn id="103" idx="1"/>
              <a:endCxn id="101" idx="2"/>
            </p:cNvCxnSpPr>
            <p:nvPr/>
          </p:nvCxnSpPr>
          <p:spPr>
            <a:xfrm rot="10800000">
              <a:off x="3473640" y="2586240"/>
              <a:ext cx="777600" cy="1991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030"/>
            <p:cNvCxnSpPr>
              <a:stCxn id="105" idx="1"/>
              <a:endCxn id="101" idx="2"/>
            </p:cNvCxnSpPr>
            <p:nvPr/>
          </p:nvCxnSpPr>
          <p:spPr>
            <a:xfrm rot="10800000">
              <a:off x="3473640" y="2586240"/>
              <a:ext cx="777600" cy="79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1" name="_s1031"/>
            <p:cNvSpPr/>
            <p:nvPr/>
          </p:nvSpPr>
          <p:spPr>
            <a:xfrm>
              <a:off x="1143000" y="1790640"/>
              <a:ext cx="4662720" cy="7963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Предпосылки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Arial"/>
                </a:rPr>
                <a:t>ВГО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2"/>
            <p:cNvSpPr/>
            <p:nvPr/>
          </p:nvSpPr>
          <p:spPr>
            <a:xfrm>
              <a:off x="4251600" y="2985480"/>
              <a:ext cx="4662720" cy="7963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Новый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человек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3"/>
            <p:cNvSpPr/>
            <p:nvPr/>
          </p:nvSpPr>
          <p:spPr>
            <a:xfrm>
              <a:off x="4251600" y="4180320"/>
              <a:ext cx="4662720" cy="7963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Новы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зн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4"/>
            <p:cNvSpPr/>
            <p:nvPr/>
          </p:nvSpPr>
          <p:spPr>
            <a:xfrm>
              <a:off x="4251600" y="5375160"/>
              <a:ext cx="4662720" cy="7963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Новые технические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возможности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14" descr="ag00029_"/>
          <p:cNvPicPr/>
          <p:nvPr/>
        </p:nvPicPr>
        <p:blipFill>
          <a:blip r:embed="rId1"/>
          <a:stretch/>
        </p:blipFill>
        <p:spPr>
          <a:xfrm>
            <a:off x="250920" y="115920"/>
            <a:ext cx="1873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Страница 8, пункт, страница 10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азовите новые изобретени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кое изобретение связано с новым знание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Что это за изобретение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500120" y="2143080"/>
            <a:ext cx="7000920" cy="1982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1500120" y="4071960"/>
            <a:ext cx="7000920" cy="2489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ag00317_"/>
          <p:cNvPicPr/>
          <p:nvPr/>
        </p:nvPicPr>
        <p:blipFill>
          <a:blip r:embed="rId3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Страница 9, иллюстрация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спомните, в чем суть изобретения книгопечатани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355240" cy="3047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357120" y="3286080"/>
            <a:ext cx="835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Страница 10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очитайте и объясните название пункт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ag00317_"/>
          <p:cNvPicPr/>
          <p:nvPr/>
        </p:nvPicPr>
        <p:blipFill>
          <a:blip r:embed="rId1"/>
          <a:stretch/>
        </p:blipFill>
        <p:spPr>
          <a:xfrm>
            <a:off x="0" y="0"/>
            <a:ext cx="1459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285920" y="142920"/>
            <a:ext cx="657684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6:46:09Z</dcterms:created>
  <dc:creator>***</dc:creator>
  <dc:description/>
  <dc:language>en-US</dc:language>
  <cp:lastModifiedBy>Алик</cp:lastModifiedBy>
  <dcterms:modified xsi:type="dcterms:W3CDTF">2011-09-04T10:54:34Z</dcterms:modified>
  <cp:revision>20</cp:revision>
  <dc:subject/>
  <dc:title>Открытие европейцами Америки, торговых путей в Азию</dc:title>
</cp:coreProperties>
</file>