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BA249-D405-4FC4-8952-48B5B5618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0AC87-32B2-4E3C-857C-1760BFB3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023AF-91F6-47BC-BDD7-8CB96D746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63E98-F6AF-4DE1-9044-BE83146DF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8BDA55-E4D4-4A3A-B38B-0651D12CD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05EC9-7156-4325-B579-3F96C134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50133-3A86-4630-B04E-A1FD1E1A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5E539-7EF1-422B-AB6B-689E9997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1AB17-FA57-45AC-917E-5B3E5EC5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31FE1-EE0C-429B-A6EC-0A6C375F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78EA4-29D8-43D6-800C-0F32968E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F3DF8-4B49-4785-A923-13422B47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6CAFE3-635B-4D41-8DE5-7B045BFD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2DE32-93CE-477D-A24D-86E18085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22D19-9F0B-4E68-B4EA-56597F05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8EEF4-B0C7-4586-AA91-E928C45D5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038440-E344-4610-B909-1AA2720DF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EEC5F-B076-465D-9B23-E2F11F56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972FB-4126-4287-91E3-065EDBD2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49066-4A9A-482C-9CF4-8D5EDB49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0B4A1-7AEE-4E51-94F0-A61D2FA3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12B8B-9AE1-46E0-8A63-9B17E331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BB233-BA87-4659-B363-BBFD7CC2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B7F91-670D-40D4-9E9E-5749BEEB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Line 4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9EAB-4F48-4E95-9EF8-069524FB35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Line 5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Line 6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Rectangle 7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EC5C-B76D-4E40-B283-AAF7EC8890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1.gif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Открытие европейцами Америки, торговых путей в Азию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/З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1, читать, вопросы 1,4, пересказ, вопрос 2, письме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Страница 11, иллюстрация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очему рядом с изобретателем художник поместил изображение нечистой силы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ag00317_"/>
          <p:cNvPicPr/>
          <p:nvPr/>
        </p:nvPicPr>
        <p:blipFill>
          <a:blip r:embed="rId1"/>
          <a:stretch/>
        </p:blipFill>
        <p:spPr>
          <a:xfrm>
            <a:off x="0" y="0"/>
            <a:ext cx="145908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Отгадайте о чем речь?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«Выйдет из недр некто, кто ужасающими криками оглушит стоящих поблизости и дыханием своим принесет смерть людям и разрушение городам и замкам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Леонардо да Вин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ag00317_"/>
          <p:cNvPicPr/>
          <p:nvPr/>
        </p:nvPicPr>
        <p:blipFill>
          <a:blip r:embed="rId1"/>
          <a:stretch/>
        </p:blipFill>
        <p:spPr>
          <a:xfrm>
            <a:off x="0" y="0"/>
            <a:ext cx="145908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Страница 12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28800" y="2000160"/>
            <a:ext cx="4039920" cy="395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йдите в тексте, что позволило людям далеко плава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ag00317_"/>
          <p:cNvPicPr/>
          <p:nvPr/>
        </p:nvPicPr>
        <p:blipFill>
          <a:blip r:embed="rId1"/>
          <a:stretch/>
        </p:blipFill>
        <p:spPr>
          <a:xfrm>
            <a:off x="0" y="0"/>
            <a:ext cx="1459080" cy="1873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5072040" y="1500120"/>
            <a:ext cx="3143160" cy="2446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3"/>
          <a:stretch/>
        </p:blipFill>
        <p:spPr>
          <a:xfrm>
            <a:off x="5072040" y="3929040"/>
            <a:ext cx="314316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Сделайте выводы: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5" name="Схема 6" descr=""/>
          <p:cNvPicPr/>
          <p:nvPr/>
        </p:nvPicPr>
        <p:blipFill>
          <a:blip r:embed="rId1"/>
          <a:stretch/>
        </p:blipFill>
        <p:spPr>
          <a:xfrm>
            <a:off x="1755720" y="1682640"/>
            <a:ext cx="2279880" cy="2303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2"/>
          <a:stretch/>
        </p:blipFill>
        <p:spPr>
          <a:xfrm>
            <a:off x="5357880" y="1714680"/>
            <a:ext cx="2925720" cy="1066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5357880" y="2714760"/>
            <a:ext cx="2938320" cy="1071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2711520" cy="768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5"/>
          <a:stretch/>
        </p:blipFill>
        <p:spPr>
          <a:xfrm>
            <a:off x="1857240" y="5143680"/>
            <a:ext cx="2714760" cy="939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"/>
          <p:cNvPicPr/>
          <p:nvPr/>
        </p:nvPicPr>
        <p:blipFill>
          <a:blip r:embed="rId6"/>
          <a:stretch/>
        </p:blipFill>
        <p:spPr>
          <a:xfrm>
            <a:off x="4714920" y="4143240"/>
            <a:ext cx="2031840" cy="2013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ag00317_"/>
          <p:cNvPicPr/>
          <p:nvPr/>
        </p:nvPicPr>
        <p:blipFill>
          <a:blip r:embed="rId7"/>
          <a:stretch/>
        </p:blipFill>
        <p:spPr>
          <a:xfrm>
            <a:off x="0" y="0"/>
            <a:ext cx="1459080" cy="1873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8"/>
          <a:stretch/>
        </p:blipFill>
        <p:spPr>
          <a:xfrm>
            <a:off x="6929280" y="3857760"/>
            <a:ext cx="1490760" cy="1160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9"/>
          <a:stretch/>
        </p:blipFill>
        <p:spPr>
          <a:xfrm>
            <a:off x="6929280" y="5000760"/>
            <a:ext cx="15004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Задание на урок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акой эпохе больше соответствуют ВГО – средневековью или новому времени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ag00317_"/>
          <p:cNvPicPr/>
          <p:nvPr/>
        </p:nvPicPr>
        <p:blipFill>
          <a:blip r:embed="rId1"/>
          <a:stretch/>
        </p:blipFill>
        <p:spPr>
          <a:xfrm>
            <a:off x="0" y="0"/>
            <a:ext cx="145908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Предпосылки ВГО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98" name="Organization Chart 5"/>
          <p:cNvGrpSpPr/>
          <p:nvPr/>
        </p:nvGrpSpPr>
        <p:grpSpPr>
          <a:xfrm>
            <a:off x="1143000" y="1790640"/>
            <a:ext cx="7771320" cy="4380840"/>
            <a:chOff x="1143000" y="1790640"/>
            <a:chExt cx="7771320" cy="4380840"/>
          </a:xfrm>
        </p:grpSpPr>
        <p:cxnSp>
          <p:nvCxnSpPr>
            <p:cNvPr id="99" name="_s1028"/>
            <p:cNvCxnSpPr>
              <a:stCxn id="100" idx="1"/>
              <a:endCxn id="101" idx="2"/>
            </p:cNvCxnSpPr>
            <p:nvPr/>
          </p:nvCxnSpPr>
          <p:spPr>
            <a:xfrm rot="10800000">
              <a:off x="3473640" y="2586240"/>
              <a:ext cx="777600" cy="3187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1029"/>
            <p:cNvCxnSpPr>
              <a:stCxn id="103" idx="1"/>
              <a:endCxn id="101" idx="2"/>
            </p:cNvCxnSpPr>
            <p:nvPr/>
          </p:nvCxnSpPr>
          <p:spPr>
            <a:xfrm rot="10800000">
              <a:off x="3473640" y="2586240"/>
              <a:ext cx="777600" cy="1991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1030"/>
            <p:cNvCxnSpPr>
              <a:stCxn id="105" idx="1"/>
              <a:endCxn id="101" idx="2"/>
            </p:cNvCxnSpPr>
            <p:nvPr/>
          </p:nvCxnSpPr>
          <p:spPr>
            <a:xfrm rot="10800000">
              <a:off x="3473640" y="2586240"/>
              <a:ext cx="777600" cy="797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1" name="_s1031"/>
            <p:cNvSpPr/>
            <p:nvPr/>
          </p:nvSpPr>
          <p:spPr>
            <a:xfrm>
              <a:off x="1143000" y="1790640"/>
              <a:ext cx="4662720" cy="7963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Предпосылки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ВГО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032"/>
            <p:cNvSpPr/>
            <p:nvPr/>
          </p:nvSpPr>
          <p:spPr>
            <a:xfrm>
              <a:off x="4251600" y="2985480"/>
              <a:ext cx="4662720" cy="7963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Новый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человек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033"/>
            <p:cNvSpPr/>
            <p:nvPr/>
          </p:nvSpPr>
          <p:spPr>
            <a:xfrm>
              <a:off x="4251600" y="4180320"/>
              <a:ext cx="4662720" cy="7963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Новые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знания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4"/>
            <p:cNvSpPr/>
            <p:nvPr/>
          </p:nvSpPr>
          <p:spPr>
            <a:xfrm>
              <a:off x="4251600" y="5375160"/>
              <a:ext cx="4662720" cy="7963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Новые технические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возможности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Picture 14" descr="ag00029_"/>
          <p:cNvPicPr/>
          <p:nvPr/>
        </p:nvPicPr>
        <p:blipFill>
          <a:blip r:embed="rId1"/>
          <a:stretch/>
        </p:blipFill>
        <p:spPr>
          <a:xfrm>
            <a:off x="250920" y="115920"/>
            <a:ext cx="1873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Страница 8, пункт, страница 10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Назовите новые изобретения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акое изобретение связано с новым знанием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ag00317_"/>
          <p:cNvPicPr/>
          <p:nvPr/>
        </p:nvPicPr>
        <p:blipFill>
          <a:blip r:embed="rId1"/>
          <a:stretch/>
        </p:blipFill>
        <p:spPr>
          <a:xfrm>
            <a:off x="0" y="0"/>
            <a:ext cx="145908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Что это за изобретение?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500120" y="2143080"/>
            <a:ext cx="7000920" cy="1982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1500120" y="4071960"/>
            <a:ext cx="7000920" cy="2489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ag00317_"/>
          <p:cNvPicPr/>
          <p:nvPr/>
        </p:nvPicPr>
        <p:blipFill>
          <a:blip r:embed="rId3"/>
          <a:stretch/>
        </p:blipFill>
        <p:spPr>
          <a:xfrm>
            <a:off x="0" y="0"/>
            <a:ext cx="145908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Страница 9, иллюстрация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спомните, в чем суть изобретения книгопечатания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ag00317_"/>
          <p:cNvPicPr/>
          <p:nvPr/>
        </p:nvPicPr>
        <p:blipFill>
          <a:blip r:embed="rId1"/>
          <a:stretch/>
        </p:blipFill>
        <p:spPr>
          <a:xfrm>
            <a:off x="0" y="0"/>
            <a:ext cx="145908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8355240" cy="3047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357120" y="3286080"/>
            <a:ext cx="835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Страница 10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рочитайте и объясните название пункт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ag00317_"/>
          <p:cNvPicPr/>
          <p:nvPr/>
        </p:nvPicPr>
        <p:blipFill>
          <a:blip r:embed="rId1"/>
          <a:stretch/>
        </p:blipFill>
        <p:spPr>
          <a:xfrm>
            <a:off x="0" y="0"/>
            <a:ext cx="145908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1285920" y="142920"/>
            <a:ext cx="6576840" cy="65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16:46:09Z</dcterms:created>
  <dc:creator>***</dc:creator>
  <dc:description/>
  <dc:language>en-US</dc:language>
  <cp:lastModifiedBy>Алик</cp:lastModifiedBy>
  <dcterms:modified xsi:type="dcterms:W3CDTF">2011-09-04T10:54:34Z</dcterms:modified>
  <cp:revision>20</cp:revision>
  <dc:subject/>
  <dc:title>Открытие европейцами Америки, торговых путей в Азию</dc:title>
</cp:coreProperties>
</file>